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468-87AB-4858-8662-0BF68374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606-9B19-4806-AAC4-5AE47ECC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0DC-1B4D-474C-A79C-50016EFE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8F5-64CB-4E05-88F9-777082AF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F77A-0EA0-4DAB-B126-26C4D944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052F-B652-4D3E-BC47-74B2A8E7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91BE-D703-4663-88DA-8D0FF714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6339-F0EE-4702-BED1-DC6704C8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D8F1-2140-494F-A346-54095AC2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CDFA-F8CB-47EE-8711-F2FA8FD3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A119-F64C-497D-B3B5-094CD705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640-2B8A-4C04-AD9C-45F44F07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1964-2641-49E5-A5CB-1622AD9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E5AF-31F9-4D3C-8038-88FAE647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1327-FE25-47F6-BA4E-1AAE53FE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750B-1542-4503-A78E-59C56259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9E84-7883-43D6-8F35-E1BE5997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BF5-629A-41CC-B35B-564A0D25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1E0-0DDB-4404-A2F8-04D1317E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F00-B5CE-4819-A32E-A83F496E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C41-3859-4F7B-965B-13152BF2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F54-84E9-4993-A08C-80F2472F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893-50C7-4040-A86D-A60A8081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1D8-8D8B-485C-BE8B-78B0ED64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499A-B9E8-413A-A9AA-D809677CA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6E51-A364-4653-AE01-C37EB27D4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0" y="1483920"/>
            <a:ext cx="38116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Великий син великого народу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63060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Перше кох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32360" y="2349000"/>
            <a:ext cx="38275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терино, серце моє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ишенько з тобою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е ти в світі подінеш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 малим сиротою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99"/>
                </a:solidFill>
                <a:latin typeface="Arial"/>
              </a:rPr>
              <a:t>Т.Шевченко “Катерина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948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3662640" cy="4032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Викуп з невол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566064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В.Жуковсь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2681280" cy="3270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300720" y="566100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К. Брю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320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Викуп з невол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5496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Нащо мені чорні брови…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Думка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як літературний жанр – короткий ліричний вірш філософського характеру (близький до народної пісні), у якому переважають роздуми автора або ліричного героя про свою тяжку долю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580000" y="4365720"/>
            <a:ext cx="23576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Нащо мені чорні брови…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Рената Бабак (1934 р.н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76720" y="14842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129060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1135080" cy="1828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987640" y="3284640"/>
            <a:ext cx="305748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Нащо мені чорні брови…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Тема: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розповідь про нещасливе кохання дівчини та її сирітське життя серед свої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Ідея: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висловлення співчуття героїні твору, яка страждає через “зраду чорнявого”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16272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59280" y="3789360"/>
            <a:ext cx="4679640" cy="2784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Період засл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372360" y="1052640"/>
            <a:ext cx="2657520" cy="3666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06440" y="3716280"/>
            <a:ext cx="2254320" cy="295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24000" y="1413000"/>
            <a:ext cx="568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кби я був недолюдьком, кровопивцею, то й тоді для мене страшнішої кари не можна було б придумати…  І до всього мені ще заборонено малювати…  Трибунал під головуванням самого сатани не міг би винести такого холодного нелюдського вироку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Шевченко та Сумщ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423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Творчий спадок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оезія і живопис у творчості Т.Г. Шевченка нерозривно пов’язані. У живописі він був поетом, у поезії – живописц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Малювання й поезія стали для Шевченка  життєвою потребою, вираженням його  творчої індивідуальності. До нас дійшло 240 поетичних творів великого Кобзаря і 1200 мистецьких робіт худож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1428840" cy="6634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940360" y="3141720"/>
            <a:ext cx="1428840" cy="679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1763640" y="3141720"/>
            <a:ext cx="142884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Сумна хроніка життя Т.Шевчен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14716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24 роки</a:t>
            </a: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 (1814-1838)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– кріпац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9 років </a:t>
            </a: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(1838-1847)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– волі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10 років </a:t>
            </a: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(1847-1857)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66"/>
                </a:solidFill>
                <a:latin typeface="Arial"/>
              </a:rPr>
              <a:t>солдацької муштр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≈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 рок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(1857-1861)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–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відносної вол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Епіграф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6280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0099"/>
                </a:solidFill>
                <a:latin typeface="Arial"/>
              </a:rPr>
              <a:t>Малярство – це німа поезія, а поезія – промовисте малярст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0099"/>
                </a:solidFill>
                <a:latin typeface="Arial"/>
              </a:rPr>
              <a:t>Леонардо да Вінч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1873080" cy="1704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592360" cy="2506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04000" y="4076640"/>
            <a:ext cx="16034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Прочитати балади “Причинна” та “Лілея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Написати міні-твір на одну з те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cc00"/>
                </a:solidFill>
                <a:latin typeface="Arial"/>
              </a:rPr>
              <a:t>Тарас Шевченко – поет та художник (7-9 б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cc00"/>
                </a:solidFill>
                <a:latin typeface="Arial"/>
              </a:rPr>
              <a:t>Ми чуємо тебе, Кобзарю, крізь століття (10-12 б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ff99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99ff99"/>
                </a:solidFill>
                <a:latin typeface="Arial"/>
              </a:rPr>
              <a:t>.</a:t>
            </a: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 Вивчити поезію “Нащо мені чорні брови…” (за бажання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Завданн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узагальнити знання з біографії Тараса Шевче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звернутися до поетичного доробку та художньої спадщини митц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ознайомитись із поезією “Думка” (“Нащо мені чорні брови…”) та зробити її короткий аналіз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  <a:ea typeface="Arial"/>
              </a:rPr>
              <a:t>з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ясувати як Тарас Григорович пов’язаний із Сумщин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4724280"/>
            <a:ext cx="1406520" cy="1873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380360" y="115920"/>
            <a:ext cx="15350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Проблемне питанн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990099"/>
                </a:solidFill>
                <a:latin typeface="Arial"/>
              </a:rPr>
              <a:t>Тарас Шевченко –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990099"/>
                </a:solidFill>
                <a:latin typeface="Arial"/>
              </a:rPr>
              <a:t>поет чи художник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2459160" cy="1235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24588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Урок-аукці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66"/>
                </a:solidFill>
                <a:uFillTx/>
                <a:latin typeface="Arial"/>
              </a:rPr>
              <a:t>Прав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9900"/>
                </a:solidFill>
                <a:latin typeface="Arial"/>
              </a:rPr>
              <a:t>1. Лоти символізують певний етап з життєвого та творчого шляху Т.Шевч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9900"/>
                </a:solidFill>
                <a:latin typeface="Arial"/>
              </a:rPr>
              <a:t>2. Будь-який лот можна купити лише за зна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16480" cy="1832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156360" y="5157720"/>
            <a:ext cx="2074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Дитинство та юність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похилій хаті край села  над ставом чистим і прозорим життя Тарасику дала кріпачка-мат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4313160" cy="3227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716360" y="1996920"/>
            <a:ext cx="4319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6720" y="277920"/>
            <a:ext cx="3610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Дитинство та юність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2772000" cy="34480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24360" y="4437000"/>
            <a:ext cx="47512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Благословенна та година, як народила мати сина і нарекла його ТАРАС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419280" cy="2778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932360" y="1700280"/>
            <a:ext cx="3506760" cy="2687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404640"/>
            <a:ext cx="219564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Тарас – Тарактикос –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  “</a:t>
            </a: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здатний на непокору 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”</a:t>
            </a: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ru-RU" sz="19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i="1" lang="ru-RU" sz="1900" spc="-1" strike="noStrike">
                <a:solidFill>
                  <a:srgbClr val="ff9900"/>
                </a:solidFill>
                <a:latin typeface="Arial"/>
              </a:rPr>
              <a:t>безстрашний”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             “</a:t>
            </a: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бунтар”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Дитинство та юність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356000" y="5589720"/>
            <a:ext cx="446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0099"/>
                </a:solidFill>
                <a:latin typeface="Arial"/>
              </a:rPr>
              <a:t>К. Трохименко “Пан Енгельгардт карає Тараса за малювання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901960" cy="3960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46083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Перше кохання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перше незбагненні почуття пробудила в хлоп’ячій незахищеній душі сусідська дівчина Оксана Ковален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211640" y="1268280"/>
            <a:ext cx="3733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0:49:40Z</dcterms:created>
  <dc:creator>1</dc:creator>
  <dc:description/>
  <dc:language>en-US</dc:language>
  <cp:lastModifiedBy>1</cp:lastModifiedBy>
  <dcterms:modified xsi:type="dcterms:W3CDTF">2013-01-27T15:59:26Z</dcterms:modified>
  <cp:revision>37</cp:revision>
  <dc:subject/>
  <dc:title>Великий син великого народу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c000000000001024140</vt:lpwstr>
  </property>
</Properties>
</file>