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863F-96C3-469A-9FE6-E50CD65E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0750-5B51-4813-A331-1172C76C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7FB-278F-4061-9920-3FFAFE86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4A2B-5EFE-457F-9937-448A8C48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772E-3AFE-47F0-9133-48AAA34A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4A3C-DDEA-4A39-B0C3-772042FC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B4AD-7353-4DE9-9A0F-AA36C30A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6CA7-A918-44AC-AE15-5900A7F7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E0E1-F684-4F93-A397-90B5EC0C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1CA9-1AA1-43F4-BFF3-7C2588D5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E199-98EC-4E4E-A392-25393F62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6CA-D00E-4356-BC67-439BEDA7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CFA1-60F9-4FE1-B52D-DE8D4CA8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5B46-8164-4D54-80FE-EEC8987B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14DA-2108-47CC-8F62-83131501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948D-2666-4282-B875-77D4E10A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7429-D03D-4DE1-BB67-69FEAA7A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8B6-86CA-4068-8646-F1E17C93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542F-1A05-4851-B911-F996EDB8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0D04-D057-4118-964D-6F0F3805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C0A-4CAD-452E-A8FB-C17A4498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56C-9162-43A4-9621-5BF2FAF1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539-2AD7-4EC0-A2F4-DDBEDB04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2ED-D3D5-49A2-9DED-85F6388A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BAF2-1565-4831-B267-6065840FF7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39AC-77B3-4BBD-890C-D468D20240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0" y="1483920"/>
            <a:ext cx="38116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Великий син великого народу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363060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Перше кох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32360" y="2349000"/>
            <a:ext cx="382752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терино, серце моє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ишенько з тобою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е ти в світі подінеш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 малим сиротою?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0099"/>
                </a:solidFill>
                <a:latin typeface="Arial"/>
              </a:rPr>
              <a:t>Т.Шевченко “Катерина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9481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132000" y="1413000"/>
            <a:ext cx="3662640" cy="4032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Викуп з невол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5660640"/>
            <a:ext cx="331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В.Жуковсь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227640" y="2349360"/>
            <a:ext cx="2681280" cy="3270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300720" y="566100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К. Брюл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50920" y="1844640"/>
            <a:ext cx="320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Викуп з невол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65496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Нащо мені чорні брови…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Думка </a:t>
            </a:r>
            <a:r>
              <a:rPr b="0" lang="uk-UA" sz="3200" spc="-1" strike="noStrike">
                <a:solidFill>
                  <a:srgbClr val="000066"/>
                </a:solidFill>
                <a:latin typeface="Arial"/>
              </a:rPr>
              <a:t>як літературний жанр – короткий ліричний вірш філософського характеру (близький до народної пісні), у якому переважають роздуми автора або ліричного героя про свою тяжку долю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580000" y="4365720"/>
            <a:ext cx="235764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Нащо мені чорні брови…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57340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Рената Бабак (1934 р.н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276720" y="1484280"/>
            <a:ext cx="2485800" cy="18385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1290600" cy="1800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6012000" y="1844640"/>
            <a:ext cx="1135080" cy="18288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2987640" y="3284640"/>
            <a:ext cx="305748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Нащо мені чорні брови…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Тема: </a:t>
            </a:r>
            <a:r>
              <a:rPr b="0" lang="uk-UA" sz="3200" spc="-1" strike="noStrike">
                <a:solidFill>
                  <a:srgbClr val="000066"/>
                </a:solidFill>
                <a:latin typeface="Arial"/>
              </a:rPr>
              <a:t>розповідь про нещасливе кохання дівчини та її сирітське життя серед свої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Ідея: </a:t>
            </a:r>
            <a:r>
              <a:rPr b="0" lang="uk-UA" sz="3200" spc="-1" strike="noStrike">
                <a:solidFill>
                  <a:srgbClr val="000066"/>
                </a:solidFill>
                <a:latin typeface="Arial"/>
              </a:rPr>
              <a:t>висловлення співчуття героїні твору, яка страждає через “зраду чорнявого”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116000" y="4581360"/>
            <a:ext cx="16272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059280" y="3789360"/>
            <a:ext cx="4679640" cy="27846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00"/>
                </a:solidFill>
                <a:latin typeface="Arial"/>
              </a:rPr>
              <a:t>Період засл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372360" y="1052640"/>
            <a:ext cx="2657520" cy="3666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406440" y="3716280"/>
            <a:ext cx="2254320" cy="29527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24000" y="1413000"/>
            <a:ext cx="568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кби я був недолюдьком, кровопивцею, то й тоді для мене страшнішої кари не можна було б придумати…  І до всього мені ще заборонено малювати…  Трибунал під головуванням самого сатани не міг би винести такого холодного нелюдського вироку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Шевченко та Сумщ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627280" y="1197000"/>
            <a:ext cx="423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Творчий спадок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Поезія і живопис у творчості Т.Г. Шевченка нерозривно пов’язані. У живописі він був поетом, у поезії – живописц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Arial"/>
              </a:rPr>
              <a:t>Малювання й поезія стали для Шевченка  життєвою потребою, вираженням його  творчої індивідуальності. До нас дійшло 240 поетичних творів великого Кобзаря і 1200 мистецьких робіт художн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851280" y="3141720"/>
            <a:ext cx="1428840" cy="6634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940360" y="3141720"/>
            <a:ext cx="1428840" cy="6793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1763640" y="3141720"/>
            <a:ext cx="142884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Сумна хроніка життя Т.Шевчен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2276280"/>
            <a:ext cx="814716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24 роки</a:t>
            </a: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 (1814-1838) </a:t>
            </a:r>
            <a:r>
              <a:rPr b="0" lang="uk-UA" sz="3200" spc="-1" strike="noStrike">
                <a:solidFill>
                  <a:srgbClr val="000066"/>
                </a:solidFill>
                <a:latin typeface="Arial"/>
              </a:rPr>
              <a:t>– кріпац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9 років </a:t>
            </a: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(1838-1847) </a:t>
            </a:r>
            <a:r>
              <a:rPr b="0" lang="uk-UA" sz="3200" spc="-1" strike="noStrike">
                <a:solidFill>
                  <a:srgbClr val="000066"/>
                </a:solidFill>
                <a:latin typeface="Arial"/>
              </a:rPr>
              <a:t>– волі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10 років </a:t>
            </a: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(1847-1857) </a:t>
            </a:r>
            <a:r>
              <a:rPr b="0" lang="uk-UA" sz="3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66"/>
                </a:solidFill>
                <a:latin typeface="Arial"/>
              </a:rPr>
              <a:t>солдацької муштр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≈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4 роки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(1857-1861)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–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відносної вол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Епіграф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36280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0099"/>
                </a:solidFill>
                <a:latin typeface="Arial"/>
              </a:rPr>
              <a:t>Малярство – це німа поезія, а поезія – промовисте малярств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0099"/>
                </a:solidFill>
                <a:latin typeface="Arial"/>
              </a:rPr>
              <a:t>Леонардо да Вінч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1873080" cy="1704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276720" y="3716280"/>
            <a:ext cx="2592360" cy="25066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804000" y="4076640"/>
            <a:ext cx="160344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cc00"/>
                </a:solidFill>
                <a:latin typeface="Arial"/>
              </a:rPr>
              <a:t>Прочитати балади “Причинна” та “Лілея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cc00"/>
                </a:solidFill>
                <a:latin typeface="Arial"/>
              </a:rPr>
              <a:t>Написати міні-твір на одну з те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cc00"/>
                </a:solidFill>
                <a:latin typeface="Arial"/>
              </a:rPr>
              <a:t>Тарас Шевченко – поет та художник (7-9 б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cc00"/>
                </a:solidFill>
                <a:latin typeface="Arial"/>
              </a:rPr>
              <a:t>Ми чуємо тебе, Кобзарю, крізь століття (10-12 б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ff99"/>
                </a:solidFill>
                <a:latin typeface="Arial"/>
              </a:rPr>
              <a:t>3</a:t>
            </a:r>
            <a:r>
              <a:rPr b="0" lang="uk-UA" sz="3200" spc="-1" strike="noStrike">
                <a:solidFill>
                  <a:srgbClr val="99ff99"/>
                </a:solidFill>
                <a:latin typeface="Arial"/>
              </a:rPr>
              <a:t>.</a:t>
            </a:r>
            <a:r>
              <a:rPr b="0" lang="uk-UA" sz="3200" spc="-1" strike="noStrike">
                <a:solidFill>
                  <a:srgbClr val="00cc00"/>
                </a:solidFill>
                <a:latin typeface="Arial"/>
              </a:rPr>
              <a:t> Вивчити поезію “Нащо мені чорні брови…” (за бажанням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00"/>
                </a:solidFill>
                <a:latin typeface="Arial"/>
              </a:rPr>
              <a:t>Завданн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cc00"/>
                </a:solidFill>
                <a:latin typeface="Arial"/>
              </a:rPr>
              <a:t>узагальнити знання з біографії Тараса Шевчен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cc00"/>
                </a:solidFill>
                <a:latin typeface="Arial"/>
              </a:rPr>
              <a:t>звернутися до поетичного доробку та художньої спадщини митц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cc00"/>
                </a:solidFill>
                <a:latin typeface="Arial"/>
              </a:rPr>
              <a:t>ознайомитись із поезією “Думка” (“Нащо мені чорні брови…”) та зробити її короткий аналіз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cc00"/>
                </a:solidFill>
                <a:latin typeface="Arial"/>
                <a:ea typeface="Arial"/>
              </a:rPr>
              <a:t>з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'</a:t>
            </a:r>
            <a:r>
              <a:rPr b="0" lang="uk-UA" sz="3200" spc="-1" strike="noStrike">
                <a:solidFill>
                  <a:srgbClr val="00cc00"/>
                </a:solidFill>
                <a:latin typeface="Arial"/>
              </a:rPr>
              <a:t>ясувати як Тарас Григорович пов’язаний із Сумщино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9280" y="4724280"/>
            <a:ext cx="1406520" cy="1873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380360" y="115920"/>
            <a:ext cx="153504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Проблемне питанн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990099"/>
                </a:solidFill>
                <a:latin typeface="Arial"/>
              </a:rPr>
              <a:t>Тарас Шевченко –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990099"/>
                </a:solidFill>
                <a:latin typeface="Arial"/>
              </a:rPr>
              <a:t>поет чи художник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572000" y="3789360"/>
            <a:ext cx="2459160" cy="1235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195640" y="3789360"/>
            <a:ext cx="24588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Урок-аукці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66"/>
                </a:solidFill>
                <a:uFillTx/>
                <a:latin typeface="Arial"/>
              </a:rPr>
              <a:t>Прав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9900"/>
                </a:solidFill>
                <a:latin typeface="Arial"/>
              </a:rPr>
              <a:t>1. Лоти символізують певний етап з життєвого та творчого шляху Т.Шевч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9900"/>
                </a:solidFill>
                <a:latin typeface="Arial"/>
              </a:rPr>
              <a:t>2. Будь-який лот можна купити лише за знанн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616480" cy="18320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156360" y="5157720"/>
            <a:ext cx="2074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Дитинство та юність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 похилій хаті край села  над ставом чистим і прозорим життя Тарасику дала кріпачка-мат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4313160" cy="3227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716360" y="1996920"/>
            <a:ext cx="43196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76720" y="277920"/>
            <a:ext cx="3610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Дитинство та юність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2772000" cy="34480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24360" y="4437000"/>
            <a:ext cx="47512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Благословенна та година, як народила мати сина і нарекла його ТАРАС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3419280" cy="2778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932360" y="1700280"/>
            <a:ext cx="3506760" cy="2687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404640"/>
            <a:ext cx="219564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Тарас – Тарактикос –</a:t>
            </a: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Arial"/>
              </a:rPr>
              <a:t>  “</a:t>
            </a:r>
            <a:r>
              <a:rPr b="1" i="1" lang="ru-RU" sz="2000" spc="-1" strike="noStrike">
                <a:solidFill>
                  <a:srgbClr val="ff9900"/>
                </a:solidFill>
                <a:latin typeface="Arial"/>
              </a:rPr>
              <a:t>здатний на непокору </a:t>
            </a: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”</a:t>
            </a:r>
            <a:r>
              <a:rPr b="1" i="1" lang="ru-RU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i="1" lang="ru-RU" sz="19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1" i="1" lang="ru-RU" sz="1900" spc="-1" strike="noStrike">
                <a:solidFill>
                  <a:srgbClr val="ff9900"/>
                </a:solidFill>
                <a:latin typeface="Arial"/>
              </a:rPr>
              <a:t>безстрашний”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Arial"/>
              </a:rPr>
              <a:t>             “</a:t>
            </a:r>
            <a:r>
              <a:rPr b="1" i="1" lang="ru-RU" sz="2000" spc="-1" strike="noStrike">
                <a:solidFill>
                  <a:srgbClr val="ff9900"/>
                </a:solidFill>
                <a:latin typeface="Arial"/>
              </a:rPr>
              <a:t>бунтар”</a:t>
            </a: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Дитинство та юність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356000" y="5589720"/>
            <a:ext cx="446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90099"/>
                </a:solidFill>
                <a:latin typeface="Arial"/>
              </a:rPr>
              <a:t>К. Трохименко “Пан Енгельгардт карає Тараса за малювання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2901960" cy="3960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140360" y="1413000"/>
            <a:ext cx="46083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Перше кохання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перше незбагненні почуття пробудила в хлоп’ячій незахищеній душі сусідська дівчина Оксана Ковален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211640" y="1268280"/>
            <a:ext cx="3733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0:49:40Z</dcterms:created>
  <dc:creator>1</dc:creator>
  <dc:description/>
  <dc:language>en-US</dc:language>
  <cp:lastModifiedBy>1</cp:lastModifiedBy>
  <dcterms:modified xsi:type="dcterms:W3CDTF">2013-01-27T15:59:26Z</dcterms:modified>
  <cp:revision>37</cp:revision>
  <dc:subject/>
  <dc:title>Великий син великого народу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c000000000001024140</vt:lpwstr>
  </property>
</Properties>
</file>