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8DB-41EE-4BE8-8B7D-37BBCAD5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B16-13A3-4515-B948-C9753CBA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655-0C77-434A-A62D-8404C2FE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22B-7FF6-47AD-8873-E2B59B14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39B8-ED4D-437E-B882-351B2EC7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F77A-ABAD-424E-B971-44ACC0E1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0E62-0C15-42BB-B0EC-35DA00D7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D687-2754-4B02-AC1F-85394D8D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55AF-C1AB-4C38-AA79-91885CD9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CCC2-8AF9-4BBC-9643-897820E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A222-7D18-47A9-932D-B3223E9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D61-A896-47CB-B02B-23CC83CE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BD3F-8CD3-4E8C-BDBB-02B5DCD2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B3D1-FFE2-44DD-80B4-8732E23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A985-C6AF-4FF3-82F5-B10CAB32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5A09-54FE-4F02-A77C-5CAA3661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836A-434C-41F5-B38B-8A7BACF9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6B7-5213-4325-8C65-05D6185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9CC-D4CC-4932-8293-0D3F50C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649-624B-4C29-9B10-5F97C25C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50F-3373-4BF1-BC9A-D3F8AC7D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8CA-FC0D-49BC-9384-91521B82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83B-A942-42AE-8893-D6908C53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658-9452-44FE-8977-7CC01C0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1E3D-5896-4804-8219-05418443F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9FA2-4ECA-4BB1-A4CA-09C741D5A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336666"/>
                </a:solidFill>
                <a:latin typeface="Arial Black"/>
              </a:rPr>
              <a:t>Емма Андієвська (українська письменниця і художниця, яка живе в Німеччині).    </a:t>
            </a:r>
            <a:br>
              <a:rPr sz="3700"/>
            </a:br>
            <a:r>
              <a:rPr b="0" i="1" lang="uk-UA" sz="3700" spc="-1" strike="noStrike">
                <a:solidFill>
                  <a:srgbClr val="336666"/>
                </a:solidFill>
                <a:latin typeface="Arial Black"/>
              </a:rPr>
              <a:t>„Казка про яян”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-36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336666"/>
                </a:solidFill>
                <a:latin typeface="Arial Black"/>
              </a:rPr>
              <a:t>СТРАШНО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117" name="_s6154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6155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6157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6152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будувати вежі-будинки, що весь час руйнуються, і нікого туди не запрошува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6153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Бачити щодня багато облич, але не чути жодного сл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6156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бути серед людей і залишатися самотні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905120"/>
            <a:ext cx="7695720" cy="4037400"/>
            <a:chOff x="762120" y="1905120"/>
            <a:chExt cx="7695720" cy="4037400"/>
          </a:xfrm>
        </p:grpSpPr>
        <p:cxnSp>
          <p:nvCxnSpPr>
            <p:cNvPr id="125" name="_s7182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5552280" y="2576160"/>
              <a:ext cx="808200" cy="2694240"/>
            </a:xfrm>
            <a:prstGeom prst="bentConnector3">
              <a:avLst>
                <a:gd name="adj1" fmla="val 127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7181"/>
            <p:cNvCxnSpPr>
              <a:stCxn id="129" idx="0"/>
              <a:endCxn id="127" idx="2"/>
            </p:cNvCxnSpPr>
            <p:nvPr/>
          </p:nvCxnSpPr>
          <p:spPr>
            <a:xfrm flipV="1">
              <a:off x="4609800" y="3519360"/>
              <a:ext cx="3600" cy="80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7180"/>
            <p:cNvCxnSpPr>
              <a:stCxn id="131" idx="0"/>
              <a:endCxn id="127" idx="2"/>
            </p:cNvCxnSpPr>
            <p:nvPr/>
          </p:nvCxnSpPr>
          <p:spPr>
            <a:xfrm flipH="1" flipV="1" rot="5400000">
              <a:off x="2859120" y="2576520"/>
              <a:ext cx="808200" cy="2694240"/>
            </a:xfrm>
            <a:prstGeom prst="bentConnector3">
              <a:avLst>
                <a:gd name="adj1" fmla="val 127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7176"/>
            <p:cNvSpPr/>
            <p:nvPr/>
          </p:nvSpPr>
          <p:spPr>
            <a:xfrm>
              <a:off x="3455640" y="190512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Дихнути свіж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повітрям” – ц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7177"/>
            <p:cNvSpPr/>
            <p:nvPr/>
          </p:nvSpPr>
          <p:spPr>
            <a:xfrm>
              <a:off x="76212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вирватися на вол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7178"/>
            <p:cNvSpPr/>
            <p:nvPr/>
          </p:nvSpPr>
          <p:spPr>
            <a:xfrm>
              <a:off x="345564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жити повноцін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7179"/>
            <p:cNvSpPr/>
            <p:nvPr/>
          </p:nvSpPr>
          <p:spPr>
            <a:xfrm>
              <a:off x="614916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усвідомлюва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себе потрібн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людя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ЧИ  БУЛИ ЯЯНИ ЩАСЛИВИМИ? У  ЧОМУ  ЩАСТЯ  ЛЮДИНИ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2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336666"/>
                </a:solidFill>
                <a:latin typeface="Arial Black"/>
              </a:rPr>
              <a:t>Х Т О  Т А К І  Я Я Н И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00000" y="1773360"/>
          <a:ext cx="7130880" cy="4141800"/>
        </p:xfrm>
        <a:graphic>
          <a:graphicData uri="http://schemas.openxmlformats.org/drawingml/2006/table">
            <a:tbl>
              <a:tblPr/>
              <a:tblGrid>
                <a:gridCol w="3727080"/>
                <a:gridCol w="3188160"/>
                <a:gridCol w="216000"/>
              </a:tblGrid>
              <a:tr h="14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ому люди стають яянами?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і риси допомагають пастушкові не стати яянином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1921680"/>
            <a:ext cx="6525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Я вважаю, що яяни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Тому що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Отже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51840" y="3107880"/>
            <a:ext cx="54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спішай робити добро – і Бог віддячить то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65240" y="2971440"/>
            <a:ext cx="34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сля цього уроку я зрозумів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йбільше мене вразил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 хоч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Розповісти членам родини про</a:t>
            </a: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 Емму Андієвську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Вибрати з тексту все, що стосується дідуся,  і переказати це від третьої особи. Чи побачив дідусь інший, кращий світ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Знайти в Біблії„Притчу про сіяча”( вдома чи в бібліотеці), прочита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АНДІЄВСЬКА ЕММ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32418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2205000"/>
            <a:ext cx="26953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 О С П І Ш А 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419640" y="306864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 О Б И 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35640" y="4292640"/>
            <a:ext cx="1647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 О Б Р 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Повинні знати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зміст „Казки про яян”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основні відомості про Е. Андієвськ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Повинні вміт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виразно і вдумливо читати казку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виділяти фантастичні елементи казк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визначати головну думку твору, відшукуючи ключові фраз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формулювати власні висновки про твір і його ідеї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336666"/>
                </a:solidFill>
                <a:latin typeface="Arial Black"/>
              </a:rPr>
              <a:t>Картини Емми Андієвської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56000" cy="5300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47163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336666"/>
                </a:solidFill>
                <a:latin typeface="Arial Black"/>
              </a:rPr>
              <a:t>Твори Марії Приймаченко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857680" cy="367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762440" cy="4124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381560" y="3716280"/>
            <a:ext cx="47624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843280" y="2819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762440" cy="3591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4762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6:30:20Z</dcterms:created>
  <dc:creator>Admin</dc:creator>
  <dc:description/>
  <dc:language>en-US</dc:language>
  <cp:lastModifiedBy>Admin</cp:lastModifiedBy>
  <dcterms:modified xsi:type="dcterms:W3CDTF">2011-01-27T12:38:39Z</dcterms:modified>
  <cp:revision>7</cp:revision>
  <dc:subject/>
  <dc:title>Тема:  Емма Андієвська (українська письменниця і художниця, яка живе в Німеччині). „Казка про яян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4000000000001024140</vt:lpwstr>
  </property>
</Properties>
</file>