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2DC-5791-44C5-9AD8-E7944308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66-B66D-495D-86CF-02A5A16A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483-13E7-4A0F-864B-9540560A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46E-2BD2-4734-A9B6-DCD44614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B3E7-1E91-4C91-ACD9-42869B88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32A1-B6BC-4169-9B03-866EECB8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1D52-74FF-460A-8B47-5CA5426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9F9F-F02B-4621-B108-84916B89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1E7-6AF6-4932-908A-EEFDF7C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4001-596A-4622-9E7C-32EA8CA4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C70-6B67-4812-A671-8911A68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BF3-45EE-4A56-BABF-5D891312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66C-0F21-404D-8768-E89527F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DD93-8962-4938-9426-2EC1264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DFC-DABD-42FA-BF4F-BE695797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2A0-6EC1-4EE5-8310-4ED15303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1C84-F752-4394-802F-58B3B6B4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6C7-DDB4-465C-A9D8-84C0E575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61E-222A-44B3-9B4E-D5A147BC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54C-AC5B-470B-99FD-923E987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C75-3B34-4850-8C4B-B24B8557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274-1B9C-45ED-8FD9-7B45E01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FE5-56A2-4511-8C6B-5CEFC8E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E7A-2571-40C2-AE92-556713B5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6170-9B87-49F5-9040-E576972B7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77EB-D06C-4C60-A09F-18556BDDE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700" spc="-1" strike="noStrike">
                <a:solidFill>
                  <a:srgbClr val="336666"/>
                </a:solidFill>
                <a:latin typeface="Arial Black"/>
              </a:rPr>
              <a:t>Емма Андієвська (українська письменниця і художниця, яка живе в Німеччині).    </a:t>
            </a:r>
            <a:br>
              <a:rPr sz="3700"/>
            </a:br>
            <a:r>
              <a:rPr b="0" i="1" lang="uk-UA" sz="3700" spc="-1" strike="noStrike">
                <a:solidFill>
                  <a:srgbClr val="336666"/>
                </a:solidFill>
                <a:latin typeface="Arial Black"/>
              </a:rPr>
              <a:t>„Казка про яян”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-360"/>
            <a:ext cx="640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СТРАШН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117" name="_s6154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155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6157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152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удувати вежі-будинки, що весь час руйнуються, і нікого туди не запрошува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6153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ачити щодня багато облич, але не чути жодного сл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6156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Arial"/>
                </a:rPr>
                <a:t>бути серед людей і залишатися самотні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905120"/>
            <a:ext cx="7695720" cy="4037400"/>
            <a:chOff x="762120" y="1905120"/>
            <a:chExt cx="7695720" cy="4037400"/>
          </a:xfrm>
        </p:grpSpPr>
        <p:cxnSp>
          <p:nvCxnSpPr>
            <p:cNvPr id="125" name="_s7182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552280" y="2576160"/>
              <a:ext cx="808200" cy="269424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7181"/>
            <p:cNvCxnSpPr>
              <a:stCxn id="129" idx="0"/>
              <a:endCxn id="127" idx="2"/>
            </p:cNvCxnSpPr>
            <p:nvPr/>
          </p:nvCxnSpPr>
          <p:spPr>
            <a:xfrm flipV="1">
              <a:off x="4609800" y="3519360"/>
              <a:ext cx="3600" cy="80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7180"/>
            <p:cNvCxnSpPr>
              <a:stCxn id="131" idx="0"/>
              <a:endCxn id="127" idx="2"/>
            </p:cNvCxnSpPr>
            <p:nvPr/>
          </p:nvCxnSpPr>
          <p:spPr>
            <a:xfrm flipH="1" flipV="1" rot="5400000">
              <a:off x="2859120" y="2576520"/>
              <a:ext cx="808200" cy="2694240"/>
            </a:xfrm>
            <a:prstGeom prst="bentConnector3">
              <a:avLst>
                <a:gd name="adj1" fmla="val 12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7176"/>
            <p:cNvSpPr/>
            <p:nvPr/>
          </p:nvSpPr>
          <p:spPr>
            <a:xfrm>
              <a:off x="3455640" y="190512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ихнути свіж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повітрям” – ц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7177"/>
            <p:cNvSpPr/>
            <p:nvPr/>
          </p:nvSpPr>
          <p:spPr>
            <a:xfrm>
              <a:off x="76212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вирватися на вол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7178"/>
            <p:cNvSpPr/>
            <p:nvPr/>
          </p:nvSpPr>
          <p:spPr>
            <a:xfrm>
              <a:off x="345564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жити повноцін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7179"/>
            <p:cNvSpPr/>
            <p:nvPr/>
          </p:nvSpPr>
          <p:spPr>
            <a:xfrm>
              <a:off x="6149160" y="4327560"/>
              <a:ext cx="2308680" cy="161496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усвідомлюва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ебе потрібн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людя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ЧИ  БУЛИ ЯЯНИ ЩАСЛИВИМИ? У  ЧОМУ  ЩАСТЯ  ЛЮДИН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2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Х Т О  Т А К І  Я Я Н И 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00000" y="1773360"/>
          <a:ext cx="7130880" cy="4141800"/>
        </p:xfrm>
        <a:graphic>
          <a:graphicData uri="http://schemas.openxmlformats.org/drawingml/2006/table">
            <a:tbl>
              <a:tblPr/>
              <a:tblGrid>
                <a:gridCol w="3727080"/>
                <a:gridCol w="3188160"/>
                <a:gridCol w="216000"/>
              </a:tblGrid>
              <a:tr h="14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ому люди стають яянами?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і риси допомагають пастушкові не стати яянином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1921680"/>
            <a:ext cx="6525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Я вважаю, що яяни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Тому що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Отже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51840" y="310788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спішай робити добро – і Бог віддячить то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65240" y="2971440"/>
            <a:ext cx="34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сля цього уроку я зрозумів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йбільше мене вразил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 хоч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Розповісти членам родини про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 Емму Андієвську</a:t>
            </a: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Вибрати з тексту все, що стосується дідуся,  і переказати це від третьої особи. Чи побачив дідусь інший, кращий сві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Знайти в Біблії„Притчу про сіяча”( вдома чи в бібліотеці), прочита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АНДІЄВСЬКА ЕММ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32418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2205000"/>
            <a:ext cx="26953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 О С П І Ш А 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419640" y="3068640"/>
            <a:ext cx="1809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 О Б И 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35640" y="4292640"/>
            <a:ext cx="1647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 О Б Р 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Повинні знати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зміст „Казки про яян”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основні відомості про Е. Андієвсь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Повинні вміт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разно і вдумливо читати казку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діляти фантастичні елементи казк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визначати головну думку твору, відшукуючи ключові фраз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000000"/>
                </a:solidFill>
                <a:latin typeface="Arial"/>
              </a:rPr>
              <a:t>формулювати власні висновки про твір і його ідеї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Картини Емми Андієвської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56000" cy="5300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336666"/>
                </a:solidFill>
                <a:latin typeface="Arial Black"/>
              </a:rPr>
              <a:t>Твори Марії Приймаченк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2857680" cy="367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762440" cy="4124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381560" y="3716280"/>
            <a:ext cx="4762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43280" y="2819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762440" cy="3591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762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30:20Z</dcterms:created>
  <dc:creator>Admin</dc:creator>
  <dc:description/>
  <dc:language>en-US</dc:language>
  <cp:lastModifiedBy>Admin</cp:lastModifiedBy>
  <dcterms:modified xsi:type="dcterms:W3CDTF">2011-01-27T12:38:39Z</dcterms:modified>
  <cp:revision>7</cp:revision>
  <dc:subject/>
  <dc:title>Тема:  Емма Андієвська (українська письменниця і художниця, яка живе в Німеччині). „Казка про яян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4000000000001024140</vt:lpwstr>
  </property>
</Properties>
</file>