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132DD-034C-47DF-A5C8-C2AA05E8D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0AB6D-DE9C-4A63-92CA-2FBF6274A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0D04B-CAAA-4596-81B8-EEA17C5E3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B7ED0-C545-4E22-B5EC-08A3293B2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3F650-6EEF-4AAB-82C3-0A93562D1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2A872-266A-4C44-962A-F6C7DDFE2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68166-0BA1-4250-93BB-D876CA464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81C25-479F-4C0F-8B82-FDF661FA1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59407-DC8E-4DCC-ABBA-2E10F8996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C5E13-A225-4504-A5E9-F8C7C8588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2FFB5-DF77-4F49-8569-1AA748F68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56523-C101-4271-9AAF-9A23A2272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39DE4-3179-4B97-B4C9-765A106F9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532D5-2246-453B-A0B6-A2E4985B3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5E2B6-D170-4B55-B424-765F50D11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F705F-D740-478D-AD1E-1BEBDF3DA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7C5A2-F0F4-46E9-BF61-5662D27D0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EBC37-75C0-4130-A9C5-259778CB4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EB5E6-FA05-4E83-81F3-FD473DF7E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283FF-0BB4-4E20-992B-86F943AB0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279D1-0756-46D8-8D1A-FCB60274A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88046-6C5B-4E7E-8681-87FE10A71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D60A2-F881-4B7F-9D9B-494E8C043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B5DB1-C53A-4F40-96A4-95155BD36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>
              <a:gd name="textAreaLeft" fmla="*/ 0 w 7958160"/>
              <a:gd name="textAreaRight" fmla="*/ 7958520 w 795816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5CCFD-4F31-4E03-9E9C-51461114E59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>
              <a:gd name="textAreaLeft" fmla="*/ 0 w 7772400"/>
              <a:gd name="textAreaRight" fmla="*/ 7772760 w 7772400"/>
              <a:gd name="textAreaTop" fmla="*/ 0 h 109440"/>
              <a:gd name="textAreaBottom" fmla="*/ 109800 h 10944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0CCB5-AC01-4754-A26E-4CB6ABD0198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4" descr="Андрій-Чайковський"/>
          <p:cNvPicPr/>
          <p:nvPr/>
        </p:nvPicPr>
        <p:blipFill>
          <a:blip r:embed="rId1"/>
          <a:stretch/>
        </p:blipFill>
        <p:spPr>
          <a:xfrm>
            <a:off x="250920" y="189000"/>
            <a:ext cx="3252600" cy="20876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5" descr="10002(8)"/>
          <p:cNvPicPr/>
          <p:nvPr/>
        </p:nvPicPr>
        <p:blipFill>
          <a:blip r:embed="rId2"/>
          <a:stretch/>
        </p:blipFill>
        <p:spPr>
          <a:xfrm rot="20811000">
            <a:off x="361800" y="3792240"/>
            <a:ext cx="1729080" cy="25192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6" descr="9786175923078"/>
          <p:cNvPicPr/>
          <p:nvPr/>
        </p:nvPicPr>
        <p:blipFill>
          <a:blip r:embed="rId3"/>
          <a:stretch/>
        </p:blipFill>
        <p:spPr>
          <a:xfrm>
            <a:off x="4572000" y="1052640"/>
            <a:ext cx="1905120" cy="30193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7" descr="130226182538318600_f0_0"/>
          <p:cNvPicPr/>
          <p:nvPr/>
        </p:nvPicPr>
        <p:blipFill>
          <a:blip r:embed="rId4"/>
          <a:stretch/>
        </p:blipFill>
        <p:spPr>
          <a:xfrm>
            <a:off x="2484360" y="2852640"/>
            <a:ext cx="1905120" cy="26956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image"/>
          <p:cNvPicPr/>
          <p:nvPr/>
        </p:nvPicPr>
        <p:blipFill>
          <a:blip r:embed="rId5"/>
          <a:stretch/>
        </p:blipFill>
        <p:spPr>
          <a:xfrm rot="591600">
            <a:off x="6876720" y="3789360"/>
            <a:ext cx="1905120" cy="26668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images"/>
          <p:cNvPicPr/>
          <p:nvPr/>
        </p:nvPicPr>
        <p:blipFill>
          <a:blip r:embed="rId6"/>
          <a:stretch/>
        </p:blipFill>
        <p:spPr>
          <a:xfrm>
            <a:off x="4643280" y="472428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ldu011"/>
          <p:cNvPicPr/>
          <p:nvPr/>
        </p:nvPicPr>
        <p:blipFill>
          <a:blip r:embed="rId7"/>
          <a:stretch/>
        </p:blipFill>
        <p:spPr>
          <a:xfrm>
            <a:off x="6659640" y="260280"/>
            <a:ext cx="21333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uk-UA" sz="3000" spc="-1" strike="noStrike">
                <a:solidFill>
                  <a:srgbClr val="000000"/>
                </a:solidFill>
                <a:latin typeface="Verdana"/>
              </a:rPr>
              <a:t>На варті”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7" name="Picture 4" descr="401px-Sergiy_Vasylkivskiy-_Zaporozh"/>
          <p:cNvPicPr/>
          <p:nvPr/>
        </p:nvPicPr>
        <p:blipFill>
          <a:blip r:embed="rId1"/>
          <a:stretch/>
        </p:blipFill>
        <p:spPr>
          <a:xfrm>
            <a:off x="4067280" y="404640"/>
            <a:ext cx="4537080" cy="604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uk-UA" sz="3000" spc="-1" strike="noStrike">
                <a:solidFill>
                  <a:srgbClr val="000000"/>
                </a:solidFill>
                <a:latin typeface="Verdana"/>
              </a:rPr>
              <a:t>Січовий дід”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9" name="Picture 4" descr="VasilkivskySichovyDid"/>
          <p:cNvPicPr/>
          <p:nvPr/>
        </p:nvPicPr>
        <p:blipFill>
          <a:blip r:embed="rId1"/>
          <a:stretch/>
        </p:blipFill>
        <p:spPr>
          <a:xfrm>
            <a:off x="4716360" y="333360"/>
            <a:ext cx="3770280" cy="60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uk-UA" sz="3000" spc="-1" strike="noStrike">
                <a:solidFill>
                  <a:srgbClr val="000000"/>
                </a:solidFill>
                <a:latin typeface="Verdana"/>
              </a:rPr>
              <a:t>Сторожа”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1" name="Picture 4" descr="VaslkivskyStorozhaZaporozkihVolnostey"/>
          <p:cNvPicPr/>
          <p:nvPr/>
        </p:nvPicPr>
        <p:blipFill>
          <a:blip r:embed="rId1"/>
          <a:stretch/>
        </p:blipFill>
        <p:spPr>
          <a:xfrm>
            <a:off x="3132000" y="333360"/>
            <a:ext cx="5761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566280" y="259920"/>
            <a:ext cx="80010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9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Verdana"/>
              </a:rPr>
              <a:t>Андрій Судак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9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Verdana"/>
              </a:rPr>
              <a:t>Степан Судак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9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Verdana"/>
              </a:rPr>
              <a:t>Дід Панас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9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Verdana"/>
              </a:rPr>
              <a:t>Семен Непорадний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9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Verdana"/>
              </a:rPr>
              <a:t>Остап Тріска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800" spc="-1" strike="noStrike">
                <a:solidFill>
                  <a:srgbClr val="000000"/>
                </a:solidFill>
                <a:latin typeface="Verdana"/>
              </a:rPr>
              <a:t>Повість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—   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прозовий розповідний твір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—   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за обсягом повість більша, ніж оповідання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—   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у повісті розповідається про одну або декілька подій одного чи декількох головних героїв протягом досить тривалого часу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800" spc="-1" strike="noStrike">
                <a:solidFill>
                  <a:srgbClr val="000000"/>
                </a:solidFill>
                <a:latin typeface="Verdana"/>
              </a:rPr>
              <a:t>Героїко-романтична повість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«Героїко» означає героїчна за змістом, а «романтична» — незвичайна, пригодницька за подіями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Отже, героїко-романтичною називають ту повість, у якій зображено героїчні вчинки виняткового героя у надзвичайних обставинах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39640" y="304920"/>
            <a:ext cx="7920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НА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ЧЕСТЬ 155-ТИ РІЧЧЯ З ДНЯ НАРОДЖЕННЯ А.ЧАЙКОВСЬКОГО В БЕРЕЖАНАХ ВІДБУЛИСЬ ВСЕУКРАЇНСЬКІ ЧАЙКОВСЬКІ ЧИТАНН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8" name="Содержимое 3" descr="clip_image001.jpg"/>
          <p:cNvPicPr/>
          <p:nvPr/>
        </p:nvPicPr>
        <p:blipFill>
          <a:blip r:embed="rId1"/>
          <a:stretch/>
        </p:blipFill>
        <p:spPr>
          <a:xfrm>
            <a:off x="395280" y="1773360"/>
            <a:ext cx="3200400" cy="4267080"/>
          </a:xfrm>
          <a:prstGeom prst="rect">
            <a:avLst/>
          </a:prstGeom>
          <a:ln w="0">
            <a:noFill/>
          </a:ln>
        </p:spPr>
      </p:pic>
      <p:pic>
        <p:nvPicPr>
          <p:cNvPr id="129" name="Рисунок 4" descr="clip_image001.jpg"/>
          <p:cNvPicPr/>
          <p:nvPr/>
        </p:nvPicPr>
        <p:blipFill>
          <a:blip r:embed="rId2"/>
          <a:stretch/>
        </p:blipFill>
        <p:spPr>
          <a:xfrm>
            <a:off x="4572000" y="1700280"/>
            <a:ext cx="3384720" cy="43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Содержимое 3" descr="clip_image002.jpg"/>
          <p:cNvPicPr/>
          <p:nvPr/>
        </p:nvPicPr>
        <p:blipFill>
          <a:blip r:embed="rId1"/>
          <a:stretch/>
        </p:blipFill>
        <p:spPr>
          <a:xfrm>
            <a:off x="1332000" y="1125360"/>
            <a:ext cx="6192720" cy="5183280"/>
          </a:xfrm>
          <a:prstGeom prst="rect">
            <a:avLst/>
          </a:prstGeom>
          <a:ln w="0">
            <a:noFill/>
          </a:ln>
        </p:spPr>
      </p:pic>
      <p:sp>
        <p:nvSpPr>
          <p:cNvPr id="131" name="TextBox 4"/>
          <p:cNvSpPr/>
          <p:nvPr/>
        </p:nvSpPr>
        <p:spPr>
          <a:xfrm>
            <a:off x="975600" y="333360"/>
            <a:ext cx="734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Verdana"/>
              </a:rPr>
              <a:t>Будинок, у якому мешкав А.Чайковськи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400" spc="-1" strike="noStrike">
                <a:solidFill>
                  <a:srgbClr val="000000"/>
                </a:solidFill>
                <a:latin typeface="Verdana"/>
              </a:rPr>
              <a:t>Розташуйте послідовно епізоди твору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7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1. Історія села Спасівки, розповідь про славний рід Судаків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2. Напад татар на село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3. Втеча Павлуся на татарському коні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4. Зустріч з козаками, серед яких був і брат Петро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5. Татарський кіш розбитий, Мустафа у полоні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6. Визволення бранців-спасівчан і батька Степан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7. Зустріч з сестрою. Воля або смерть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8. Повернення в Україну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mb dir="vert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250920" y="1752480"/>
            <a:ext cx="86421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000000"/>
                </a:solidFill>
                <a:latin typeface="Verdana"/>
              </a:rPr>
              <a:t>Гуманíзм-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Verdana"/>
              </a:rPr>
              <a:t>визнання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 </a:t>
            </a:r>
            <a:r>
              <a:rPr b="0" lang="uk-UA" sz="3000" spc="-1" strike="noStrike">
                <a:solidFill>
                  <a:srgbClr val="000000"/>
                </a:solidFill>
                <a:latin typeface="Verdana"/>
              </a:rPr>
              <a:t>людини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 </a:t>
            </a:r>
            <a:r>
              <a:rPr b="0" lang="uk-UA" sz="3000" spc="-1" strike="noStrike">
                <a:solidFill>
                  <a:srgbClr val="000000"/>
                </a:solidFill>
                <a:latin typeface="Verdana"/>
              </a:rPr>
              <a:t>найвищою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 </a:t>
            </a:r>
            <a:r>
              <a:rPr b="0" lang="uk-UA" sz="3000" spc="-1" strike="noStrike">
                <a:solidFill>
                  <a:srgbClr val="000000"/>
                </a:solidFill>
                <a:latin typeface="Verdana"/>
              </a:rPr>
              <a:t>цінністю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 у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Verdana"/>
              </a:rPr>
              <a:t>світі;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Verdana"/>
              </a:rPr>
              <a:t>повага до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 </a:t>
            </a:r>
            <a:r>
              <a:rPr b="0" lang="uk-UA" sz="3000" spc="-1" strike="noStrike">
                <a:solidFill>
                  <a:srgbClr val="000000"/>
                </a:solidFill>
                <a:latin typeface="Verdana"/>
              </a:rPr>
              <a:t>гідності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  </a:t>
            </a:r>
            <a:r>
              <a:rPr b="0" lang="uk-UA" sz="3000" spc="-1" strike="noStrike">
                <a:solidFill>
                  <a:srgbClr val="000000"/>
                </a:solidFill>
                <a:latin typeface="Verdana"/>
              </a:rPr>
              <a:t>та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 </a:t>
            </a:r>
            <a:r>
              <a:rPr b="0" lang="uk-UA" sz="3000" spc="-1" strike="noStrike">
                <a:solidFill>
                  <a:srgbClr val="000000"/>
                </a:solidFill>
                <a:latin typeface="Verdana"/>
              </a:rPr>
              <a:t>розуму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 </a:t>
            </a:r>
            <a:r>
              <a:rPr b="0" lang="uk-UA" sz="3000" spc="-1" strike="noStrike">
                <a:solidFill>
                  <a:srgbClr val="000000"/>
                </a:solidFill>
                <a:latin typeface="Verdana"/>
              </a:rPr>
              <a:t>людини,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Verdana"/>
              </a:rPr>
              <a:t>право на щастя в житті; 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Verdana"/>
              </a:rPr>
              <a:t>вільний вияв природних почуттів і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Verdana"/>
              </a:rPr>
              <a:t>здібностей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Text Box 5"/>
          <p:cNvSpPr/>
          <p:nvPr/>
        </p:nvSpPr>
        <p:spPr>
          <a:xfrm>
            <a:off x="1103400" y="243000"/>
            <a:ext cx="403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Verdana"/>
              </a:rPr>
              <a:t>               </a:t>
            </a:r>
            <a:r>
              <a:rPr b="1" lang="uk-UA" sz="3200" spc="-1" strike="noStrike">
                <a:solidFill>
                  <a:srgbClr val="000000"/>
                </a:solidFill>
                <a:latin typeface="Verdana"/>
              </a:rPr>
              <a:t>ГУМАНІЗ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800" spc="-1" strike="noStrike">
                <a:solidFill>
                  <a:srgbClr val="000000"/>
                </a:solidFill>
                <a:latin typeface="Verdana"/>
              </a:rPr>
              <a:t>ВАЛЬТЕР СКОТТ   “АЙВЕНГО”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8" name="Picture 4" descr="th"/>
          <p:cNvPicPr/>
          <p:nvPr/>
        </p:nvPicPr>
        <p:blipFill>
          <a:blip r:embed="rId1"/>
          <a:stretch/>
        </p:blipFill>
        <p:spPr>
          <a:xfrm>
            <a:off x="3780000" y="3429000"/>
            <a:ext cx="1618920" cy="24480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th (1)"/>
          <p:cNvPicPr/>
          <p:nvPr/>
        </p:nvPicPr>
        <p:blipFill>
          <a:blip r:embed="rId2"/>
          <a:stretch/>
        </p:blipFill>
        <p:spPr>
          <a:xfrm rot="942000">
            <a:off x="6516720" y="3141720"/>
            <a:ext cx="1655640" cy="23763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th (2)"/>
          <p:cNvPicPr/>
          <p:nvPr/>
        </p:nvPicPr>
        <p:blipFill>
          <a:blip r:embed="rId3"/>
          <a:stretch/>
        </p:blipFill>
        <p:spPr>
          <a:xfrm rot="20965200">
            <a:off x="971640" y="3141360"/>
            <a:ext cx="1758960" cy="231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400" spc="-1" strike="noStrike">
                <a:solidFill>
                  <a:srgbClr val="000000"/>
                </a:solidFill>
                <a:latin typeface="Verdana"/>
              </a:rPr>
              <a:t>ЧИ ЗНАЄТЕ ВИ ТЕ, ЩО ЗНАЮ Я?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79280" y="1752480"/>
            <a:ext cx="8785440" cy="42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Verdana"/>
              </a:rPr>
              <a:t>Лицар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1" lang="ru-RU" sz="3000" spc="-1" strike="noStrike">
                <a:solidFill>
                  <a:srgbClr val="000000"/>
                </a:solidFill>
                <a:latin typeface="Verdana"/>
              </a:rPr>
              <a:t>рицар -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середньовічний шляхетський титул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в Європі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3" name="Picture 4" descr="MET_Armures"/>
          <p:cNvPicPr/>
          <p:nvPr/>
        </p:nvPicPr>
        <p:blipFill>
          <a:blip r:embed="rId1"/>
          <a:stretch/>
        </p:blipFill>
        <p:spPr>
          <a:xfrm>
            <a:off x="2540160" y="3213000"/>
            <a:ext cx="4063680" cy="28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250560" y="1915920"/>
            <a:ext cx="87138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ручення зброї молодому юнакові в присутності народних зборів означало визнання його повнолітнім (13-15 років); зброю вручав хто-небудь з вождів племені, або батько, або родич юнака.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" name="Picture 4" descr="220px-Vitrail_Chartres_210209_09"/>
          <p:cNvPicPr/>
          <p:nvPr/>
        </p:nvPicPr>
        <p:blipFill>
          <a:blip r:embed="rId1"/>
          <a:stretch/>
        </p:blipFill>
        <p:spPr>
          <a:xfrm>
            <a:off x="5651640" y="4508640"/>
            <a:ext cx="279396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           </a:t>
            </a: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Лицарські заповіді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·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бути віруючим християнином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·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охороняти </a:t>
            </a:r>
            <a:r>
              <a:rPr b="0" lang="ru-RU" sz="2600" spc="-1" strike="noStrike" u="sng">
                <a:solidFill>
                  <a:srgbClr val="000000"/>
                </a:solidFill>
                <a:uFillTx/>
                <a:latin typeface="Verdana"/>
              </a:rPr>
              <a:t>церкву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·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захищати слабких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·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любити батьківщину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·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бути мужнім в битві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·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говорити правду і тримати своє слово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·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берегти чистоту моралі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·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бути щедрим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·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боротися проти зла і захищати добро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8" name="Picture 4" descr="450px-Knight_into_museum"/>
          <p:cNvPicPr/>
          <p:nvPr/>
        </p:nvPicPr>
        <p:blipFill>
          <a:blip r:embed="rId1"/>
          <a:stretch/>
        </p:blipFill>
        <p:spPr>
          <a:xfrm>
            <a:off x="7236000" y="1700280"/>
            <a:ext cx="1676160" cy="23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0" name="Picture 4" descr="450px-Knight_into_museum"/>
          <p:cNvPicPr/>
          <p:nvPr/>
        </p:nvPicPr>
        <p:blipFill>
          <a:blip r:embed="rId1"/>
          <a:stretch/>
        </p:blipFill>
        <p:spPr>
          <a:xfrm>
            <a:off x="971640" y="1844640"/>
            <a:ext cx="2520720" cy="41054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5" descr="Sergiy_Vasylkivskiy-_Cossack_Dunai"/>
          <p:cNvPicPr/>
          <p:nvPr/>
        </p:nvPicPr>
        <p:blipFill>
          <a:blip r:embed="rId2"/>
          <a:stretch/>
        </p:blipFill>
        <p:spPr>
          <a:xfrm>
            <a:off x="5292720" y="1844640"/>
            <a:ext cx="2592360" cy="410544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6"/>
          <p:cNvSpPr/>
          <p:nvPr/>
        </p:nvSpPr>
        <p:spPr>
          <a:xfrm>
            <a:off x="4067280" y="2556000"/>
            <a:ext cx="72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400" spc="-1" strike="noStrike">
                <a:solidFill>
                  <a:srgbClr val="000000"/>
                </a:solidFill>
                <a:latin typeface="Verdana"/>
              </a:rPr>
              <a:t>ЧИ ЗНАЄТЕ ВИ ТЕ, ЩО ЗНАЮ Я?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Verdana"/>
              </a:rPr>
              <a:t>Васильківський Сергій Іванович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5" name="Picture 4" descr="456px-Vasylkivsky_Serhiy"/>
          <p:cNvPicPr/>
          <p:nvPr/>
        </p:nvPicPr>
        <p:blipFill>
          <a:blip r:embed="rId1"/>
          <a:stretch/>
        </p:blipFill>
        <p:spPr>
          <a:xfrm>
            <a:off x="5148360" y="2637000"/>
            <a:ext cx="244800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03T15:24:54Z</dcterms:created>
  <dc:creator>User</dc:creator>
  <dc:description/>
  <dc:language>en-US</dc:language>
  <cp:lastModifiedBy>User</cp:lastModifiedBy>
  <dcterms:modified xsi:type="dcterms:W3CDTF">2013-11-14T20:09:26Z</dcterms:modified>
  <cp:revision>17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2a0a000000000001024140</vt:lpwstr>
  </property>
</Properties>
</file>