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3CA-4EE6-4209-8BB7-F40B820FA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B9C3-5229-4918-821B-D399475C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8A29-B0DC-4458-B6A0-228FA65F5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3D40-6C23-4F88-ABA7-B3FE5D40E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A1D7D-B52A-49B9-9E11-5F5222FE9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0FE31-BAE7-4879-89FD-9BE197C7C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245BB-4BA6-4CA1-AB1C-C638674F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9F80-C975-4316-A3A7-962A91BB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1E9DF-71BB-4EA5-AFFB-6C293B9E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6869C-16B8-418A-9678-72FD539E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43101-2937-42EA-AAF3-E6741EBF7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6C87-4166-463D-B1DA-75190CD2F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9C76-DEDF-4119-9C24-761E5ABF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A5AD-0751-4740-99A3-F573501F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0ACC-8851-48DE-A638-D87AAA7A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5E39-9E0C-4E42-BD8E-DFCC99AD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8F9AE-07EA-4677-A2C7-11B5D781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17E-5280-4236-B191-45EDFE5A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36F4-9498-48D4-9E3E-018CD30E7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183-887A-45CE-B206-D338E3380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FBBF-5F10-43B5-9041-E88291CE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2455-0BCD-43C3-9C04-BFC8E073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78432-DD31-4F14-BC67-EA23E1C2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65DF-A40E-43B0-BEE0-D6040DD9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B5EA-CFD9-41A8-B15C-224C0F2853E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3C0FA-16D7-4397-9BFA-B87E67C4364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Андрій-Чайковський"/>
          <p:cNvPicPr/>
          <p:nvPr/>
        </p:nvPicPr>
        <p:blipFill>
          <a:blip r:embed="rId1"/>
          <a:stretch/>
        </p:blipFill>
        <p:spPr>
          <a:xfrm>
            <a:off x="250920" y="189000"/>
            <a:ext cx="3252600" cy="2087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10002(8)"/>
          <p:cNvPicPr/>
          <p:nvPr/>
        </p:nvPicPr>
        <p:blipFill>
          <a:blip r:embed="rId2"/>
          <a:stretch/>
        </p:blipFill>
        <p:spPr>
          <a:xfrm rot="20811000">
            <a:off x="361800" y="3792240"/>
            <a:ext cx="1729080" cy="2519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9786175923078"/>
          <p:cNvPicPr/>
          <p:nvPr/>
        </p:nvPicPr>
        <p:blipFill>
          <a:blip r:embed="rId3"/>
          <a:stretch/>
        </p:blipFill>
        <p:spPr>
          <a:xfrm>
            <a:off x="4572000" y="1052640"/>
            <a:ext cx="1905120" cy="3019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130226182538318600_f0_0"/>
          <p:cNvPicPr/>
          <p:nvPr/>
        </p:nvPicPr>
        <p:blipFill>
          <a:blip r:embed="rId4"/>
          <a:stretch/>
        </p:blipFill>
        <p:spPr>
          <a:xfrm>
            <a:off x="2484360" y="2852640"/>
            <a:ext cx="1905120" cy="2695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image"/>
          <p:cNvPicPr/>
          <p:nvPr/>
        </p:nvPicPr>
        <p:blipFill>
          <a:blip r:embed="rId5"/>
          <a:stretch/>
        </p:blipFill>
        <p:spPr>
          <a:xfrm rot="591600">
            <a:off x="6876720" y="3789360"/>
            <a:ext cx="1905120" cy="2666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images"/>
          <p:cNvPicPr/>
          <p:nvPr/>
        </p:nvPicPr>
        <p:blipFill>
          <a:blip r:embed="rId6"/>
          <a:stretch/>
        </p:blipFill>
        <p:spPr>
          <a:xfrm>
            <a:off x="4643280" y="4724280"/>
            <a:ext cx="2467080" cy="1847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ldu011"/>
          <p:cNvPicPr/>
          <p:nvPr/>
        </p:nvPicPr>
        <p:blipFill>
          <a:blip r:embed="rId7"/>
          <a:stretch/>
        </p:blipFill>
        <p:spPr>
          <a:xfrm>
            <a:off x="6659640" y="260280"/>
            <a:ext cx="21333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а варті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401px-Sergiy_Vasylkivskiy-_Zaporozh"/>
          <p:cNvPicPr/>
          <p:nvPr/>
        </p:nvPicPr>
        <p:blipFill>
          <a:blip r:embed="rId1"/>
          <a:stretch/>
        </p:blipFill>
        <p:spPr>
          <a:xfrm>
            <a:off x="4067280" y="404640"/>
            <a:ext cx="4537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ічовий дід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Picture 4" descr="VasilkivskySichovyDid"/>
          <p:cNvPicPr/>
          <p:nvPr/>
        </p:nvPicPr>
        <p:blipFill>
          <a:blip r:embed="rId1"/>
          <a:stretch/>
        </p:blipFill>
        <p:spPr>
          <a:xfrm>
            <a:off x="4716360" y="333360"/>
            <a:ext cx="3770280" cy="60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торожа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VaslkivskyStorozhaZaporozkihVolnostey"/>
          <p:cNvPicPr/>
          <p:nvPr/>
        </p:nvPicPr>
        <p:blipFill>
          <a:blip r:embed="rId1"/>
          <a:stretch/>
        </p:blipFill>
        <p:spPr>
          <a:xfrm>
            <a:off x="3132000" y="333360"/>
            <a:ext cx="57610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566280" y="259920"/>
            <a:ext cx="80010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Андрій Суд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Степан Судак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Дід Панас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Семен Непорадний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Verdana"/>
              </a:rPr>
              <a:t>Остап Тріс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Повість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зовий розповідний твір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за обсягом повість більша, ніж оповідання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—   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 повісті розповідається про одну або декілька подій одного чи декількох головних героїв протягом досить тривалого часу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Героїко-романтична повіст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«Героїко» означає героїчна за змістом, а «романтична» — незвичайна, пригодницька за подіями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же, героїко-романтичною називають ту повість, у якій зображено героїчні вчинки виняткового героя у надзвичайних обставинах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39640" y="304920"/>
            <a:ext cx="7920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Verdana"/>
              </a:rPr>
              <a:t>Н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ЧЕСТЬ 155-ТИ РІЧЧЯ З ДНЯ НАРОДЖЕННЯ А.ЧАЙКОВСЬКОГО В БЕРЕЖАНАХ ВІДБУЛИСЬ ВСЕУКРАЇНСЬКІ ЧАЙКОВСЬКІ ЧИТАНН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Содержимое 3" descr="clip_image001.jpg"/>
          <p:cNvPicPr/>
          <p:nvPr/>
        </p:nvPicPr>
        <p:blipFill>
          <a:blip r:embed="rId1"/>
          <a:stretch/>
        </p:blipFill>
        <p:spPr>
          <a:xfrm>
            <a:off x="395280" y="1773360"/>
            <a:ext cx="3200400" cy="426708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4" descr="clip_image001.jpg"/>
          <p:cNvPicPr/>
          <p:nvPr/>
        </p:nvPicPr>
        <p:blipFill>
          <a:blip r:embed="rId2"/>
          <a:stretch/>
        </p:blipFill>
        <p:spPr>
          <a:xfrm>
            <a:off x="4572000" y="1700280"/>
            <a:ext cx="33847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Содержимое 3" descr="clip_image002.jpg"/>
          <p:cNvPicPr/>
          <p:nvPr/>
        </p:nvPicPr>
        <p:blipFill>
          <a:blip r:embed="rId1"/>
          <a:stretch/>
        </p:blipFill>
        <p:spPr>
          <a:xfrm>
            <a:off x="1332000" y="1125360"/>
            <a:ext cx="6192720" cy="51832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975600" y="333360"/>
            <a:ext cx="734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Verdana"/>
              </a:rPr>
              <a:t>Будинок, у якому мешкав А.Чайковськ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Розташуйте послідовно епізоди твору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Історія села Спасівки, розповідь про славний рід Судаків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Напад татар на се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Втеча Павлуся на татарському кон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 Зустріч з козаками, серед яких був і брат Петр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 Татарський кіш розбитий, Мустафа у полоні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Визволення бранців-спасівчан і батька Степан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 Зустріч з сестрою. Воля або смер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Повернення в Україну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mb dir="vert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1752480"/>
            <a:ext cx="8642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000000"/>
                </a:solidFill>
                <a:latin typeface="Verdana"/>
              </a:rPr>
              <a:t>Гуманíзм-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изнанн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юдини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найвищою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цінністю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світі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овага до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гідност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 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т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розуму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 </a:t>
            </a: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людини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право на щастя в житті;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ільний вияв природних почуттів 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здібносте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103400" y="24300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               </a:t>
            </a:r>
            <a:r>
              <a:rPr b="1" lang="uk-UA" sz="3200" spc="-1" strike="noStrike">
                <a:solidFill>
                  <a:srgbClr val="000000"/>
                </a:solidFill>
                <a:latin typeface="Verdana"/>
              </a:rPr>
              <a:t>ГУМАНІЗ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800" spc="-1" strike="noStrike">
                <a:solidFill>
                  <a:srgbClr val="000000"/>
                </a:solidFill>
                <a:latin typeface="Verdana"/>
              </a:rPr>
              <a:t>ВАЛЬТЕР СКОТТ   “АЙВЕНГО”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Picture 4" descr="th"/>
          <p:cNvPicPr/>
          <p:nvPr/>
        </p:nvPicPr>
        <p:blipFill>
          <a:blip r:embed="rId1"/>
          <a:stretch/>
        </p:blipFill>
        <p:spPr>
          <a:xfrm>
            <a:off x="3780000" y="3429000"/>
            <a:ext cx="1618920" cy="244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th (1)"/>
          <p:cNvPicPr/>
          <p:nvPr/>
        </p:nvPicPr>
        <p:blipFill>
          <a:blip r:embed="rId2"/>
          <a:stretch/>
        </p:blipFill>
        <p:spPr>
          <a:xfrm rot="942000">
            <a:off x="6516720" y="3141720"/>
            <a:ext cx="1655640" cy="2376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th (2)"/>
          <p:cNvPicPr/>
          <p:nvPr/>
        </p:nvPicPr>
        <p:blipFill>
          <a:blip r:embed="rId3"/>
          <a:stretch/>
        </p:blipFill>
        <p:spPr>
          <a:xfrm rot="20965200">
            <a:off x="971640" y="3141360"/>
            <a:ext cx="17589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ЧИ ЗНАЄТЕ ВИ ТЕ, ЩО ЗНАЮ Я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79280" y="1752480"/>
            <a:ext cx="878544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Лицар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рицар -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ередньовічний шляхетський титул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 Європі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3" name="Picture 4" descr="MET_Armures"/>
          <p:cNvPicPr/>
          <p:nvPr/>
        </p:nvPicPr>
        <p:blipFill>
          <a:blip r:embed="rId1"/>
          <a:stretch/>
        </p:blipFill>
        <p:spPr>
          <a:xfrm>
            <a:off x="2540160" y="3213000"/>
            <a:ext cx="406368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560" y="1915920"/>
            <a:ext cx="871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ручення зброї молодому юнакові в присутності народних зборів означало визнання його повнолітнім (13-15 років); зброю вручав хто-небудь з вождів племені, або батько, або родич юнака.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4" descr="220px-Vitrail_Chartres_210209_09"/>
          <p:cNvPicPr/>
          <p:nvPr/>
        </p:nvPicPr>
        <p:blipFill>
          <a:blip r:embed="rId1"/>
          <a:stretch/>
        </p:blipFill>
        <p:spPr>
          <a:xfrm>
            <a:off x="5651640" y="4508640"/>
            <a:ext cx="27939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Лицарські заповіді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віруючим християнино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хороняти 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Verdana"/>
              </a:rPr>
              <a:t>церкву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хищати слабки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бити батьківщин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мужнім в битв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говорити правду і тримати своє слов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ерегти чистоту морал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ути щедри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оротися проти зла і захищати добр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450px-Knight_into_museum"/>
          <p:cNvPicPr/>
          <p:nvPr/>
        </p:nvPicPr>
        <p:blipFill>
          <a:blip r:embed="rId1"/>
          <a:stretch/>
        </p:blipFill>
        <p:spPr>
          <a:xfrm>
            <a:off x="7236000" y="1700280"/>
            <a:ext cx="167616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0" name="Picture 4" descr="450px-Knight_into_museum"/>
          <p:cNvPicPr/>
          <p:nvPr/>
        </p:nvPicPr>
        <p:blipFill>
          <a:blip r:embed="rId1"/>
          <a:stretch/>
        </p:blipFill>
        <p:spPr>
          <a:xfrm>
            <a:off x="971640" y="1844640"/>
            <a:ext cx="2520720" cy="4105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Sergiy_Vasylkivskiy-_Cossack_Dunai"/>
          <p:cNvPicPr/>
          <p:nvPr/>
        </p:nvPicPr>
        <p:blipFill>
          <a:blip r:embed="rId2"/>
          <a:stretch/>
        </p:blipFill>
        <p:spPr>
          <a:xfrm>
            <a:off x="5292720" y="1844640"/>
            <a:ext cx="2592360" cy="41054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6"/>
          <p:cNvSpPr/>
          <p:nvPr/>
        </p:nvSpPr>
        <p:spPr>
          <a:xfrm>
            <a:off x="4067280" y="2556000"/>
            <a:ext cx="720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Verdana"/>
              </a:rPr>
              <a:t>ЧИ ЗНАЄТЕ ВИ ТЕ, ЩО ЗНАЮ Я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000000"/>
                </a:solidFill>
                <a:latin typeface="Verdana"/>
              </a:rPr>
              <a:t>Васильківський Сергій Іванови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4" descr="456px-Vasylkivsky_Serhiy"/>
          <p:cNvPicPr/>
          <p:nvPr/>
        </p:nvPicPr>
        <p:blipFill>
          <a:blip r:embed="rId1"/>
          <a:stretch/>
        </p:blipFill>
        <p:spPr>
          <a:xfrm>
            <a:off x="5148360" y="2637000"/>
            <a:ext cx="24480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3T15:24:54Z</dcterms:created>
  <dc:creator>User</dc:creator>
  <dc:description/>
  <dc:language>en-US</dc:language>
  <cp:lastModifiedBy>User</cp:lastModifiedBy>
  <dcterms:modified xsi:type="dcterms:W3CDTF">2013-11-14T20:09:26Z</dcterms:modified>
  <cp:revision>1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0a000000000001024140</vt:lpwstr>
  </property>
</Properties>
</file>