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1350-4CB5-402F-8D7D-1E5C32F4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9BCC-18A0-41CA-B6B9-90451E03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97F5-10BB-4552-B409-B388B0B1E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87B9-6CF4-475E-A39B-40C412B36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1298-154F-4993-B7A4-CA09E04E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0CCD-911A-44BF-8B23-AA595C2E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23B5-BF19-4F56-84EB-B526BDAE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B66E-A7C9-4632-8B21-22DE2FFC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7632-7B22-4C75-B2A2-3DF95176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2057-9AA9-475B-8C23-1C633196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8D8D-A016-4888-962F-4E601C1E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D9CB-A43E-4DB5-A9A4-E8CF817B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BA15-140C-4746-8288-9410CFCE17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ма. Микола Вороний. «</a:t>
            </a: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Євшан-зілля». Поема про необхідність повернення людині історичної пам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`</a:t>
            </a: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яті, усвідомлення своєї національної приналежност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81360"/>
            <a:ext cx="6400800" cy="17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Робота в групах.</a:t>
            </a:r>
            <a:br>
              <a:rPr sz="4000"/>
            </a:b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    Що символізує євшан-зілля для кожного з персонажів?</a:t>
            </a:r>
            <a:br>
              <a:rPr sz="4000"/>
            </a:b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1 група – для хана.</a:t>
            </a:r>
            <a:br>
              <a:rPr sz="4000"/>
            </a:b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2 група – для сина.</a:t>
            </a:r>
            <a:br>
              <a:rPr sz="4000"/>
            </a:b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3 група – для співця.</a:t>
            </a:r>
            <a:br>
              <a:rPr sz="4000"/>
            </a:b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 4 група – для ліричного геро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533340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8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Мета:створити умови для ознайомлення учнів із життям і творчістю  М.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Вороного, з історичною основою та змістом поеми «Євшан – зілля»; 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сприяти розвитку навичок вдумливого, виразного читання, визначення 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особливостей літературного твору; впливати на виховання почуття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патріотизму, національної свідомості.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5298120"/>
            <a:ext cx="6400800" cy="1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8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692360" y="115920"/>
            <a:ext cx="532764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Батьківщино, земле рідна, </a:t>
            </a:r>
            <a:br>
              <a:rPr sz="4000"/>
            </a:b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Земле сонячна і хлібна, </a:t>
            </a:r>
            <a:br>
              <a:rPr sz="4000"/>
            </a:b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Ти навік у нас одна.</a:t>
            </a:r>
            <a:br>
              <a:rPr sz="4000"/>
            </a:b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Ти, як мати, найрідніша,</a:t>
            </a:r>
            <a:br>
              <a:rPr sz="4000"/>
            </a:b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Ти з дитинства нам миліша…</a:t>
            </a:r>
            <a:br>
              <a:rPr sz="4000"/>
            </a:b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                       М.Сингаївськи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Батьківщина – країна стосовно людей, які народилися в ній і є її громадянами; Вітчизн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Патріот – той, хто любить свою Батьківщину, відданий своєму народові, готовий заради них на жертви й подвиг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458100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Євшан-зілля – трава полину.             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Ясир – полонені.</a:t>
            </a:r>
            <a:br>
              <a:rPr sz="4000"/>
            </a:b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Зацурали – занедбали.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Хан – половецький князь.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Принада – привабливість.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Судець – співець.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Сірома – бідолаха.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устка – порожнеча.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Небога – бідолашний.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Твар – обличчя.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Байрак – яр.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Блукати манівцями – ходити без дорог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55640" y="6029280"/>
            <a:ext cx="763272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8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3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Підсумок уроку.</a:t>
            </a:r>
            <a:br>
              <a:rPr sz="4000"/>
            </a:br>
            <a:r>
              <a:rPr b="1" i="1" lang="uk-UA" sz="4000" spc="-1" strike="noStrike">
                <a:solidFill>
                  <a:srgbClr val="000000"/>
                </a:solidFill>
                <a:latin typeface="Calibri"/>
              </a:rPr>
              <a:t> Продовжте речення (вправа «Мікрофон»).</a:t>
            </a:r>
            <a:br>
              <a:rPr sz="4000"/>
            </a:br>
            <a:r>
              <a:rPr b="1" i="1" lang="uk-UA" sz="4000" spc="-1" strike="noStrike">
                <a:solidFill>
                  <a:srgbClr val="000000"/>
                </a:solidFill>
                <a:latin typeface="Calibri"/>
              </a:rPr>
              <a:t>    На уроці я дізнався …, зрозумів …, навчився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486900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28464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Домашнє завдання.</a:t>
            </a:r>
            <a:br>
              <a:rPr sz="4000"/>
            </a:b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  1) Відповідати на запитання на с. 41.</a:t>
            </a:r>
            <a:br>
              <a:rPr sz="4000"/>
            </a:b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  2) Вивчити терміни з теорії літератури (із зошита).</a:t>
            </a:r>
            <a:br>
              <a:rPr sz="4000"/>
            </a:b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  3) Творче завдання. Продовжити поему «Євшан-зілля» про повернення сина додому. </a:t>
            </a:r>
            <a:br>
              <a:rPr sz="4000"/>
            </a:b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537048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8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9T22:04:57Z</dcterms:created>
  <dc:creator>Admin</dc:creator>
  <dc:description/>
  <dc:language>en-US</dc:language>
  <cp:lastModifiedBy>Admin</cp:lastModifiedBy>
  <dcterms:modified xsi:type="dcterms:W3CDTF">2013-12-18T08:13:19Z</dcterms:modified>
  <cp:revision>5</cp:revision>
  <dc:subject/>
  <dc:title>Тема. Микола Вороний. «Євшан-зілля». Поема про необхідність повернення людині історичної пам`яті, усвідомлення своєї національної приналежності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603000000000001024140</vt:lpwstr>
  </property>
</Properties>
</file>