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ADEA-39D0-4325-BBE3-F9CE9A1A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445B-F8EE-456D-AB6B-C087AAF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A5A5-9A18-46CD-AEA4-32A8126E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FB2D-6B65-4FF4-B809-FB23C702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FEE5-CCF3-42BF-9F80-D3CFB63F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32B8-5C8F-459C-B720-B1209A29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C396-8958-4CF6-94FE-D34E6096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FA3E-2753-44A6-8E13-72D65419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A161-F7F6-4907-93B9-C24EE63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DEA1-19C7-40A7-9EFB-494D4C4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D655-3CAF-49F4-B760-26209676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9B00-9124-48A9-9545-0E1C1963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EB5-A218-481B-9ABE-1C986D8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B636-E35C-43A0-B2BF-4B788DF9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DCD1-DF35-4620-B188-1C603161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37D-E379-4A9D-B012-2F8D3EF0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8F8B-D8B5-4D8A-A586-4C93E787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6CDD-9FCE-448D-BE57-C70D680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F7A5-0A58-42B6-ABD6-F806C02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FDB9-5F59-40C9-84DC-BBF3991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AF1C-DDC8-4081-B123-7E8750F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A2B4-5A0F-410A-9F25-56D43DC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35E2-C20F-4FE0-A35C-19BBB35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2FFA-8518-4237-ADBB-67C0C95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EE4-1934-4CAF-A1CD-DAF6DBA30F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14CB-BBB6-404D-AF65-BD9A54F142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0" y="2565000"/>
            <a:ext cx="388476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fdef6"/>
                </a:solidFill>
                <a:latin typeface="Arial"/>
              </a:rPr>
              <a:t>Описуючи стан Івана Дідуха, який емігрує до Канади, автор дає йому образ вину туго  із води камен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796000" y="1989000"/>
            <a:ext cx="1792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розді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763640" y="83664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Іван – Камінь з гостям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643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803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ван Дідух відчуваючи , що більше не повернеться на рідну Батьківщину, починає банувати, і влаштовує службу за цілу сім’ю Дідух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48258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аштовуючи службу, зібралось багато людей, адже всі розуміли, що проводжають його в останню путь. “Він був дуже працьовитим і розумним чоловіком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д самим від’їздом говорить заповіт усім людям:”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Та я вас просю, газди  аби  ви, ніколи мого горба не минали. Будь котрий молодий і вибіжить на горб тай покропить хрест свяченою водою просю я вас за це дуже грешно, щоб ви мого хреста м не минал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187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Інформаційне гроно “Горб з хрестом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3213000"/>
            <a:ext cx="2808360" cy="1511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Горб з хрес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340000" y="3933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4572000" y="2492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27640" y="45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84720" y="3933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771640" y="443700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4365720"/>
            <a:ext cx="719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435640" y="2708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132000" y="278100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4724280"/>
            <a:ext cx="2771640" cy="1081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Молився і працюв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12000" y="4941720"/>
            <a:ext cx="2305080" cy="136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ам’ятник про Ів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Ді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948360" y="3213000"/>
            <a:ext cx="2195640" cy="1440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кропити свят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од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357720"/>
            <a:ext cx="2268360" cy="1150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е минати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вяту неді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00000" y="2133720"/>
            <a:ext cx="2232000" cy="1295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се забуду, а гор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е заб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92360" y="1413000"/>
            <a:ext cx="2232000" cy="10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Тяжкий камін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хр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56360" y="1916280"/>
            <a:ext cx="2303280" cy="1225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піванки забув, си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лиш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dfdef6"/>
                </a:solidFill>
                <a:latin typeface="Shruti"/>
              </a:rPr>
              <a:t>Камінний хрест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овнішня глухота гос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сихологічний стан геро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843280" y="4941720"/>
            <a:ext cx="3402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fdef6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dfdef6"/>
                </a:solidFill>
                <a:latin typeface="Arial"/>
              </a:rPr>
              <a:t>Зовнішня глухота гостей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иятика подурілих хлопц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анцювати, аби жодної трави не лишило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хто не слухав, хоча всі говори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погади про мину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5"/>
          <a:stretch/>
        </p:blipFill>
        <p:spPr>
          <a:xfrm>
            <a:off x="5003640" y="4221000"/>
            <a:ext cx="3745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fdef6"/>
                </a:solidFill>
                <a:latin typeface="Arial"/>
              </a:rPr>
              <a:t>Внутрішній та зовнішній світ Івана Дідух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66400" y="1341000"/>
            <a:ext cx="88772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Емоції геро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55840" y="52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11280" y="2924280"/>
            <a:ext cx="3529080" cy="1296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Tahoma"/>
              </a:rPr>
              <a:t>Психологічний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3300"/>
                </a:solidFill>
                <a:latin typeface="Tahoma"/>
              </a:rPr>
              <a:t>с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Tahoma"/>
              </a:rPr>
              <a:t>Івана Ді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195280" y="3860640"/>
            <a:ext cx="36036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90760" y="429264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змовна ту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11640" y="4221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80000" y="4668840"/>
            <a:ext cx="15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Ломився за шию з Михайл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76720" y="4149720"/>
            <a:ext cx="5749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48360" y="4581360"/>
            <a:ext cx="18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ржавілий голо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24360" y="49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40360" y="3573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291000" y="33717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умував з к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124000" y="35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13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цілувався, бив в груд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Камінний хрест - пам’ятник усім емігрантам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4642920" y="1612800"/>
            <a:ext cx="4038840" cy="21830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395100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68360" y="1692360"/>
            <a:ext cx="4038480" cy="21844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Трагічний прощальний танець.</a:t>
            </a:r>
            <a:br>
              <a:rPr sz="4000"/>
            </a:b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У новелі Василя Стефаника: Камінний хрест.</a:t>
            </a:r>
            <a:br>
              <a:rPr sz="4000"/>
            </a:b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6 розді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165040" cy="3066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4032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2178360" y="163440"/>
            <a:ext cx="4788360" cy="6530400"/>
            <a:chOff x="2178360" y="163440"/>
            <a:chExt cx="4788360" cy="6530400"/>
          </a:xfrm>
        </p:grpSpPr>
        <p:sp>
          <p:nvSpPr>
            <p:cNvPr id="610" name="_s57348"/>
            <p:cNvSpPr/>
            <p:nvPr/>
          </p:nvSpPr>
          <p:spPr>
            <a:xfrm flipH="1" flipV="1">
              <a:off x="3724560" y="2272680"/>
              <a:ext cx="425160" cy="57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57349"/>
            <p:cNvSpPr/>
            <p:nvPr/>
          </p:nvSpPr>
          <p:spPr>
            <a:xfrm>
              <a:off x="2703960" y="88020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Ціл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хат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заридал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57350"/>
            <p:cNvSpPr/>
            <p:nvPr/>
          </p:nvSpPr>
          <p:spPr>
            <a:xfrm flipH="1">
              <a:off x="3373920" y="342720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57351"/>
            <p:cNvSpPr/>
            <p:nvPr/>
          </p:nvSpPr>
          <p:spPr>
            <a:xfrm>
              <a:off x="2178360" y="261180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Термосив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жінкою,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наче мертвою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57352"/>
            <p:cNvSpPr/>
            <p:nvPr/>
          </p:nvSpPr>
          <p:spPr>
            <a:xfrm flipH="1">
              <a:off x="3724560" y="4002120"/>
              <a:ext cx="425160" cy="57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57353"/>
            <p:cNvSpPr/>
            <p:nvPr/>
          </p:nvSpPr>
          <p:spPr>
            <a:xfrm>
              <a:off x="2703960" y="434376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Згадк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про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вижитий поріг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57354"/>
            <p:cNvSpPr/>
            <p:nvPr/>
          </p:nvSpPr>
          <p:spPr>
            <a:xfrm>
              <a:off x="4571640" y="4240440"/>
              <a:ext cx="0" cy="82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57355"/>
            <p:cNvSpPr/>
            <p:nvPr/>
          </p:nvSpPr>
          <p:spPr>
            <a:xfrm>
              <a:off x="3973680" y="5060880"/>
              <a:ext cx="1197360" cy="16329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Пропозиці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старій красиво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одягнутисч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57356"/>
            <p:cNvSpPr/>
            <p:nvPr/>
          </p:nvSpPr>
          <p:spPr>
            <a:xfrm>
              <a:off x="4993560" y="4002120"/>
              <a:ext cx="425160" cy="57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57357"/>
            <p:cNvSpPr/>
            <p:nvPr/>
          </p:nvSpPr>
          <p:spPr>
            <a:xfrm>
              <a:off x="5243760" y="434376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Туга за рідним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домом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57358"/>
            <p:cNvSpPr/>
            <p:nvPr/>
          </p:nvSpPr>
          <p:spPr>
            <a:xfrm>
              <a:off x="5167800" y="342720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_s57359"/>
            <p:cNvSpPr/>
            <p:nvPr/>
          </p:nvSpPr>
          <p:spPr>
            <a:xfrm>
              <a:off x="5769360" y="261180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Танець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“</a:t>
              </a: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Полька”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57360"/>
            <p:cNvSpPr/>
            <p:nvPr/>
          </p:nvSpPr>
          <p:spPr>
            <a:xfrm flipV="1">
              <a:off x="4993560" y="2272680"/>
              <a:ext cx="425160" cy="57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57361"/>
            <p:cNvSpPr/>
            <p:nvPr/>
          </p:nvSpPr>
          <p:spPr>
            <a:xfrm>
              <a:off x="5243760" y="88020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Сини винесл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обоз із хат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57362"/>
            <p:cNvSpPr/>
            <p:nvPr/>
          </p:nvSpPr>
          <p:spPr>
            <a:xfrm flipV="1">
              <a:off x="4571640" y="1794240"/>
              <a:ext cx="0" cy="82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57363"/>
            <p:cNvSpPr/>
            <p:nvPr/>
          </p:nvSpPr>
          <p:spPr>
            <a:xfrm>
              <a:off x="3973680" y="163440"/>
              <a:ext cx="1197360" cy="1633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Люди заревіл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57364"/>
            <p:cNvSpPr/>
            <p:nvPr/>
          </p:nvSpPr>
          <p:spPr>
            <a:xfrm>
              <a:off x="3973680" y="2614680"/>
              <a:ext cx="1197360" cy="16329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Трагеді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прощання з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рідною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Garamond"/>
                </a:rPr>
                <a:t>землею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4619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6588000" y="4776840"/>
            <a:ext cx="2556000" cy="20448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0" y="4948200"/>
            <a:ext cx="2556000" cy="190980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6272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476360" y="1628640"/>
            <a:ext cx="7200360" cy="4462920"/>
            <a:chOff x="1476360" y="1628640"/>
            <a:chExt cx="7200360" cy="4462920"/>
          </a:xfrm>
        </p:grpSpPr>
        <p:cxnSp>
          <p:nvCxnSpPr>
            <p:cNvPr id="519" name="_s31758"/>
            <p:cNvCxnSpPr>
              <a:stCxn id="520" idx="0"/>
              <a:endCxn id="521" idx="2"/>
            </p:cNvCxnSpPr>
            <p:nvPr/>
          </p:nvCxnSpPr>
          <p:spPr>
            <a:xfrm flipV="1" rot="16200000">
              <a:off x="5889960" y="2599200"/>
              <a:ext cx="893160" cy="2520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31757"/>
            <p:cNvCxnSpPr>
              <a:stCxn id="523" idx="0"/>
              <a:endCxn id="521" idx="2"/>
            </p:cNvCxnSpPr>
            <p:nvPr/>
          </p:nvCxnSpPr>
          <p:spPr>
            <a:xfrm flipV="1">
              <a:off x="5076360" y="3413160"/>
              <a:ext cx="324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31756"/>
            <p:cNvCxnSpPr>
              <a:stCxn id="525" idx="0"/>
              <a:endCxn id="521" idx="2"/>
            </p:cNvCxnSpPr>
            <p:nvPr/>
          </p:nvCxnSpPr>
          <p:spPr>
            <a:xfrm flipH="1" flipV="1" rot="5400000">
              <a:off x="3369960" y="2599560"/>
              <a:ext cx="893160" cy="2520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1" name="_s31752"/>
            <p:cNvSpPr/>
            <p:nvPr/>
          </p:nvSpPr>
          <p:spPr>
            <a:xfrm>
              <a:off x="3996360" y="1628640"/>
              <a:ext cx="2160000" cy="1785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Arial"/>
                </a:rPr>
                <a:t>Іван камінь</a:t>
              </a: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31753"/>
            <p:cNvSpPr/>
            <p:nvPr/>
          </p:nvSpPr>
          <p:spPr>
            <a:xfrm>
              <a:off x="1476360" y="4306320"/>
              <a:ext cx="2160000" cy="1785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Камін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погляд на житт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31754"/>
            <p:cNvSpPr/>
            <p:nvPr/>
          </p:nvSpPr>
          <p:spPr>
            <a:xfrm>
              <a:off x="3996360" y="4306320"/>
              <a:ext cx="2160000" cy="1785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Гірке прощанн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З рідним крає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_s31755"/>
            <p:cNvSpPr/>
            <p:nvPr/>
          </p:nvSpPr>
          <p:spPr>
            <a:xfrm>
              <a:off x="6516720" y="4306320"/>
              <a:ext cx="2160000" cy="1785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попрощався з усі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що ма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3860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72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Arial"/>
              </a:rPr>
              <a:t>Камінний хрест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cc33"/>
                </a:solidFill>
                <a:latin typeface="Arial"/>
              </a:rPr>
              <a:t>Поклоніння хресту під час випровадження Ів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Розділ.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2252520" y="608760"/>
            <a:ext cx="4638240" cy="4875840"/>
            <a:chOff x="2252520" y="608760"/>
            <a:chExt cx="4638240" cy="4875840"/>
          </a:xfrm>
        </p:grpSpPr>
        <p:sp>
          <p:nvSpPr>
            <p:cNvPr id="635" name="_s59397"/>
            <p:cNvSpPr/>
            <p:nvPr/>
          </p:nvSpPr>
          <p:spPr>
            <a:xfrm flipH="1" flipV="1">
              <a:off x="3646080" y="2348280"/>
              <a:ext cx="466560" cy="397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59398"/>
            <p:cNvSpPr/>
            <p:nvPr/>
          </p:nvSpPr>
          <p:spPr>
            <a:xfrm>
              <a:off x="2595960" y="1321560"/>
              <a:ext cx="117900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Пошук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кращо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долі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59399"/>
            <p:cNvSpPr/>
            <p:nvPr/>
          </p:nvSpPr>
          <p:spPr>
            <a:xfrm flipH="1">
              <a:off x="3417840" y="3278880"/>
              <a:ext cx="581760" cy="142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59400"/>
            <p:cNvSpPr/>
            <p:nvPr/>
          </p:nvSpPr>
          <p:spPr>
            <a:xfrm>
              <a:off x="2252520" y="2930400"/>
              <a:ext cx="117972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Тяж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прац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59401"/>
            <p:cNvSpPr/>
            <p:nvPr/>
          </p:nvSpPr>
          <p:spPr>
            <a:xfrm flipH="1">
              <a:off x="4057920" y="3705480"/>
              <a:ext cx="25812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59402"/>
            <p:cNvSpPr/>
            <p:nvPr/>
          </p:nvSpPr>
          <p:spPr>
            <a:xfrm>
              <a:off x="3213000" y="4221000"/>
              <a:ext cx="117900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Відча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59403"/>
            <p:cNvSpPr/>
            <p:nvPr/>
          </p:nvSpPr>
          <p:spPr>
            <a:xfrm>
              <a:off x="4825800" y="3705480"/>
              <a:ext cx="2577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59404"/>
            <p:cNvSpPr/>
            <p:nvPr/>
          </p:nvSpPr>
          <p:spPr>
            <a:xfrm>
              <a:off x="4753080" y="4221000"/>
              <a:ext cx="117900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Похованн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людин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зажи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59405"/>
            <p:cNvSpPr/>
            <p:nvPr/>
          </p:nvSpPr>
          <p:spPr>
            <a:xfrm>
              <a:off x="5143680" y="3278880"/>
              <a:ext cx="579960" cy="142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59406"/>
            <p:cNvSpPr/>
            <p:nvPr/>
          </p:nvSpPr>
          <p:spPr>
            <a:xfrm>
              <a:off x="5711760" y="2930400"/>
              <a:ext cx="117900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Терпінн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народ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59407"/>
            <p:cNvSpPr/>
            <p:nvPr/>
          </p:nvSpPr>
          <p:spPr>
            <a:xfrm flipV="1">
              <a:off x="5030640" y="2348280"/>
              <a:ext cx="465120" cy="397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59408"/>
            <p:cNvSpPr/>
            <p:nvPr/>
          </p:nvSpPr>
          <p:spPr>
            <a:xfrm>
              <a:off x="5368320" y="1323000"/>
              <a:ext cx="1179720" cy="1264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Покиданн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батьківщин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59409"/>
            <p:cNvSpPr/>
            <p:nvPr/>
          </p:nvSpPr>
          <p:spPr>
            <a:xfrm flipV="1">
              <a:off x="4571280" y="1870560"/>
              <a:ext cx="0" cy="63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59410"/>
            <p:cNvSpPr/>
            <p:nvPr/>
          </p:nvSpPr>
          <p:spPr>
            <a:xfrm>
              <a:off x="3981960" y="608760"/>
              <a:ext cx="117900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Пам’ят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усім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cc"/>
                  </a:solidFill>
                  <a:latin typeface="Arial"/>
                </a:rPr>
                <a:t>емігранта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59411"/>
            <p:cNvSpPr/>
            <p:nvPr/>
          </p:nvSpPr>
          <p:spPr>
            <a:xfrm>
              <a:off x="3981960" y="2509560"/>
              <a:ext cx="1179000" cy="1263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cc"/>
                  </a:solidFill>
                  <a:latin typeface="Arial"/>
                </a:rPr>
                <a:t>Камінн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cc"/>
                  </a:solidFill>
                  <a:latin typeface="Arial"/>
                </a:rPr>
                <a:t>хре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Кадри з фільм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097440" cy="17575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56000" cy="23767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60920" y="4240080"/>
            <a:ext cx="40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блема твору - еміграц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країнців до Аме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046240" y="170280"/>
            <a:ext cx="4979880" cy="6048000"/>
            <a:chOff x="2046240" y="170280"/>
            <a:chExt cx="4979880" cy="6048000"/>
          </a:xfrm>
        </p:grpSpPr>
        <p:sp>
          <p:nvSpPr>
            <p:cNvPr id="530" name="_s30739"/>
            <p:cNvSpPr/>
            <p:nvPr/>
          </p:nvSpPr>
          <p:spPr>
            <a:xfrm flipH="1" flipV="1">
              <a:off x="3304080" y="2923560"/>
              <a:ext cx="619200" cy="25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_s30738"/>
            <p:cNvSpPr/>
            <p:nvPr/>
          </p:nvSpPr>
          <p:spPr>
            <a:xfrm>
              <a:off x="2046240" y="1860120"/>
              <a:ext cx="1290600" cy="16264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Подяка т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Побажан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гост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30737"/>
            <p:cNvSpPr/>
            <p:nvPr/>
          </p:nvSpPr>
          <p:spPr>
            <a:xfrm flipH="1">
              <a:off x="3774600" y="4082040"/>
              <a:ext cx="383040" cy="66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30736"/>
            <p:cNvSpPr/>
            <p:nvPr/>
          </p:nvSpPr>
          <p:spPr>
            <a:xfrm>
              <a:off x="2750760" y="4591800"/>
              <a:ext cx="1290600" cy="16264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Тупо гляді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напере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Себ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30735"/>
            <p:cNvSpPr/>
            <p:nvPr/>
          </p:nvSpPr>
          <p:spPr>
            <a:xfrm>
              <a:off x="4912200" y="4082040"/>
              <a:ext cx="385200" cy="66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30734"/>
            <p:cNvSpPr/>
            <p:nvPr/>
          </p:nvSpPr>
          <p:spPr>
            <a:xfrm>
              <a:off x="5030280" y="4591800"/>
              <a:ext cx="1291320" cy="16264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Спогади пр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Молод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танц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30733"/>
            <p:cNvSpPr/>
            <p:nvPr/>
          </p:nvSpPr>
          <p:spPr>
            <a:xfrm flipV="1">
              <a:off x="5146560" y="2920680"/>
              <a:ext cx="62136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30732"/>
            <p:cNvSpPr/>
            <p:nvPr/>
          </p:nvSpPr>
          <p:spPr>
            <a:xfrm>
              <a:off x="5735520" y="1860120"/>
              <a:ext cx="1290600" cy="16264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Жалкує щ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Весілл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Сина 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Буде 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ідном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кра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30731"/>
            <p:cNvSpPr/>
            <p:nvPr/>
          </p:nvSpPr>
          <p:spPr>
            <a:xfrm flipV="1">
              <a:off x="4535280" y="1794600"/>
              <a:ext cx="0" cy="821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30730"/>
            <p:cNvSpPr/>
            <p:nvPr/>
          </p:nvSpPr>
          <p:spPr>
            <a:xfrm>
              <a:off x="3890520" y="170280"/>
              <a:ext cx="1290600" cy="16268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Хитав голово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Якби молитв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говори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30729"/>
            <p:cNvSpPr/>
            <p:nvPr/>
          </p:nvSpPr>
          <p:spPr>
            <a:xfrm>
              <a:off x="3890520" y="2616120"/>
              <a:ext cx="1290600" cy="16264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Спогади пр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ід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кра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771640" cy="3284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8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Таким чином автор зображує Івана закритим в собі і повністю закамянівшим. Івана переповнювали спогади з рідним краєм та односельцями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4994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dfdef6"/>
                </a:solidFill>
                <a:latin typeface="Arial"/>
              </a:rPr>
              <a:t>Новела В.Стефаника “Камінний хрест”</a:t>
            </a:r>
            <a:br>
              <a:rPr sz="4800"/>
            </a:br>
            <a:r>
              <a:rPr b="0" lang="uk-UA" sz="4800" spc="-1" strike="noStrike">
                <a:solidFill>
                  <a:srgbClr val="dfdef6"/>
                </a:solidFill>
                <a:latin typeface="Arial"/>
              </a:rPr>
              <a:t>ІІІ розді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дчуття смерт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1828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ван Дідух у відчаї: його життя та умови праці нестерпні. Він не знаходить кращого виходу, аніж емігрувати до Канад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Його ідею спочатку засуджують, а потім погоджуються з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fdef6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dfdef6"/>
                </a:solidFill>
                <a:latin typeface="Arial"/>
              </a:rPr>
              <a:t>А може, як нам дорогу покажете, та й усі за вами підемо. За цим краєм не варт собі туск до серця брати!”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dfdef6"/>
                </a:solidFill>
                <a:latin typeface="Arial"/>
              </a:rPr>
              <a:t>А то ті, небого, в далеку могилу везу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Новела В. Стефаника </a:t>
            </a:r>
            <a:br>
              <a:rPr sz="4800"/>
            </a:b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« Камінний хрест»</a:t>
            </a:r>
            <a:br>
              <a:rPr sz="4800"/>
            </a:b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озділ 4</a:t>
            </a:r>
            <a:br>
              <a:rPr sz="4800"/>
            </a:b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Заповіт Дідуха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419640" y="3933720"/>
            <a:ext cx="194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7:38:27Z</dcterms:created>
  <dc:creator>3</dc:creator>
  <dc:description/>
  <dc:language>en-US</dc:language>
  <cp:lastModifiedBy>User</cp:lastModifiedBy>
  <dcterms:modified xsi:type="dcterms:W3CDTF">2013-03-30T08:29:15Z</dcterms:modified>
  <cp:revision>5</cp:revision>
  <dc:subject/>
  <dc:title>   описуючи стан івана дідуха який емігрує до канад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5000000000001024140</vt:lpwstr>
  </property>
</Properties>
</file>