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39A-C41D-4872-AF62-C5E0BE18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D14-5120-4A62-AB33-FE2B1176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189-E755-4F8D-AEB9-84711CE3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883-1590-434D-863A-61459A07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B295-664E-499C-B349-D177864D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381F-7308-43EF-86F6-51C15D35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CC64-0932-4ADC-8F12-0EE5933A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16B6-FCCB-47E9-B1AF-DA0D724F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1C0F-4C50-4710-971F-79BBF91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117F-A3A5-4B81-8992-9096F071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91F0-CCE3-4315-AC49-F755F7A8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177-D3E2-411E-A9F7-036530F3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AC7D-C280-4505-830E-9FC6477C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962E-DA14-4E9E-8B4E-BEFFAE61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9E83-81C7-4246-A9AA-F9A56022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31B4-0FDA-49C5-B0FB-53FE9024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2147-953F-43EE-A1A4-EA0B8F34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F9C-C88E-4F4D-9C86-6A10507E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196-CB6D-4A1E-AA6D-7FAFE469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707-8311-4E06-B8CF-DEFAC6A5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896-F8BD-4A1A-8858-5318DF26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96F-C0FB-47BD-85E8-8BF90880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6BC-CC3F-417B-8020-518B12D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D63-5141-4963-8308-9447FE28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AC86-753A-45D3-BF85-D51C5B5A9F1B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7435-A525-43C9-BBF9-1079CECDFDC6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559560"/>
            <a:ext cx="9144000" cy="29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413000"/>
            <a:ext cx="881064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3366"/>
                </a:solidFill>
                <a:latin typeface="Arial"/>
              </a:rPr>
              <a:t>Євген Гуцало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lang="uk-UA" sz="4800" spc="-1" strike="noStrike">
                <a:solidFill>
                  <a:srgbClr val="003366"/>
                </a:solidFill>
                <a:latin typeface="Arial"/>
              </a:rPr>
              <a:t>Сім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003366"/>
                </a:solidFill>
                <a:latin typeface="Arial"/>
              </a:rPr>
              <a:t>я дикої качки”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003366"/>
                </a:solidFill>
                <a:latin typeface="Arial"/>
              </a:rPr>
              <a:t>Людина і світ крізь призму моральних проблем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3366"/>
                </a:solidFill>
                <a:latin typeface="Arial"/>
              </a:rPr>
              <a:t>           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3456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Євген Гуцало    помер 4 липня 1995р., похований на Байковому кладовищі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33130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Робота над твором Є.Гуцала</a:t>
            </a:r>
            <a:br>
              <a:rPr sz="2800"/>
            </a:b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“ Сім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я дикої качки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276800" cy="259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8360" y="1844640"/>
            <a:ext cx="424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красу дарує нам природа! Кожний бачить в ній щось особливе, чарівн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Є.Гуцало в оповіданні  “Сі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 дикої качки” відтворив ставлення дітей до пташиного світу – дикої кач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6360" y="4724280"/>
            <a:ext cx="4211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Тем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4826160" cy="341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ідтворення взаємостосунків дітей зі світом приро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( качиною сі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єю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Іде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засудження жорстокості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байдужості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прагнення піднестися за рахунок хвалькуватості, брехні (Юрко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возвеличення доброти, чуйності, милосердя ( Тос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Основна дум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6973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итина – майбутня доросла людина, яка повинна осмислено ставитись до своїх вчинкі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е завдавай шкоди природі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она варта поваги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любові; має право на житт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3855960"/>
            <a:ext cx="36738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Жанр: оповідання про діт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97672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КОМПОЗИЦІ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605480" y="3201840"/>
            <a:ext cx="4538520" cy="3656160"/>
            <a:chOff x="4605480" y="3201840"/>
            <a:chExt cx="4538520" cy="36561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605480" y="3201840"/>
              <a:ext cx="4538520" cy="36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4605480" y="3201840"/>
              <a:ext cx="4538520" cy="36561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95280" y="1484280"/>
            <a:ext cx="424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99ff"/>
                </a:solidFill>
                <a:latin typeface="Arial"/>
              </a:rPr>
              <a:t>Експозиція:</a:t>
            </a: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 опис дубового лісу, по якому йшов Юрко, та його настро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99ff"/>
                </a:solidFill>
                <a:latin typeface="Arial"/>
              </a:rPr>
              <a:t>Зав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cc99ff"/>
                </a:solidFill>
                <a:latin typeface="Arial"/>
              </a:rPr>
              <a:t>язка:</a:t>
            </a: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 Юрко і Тося повертаються з риболовлі, бачить качку з каченятами, і хлопець забирає каченя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99ff"/>
                </a:solidFill>
                <a:latin typeface="Arial"/>
              </a:rPr>
              <a:t>Розвиток дії:</a:t>
            </a:r>
            <a:r>
              <a:rPr b="0" lang="uk-UA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Юрко намагається нагодувати, напоїти диких каченят, але вони відмовляються; втрачає інтерес і кидає їх, іде до хлопців гратися. Тося згадує про пташенят, забирає їх і несе до річ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561672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64000" y="2297160"/>
            <a:ext cx="5256000" cy="3940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18900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99ff"/>
                </a:solidFill>
                <a:latin typeface="Arial"/>
              </a:rPr>
              <a:t>Кульмінація:</a:t>
            </a:r>
            <a:r>
              <a:rPr b="0" lang="uk-UA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Тося випускає каченят на воду, кличе качку; їй допомагають хлопці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99ff"/>
                </a:solidFill>
                <a:latin typeface="Arial"/>
              </a:rPr>
              <a:t>Розв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cc99ff"/>
                </a:solidFill>
                <a:latin typeface="Arial"/>
              </a:rPr>
              <a:t>язка:</a:t>
            </a:r>
            <a:r>
              <a:rPr b="1" lang="uk-UA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6666"/>
                </a:solidFill>
                <a:latin typeface="Arial"/>
              </a:rPr>
              <a:t>з Юрком ніхто не хоче товаришувати; він їде до міста, і йому дуже соромно.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51280" y="2637000"/>
            <a:ext cx="44658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72080" cy="2504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Прозаїк, поет, кіносценарис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Народився у селі Старому Животові на Вінниччині в учительській сім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ї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46400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Індивідуальні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1. Якого друга, подругу ви хотіли б обрати для себе – Тосю чи Юр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2. Прокоментуйте поведінку качки-матері, коли Юрко забирав у неї ді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.Скільки було дітей у качки-матері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кладіть інформаційне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ґроно до образу Тос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42720" y="3321000"/>
            <a:ext cx="137700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</a:rPr>
              <a:t>Тос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360" y="213372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Порядн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4360" y="2708280"/>
            <a:ext cx="14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Чемн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4360" y="335772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Чуйн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4360" y="386064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Добр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411280" y="2421000"/>
            <a:ext cx="2305080" cy="1295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11280" y="2997000"/>
            <a:ext cx="2305080" cy="7189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11280" y="3645000"/>
            <a:ext cx="2305080" cy="71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3716280"/>
            <a:ext cx="2376720" cy="5047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кладіть інформаційне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ґроно до образу Юр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97640" y="2960640"/>
            <a:ext cx="157680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</a:rPr>
              <a:t>Юрк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67120" y="219564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Брехливи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3068640"/>
            <a:ext cx="20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Байдужи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7640" y="39337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Жорстоки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87280" y="465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Хвалькувати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56000" y="2492280"/>
            <a:ext cx="2376360" cy="8654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3357720"/>
            <a:ext cx="2303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3357720"/>
            <a:ext cx="2376360" cy="863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3357720"/>
            <a:ext cx="2303280" cy="1584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666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1. Скласти план до характеристики            образів Тосі та Юрка, дібрати цита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35280" y="4176720"/>
            <a:ext cx="4249800" cy="2660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8360" y="3141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2. Дати письмову відповідь на запитанн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364500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Чи хотів би я мати такого друга, як Юрко?”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451476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Дитинство майбутнього письменника було обпалене війною. Коли хлопчикові було чотири роки, почалася війна. Ця тема згодом знайшла своє відображення в багатьох творах письменни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48200" y="2133720"/>
            <a:ext cx="3440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Закінчив Ніжинський педінститут імені Гоголя. Багато років працював у редакціях обласних газет,  “Літературній Україні”, видавництві  “Радянський письменник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25360" y="2565360"/>
            <a:ext cx="5175360" cy="2444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3710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103640" cy="3141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716360" cy="1916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Автор кількох поетичних книжок, багатьох збірок, оповідань, повістей, романі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248000" cy="400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4103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Є.Гуцало багато писав для дітей та юнацтв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(“Олень Август”, “ Пролетіли коні”, “ З горіха зерна”, “ Дениско”,  “За обручем”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87640" y="3357720"/>
            <a:ext cx="2941560" cy="30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83200" y="2349360"/>
            <a:ext cx="2890800" cy="352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0920" y="2492280"/>
            <a:ext cx="2663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Посмертно видані його твори у п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яти томах. Лауреат премії імені Ю.Яновського та Державної премії УРСР імені Т.Г.Шевчен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3456000" cy="4248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0440" y="1916280"/>
            <a:ext cx="39672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Твори Є.Гуцала перекладені багатьма мовами світу, відомі далеко за межами Україн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51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75240" y="1341360"/>
            <a:ext cx="3129120" cy="5256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Читаючи твори Є.Гуцала, ми відчуваємо справжню музику мистецтва слова, притаманну цьому письменникові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453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08:42:38Z</dcterms:created>
  <dc:creator>VPK</dc:creator>
  <dc:description/>
  <dc:language>en-US</dc:language>
  <cp:lastModifiedBy>Администратор Васютенко</cp:lastModifiedBy>
  <dcterms:modified xsi:type="dcterms:W3CDTF">2013-03-27T09:00:25Z</dcterms:modified>
  <cp:revision>21</cp:revision>
  <dc:subject/>
  <dc:title>Життєвий і творчий шлях Євгена Гуца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6000000000001024140</vt:lpwstr>
  </property>
</Properties>
</file>