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BAE5-471C-4456-B966-0BA08E426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E505-C8A5-4AE6-A033-17F604249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54A5-47E6-47D2-90BD-132475E64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EB7D-8BBE-446F-8527-3760C7870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BD69C8-50C3-4665-9C3E-2340F6AC4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94077F-5641-4DDA-9DE5-7A8281E12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EF35AB-368B-42FD-814E-B8B5DDB76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2433AC-84BC-4DAD-B42C-E5AB0DAC5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95DA4F-1F80-416D-A907-46FA187B6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1BFBB0-E698-4A94-B214-21305479A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31B798-098E-4BB6-86D9-D939B03F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0C06-4187-45EC-8536-7C8956C19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B86CB0-DC62-4E89-9369-2E769BA1A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71E64D-8C55-426D-80ED-B3E6A7DA6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942730-D476-4759-B4D3-FAC7E3BC1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5EF3C5-7811-49CD-8698-B3FDFC1D2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FD9B8C-13B9-4340-A1E3-4C2348FB1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8E809-01FC-4120-B672-979DC6CA7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12789-EC14-4283-8A35-F191B6053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1CB2A-F5FD-478B-AD6D-577591815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CDADB-9C63-436D-B12A-CE6E327DD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11D37-9A83-4C40-BFC8-3A9CC41FD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4C26-5B5B-4369-B783-38D0D4B4E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929FC-DBAA-4A39-B966-621582B6D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7BB60-CE55-49C1-838D-B961EF705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855AB-2086-4560-9F8F-364E147B2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EDA17-2AFA-460C-8678-2896E0CD4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2C3E6-16F6-471B-8B05-83D5EC97F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A085E-ED68-4D2D-919F-FB9F4B85E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A59D2-DAF9-434A-B865-66DB2514A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DD6572-20A8-4433-8170-8A13B57CB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71F575-F104-470D-9258-ADDD75046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FAF044-51BD-4DEC-8B88-D8718373B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CE16-5571-4903-9D9D-202C775CB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EC7CDA-4320-446C-8AAD-72D344112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63EA3F-84B8-4B16-A58E-3C557904B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7919D1-8107-4063-AA69-5B1CBD3D6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A9F0BB-E0F1-4886-8746-3DF3F1B26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01763E-E457-41CE-A92F-DF45A8A46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7385DD-D3FF-45B4-80FC-38DD611C9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603DC5-9E82-4831-8BCC-6DDC0B7CC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E1E05F-594E-4509-9AD7-937841877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3B4884-4EF6-46AD-A723-F988F166B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64254D-047D-4EEF-B4DC-005C3F62F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D428-FD33-4BFC-A44B-9A2C5C4C7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20A20B-C21F-4858-AB34-1452B81F5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34410C-A233-4B94-8DA4-0DC8B17DC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F2F82A-1694-4EC6-894C-107D77341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EE0B79-F79B-4F64-B372-BDC17952D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86FC7B-67CF-4242-BB66-ED5851692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1BB0D3-93D0-4104-B896-666D69E49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485A83-C354-4994-861E-0449D2D55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5454D0-55C9-4D7A-B445-6D0AABA74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E6FDC0-5BE4-45B9-98B7-AE2A90186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C0A7F0-60D4-4229-91B5-21C83B205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28B7-1616-4BF5-AB40-5D4867E5C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7B0B91-51CD-4A4D-977F-537FD3313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4F6DCB-6C38-4998-9AC2-6D08E9078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771826-494F-4B12-BF4C-6660E3A25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277600-0341-492D-84CB-B7D8C08CF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2B111E-D073-4E01-AD80-EF9B0569C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841AE7-CE34-46F4-B340-9C37BC167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A0569F-6051-4F28-A756-576E859DB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0AEF09-683D-40DB-A404-FE0BF8B44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A10413-CB24-4696-8E18-1B0893EA4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F26B56-5667-48E7-8473-75D3BE57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E461-6069-467C-BA30-18A6DC986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ED51D3-D197-4C36-AD3F-B80CB21D6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5F9298-3752-41C8-86E0-A4BAB5E0A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2929A7-E68A-4B4D-8FDE-62BEEBA16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1BF9-E6A6-4B89-8662-E6588B3D8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3E81-AEF0-4987-97E2-FD92626E1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88261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711e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88261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88261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9e5d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9e5d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9e5d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FC808-F896-4058-80D8-2CD1B5DC9026}" type="slidenum">
              <a:rPr b="0" lang="ru-RU" sz="1600" spc="-1" strike="noStrike">
                <a:solidFill>
                  <a:srgbClr val="e9e5d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b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b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Овал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9b2d1f"/>
          </a:solidFill>
          <a:ln w="38160">
            <a:solidFill>
              <a:srgbClr val="9b2d1f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88261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711e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88261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88261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9e5d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9e5d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9e5d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657F1-FEE9-48C8-971F-40C7405E9FAF}" type="slidenum">
              <a:rPr b="0" lang="ru-RU" sz="1600" spc="-1" strike="noStrike">
                <a:solidFill>
                  <a:srgbClr val="e9e5d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88261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711e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88261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88261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9e5d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9e5d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9e5d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52269-A0F7-4E24-AE29-6C56CA83DAD3}" type="slidenum">
              <a:rPr b="0" lang="ru-RU" sz="1600" spc="-1" strike="noStrike">
                <a:solidFill>
                  <a:srgbClr val="e9e5d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b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b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88261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711e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88261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88261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9e5d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B2699-A664-41F0-9305-5F55F12A9E70}" type="slidenum">
              <a:rPr b="0" lang="ru-RU" sz="1600" spc="-1" strike="noStrike">
                <a:solidFill>
                  <a:srgbClr val="e9e5d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9e5d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9e5d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88261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711e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88261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88261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9e5d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9e5d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9e5d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EB026-350F-4C7B-BC35-8D3A54DA8FAA}" type="slidenum">
              <a:rPr b="0" lang="ru-RU" sz="1600" spc="-1" strike="noStrike">
                <a:solidFill>
                  <a:srgbClr val="e9e5d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88261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711e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88261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88261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9e5d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9e5d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9e5d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51697-FD6D-4912-9FA5-8F040ECFE6BC}" type="slidenum">
              <a:rPr b="0" lang="ru-RU" sz="1600" spc="-1" strike="noStrike">
                <a:solidFill>
                  <a:srgbClr val="e9e5d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http://poezia.org/datas/img/photos/243035256.jpg"/>
          <p:cNvPicPr/>
          <p:nvPr/>
        </p:nvPicPr>
        <p:blipFill>
          <a:blip r:embed="rId1"/>
          <a:stretch/>
        </p:blipFill>
        <p:spPr>
          <a:xfrm>
            <a:off x="611280" y="620640"/>
            <a:ext cx="2733480" cy="3960720"/>
          </a:xfrm>
          <a:prstGeom prst="rect">
            <a:avLst/>
          </a:prstGeom>
          <a:ln w="0">
            <a:noFill/>
          </a:ln>
        </p:spPr>
      </p:pic>
      <p:sp>
        <p:nvSpPr>
          <p:cNvPr id="253" name="Прямоугольник 6"/>
          <p:cNvSpPr/>
          <p:nvPr/>
        </p:nvSpPr>
        <p:spPr>
          <a:xfrm>
            <a:off x="250920" y="5084640"/>
            <a:ext cx="325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Микола Степанович Вінграновський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(1936-2004)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4" name="Прямоугольник 7"/>
          <p:cNvSpPr/>
          <p:nvPr/>
        </p:nvSpPr>
        <p:spPr>
          <a:xfrm>
            <a:off x="3635280" y="907920"/>
            <a:ext cx="5329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onstantia"/>
              </a:rPr>
              <a:t>Микола Степанович Вінграновський</a:t>
            </a:r>
            <a:r>
              <a:rPr b="0" lang="ru-RU" sz="2400" spc="-1" strike="noStrike">
                <a:solidFill>
                  <a:srgbClr val="ffff00"/>
                </a:solidFill>
                <a:latin typeface="Constantia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— класик української літератури, видатний український поет, письменник-шістдесятник, кінорежисер, сценарист, кіноактор. 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оугольник 1"/>
          <p:cNvSpPr/>
          <p:nvPr/>
        </p:nvSpPr>
        <p:spPr>
          <a:xfrm>
            <a:off x="5003640" y="476280"/>
            <a:ext cx="3745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Народився </a:t>
            </a:r>
            <a:r>
              <a:rPr b="1" lang="ru-RU" sz="2400" spc="-1" strike="noStrike">
                <a:solidFill>
                  <a:srgbClr val="c00000"/>
                </a:solidFill>
                <a:latin typeface="Constantia"/>
              </a:rPr>
              <a:t>7 листопада 1936 року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в містечку Первомайськ на Миколаївщині. 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   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В </a:t>
            </a:r>
            <a:r>
              <a:rPr b="1" lang="ru-RU" sz="2400" spc="-1" strike="noStrike">
                <a:solidFill>
                  <a:srgbClr val="c00000"/>
                </a:solidFill>
                <a:latin typeface="Constantia"/>
              </a:rPr>
              <a:t>1960 р.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закінчив ВДІК (Всесоюзний державний інститут кінематографії). 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   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Перші поетичні публікації Миколи Вінграновського датуються </a:t>
            </a:r>
            <a:r>
              <a:rPr b="1" lang="ru-RU" sz="2400" spc="-1" strike="noStrike">
                <a:solidFill>
                  <a:srgbClr val="c00000"/>
                </a:solidFill>
                <a:latin typeface="Constantia"/>
              </a:rPr>
              <a:t>1957 роком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(журнал «Дніпро» №2). 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6" name="Picture 2" descr="http://seance.ru/img/blog/2010.08/kleiman_05_vgik.png"/>
          <p:cNvPicPr/>
          <p:nvPr/>
        </p:nvPicPr>
        <p:blipFill>
          <a:blip r:embed="rId1"/>
          <a:stretch/>
        </p:blipFill>
        <p:spPr>
          <a:xfrm>
            <a:off x="250920" y="1125360"/>
            <a:ext cx="4344840" cy="29973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http://www.vgik.info/img/logo_vgik.png"/>
          <p:cNvPicPr/>
          <p:nvPr/>
        </p:nvPicPr>
        <p:blipFill>
          <a:blip r:embed="rId2"/>
          <a:stretch/>
        </p:blipFill>
        <p:spPr>
          <a:xfrm>
            <a:off x="2556000" y="189000"/>
            <a:ext cx="1857240" cy="18572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6" descr="http://3.bp.blogspot.com/_91lGlRi5r1o/SwuXtLEtt9I/AAAAAAAABiI/fYJA_8X5-BI/s1600/dnipro.jpg"/>
          <p:cNvPicPr/>
          <p:nvPr/>
        </p:nvPicPr>
        <p:blipFill>
          <a:blip r:embed="rId3"/>
          <a:stretch/>
        </p:blipFill>
        <p:spPr>
          <a:xfrm rot="20743200">
            <a:off x="2004480" y="3697200"/>
            <a:ext cx="1944720" cy="27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Прямоугольник 1"/>
          <p:cNvSpPr/>
          <p:nvPr/>
        </p:nvSpPr>
        <p:spPr>
          <a:xfrm>
            <a:off x="324000" y="260280"/>
            <a:ext cx="4824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Збірки віршів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, які виходили за життя автора: 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  «Атомні прелюди» (1962),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«Сто поезій» (1967),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«Поезії» (1971),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«На срібнім березі» (1978),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«Київ» (1982),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«Губами теплими і оком золотим» (1984), «Вибрані твори» (1986),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«Цю жінку я люблю» (1990),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«З обійманих тобою днів» (1993), «Любове, не прощавай!» (1996). 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   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0" name="Picture 2" descr="http://www.bohdan-books.com/userfiles/image/books/1154976769_510289488.jpg"/>
          <p:cNvPicPr/>
          <p:nvPr/>
        </p:nvPicPr>
        <p:blipFill>
          <a:blip r:embed="rId1"/>
          <a:stretch/>
        </p:blipFill>
        <p:spPr>
          <a:xfrm>
            <a:off x="6516720" y="476280"/>
            <a:ext cx="2287440" cy="31687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4" descr="http://libkor.cg.ukrtel.net/php/Virtyalbna_vustavka/90ad8358e79d90cdb7ad3e45c7654dc6.jpg"/>
          <p:cNvPicPr/>
          <p:nvPr/>
        </p:nvPicPr>
        <p:blipFill>
          <a:blip r:embed="rId2"/>
          <a:stretch/>
        </p:blipFill>
        <p:spPr>
          <a:xfrm>
            <a:off x="5435640" y="3213000"/>
            <a:ext cx="22748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Прямоугольник 1"/>
          <p:cNvSpPr/>
          <p:nvPr/>
        </p:nvSpPr>
        <p:spPr>
          <a:xfrm>
            <a:off x="468360" y="404640"/>
            <a:ext cx="51116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onstantia"/>
              </a:rPr>
              <a:t>Вірші та прозові твори Миколи Вінграновського </a:t>
            </a:r>
            <a:r>
              <a:rPr b="1" lang="ru-RU" sz="2400" spc="-1" strike="noStrike">
                <a:solidFill>
                  <a:srgbClr val="ffff00"/>
                </a:solidFill>
                <a:latin typeface="Constantia"/>
              </a:rPr>
              <a:t>для дітей </a:t>
            </a:r>
            <a:r>
              <a:rPr b="0" lang="ru-RU" sz="2400" spc="-1" strike="noStrike">
                <a:solidFill>
                  <a:srgbClr val="ffff00"/>
                </a:solidFill>
                <a:latin typeface="Constantia"/>
              </a:rPr>
              <a:t>виходили у збірках: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«Андрійко-говорійко» (1971),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«Мак» (1973),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«Літній ранок» (1976),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«Первінка» (1977),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«Літній вечір» (1979),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«Ластівка біля вікна» (1981),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«На добраніч» (1983),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«Кінь на вечірній зорі» (1987),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«У неквапи білі лапи» (1989),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«Северин Наливайко» (1996),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«Козак Петро Мамарига» (2001), «Сіроманець» (2001),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«Іде кіт через лід» (2003). 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3" name="Picture 2" descr="http://nbu4kids.files.wordpress.com/2011/11/d0b2d196d0bdd0b3d180d0b0d0bdd0bed0b2d181d18cd0bad0b8d0b9-2.jpeg?w=500"/>
          <p:cNvPicPr/>
          <p:nvPr/>
        </p:nvPicPr>
        <p:blipFill>
          <a:blip r:embed="rId1"/>
          <a:stretch/>
        </p:blipFill>
        <p:spPr>
          <a:xfrm>
            <a:off x="6659640" y="404640"/>
            <a:ext cx="2014560" cy="27370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http://halamaha.com.ua/img/cover/small/978-617-585-006-0.jpg"/>
          <p:cNvPicPr/>
          <p:nvPr/>
        </p:nvPicPr>
        <p:blipFill>
          <a:blip r:embed="rId2"/>
          <a:stretch/>
        </p:blipFill>
        <p:spPr>
          <a:xfrm>
            <a:off x="5003640" y="1413000"/>
            <a:ext cx="2154240" cy="2879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8" descr="http://www.cbs.km.ua/uploads/images/%D0%A1%D0%B5%D0%B2%D0%B5%D1%80%D0%B8%D0%BD%20%D0%9D%D0%B0%D0%BB%D0%B8%D0%B2%D0%B0%D0%B9%D0%BA%D0%BE%20s.jpg"/>
          <p:cNvPicPr/>
          <p:nvPr/>
        </p:nvPicPr>
        <p:blipFill>
          <a:blip r:embed="rId3"/>
          <a:stretch/>
        </p:blipFill>
        <p:spPr>
          <a:xfrm>
            <a:off x="5292720" y="3789360"/>
            <a:ext cx="1727280" cy="27846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0" descr="http://bukvoid.com.ua/img/MAMARYGA_new.jpg"/>
          <p:cNvPicPr/>
          <p:nvPr/>
        </p:nvPicPr>
        <p:blipFill>
          <a:blip r:embed="rId4"/>
          <a:stretch/>
        </p:blipFill>
        <p:spPr>
          <a:xfrm>
            <a:off x="6732720" y="3573360"/>
            <a:ext cx="22287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Прямоугольник 1"/>
          <p:cNvSpPr/>
          <p:nvPr/>
        </p:nvSpPr>
        <p:spPr>
          <a:xfrm>
            <a:off x="468360" y="476280"/>
            <a:ext cx="7920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Поезія Миколи Вінграновського відзначається особливою експресією, глибиною образів, мелодичністю, багатою мовною палітрою та вмінням передавати складні внутрішні стани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   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На вірші автора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Constantia"/>
              </a:rPr>
              <a:t>написано багато пісень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, в тому числі — у бардівському жанрі. 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    </a:t>
            </a:r>
            <a:r>
              <a:rPr b="0" lang="ru-RU" sz="2400" spc="-1" strike="noStrike">
                <a:solidFill>
                  <a:srgbClr val="ffff00"/>
                </a:solidFill>
                <a:latin typeface="Constantia"/>
              </a:rPr>
              <a:t>Микола Вінграновський — автор </a:t>
            </a:r>
            <a:r>
              <a:rPr b="1" lang="ru-RU" sz="2400" spc="-1" strike="noStrike">
                <a:solidFill>
                  <a:srgbClr val="ffff00"/>
                </a:solidFill>
                <a:latin typeface="Constantia"/>
              </a:rPr>
              <a:t>прозових творів</a:t>
            </a:r>
            <a:r>
              <a:rPr b="0" lang="ru-RU" sz="2400" spc="-1" strike="noStrike">
                <a:solidFill>
                  <a:srgbClr val="ffff00"/>
                </a:solidFill>
                <a:latin typeface="Constantia"/>
              </a:rPr>
              <a:t>: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«Світ без війни» (1958), «Президент» (1960), «Сіроманець» (1977), «Гусенятко» (1978), «Літо на Десні» (1983), «Низенько пов’язана» (1985), «В глибині дощів» (1985), «П’ять повістей» (1987), «Чотирнадцять столиць України» (1996), «Манюня» (2003). 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Прямоугольник 1"/>
          <p:cNvSpPr/>
          <p:nvPr/>
        </p:nvSpPr>
        <p:spPr>
          <a:xfrm>
            <a:off x="3851280" y="620640"/>
            <a:ext cx="48783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Як 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кіноактор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, зіграв у 4-х художніх фільмах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Найвідоміша роль Миколи Вінграновського — </a:t>
            </a:r>
            <a:r>
              <a:rPr b="1" lang="ru-RU" sz="2400" spc="-1" strike="noStrike">
                <a:solidFill>
                  <a:srgbClr val="ffff00"/>
                </a:solidFill>
                <a:latin typeface="Constantia"/>
              </a:rPr>
              <a:t>Івана Орлюка у фільмі «Повість полум’яних літ» (1961, сценарій О. Довженка).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Цей фільм отримав нагороди міжнародних фестивалів у Каннах, Лондоні та Лос-Анджелесі. 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   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Микола Вінграновський — 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режисер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 5-и художніх та 8-ми документальних фільмів. 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9" name="Picture 2" descr="http://image.uamedia.info/1/30/30/povest-plamennyh-let-pov-st-polumyanih-l-t-28.jpg"/>
          <p:cNvPicPr/>
          <p:nvPr/>
        </p:nvPicPr>
        <p:blipFill>
          <a:blip r:embed="rId1"/>
          <a:stretch/>
        </p:blipFill>
        <p:spPr>
          <a:xfrm>
            <a:off x="250920" y="549360"/>
            <a:ext cx="3333600" cy="54291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4" descr="http://t3.gstatic.com/images?q=tbn:ANd9GcTPdD2MdMOmJmif_fcfsUYYW0bdtx9Be2W87ymbiL81OetpNXQIxg"/>
          <p:cNvPicPr/>
          <p:nvPr/>
        </p:nvPicPr>
        <p:blipFill>
          <a:blip r:embed="rId2"/>
          <a:stretch/>
        </p:blipFill>
        <p:spPr>
          <a:xfrm>
            <a:off x="324000" y="5229360"/>
            <a:ext cx="325728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http://www.ukrlit.vn.ua/biography/vingranovski.jpg"/>
          <p:cNvPicPr/>
          <p:nvPr/>
        </p:nvPicPr>
        <p:blipFill>
          <a:blip r:embed="rId1"/>
          <a:stretch/>
        </p:blipFill>
        <p:spPr>
          <a:xfrm>
            <a:off x="250920" y="333360"/>
            <a:ext cx="3143160" cy="3990960"/>
          </a:xfrm>
          <a:prstGeom prst="rect">
            <a:avLst/>
          </a:prstGeom>
          <a:ln w="0">
            <a:noFill/>
          </a:ln>
        </p:spPr>
      </p:pic>
      <p:sp>
        <p:nvSpPr>
          <p:cNvPr id="272" name="Прямоугольник 2"/>
          <p:cNvSpPr/>
          <p:nvPr/>
        </p:nvSpPr>
        <p:spPr>
          <a:xfrm>
            <a:off x="3780000" y="404640"/>
            <a:ext cx="4572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Микола Вінграновський був першим президентом міжнародного </a:t>
            </a:r>
            <a:r>
              <a:rPr b="1" lang="ru-RU" sz="2400" spc="-1" strike="noStrike">
                <a:solidFill>
                  <a:srgbClr val="ffff00"/>
                </a:solidFill>
                <a:latin typeface="Constantia"/>
              </a:rPr>
              <a:t>ПЕН-клубу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, що репрезентує українську літературу у світовому масштабі. 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    Творчість автора отримала належне визнання. Серед багатьох літературних нагород, відзнак та премій Микола Вінграновський — </a:t>
            </a:r>
            <a:r>
              <a:rPr b="1" lang="ru-RU" sz="2400" spc="-1" strike="noStrike">
                <a:solidFill>
                  <a:srgbClr val="742217"/>
                </a:solidFill>
                <a:latin typeface="Constantia"/>
              </a:rPr>
              <a:t>лауреат Національної премії України ім. Т. Шевченка (1984).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    Помер </a:t>
            </a:r>
            <a:r>
              <a:rPr b="1" lang="ru-RU" sz="2400" spc="-1" strike="noStrike">
                <a:solidFill>
                  <a:srgbClr val="c00000"/>
                </a:solidFill>
                <a:latin typeface="Constantia"/>
              </a:rPr>
              <a:t>26 травня 2004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року в Києві. 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4" descr="http://www.bizslovo.org/content/images/stories/torop/pryroda/akaciya_bila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4" name="Скругленный прямоугольник 3"/>
          <p:cNvSpPr/>
          <p:nvPr/>
        </p:nvSpPr>
        <p:spPr>
          <a:xfrm>
            <a:off x="179280" y="260280"/>
            <a:ext cx="4537080" cy="6337440"/>
          </a:xfrm>
          <a:custGeom>
            <a:avLst/>
            <a:gdLst>
              <a:gd name="textAreaLeft" fmla="*/ 221400 w 4537080"/>
              <a:gd name="textAreaRight" fmla="*/ 4315680 w 4537080"/>
              <a:gd name="textAreaTop" fmla="*/ 221400 h 6337440"/>
              <a:gd name="textAreaBottom" fmla="*/ 6116040 h 6337440"/>
            </a:gdLst>
            <a:ahLst/>
            <a:rect l="textAreaLeft" t="textAreaTop" r="textAreaRight" b="textAreaBottom"/>
            <a:pathLst>
              <a:path w="21600" h="30170">
                <a:moveTo>
                  <a:pt x="3600" y="0"/>
                </a:moveTo>
                <a:arcTo wR="3600" hR="3600" stAng="16200000" swAng="-5400000"/>
                <a:lnTo>
                  <a:pt x="0" y="26570"/>
                </a:lnTo>
                <a:arcTo wR="3600" hR="3600" stAng="10800000" swAng="-5400000"/>
                <a:lnTo>
                  <a:pt x="18000" y="3017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8dede"/>
          </a:solidFill>
          <a:ln w="38160">
            <a:solidFill>
              <a:srgbClr val="b99b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еньйорито акаціє, добрий вечір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Я забув, що забув був вас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Але осінь зійшла по плечі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Осінь, ви і осінній час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Коли стало любити важче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І солодше любити знов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еньйорито, колюче щастя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Хто воно за таке - любов?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же б, здавалося, відболіло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рогоріло у тім вогні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тупцювало і душу, й тіло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же б, здалося, нащо мені?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У годину суху й вологу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ідходились усі мости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І сказав я - ну, слава Богу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І, нарешті, перехрестивсь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Коли ж - здрастуйте, добрий вечір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и з якої дороги, пожежо моя?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еньйорито, вогонь по плечі -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Осінь, ви і осінній я..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0T07:52:22Z</dcterms:created>
  <dc:creator>Admin</dc:creator>
  <dc:description/>
  <dc:language>en-US</dc:language>
  <cp:lastModifiedBy>Admin</cp:lastModifiedBy>
  <dcterms:modified xsi:type="dcterms:W3CDTF">2012-02-20T08:26:58Z</dcterms:modified>
  <cp:revision>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e19000000000001024140</vt:lpwstr>
  </property>
</Properties>
</file>