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E96-C07C-402C-9C44-1EDECDDA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7A6-84EF-45FB-9264-9BE0ACBA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AA2-0FEB-4C7C-9E50-8950F5FD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11C-B6FF-4A13-B6D7-E64CDA57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CCC6D-591F-4904-8D76-4E5958D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49059-C9D9-4C8B-8F87-8982FEB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30ECD-9917-428A-8F8D-47833E9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00C9D-BF49-4D59-904F-4B6E56D8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725A-03BD-4965-8460-BD4B6AE3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6FB66-8B2D-43F8-9BAA-FDD7265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9CD8-77D7-4D5B-9D5A-DD73A1B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AF1-4D88-413F-8646-DDF10D89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297DE-B40B-4AB6-8265-0B2EE28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5BF2F-C2F9-4C5D-A6C4-557C6C9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37F88-9E50-4C82-929B-600F66B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F596A-C158-4B5B-82BA-E8AB8B99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410D-D2A0-45DD-B837-09F3CA2A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D758-96CD-4757-90E1-ADB42B93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DC16-682D-4F5A-A073-72A0AE2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7AC7-5B39-46B9-BEA3-6AF4827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7F1C-44E7-4152-95DF-9CF5F5C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61DE-E4F0-4EB8-AC6E-CE6BD829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326-0606-4C21-BDBA-0165DCB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56E1-D7EE-4BF4-86FB-1029CC4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A833-3192-4340-89A2-A79DDBC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9E72-5C16-4960-BF41-D6C4F09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4044-0994-4F63-852C-6F19BAE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66F3-13DA-4A51-84FB-FA51AA1C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F0DB-FBD6-4DF9-B0A2-61DFB384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3C3C-5243-4F51-9728-9B60B441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E0056-A469-4714-95C5-7AD6A891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692DF-9514-4D9C-8C2E-29532EE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5EE49-B995-4ADF-9F1C-6E336431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6B6-9537-43DB-BE95-6ED7B9D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941B0-EB39-415F-A5C2-8711F746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76C3D-B749-462A-B3A5-489F9F8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C2A12-0316-44AB-9043-5E179031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AFDAF-AAD1-48A9-BC22-F832EFA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87B77-37E1-46E5-AD4B-41A18A9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C0470-0F7A-4578-9554-22B16ED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178F9-CDF9-4C4E-9387-6136A068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CF779-C374-4161-8DE8-4B822CB3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BCA6A-6D62-49C4-9954-3BFBF510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56597-C8B3-4519-BA4C-83C09162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E3D-8C66-4A3C-B716-B4D561B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2A69B-787E-450F-9DB4-86B5AC75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04B08-AEF9-491F-A997-65D8662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E1ED2-5701-4406-815B-E28A6AE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4D30A-2CDD-461A-A0AD-0BE427A0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30FAC-7C60-44E6-89F0-2D499D9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BC81E-0661-4872-8A59-67D4321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77692-8BD7-4A05-8772-1770316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6E39F-39AD-4E5A-A49F-34D5959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1038F-D988-4F81-9FC8-45F04363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A4FE1-EE75-48AA-961E-FD578CDC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E66-64DC-4A3A-A0DC-1CC4701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61DAD-F9E3-4D00-B115-F1C17F5C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54FBB-6BC2-48EE-8CFD-9B66085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AB280-5B39-4D38-B266-ECC87EEC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3CBF6-5D77-490D-9A52-D46886D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88645-3D09-416C-819A-FB092D5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244C7-F014-4A98-A14A-A8A8873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E12C7-8F4F-4A25-BA6E-88EB5A7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BEF0F-6EB8-4AC2-A403-1D65360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6E693-5351-4C55-8A71-123A4D2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2C04E-83B6-494C-86B3-7DA8D7A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F99-B96D-4DDF-BFCE-719A958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A41BD-3490-43EE-AF52-49E36C76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9BA26-C1B7-4B0F-9A80-4B690410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BC3BE-0DC7-4346-83B2-475A5CDA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E77-D12D-47D1-ACFE-CAF83B3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977-6304-4F24-B613-53BAD9E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7CD-0F37-494B-A510-471AEE895B19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9b2d1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2A1-30C4-4425-BB92-87DF18880976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9B17-4FA4-4EA0-92AD-14D677BCB78B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811-2CC7-44EB-B542-2CF89E13FEE4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188-05A0-44C4-8283-BE5AE4C20DAD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78B-3BFA-435A-8AF6-0039DA53258C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http://poezia.org/datas/img/photos/243035256.jpg"/>
          <p:cNvPicPr/>
          <p:nvPr/>
        </p:nvPicPr>
        <p:blipFill>
          <a:blip r:embed="rId1"/>
          <a:stretch/>
        </p:blipFill>
        <p:spPr>
          <a:xfrm>
            <a:off x="611280" y="620640"/>
            <a:ext cx="2733480" cy="3960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6"/>
          <p:cNvSpPr/>
          <p:nvPr/>
        </p:nvSpPr>
        <p:spPr>
          <a:xfrm>
            <a:off x="250920" y="50846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кола Степанович Вінграновський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936-2004)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3635280" y="907920"/>
            <a:ext cx="53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Микола Степанович Вінграновський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класик української літератури, видатний український поет, письменник-шістдесятник, кінорежисер, сценарист, кіноактор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3640" y="476280"/>
            <a:ext cx="374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родився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7 листопада 1936 рок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в містечку Первомайськ на Миколаївщин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1960 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закінчив ВДІК (Всесоюзний державний інститут кінематографії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ерші поетичні публікації Миколи Вінграновського датуються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1957 роком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журнал «Дніпро» №2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http://seance.ru/img/blog/2010.08/kleiman_05_vgik.png"/>
          <p:cNvPicPr/>
          <p:nvPr/>
        </p:nvPicPr>
        <p:blipFill>
          <a:blip r:embed="rId1"/>
          <a:stretch/>
        </p:blipFill>
        <p:spPr>
          <a:xfrm>
            <a:off x="250920" y="1125360"/>
            <a:ext cx="4344840" cy="2997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www.vgik.info/img/logo_vgik.png"/>
          <p:cNvPicPr/>
          <p:nvPr/>
        </p:nvPicPr>
        <p:blipFill>
          <a:blip r:embed="rId2"/>
          <a:stretch/>
        </p:blipFill>
        <p:spPr>
          <a:xfrm>
            <a:off x="2556000" y="189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http://3.bp.blogspot.com/_91lGlRi5r1o/SwuXtLEtt9I/AAAAAAAABiI/fYJA_8X5-BI/s1600/dnipro.jpg"/>
          <p:cNvPicPr/>
          <p:nvPr/>
        </p:nvPicPr>
        <p:blipFill>
          <a:blip r:embed="rId3"/>
          <a:stretch/>
        </p:blipFill>
        <p:spPr>
          <a:xfrm rot="20743200">
            <a:off x="2004480" y="3697200"/>
            <a:ext cx="1944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24000" y="26028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бірки віршів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які виходили за життя автора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«Атомні прелюди» (1962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то поезій» (196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Поезії» (197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На срібнім березі» (1978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иїв» (1982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Губами теплими і оком золотим» (1984), «Вибрані твори» (198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Цю жінку я люблю» (1990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З обійманих тобою днів» (1993), «Любове, не прощавай!» (1996)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http://www.bohdan-books.com/userfiles/image/books/1154976769_510289488.jpg"/>
          <p:cNvPicPr/>
          <p:nvPr/>
        </p:nvPicPr>
        <p:blipFill>
          <a:blip r:embed="rId1"/>
          <a:stretch/>
        </p:blipFill>
        <p:spPr>
          <a:xfrm>
            <a:off x="6516720" y="476280"/>
            <a:ext cx="2287440" cy="316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libkor.cg.ukrtel.net/php/Virtyalbna_vustavka/90ad8358e79d90cdb7ad3e45c7654dc6.jpg"/>
          <p:cNvPicPr/>
          <p:nvPr/>
        </p:nvPicPr>
        <p:blipFill>
          <a:blip r:embed="rId2"/>
          <a:stretch/>
        </p:blipFill>
        <p:spPr>
          <a:xfrm>
            <a:off x="5435640" y="3213000"/>
            <a:ext cx="227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68360" y="404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Вірші та прозові твори Миколи Вінграновського 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для дітей 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виходили у збірках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Андрійко-говорійко» (197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Мак» (1973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ітній ранок» (197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Первінка» (197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ітній вечір» (1979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астівка біля вікна» (1981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На добраніч» (1983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інь на вечірній зорі» (198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У неквапи білі лапи» (1989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еверин Наливайко» (199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озак Петро Мамарига» (2001), «Сіроманець» (200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Іде кіт через лід» (2003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2" descr="http://nbu4kids.files.wordpress.com/2011/11/d0b2d196d0bdd0b3d180d0b0d0bdd0bed0b2d181d18cd0bad0b8d0b9-2.jpeg?w=500"/>
          <p:cNvPicPr/>
          <p:nvPr/>
        </p:nvPicPr>
        <p:blipFill>
          <a:blip r:embed="rId1"/>
          <a:stretch/>
        </p:blipFill>
        <p:spPr>
          <a:xfrm>
            <a:off x="6659640" y="404640"/>
            <a:ext cx="2014560" cy="273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halamaha.com.ua/img/cover/small/978-617-585-006-0.jpg"/>
          <p:cNvPicPr/>
          <p:nvPr/>
        </p:nvPicPr>
        <p:blipFill>
          <a:blip r:embed="rId2"/>
          <a:stretch/>
        </p:blipFill>
        <p:spPr>
          <a:xfrm>
            <a:off x="5003640" y="1413000"/>
            <a:ext cx="2154240" cy="2879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www.cbs.km.ua/uploads/images/%D0%A1%D0%B5%D0%B2%D0%B5%D1%80%D0%B8%D0%BD%20%D0%9D%D0%B0%D0%BB%D0%B8%D0%B2%D0%B0%D0%B9%D0%BA%D0%BE%20s.jpg"/>
          <p:cNvPicPr/>
          <p:nvPr/>
        </p:nvPicPr>
        <p:blipFill>
          <a:blip r:embed="rId3"/>
          <a:stretch/>
        </p:blipFill>
        <p:spPr>
          <a:xfrm>
            <a:off x="5292720" y="3789360"/>
            <a:ext cx="1727280" cy="2784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http://bukvoid.com.ua/img/MAMARYGA_new.jpg"/>
          <p:cNvPicPr/>
          <p:nvPr/>
        </p:nvPicPr>
        <p:blipFill>
          <a:blip r:embed="rId4"/>
          <a:stretch/>
        </p:blipFill>
        <p:spPr>
          <a:xfrm>
            <a:off x="6732720" y="3573360"/>
            <a:ext cx="2228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468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езія Миколи Вінграновського відзначається особливою експресією, глибиною образів, мелодичністю, багатою мовною палітрою та вмінням передавати складні внутрішні стан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вірші автор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написано багато пісен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в тому числі — у бардівському жанр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Микола Вінграновський — автор 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розових творів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віт без війни» (1958), «Президент» (1960), «Сіроманець» (1977), «Гусенятко» (1978), «Літо на Десні» (1983), «Низенько пов’язана» (1985), «В глибині дощів» (1985), «П’ять повістей» (1987), «Чотирнадцять столиць України» (1996), «Манюня» (2003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851280" y="620640"/>
            <a:ext cx="487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к 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іноактор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зіграв у 4-х художніх фільмах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йвідоміша роль Миколи Вінграновського —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Івана Орлюка у фільмі «Повість полум’яних літ» (1961, сценарій О. Довженка)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Цей фільм отримав нагороди міжнародних фестивалів у Каннах, Лондоні та Лос-Анджелес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кола Вінграновський — 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ежисер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5-и художніх та 8-ми документальних фільмів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http://image.uamedia.info/1/30/30/povest-plamennyh-let-pov-st-polumyanih-l-t-28.jpg"/>
          <p:cNvPicPr/>
          <p:nvPr/>
        </p:nvPicPr>
        <p:blipFill>
          <a:blip r:embed="rId1"/>
          <a:stretch/>
        </p:blipFill>
        <p:spPr>
          <a:xfrm>
            <a:off x="250920" y="549360"/>
            <a:ext cx="3333600" cy="542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t3.gstatic.com/images?q=tbn:ANd9GcTPdD2MdMOmJmif_fcfsUYYW0bdtx9Be2W87ymbiL81OetpNXQIxg"/>
          <p:cNvPicPr/>
          <p:nvPr/>
        </p:nvPicPr>
        <p:blipFill>
          <a:blip r:embed="rId2"/>
          <a:stretch/>
        </p:blipFill>
        <p:spPr>
          <a:xfrm>
            <a:off x="324000" y="5229360"/>
            <a:ext cx="3257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ukrlit.vn.ua/biography/vingranovski.jpg"/>
          <p:cNvPicPr/>
          <p:nvPr/>
        </p:nvPicPr>
        <p:blipFill>
          <a:blip r:embed="rId1"/>
          <a:stretch/>
        </p:blipFill>
        <p:spPr>
          <a:xfrm>
            <a:off x="250920" y="333360"/>
            <a:ext cx="3143160" cy="3990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2"/>
          <p:cNvSpPr/>
          <p:nvPr/>
        </p:nvSpPr>
        <p:spPr>
          <a:xfrm>
            <a:off x="3780000" y="40464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кола Вінграновський був першим президентом міжнародного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ЕН-клуб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що репрезентує українську літературу у світовому масштабі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Творчість автора отримала належне визнання. Серед багатьох літературних нагород, відзнак та премій Микола Вінграновський — </a:t>
            </a:r>
            <a:r>
              <a:rPr b="1" lang="ru-RU" sz="2400" spc="-1" strike="noStrike">
                <a:solidFill>
                  <a:srgbClr val="742217"/>
                </a:solidFill>
                <a:latin typeface="Constantia"/>
              </a:rPr>
              <a:t>лауреат Національної премії України ім. Т. Шевченка (1984)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Помер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26 травня 200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оку в Києв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bizslovo.org/content/images/stories/torop/pryroda/akaciya_bil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ый прямоугольник 3"/>
          <p:cNvSpPr/>
          <p:nvPr/>
        </p:nvSpPr>
        <p:spPr>
          <a:xfrm>
            <a:off x="179280" y="260280"/>
            <a:ext cx="4537080" cy="6337440"/>
          </a:xfrm>
          <a:custGeom>
            <a:avLst/>
            <a:gdLst>
              <a:gd name="textAreaLeft" fmla="*/ 221400 w 4537080"/>
              <a:gd name="textAreaRight" fmla="*/ 4315680 w 4537080"/>
              <a:gd name="textAreaTop" fmla="*/ 221400 h 6337440"/>
              <a:gd name="textAreaBottom" fmla="*/ 6116040 h 6337440"/>
            </a:gdLst>
            <a:ahLst/>
            <a:rect l="textAreaLeft" t="textAreaTop" r="textAreaRight" b="textAreaBottom"/>
            <a:pathLst>
              <a:path w="21600" h="30170">
                <a:moveTo>
                  <a:pt x="3600" y="0"/>
                </a:moveTo>
                <a:arcTo wR="3600" hR="3600" stAng="16200000" swAng="-5400000"/>
                <a:lnTo>
                  <a:pt x="0" y="26570"/>
                </a:lnTo>
                <a:arcTo wR="3600" hR="3600" stAng="10800000" swAng="-5400000"/>
                <a:lnTo>
                  <a:pt x="18000" y="30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dede"/>
          </a:solidFill>
          <a:ln w="38160">
            <a:solidFill>
              <a:srgbClr val="b99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 акаціє, добрий вечі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забув, що забув був в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е осінь зійшла по плечі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інь, ви і осінній ч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 стало любити важч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 солодше любити знов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, колюче щаст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то воно за таке - любов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же б, здавалося, відболі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горіло у тім вогні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упцювало і душу, й ті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же б, здалося, нащо мені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годину суху й воло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ідходились усі мос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 сказав я - ну, слава Бог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, нарешті, перехрестивсь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 ж - здрастуйте, добрий вечір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 з якої дороги, пожежо моя?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, вогонь по плечі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інь, ви і осінній я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52:22Z</dcterms:created>
  <dc:creator>Admin</dc:creator>
  <dc:description/>
  <dc:language>en-US</dc:language>
  <cp:lastModifiedBy>Admin</cp:lastModifiedBy>
  <dcterms:modified xsi:type="dcterms:W3CDTF">2012-02-20T08:26:5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19000000000001024140</vt:lpwstr>
  </property>
</Properties>
</file>