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7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6.jpeg" ContentType="image/jpeg"/>
  <Override PartName="/ppt/media/image45.jpeg" ContentType="image/jpeg"/>
  <Override PartName="/ppt/media/image26.jpeg" ContentType="image/jpeg"/>
  <Override PartName="/ppt/media/image42.png" ContentType="image/png"/>
  <Override PartName="/ppt/media/image6.png" ContentType="image/png"/>
  <Override PartName="/ppt/media/image4.jpeg" ContentType="image/jpeg"/>
  <Override PartName="/ppt/media/image61.jpeg" ContentType="image/jpeg"/>
  <Override PartName="/ppt/media/image2.png" ContentType="image/png"/>
  <Override PartName="/ppt/media/image41.jpeg" ContentType="image/jpeg"/>
  <Override PartName="/ppt/media/image14.jpeg" ContentType="image/jpeg"/>
  <Override PartName="/ppt/media/image15.jpeg" ContentType="image/jpeg"/>
  <Override PartName="/ppt/media/image56.jpeg" ContentType="image/jpeg"/>
  <Override PartName="/ppt/media/image3.png" ContentType="image/png"/>
  <Override PartName="/ppt/media/image18.jpeg" ContentType="image/jpeg"/>
  <Override PartName="/ppt/media/image20.jpeg" ContentType="image/jpeg"/>
  <Override PartName="/ppt/media/image59.wmf" ContentType="image/x-wmf"/>
  <Override PartName="/ppt/media/image66.jpeg" ContentType="image/jpeg"/>
  <Override PartName="/ppt/media/image9.jpeg" ContentType="image/jpeg"/>
  <Override PartName="/ppt/media/image22.jpeg" ContentType="image/jpeg"/>
  <Override PartName="/ppt/media/image64.jpeg" ContentType="image/jpeg"/>
  <Override PartName="/ppt/media/image38.jpeg" ContentType="image/jpeg"/>
  <Override PartName="/ppt/media/image19.jpeg" ContentType="image/jpeg"/>
  <Override PartName="/ppt/media/image63.jpeg" ContentType="image/jpeg"/>
  <Override PartName="/ppt/media/image65.png" ContentType="image/png"/>
  <Override PartName="/ppt/media/image21.jpeg" ContentType="image/jpeg"/>
  <Override PartName="/ppt/media/image17.jpeg" ContentType="image/jpeg"/>
  <Override PartName="/ppt/media/image50.jpeg" ContentType="image/jpeg"/>
  <Override PartName="/ppt/media/image16.jpeg" ContentType="image/jpeg"/>
  <Override PartName="/ppt/media/image60.jpeg" ContentType="image/jpeg"/>
  <Override PartName="/ppt/media/image37.jpeg" ContentType="image/jpeg"/>
  <Override PartName="/ppt/media/image51.jpeg" ContentType="image/jpeg"/>
  <Override PartName="/ppt/media/image24.jpeg" ContentType="image/jpeg"/>
  <Override PartName="/ppt/media/image62.wmf" ContentType="image/x-wmf"/>
  <Override PartName="/ppt/media/image23.jpeg" ContentType="image/jpeg"/>
  <Override PartName="/ppt/media/image5.jpeg" ContentType="image/jpeg"/>
  <Override PartName="/ppt/media/image7.gif" ContentType="image/gif"/>
  <Override PartName="/ppt/media/image29.jpeg" ContentType="image/jpeg"/>
  <Override PartName="/ppt/media/image12.jpeg" ContentType="image/jpeg"/>
  <Override PartName="/ppt/media/image52.jpeg" ContentType="image/jpeg"/>
  <Override PartName="/ppt/media/image1.png" ContentType="image/pn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40.jpeg" ContentType="image/jpeg"/>
  <Override PartName="/ppt/media/image28.jpeg" ContentType="image/jpeg"/>
  <Override PartName="/ppt/media/image67.gif" ContentType="image/gif"/>
  <Override PartName="/ppt/media/image11.jpeg" ContentType="image/jpeg"/>
  <Override PartName="/ppt/media/image30.jpeg" ContentType="image/jpeg"/>
  <Override PartName="/ppt/media/image31.jpeg" ContentType="image/jpeg"/>
  <Override PartName="/ppt/media/image13.jpeg" ContentType="image/jpeg"/>
  <Override PartName="/ppt/media/image47.wmf" ContentType="image/x-wmf"/>
  <Override PartName="/ppt/media/image32.jpeg" ContentType="image/jpeg"/>
  <Override PartName="/ppt/media/image33.jpeg" ContentType="image/jpeg"/>
  <Override PartName="/ppt/media/image58.wmf" ContentType="image/x-wmf"/>
  <Override PartName="/ppt/media/image34.jpeg" ContentType="image/jpeg"/>
  <Override PartName="/ppt/media/image35.jpeg" ContentType="image/jpeg"/>
  <Override PartName="/ppt/media/image36.jpeg" ContentType="image/jpeg"/>
  <Override PartName="/ppt/media/image25.gif" ContentType="image/gif"/>
  <Override PartName="/ppt/media/image43.jpeg" ContentType="image/jpeg"/>
  <Override PartName="/ppt/media/image4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BCD1-8493-4FF2-AD80-E8342D537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8323-12C4-4830-9630-D3814D595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BEF9-9527-4617-886B-BBA7247FB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5BF7-803B-4973-8CA8-DED38BB58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22CA-35C8-48C0-A9E2-88F9EC374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5986-E62C-4501-BBD8-18C4844D9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6E4C-D46F-4AE2-83C5-C87710B3C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3E83-0D2E-4324-B331-98F2B1856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78EC-1D70-499D-A9CA-19113C218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6CDD-DE30-4541-A20B-21C9C26B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44E6-1BE6-4CF6-9F2C-D0EAAF227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158F-9DBA-4B6D-A4E9-C8DE571F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0448A-3989-4052-916F-7DA2AD1A9C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image" Target="../media/image9.jpe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image" Target="../media/image37.jpeg"/><Relationship Id="rId8" Type="http://schemas.openxmlformats.org/officeDocument/2006/relationships/image" Target="../media/image38.jpeg"/><Relationship Id="rId9" Type="http://schemas.openxmlformats.org/officeDocument/2006/relationships/image" Target="../media/image39.jpeg"/><Relationship Id="rId10" Type="http://schemas.openxmlformats.org/officeDocument/2006/relationships/image" Target="../media/image40.jpeg"/><Relationship Id="rId11" Type="http://schemas.openxmlformats.org/officeDocument/2006/relationships/image" Target="../media/image41.jpeg"/><Relationship Id="rId12" Type="http://schemas.openxmlformats.org/officeDocument/2006/relationships/image" Target="../media/image42.png"/><Relationship Id="rId13" Type="http://schemas.openxmlformats.org/officeDocument/2006/relationships/image" Target="../media/image43.jpeg"/><Relationship Id="rId14" Type="http://schemas.openxmlformats.org/officeDocument/2006/relationships/image" Target="../media/image44.jpeg"/><Relationship Id="rId15" Type="http://schemas.openxmlformats.org/officeDocument/2006/relationships/image" Target="../media/image45.jpeg"/><Relationship Id="rId16" Type="http://schemas.openxmlformats.org/officeDocument/2006/relationships/image" Target="../media/image46.jpeg"/><Relationship Id="rId1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7.wmf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6.jpeg"/><Relationship Id="rId3" Type="http://schemas.openxmlformats.org/officeDocument/2006/relationships/image" Target="../media/image8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58.wm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6.jpeg"/><Relationship Id="rId3" Type="http://schemas.openxmlformats.org/officeDocument/2006/relationships/image" Target="../media/image59.wmf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6.jpeg"/><Relationship Id="rId3" Type="http://schemas.openxmlformats.org/officeDocument/2006/relationships/image" Target="../media/image59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6.jpeg"/><Relationship Id="rId3" Type="http://schemas.openxmlformats.org/officeDocument/2006/relationships/image" Target="../media/image58.wmf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58.wmf"/><Relationship Id="rId8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2.wmf"/><Relationship Id="rId7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5.png"/><Relationship Id="rId3" Type="http://schemas.openxmlformats.org/officeDocument/2006/relationships/image" Target="../media/image66.jpeg"/><Relationship Id="rId4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7.gi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32000" y="2060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3300"/>
                </a:solidFill>
                <a:latin typeface="Arial"/>
              </a:rPr>
              <a:t>Анатолій Дімаров. “Для чого людині серце”. Казкова форма твору. Образ лісового чоловічка. Основна думка твор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258920" y="1125360"/>
            <a:ext cx="482436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ТЕМА УРОК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45080" y="4653000"/>
            <a:ext cx="380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663300"/>
                </a:solidFill>
                <a:latin typeface="Arial"/>
              </a:rPr>
              <a:t>Добре бачить тільки серц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663300"/>
                </a:solidFill>
                <a:latin typeface="Arial"/>
              </a:rPr>
              <a:t>найголовнішого очам не вид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663300"/>
                </a:solidFill>
                <a:latin typeface="Arial"/>
              </a:rPr>
              <a:t>                   </a:t>
            </a:r>
            <a:r>
              <a:rPr b="1" lang="uk-UA" sz="1800" spc="-1" strike="noStrike">
                <a:solidFill>
                  <a:srgbClr val="663300"/>
                </a:solidFill>
                <a:latin typeface="Arial"/>
              </a:rPr>
              <a:t>А. де Сент-Екзюпер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08000" y="476280"/>
            <a:ext cx="2195640" cy="3213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0" y="3716280"/>
            <a:ext cx="2367000" cy="3141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7451640" y="4076640"/>
            <a:ext cx="1692360" cy="2781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2268360" y="1125360"/>
            <a:ext cx="2303640" cy="33832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4788000" y="1052640"/>
            <a:ext cx="2031840" cy="31701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7"/>
          <a:stretch/>
        </p:blipFill>
        <p:spPr>
          <a:xfrm>
            <a:off x="6908760" y="1125360"/>
            <a:ext cx="2235240" cy="29512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8"/>
          <a:stretch/>
        </p:blipFill>
        <p:spPr>
          <a:xfrm>
            <a:off x="2340000" y="4321080"/>
            <a:ext cx="1727280" cy="2536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9"/>
          <a:stretch/>
        </p:blipFill>
        <p:spPr>
          <a:xfrm>
            <a:off x="5580000" y="4076640"/>
            <a:ext cx="1944720" cy="2781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0"/>
          <a:stretch/>
        </p:blipFill>
        <p:spPr>
          <a:xfrm>
            <a:off x="3995640" y="4149720"/>
            <a:ext cx="1800360" cy="27082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2700360" y="115920"/>
            <a:ext cx="611964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нижкова вітальн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484360" y="692280"/>
            <a:ext cx="3784680" cy="56894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19280" y="404640"/>
            <a:ext cx="6191280" cy="61912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539640" y="115920"/>
            <a:ext cx="8209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натолій Дімаров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8280360" cy="55738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960" y="1628640"/>
            <a:ext cx="249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исьменник-прозаї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6520" y="4005360"/>
            <a:ext cx="205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5 травня 1922рі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660720" y="1628640"/>
            <a:ext cx="22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м. Миргород </a:t>
            </a:r>
            <a:br>
              <a:rPr sz="1800"/>
            </a:b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    на Полтавщин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91480" y="2708280"/>
            <a:ext cx="22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Учительська сі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2520" y="4941720"/>
            <a:ext cx="23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Донька свяще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769440" y="3789360"/>
            <a:ext cx="23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Андронік Гарасю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17800" y="5877000"/>
            <a:ext cx="316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Командир </a:t>
            </a:r>
            <a:br>
              <a:rPr sz="1800"/>
            </a:b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    партизанського заго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72680" y="2924280"/>
            <a:ext cx="178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Учасник вій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487200" y="5157720"/>
            <a:ext cx="265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Нагороджений </a:t>
            </a:r>
            <a:br>
              <a:rPr sz="1800"/>
            </a:b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орденами і медал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627280" y="1125360"/>
            <a:ext cx="3960720" cy="4248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2843280" y="1413000"/>
            <a:ext cx="3529080" cy="36702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1258920" y="476280"/>
            <a:ext cx="720072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АНАТОЛІЙ АНДРІЙОВИЧ ДІМАР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859280" y="595008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рацював у газет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Радянська Воли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938920" y="3141720"/>
            <a:ext cx="3205080" cy="37162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040360" cy="35002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0" y="3213000"/>
            <a:ext cx="6012000" cy="3645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4932360" y="0"/>
            <a:ext cx="4211640" cy="31417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940360" y="2133720"/>
            <a:ext cx="2087640" cy="16556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5076720" y="2060640"/>
            <a:ext cx="1425600" cy="1224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7934400" y="0"/>
            <a:ext cx="1209600" cy="1197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6372360" y="1052640"/>
            <a:ext cx="1441440" cy="11937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5219640" y="0"/>
            <a:ext cx="1584360" cy="10936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7"/>
          <a:stretch/>
        </p:blipFill>
        <p:spPr>
          <a:xfrm>
            <a:off x="7667640" y="1052640"/>
            <a:ext cx="1476360" cy="1008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8"/>
          <a:stretch/>
        </p:blipFill>
        <p:spPr>
          <a:xfrm>
            <a:off x="6732720" y="0"/>
            <a:ext cx="1439640" cy="12384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9"/>
          <a:stretch/>
        </p:blipFill>
        <p:spPr>
          <a:xfrm>
            <a:off x="5219640" y="981000"/>
            <a:ext cx="149868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0"/>
          <a:stretch/>
        </p:blipFill>
        <p:spPr>
          <a:xfrm>
            <a:off x="7596360" y="2060640"/>
            <a:ext cx="1547640" cy="17287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11"/>
          <a:stretch/>
        </p:blipFill>
        <p:spPr>
          <a:xfrm>
            <a:off x="0" y="0"/>
            <a:ext cx="4076640" cy="33447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12"/>
          <a:stretch/>
        </p:blipFill>
        <p:spPr>
          <a:xfrm>
            <a:off x="3635280" y="2276640"/>
            <a:ext cx="2305080" cy="28810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13"/>
          <a:stretch/>
        </p:blipFill>
        <p:spPr>
          <a:xfrm>
            <a:off x="3059280" y="0"/>
            <a:ext cx="2304720" cy="2394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14"/>
          <a:stretch/>
        </p:blipFill>
        <p:spPr>
          <a:xfrm>
            <a:off x="0" y="3141720"/>
            <a:ext cx="3708360" cy="3716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15"/>
          <a:stretch/>
        </p:blipFill>
        <p:spPr>
          <a:xfrm>
            <a:off x="3203640" y="4543560"/>
            <a:ext cx="2376360" cy="23144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16"/>
          <a:stretch/>
        </p:blipFill>
        <p:spPr>
          <a:xfrm>
            <a:off x="5634000" y="3786120"/>
            <a:ext cx="3510000" cy="30718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708360" y="4149720"/>
            <a:ext cx="119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ардолі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95640" y="1989000"/>
            <a:ext cx="127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Сардолі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343240" y="630864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Аг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62520" y="649116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Аг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801920" y="6491160"/>
            <a:ext cx="134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Сардонік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1403280" y="2205000"/>
            <a:ext cx="64818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СТОРІНКАМИ ТВОР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755640" y="4221000"/>
            <a:ext cx="1944720" cy="18511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1332000" y="692280"/>
            <a:ext cx="6769080" cy="54720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619280" y="1628640"/>
            <a:ext cx="706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Продовжити знайомство дітей з жанром літературної каз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формувати читацькі навички шляхом спеціальних вправ та в процесі роботи над текстом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чити самостійно робити висновки з прочитаного, висловлювати міркування про людські життєві цінності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розвивати нестандартне мисленн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иховувати ціннісне ставлення до ближніх, розвиваючи у собі найкращі моральні риси: милосердя, доброту, співчутливі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763640" y="189000"/>
            <a:ext cx="39560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018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Мета урок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>
    <p:strips dir="l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258920" y="189000"/>
            <a:ext cx="6842160" cy="64800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619280" y="189000"/>
            <a:ext cx="6335640" cy="64800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971640" y="549360"/>
            <a:ext cx="7200720" cy="59767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403280" y="115920"/>
            <a:ext cx="6767640" cy="65246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692360" y="189000"/>
            <a:ext cx="5773680" cy="64800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1835280" y="189000"/>
            <a:ext cx="6480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Бліц - опитуванн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777680" y="1628640"/>
            <a:ext cx="7365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000066"/>
                </a:solidFill>
                <a:latin typeface="Arial"/>
              </a:rPr>
              <a:t>Що вам сподобалось у казц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000066"/>
                </a:solidFill>
                <a:latin typeface="Arial"/>
              </a:rPr>
              <a:t>Що не сподобалос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66"/>
                </a:solidFill>
                <a:latin typeface="Arial"/>
              </a:rPr>
              <a:t>Які персонажі нам зустріли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66"/>
                </a:solidFill>
                <a:latin typeface="Arial"/>
              </a:rPr>
              <a:t>Що вразило в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000066"/>
                </a:solidFill>
                <a:latin typeface="Arial"/>
              </a:rPr>
              <a:t>Як ви зрозуміли, що ж потрібно чоловічкові, щоб стати справжньою людиною</a:t>
            </a:r>
            <a:r>
              <a:rPr b="1" i="1" lang="uk-UA" sz="3200" spc="-1" strike="noStrike">
                <a:solidFill>
                  <a:srgbClr val="000066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268360" y="3213000"/>
            <a:ext cx="2664000" cy="14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ле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я дере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яних</a:t>
            </a:r>
            <a:br>
              <a:rPr sz="1800"/>
            </a:b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чоловічк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435640" y="3429000"/>
            <a:ext cx="2665440" cy="151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Незвичайна гост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364000" y="1773360"/>
            <a:ext cx="2737080" cy="158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Лікар, </a:t>
            </a:r>
            <a:br>
              <a:rPr sz="1800"/>
            </a:b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що міняє серц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55640" y="1628640"/>
            <a:ext cx="2879640" cy="151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Нелегкий вибі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211640" y="5013360"/>
            <a:ext cx="2736720" cy="1417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Життя чоловічка</a:t>
            </a:r>
            <a:br>
              <a:rPr sz="1800"/>
            </a:b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з серц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55640" y="4797360"/>
            <a:ext cx="3024360" cy="1490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олу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яне серце</a:t>
            </a:r>
            <a:br>
              <a:rPr sz="1800"/>
            </a:b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зігріває хлопч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5280" y="3213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47640" y="260280"/>
            <a:ext cx="5616720" cy="1143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Порушена послідовні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684360" y="1628640"/>
            <a:ext cx="2663640" cy="14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ле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я дере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яних</a:t>
            </a:r>
            <a:br>
              <a:rPr sz="1800"/>
            </a:b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чоловічк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55640" y="3213000"/>
            <a:ext cx="2665440" cy="151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Незвичайна гост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55640" y="5013360"/>
            <a:ext cx="2736720" cy="158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Лікар, </a:t>
            </a:r>
            <a:br>
              <a:rPr sz="1800"/>
            </a:b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що міняє серц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19640" y="1916280"/>
            <a:ext cx="2879640" cy="151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Нелегкий вибі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219640" y="3500280"/>
            <a:ext cx="2737080" cy="1417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Життя чоловічка</a:t>
            </a:r>
            <a:br>
              <a:rPr sz="1800"/>
            </a:b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з серц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43280" y="5084640"/>
            <a:ext cx="3024360" cy="1490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олу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яне серце</a:t>
            </a:r>
            <a:br>
              <a:rPr sz="1800"/>
            </a:b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зігріває хлопч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5440" y="15573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96720" y="32130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5280" y="479736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788000" y="17733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859280" y="335772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02160" y="47242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547640" y="260280"/>
            <a:ext cx="5616720" cy="1143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Порушена послідовні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8805960" y="3645000"/>
            <a:ext cx="336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60320" y="2205000"/>
            <a:ext cx="594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Скласти сенкан до слова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СЕР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3276720" y="2752560"/>
            <a:ext cx="4392360" cy="41054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 txBox="1"/>
          <p:nvPr/>
        </p:nvSpPr>
        <p:spPr>
          <a:xfrm>
            <a:off x="3059280" y="404640"/>
            <a:ext cx="433224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Творча хвилин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132000" y="981000"/>
            <a:ext cx="410400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“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Ми – поети”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7"/>
          <a:stretch/>
        </p:blipFill>
        <p:spPr>
          <a:xfrm>
            <a:off x="7116840" y="4724280"/>
            <a:ext cx="2027160" cy="2133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186920" y="2133720"/>
            <a:ext cx="655164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52b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52b5b"/>
                </a:solidFill>
                <a:latin typeface="Arial"/>
              </a:rPr>
              <a:t>Червоний колір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– нові зна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cc33"/>
                </a:solidFill>
                <a:latin typeface="Arial"/>
              </a:rPr>
              <a:t>Зелений колір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– спілкува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3399"/>
                </a:solidFill>
                <a:latin typeface="Arial"/>
              </a:rPr>
              <a:t>Синій колір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– оцін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ccc00"/>
                </a:solidFill>
                <a:latin typeface="Arial"/>
              </a:rPr>
              <a:t>Жовтий колір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– ще не визначив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059280" y="476280"/>
            <a:ext cx="4105080" cy="159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чікування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strips dir="l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476360" y="2276640"/>
            <a:ext cx="741672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uk-UA" sz="2600" spc="-1" strike="noStrike">
                <a:solidFill>
                  <a:srgbClr val="663300"/>
                </a:solidFill>
                <a:latin typeface="Arial"/>
              </a:rPr>
              <a:t>Чого вчить оповідання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uk-UA" sz="2600" spc="-1" strike="noStrike">
                <a:solidFill>
                  <a:srgbClr val="663300"/>
                </a:solidFill>
                <a:latin typeface="Arial"/>
              </a:rPr>
              <a:t>Як ви розумієте слова лікаря про те, що люди мають різні серця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uk-UA" sz="2600" spc="-1" strike="noStrike">
                <a:solidFill>
                  <a:srgbClr val="663300"/>
                </a:solidFill>
                <a:latin typeface="Arial"/>
              </a:rPr>
              <a:t>Яким був би кінець казки, якби дерев’яний чоловічок вибрав якесь інше серце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uk-UA" sz="2600" spc="-1" strike="noStrike">
                <a:solidFill>
                  <a:srgbClr val="663300"/>
                </a:solidFill>
                <a:latin typeface="Arial"/>
              </a:rPr>
              <a:t>Яке серце ви вважаєте добрим? Чому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uk-UA" sz="2600" spc="-1" strike="noStrike">
                <a:solidFill>
                  <a:srgbClr val="663300"/>
                </a:solidFill>
                <a:latin typeface="Arial"/>
              </a:rPr>
              <a:t>Що означає вираз “зле, жорстоке серце”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752400" y="0"/>
            <a:ext cx="2000160" cy="23493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 txBox="1"/>
          <p:nvPr/>
        </p:nvSpPr>
        <p:spPr>
          <a:xfrm>
            <a:off x="3059280" y="476280"/>
            <a:ext cx="48974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КОЛО ДУМО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>
    <p:split dir="in" orient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692360" y="1628640"/>
            <a:ext cx="727236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uk-UA" sz="2600" spc="-1" strike="noStrike">
                <a:solidFill>
                  <a:srgbClr val="663300"/>
                </a:solidFill>
                <a:latin typeface="Arial"/>
              </a:rPr>
              <a:t>Чи приємно жити поруч зі злом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uk-UA" sz="2600" spc="-1" strike="noStrike">
                <a:solidFill>
                  <a:srgbClr val="663300"/>
                </a:solidFill>
                <a:latin typeface="Arial"/>
              </a:rPr>
              <a:t>Поміркуйте, для чого людині серце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uk-UA" sz="2600" spc="-1" strike="noStrike">
                <a:solidFill>
                  <a:srgbClr val="663300"/>
                </a:solidFill>
                <a:latin typeface="Arial"/>
              </a:rPr>
              <a:t>Як ви вважаєте,чи правильно вчинив дерев</a:t>
            </a:r>
            <a:r>
              <a:rPr b="1" lang="ru-RU" sz="2600" spc="-1" strike="noStrike">
                <a:solidFill>
                  <a:srgbClr val="663300"/>
                </a:solidFill>
                <a:latin typeface="Arial"/>
              </a:rPr>
              <a:t>’</a:t>
            </a:r>
            <a:r>
              <a:rPr b="1" lang="uk-UA" sz="2600" spc="-1" strike="noStrike">
                <a:solidFill>
                  <a:srgbClr val="663300"/>
                </a:solidFill>
                <a:latin typeface="Arial"/>
              </a:rPr>
              <a:t>яний чоловічок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uk-UA" sz="2600" spc="-1" strike="noStrike">
                <a:solidFill>
                  <a:srgbClr val="663300"/>
                </a:solidFill>
                <a:latin typeface="Arial"/>
              </a:rPr>
              <a:t>А як би вчинили ви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663300"/>
                </a:solidFill>
                <a:latin typeface="Arial"/>
              </a:rPr>
              <a:t>Яка людина могла б вчинити по-іншому 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uk-UA" sz="2600" spc="-1" strike="noStrike">
                <a:solidFill>
                  <a:srgbClr val="663300"/>
                </a:solidFill>
                <a:latin typeface="Arial"/>
              </a:rPr>
              <a:t>Чи можна вважати  дерев</a:t>
            </a:r>
            <a:r>
              <a:rPr b="1" lang="en-US" sz="2600" spc="-1" strike="noStrike">
                <a:solidFill>
                  <a:srgbClr val="663300"/>
                </a:solidFill>
                <a:latin typeface="Arial"/>
              </a:rPr>
              <a:t>’</a:t>
            </a:r>
            <a:r>
              <a:rPr b="1" lang="uk-UA" sz="2600" spc="-1" strike="noStrike">
                <a:solidFill>
                  <a:srgbClr val="663300"/>
                </a:solidFill>
                <a:latin typeface="Arial"/>
              </a:rPr>
              <a:t>яного чоловічка героєм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uk-UA" sz="2600" spc="-1" strike="noStrike">
                <a:solidFill>
                  <a:srgbClr val="663300"/>
                </a:solidFill>
                <a:latin typeface="Arial"/>
              </a:rPr>
              <a:t>Чому цей твір можна назвати казкою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uk-UA" sz="2600" spc="-1" strike="noStrike">
                <a:solidFill>
                  <a:srgbClr val="663300"/>
                </a:solidFill>
                <a:latin typeface="Arial"/>
              </a:rPr>
              <a:t>Що таке казка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uk-UA" sz="2600" spc="-1" strike="noStrike">
                <a:solidFill>
                  <a:srgbClr val="663300"/>
                </a:solidFill>
                <a:latin typeface="Arial"/>
              </a:rPr>
              <a:t>Яка тема цієї казки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uk-UA" sz="2600" spc="-1" strike="noStrike">
                <a:solidFill>
                  <a:srgbClr val="663300"/>
                </a:solidFill>
                <a:latin typeface="Arial"/>
              </a:rPr>
              <a:t>Яка її головна думка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62000" cy="2205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7" name=""/>
          <p:cNvGraphicFramePr/>
          <p:nvPr/>
        </p:nvGraphicFramePr>
        <p:xfrm>
          <a:off x="2268360" y="1628640"/>
          <a:ext cx="6562800" cy="4298760"/>
        </p:xfrm>
        <a:graphic>
          <a:graphicData uri="http://schemas.openxmlformats.org/drawingml/2006/table">
            <a:tbl>
              <a:tblPr/>
              <a:tblGrid>
                <a:gridCol w="3281400"/>
                <a:gridCol w="3281400"/>
              </a:tblGrid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Реальні ді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Фантастичні елементи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3059280" y="3500280"/>
            <a:ext cx="2036520" cy="21434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 txBox="1"/>
          <p:nvPr/>
        </p:nvSpPr>
        <p:spPr>
          <a:xfrm>
            <a:off x="2916360" y="189000"/>
            <a:ext cx="4967280" cy="102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20644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Робота в пара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7"/>
          <a:stretch/>
        </p:blipFill>
        <p:spPr>
          <a:xfrm>
            <a:off x="6170760" y="3500280"/>
            <a:ext cx="1968480" cy="20736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476360" y="3212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ере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н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чоловіч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643280" y="1484280"/>
            <a:ext cx="1995480" cy="7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милосерд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64000" y="2133720"/>
            <a:ext cx="2067120" cy="71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співчутлив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050920" y="4941720"/>
            <a:ext cx="2067120" cy="770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розсудлив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435640" y="5013360"/>
            <a:ext cx="2303280" cy="698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безкорислив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796000" y="4292640"/>
            <a:ext cx="2160720" cy="698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хитр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516720" y="2781360"/>
            <a:ext cx="192240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безсердеч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56000" y="1341360"/>
            <a:ext cx="206676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жорсто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300720" y="3573360"/>
            <a:ext cx="201636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добр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95280" y="189000"/>
            <a:ext cx="8353440" cy="1143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87280" y="1989000"/>
            <a:ext cx="2210040" cy="698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зл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9640" y="2708280"/>
            <a:ext cx="2305080" cy="770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байдуж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16000" y="4221000"/>
            <a:ext cx="206676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заздріс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39640" y="3500280"/>
            <a:ext cx="1994040" cy="770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чуй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755640" y="333360"/>
            <a:ext cx="7848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Гра “Визнач характер героя”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216" name=""/>
          <p:cNvSpPr/>
          <p:nvPr/>
        </p:nvSpPr>
        <p:spPr>
          <a:xfrm>
            <a:off x="3635280" y="5445000"/>
            <a:ext cx="2211480" cy="790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здатен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самопожерт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3564000" y="2781360"/>
            <a:ext cx="2122560" cy="191592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900000" y="4653000"/>
            <a:ext cx="2232000" cy="1800360"/>
          </a:xfrm>
          <a:custGeom>
            <a:avLst/>
            <a:gdLst>
              <a:gd name="textAreaLeft" fmla="*/ 524520 w 2232000"/>
              <a:gd name="textAreaRight" fmla="*/ 1706040 w 2232000"/>
              <a:gd name="textAreaTop" fmla="*/ 211680 h 1800360"/>
              <a:gd name="textAreaBottom" fmla="*/ 1129320 h 1800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990033"/>
                </a:solidFill>
                <a:latin typeface="Arial"/>
              </a:rPr>
              <a:t>щаст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340000" y="1484280"/>
            <a:ext cx="2087640" cy="1728720"/>
          </a:xfrm>
          <a:custGeom>
            <a:avLst/>
            <a:gdLst>
              <a:gd name="textAreaLeft" fmla="*/ 490680 w 2087640"/>
              <a:gd name="textAreaRight" fmla="*/ 1595520 w 2087640"/>
              <a:gd name="textAreaTop" fmla="*/ 203040 h 1728720"/>
              <a:gd name="textAreaBottom" fmla="*/ 1084320 h 17287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a50021"/>
                </a:solidFill>
                <a:latin typeface="Arial"/>
              </a:rPr>
              <a:t>люб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427640" y="2924280"/>
            <a:ext cx="1944720" cy="1439640"/>
          </a:xfrm>
          <a:custGeom>
            <a:avLst/>
            <a:gdLst>
              <a:gd name="textAreaLeft" fmla="*/ 456840 w 1944720"/>
              <a:gd name="textAreaRight" fmla="*/ 1486440 w 1944720"/>
              <a:gd name="textAreaTop" fmla="*/ 169200 h 1439640"/>
              <a:gd name="textAreaBottom" fmla="*/ 903240 h 1439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52b5b"/>
                </a:solidFill>
                <a:latin typeface="Arial"/>
              </a:rPr>
              <a:t>раді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771640" y="3645000"/>
            <a:ext cx="1944720" cy="1584360"/>
          </a:xfrm>
          <a:custGeom>
            <a:avLst/>
            <a:gdLst>
              <a:gd name="textAreaLeft" fmla="*/ 456840 w 1944720"/>
              <a:gd name="textAreaRight" fmla="*/ 1486440 w 1944720"/>
              <a:gd name="textAreaTop" fmla="*/ 186120 h 1584360"/>
              <a:gd name="textAreaBottom" fmla="*/ 993960 h 1584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a50021"/>
                </a:solidFill>
                <a:latin typeface="Arial"/>
              </a:rPr>
              <a:t>співчутт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443640" y="2708280"/>
            <a:ext cx="2232000" cy="1655640"/>
          </a:xfrm>
          <a:custGeom>
            <a:avLst/>
            <a:gdLst>
              <a:gd name="textAreaLeft" fmla="*/ 524520 w 2232000"/>
              <a:gd name="textAreaRight" fmla="*/ 1706040 w 2232000"/>
              <a:gd name="textAreaTop" fmla="*/ 194400 h 1655640"/>
              <a:gd name="textAreaBottom" fmla="*/ 1038600 h 1655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Arial"/>
              </a:rPr>
              <a:t>відповідальні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55640" y="2565360"/>
            <a:ext cx="1871640" cy="1584360"/>
          </a:xfrm>
          <a:custGeom>
            <a:avLst/>
            <a:gdLst>
              <a:gd name="textAreaLeft" fmla="*/ 439920 w 1871640"/>
              <a:gd name="textAreaRight" fmla="*/ 1430640 w 1871640"/>
              <a:gd name="textAreaTop" fmla="*/ 186120 h 1584360"/>
              <a:gd name="textAreaBottom" fmla="*/ 993960 h 1584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663300"/>
                </a:solidFill>
                <a:latin typeface="Arial"/>
              </a:rPr>
              <a:t>милосерд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765000"/>
            <a:ext cx="1944720" cy="1584360"/>
          </a:xfrm>
          <a:custGeom>
            <a:avLst/>
            <a:gdLst>
              <a:gd name="textAreaLeft" fmla="*/ 456840 w 1944720"/>
              <a:gd name="textAreaRight" fmla="*/ 1486440 w 1944720"/>
              <a:gd name="textAreaTop" fmla="*/ 186120 h 1584360"/>
              <a:gd name="textAreaBottom" fmla="*/ 993960 h 1584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добр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40360" y="4941720"/>
            <a:ext cx="1800000" cy="1513080"/>
          </a:xfrm>
          <a:custGeom>
            <a:avLst/>
            <a:gdLst>
              <a:gd name="textAreaLeft" fmla="*/ 423000 w 1800000"/>
              <a:gd name="textAreaRight" fmla="*/ 1375920 w 1800000"/>
              <a:gd name="textAreaTop" fmla="*/ 177840 h 1513080"/>
              <a:gd name="textAreaBottom" fmla="*/ 948960 h 1513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66"/>
                </a:solidFill>
                <a:latin typeface="Arial"/>
              </a:rPr>
              <a:t>щирі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093080" y="620640"/>
            <a:ext cx="1800000" cy="1584360"/>
          </a:xfrm>
          <a:custGeom>
            <a:avLst/>
            <a:gdLst>
              <a:gd name="textAreaLeft" fmla="*/ 423000 w 1800000"/>
              <a:gd name="textAreaRight" fmla="*/ 1375920 w 1800000"/>
              <a:gd name="textAreaTop" fmla="*/ 186120 h 1584360"/>
              <a:gd name="textAreaBottom" fmla="*/ 993960 h 1584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ff"/>
                </a:solidFill>
                <a:latin typeface="Arial"/>
              </a:rPr>
              <a:t>ввічливі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148360" y="1197000"/>
            <a:ext cx="2016000" cy="1511280"/>
          </a:xfrm>
          <a:custGeom>
            <a:avLst/>
            <a:gdLst>
              <a:gd name="textAreaLeft" fmla="*/ 473760 w 2016000"/>
              <a:gd name="textAreaRight" fmla="*/ 1540800 w 2016000"/>
              <a:gd name="textAreaTop" fmla="*/ 177480 h 1511280"/>
              <a:gd name="textAreaBottom" fmla="*/ 947880 h 151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33399"/>
                </a:solidFill>
                <a:latin typeface="Arial"/>
              </a:rPr>
              <a:t>безкорисливі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780000" y="404640"/>
            <a:ext cx="1944360" cy="1346400"/>
          </a:xfrm>
          <a:custGeom>
            <a:avLst/>
            <a:gdLst>
              <a:gd name="textAreaLeft" fmla="*/ 456840 w 1944360"/>
              <a:gd name="textAreaRight" fmla="*/ 1486080 w 1944360"/>
              <a:gd name="textAreaTop" fmla="*/ 158040 h 1346400"/>
              <a:gd name="textAreaBottom" fmla="*/ 844560 h 1346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6600"/>
                </a:solidFill>
                <a:latin typeface="Arial"/>
              </a:rPr>
              <a:t>чуйні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084720" y="4581360"/>
            <a:ext cx="2345040" cy="1582920"/>
          </a:xfrm>
          <a:custGeom>
            <a:avLst/>
            <a:gdLst>
              <a:gd name="textAreaLeft" fmla="*/ 551160 w 2345040"/>
              <a:gd name="textAreaRight" fmla="*/ 1792440 w 2345040"/>
              <a:gd name="textAreaTop" fmla="*/ 186120 h 1582920"/>
              <a:gd name="textAreaBottom" fmla="*/ 992880 h 15829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3300"/>
                </a:solidFill>
                <a:latin typeface="Arial"/>
              </a:rPr>
              <a:t>здатність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3300"/>
                </a:solidFill>
                <a:latin typeface="Arial"/>
              </a:rPr>
              <a:t>самопожерт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826560" y="2133720"/>
            <a:ext cx="655164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Arial"/>
              </a:rPr>
              <a:t>Червона картка</a:t>
            </a:r>
            <a:r>
              <a:rPr b="1" lang="uk-UA" sz="3200" spc="-1" strike="noStrike">
                <a:solidFill>
                  <a:srgbClr val="663300"/>
                </a:solidFill>
                <a:latin typeface="Arial"/>
              </a:rPr>
              <a:t> – ті,  котрі вважають, що краще жити з безчуттєвим серц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3399"/>
                </a:solidFill>
                <a:latin typeface="Arial"/>
              </a:rPr>
              <a:t>Синя картка</a:t>
            </a:r>
            <a:r>
              <a:rPr b="1" lang="uk-UA" sz="3200" spc="-1" strike="noStrike">
                <a:solidFill>
                  <a:srgbClr val="663300"/>
                </a:solidFill>
                <a:latin typeface="Arial"/>
              </a:rPr>
              <a:t> – ті, котрі думають, що краще жити зі справжнім серцем, виповненим вщерть людськими почутт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692360" y="620640"/>
            <a:ext cx="46814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210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бери позицію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6"/>
          <a:stretch/>
        </p:blipFill>
        <p:spPr>
          <a:xfrm>
            <a:off x="6777000" y="260280"/>
            <a:ext cx="2189160" cy="259236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На уроці я навчивс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На уроці я дізнавс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Цей урок змусив мене задуматис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6084720" y="3573360"/>
            <a:ext cx="2880000" cy="28800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1403280" y="260280"/>
            <a:ext cx="6840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езакінчене реченн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wipe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Що ж треба цінуват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1635120" y="1873080"/>
            <a:ext cx="184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66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826920" y="2349360"/>
            <a:ext cx="8209080" cy="35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lang="uk-UA" sz="2300" spc="-1" strike="noStrike">
                <a:solidFill>
                  <a:srgbClr val="000066"/>
                </a:solidFill>
                <a:latin typeface="Arial"/>
              </a:rPr>
              <a:t>. Напишіть, які добрі справи можна зробити в таких місцях</a:t>
            </a:r>
            <a:r>
              <a:rPr b="1" i="1" lang="uk-UA" sz="23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uk-UA" sz="23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66"/>
                </a:solidFill>
                <a:latin typeface="Arial"/>
              </a:rPr>
              <a:t>Школа –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66"/>
                </a:solidFill>
                <a:latin typeface="Arial"/>
              </a:rPr>
              <a:t>Ліс –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66"/>
                </a:solidFill>
                <a:latin typeface="Arial"/>
              </a:rPr>
              <a:t>Вулиця –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66"/>
                </a:solidFill>
                <a:latin typeface="Arial"/>
              </a:rPr>
              <a:t>Дім –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66"/>
                </a:solidFill>
                <a:latin typeface="Arial"/>
              </a:rPr>
              <a:t>2. Написати відгук на оповідання – казку </a:t>
            </a:r>
            <a:r>
              <a:rPr b="1" lang="en-US" sz="23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uk-UA" sz="2300" spc="-1" strike="noStrike">
                <a:solidFill>
                  <a:srgbClr val="000066"/>
                </a:solidFill>
                <a:latin typeface="Arial"/>
              </a:rPr>
              <a:t>А. Дімарова “Для чого людині серце?”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1" lang="uk-UA" sz="2300" spc="-1" strike="noStrike">
                <a:solidFill>
                  <a:srgbClr val="000066"/>
                </a:solidFill>
                <a:latin typeface="Arial"/>
              </a:rPr>
              <a:t>. Скласти характеристику інших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uk-UA" sz="2300" spc="-1" strike="noStrike">
                <a:solidFill>
                  <a:srgbClr val="000066"/>
                </a:solidFill>
                <a:latin typeface="Arial"/>
              </a:rPr>
              <a:t>дійових осіб твору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340000" y="620640"/>
            <a:ext cx="62643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омашнє завданн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0" y="333360"/>
            <a:ext cx="2355840" cy="20829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5352840" cy="438156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971640" y="4581360"/>
            <a:ext cx="6913440" cy="159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ОЛОДЦІ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826920" y="1440"/>
            <a:ext cx="7596360" cy="6856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87280" y="333360"/>
            <a:ext cx="6840720" cy="6211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059280" y="2205000"/>
            <a:ext cx="2997000" cy="2997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572000" y="4869000"/>
            <a:ext cx="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4572000" y="98100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476360" y="357336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796000" y="3500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2268360" y="4221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219640" y="4221000"/>
            <a:ext cx="151308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580000" y="1773360"/>
            <a:ext cx="129708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2484000" y="1341000"/>
            <a:ext cx="115092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547640" y="189000"/>
            <a:ext cx="597708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ГРОНУВАНН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059280" y="2205000"/>
            <a:ext cx="2997000" cy="2997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1547640" y="189000"/>
            <a:ext cx="597708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ГРОНУВАНН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572000" y="162828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2484000" y="2060640"/>
            <a:ext cx="8636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5651640" y="2060640"/>
            <a:ext cx="792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724360" y="35002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268000" y="357336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00720" y="4797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92720" y="4149720"/>
            <a:ext cx="863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842920" y="4149720"/>
            <a:ext cx="8650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19640" y="836640"/>
            <a:ext cx="2232000" cy="12747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ду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1341360"/>
            <a:ext cx="2232360" cy="120168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почутт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88000" y="2852640"/>
            <a:ext cx="2016360" cy="151128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люд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9640" y="1341360"/>
            <a:ext cx="2282760" cy="120168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доб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2852640"/>
            <a:ext cx="2067120" cy="144000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орган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26920" y="4581360"/>
            <a:ext cx="2427480" cy="144000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раді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03640" y="5300640"/>
            <a:ext cx="2663640" cy="126828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житт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96000" y="4797360"/>
            <a:ext cx="2663640" cy="122400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люб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826560" y="2133720"/>
            <a:ext cx="655164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Arial"/>
              </a:rPr>
              <a:t>Червона картка</a:t>
            </a:r>
            <a:r>
              <a:rPr b="1" lang="uk-UA" sz="3200" spc="-1" strike="noStrike">
                <a:solidFill>
                  <a:srgbClr val="663300"/>
                </a:solidFill>
                <a:latin typeface="Arial"/>
              </a:rPr>
              <a:t> –хто вважає, що краще жити з безчуттєвим серц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3399"/>
                </a:solidFill>
                <a:latin typeface="Arial"/>
              </a:rPr>
              <a:t>Синя картка</a:t>
            </a:r>
            <a:r>
              <a:rPr b="1" lang="uk-UA" sz="3200" spc="-1" strike="noStrike">
                <a:solidFill>
                  <a:srgbClr val="663300"/>
                </a:solidFill>
                <a:latin typeface="Arial"/>
              </a:rPr>
              <a:t> –хто думає, що краще жити зі справжнім серцем, виповненим вщерть людськими почутт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692360" y="620640"/>
            <a:ext cx="46814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210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бери позицію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heel spokes="2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195640" y="476280"/>
            <a:ext cx="4479840" cy="59040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700360" y="4365720"/>
            <a:ext cx="3889440" cy="2492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472080" y="1125360"/>
            <a:ext cx="2671920" cy="33116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0" y="1125360"/>
            <a:ext cx="2670120" cy="3383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0" y="4149720"/>
            <a:ext cx="2916360" cy="27082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6353280" y="4056120"/>
            <a:ext cx="2790720" cy="28018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2627280" y="1125360"/>
            <a:ext cx="3889440" cy="32403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900000" y="189000"/>
            <a:ext cx="741708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устріч з письменнико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2T08:11:12Z</dcterms:created>
  <dc:creator>User</dc:creator>
  <dc:description/>
  <dc:language>en-US</dc:language>
  <cp:lastModifiedBy>User</cp:lastModifiedBy>
  <dcterms:modified xsi:type="dcterms:W3CDTF">2013-02-18T20:27:54Z</dcterms:modified>
  <cp:revision>4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21d000000000001024140</vt:lpwstr>
  </property>
</Properties>
</file>