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FEB-5F6F-4745-9749-E250580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488-A643-46C1-80D5-F1E9736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D5D-70A7-4409-9FA1-521EA6F8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64A-6827-4992-A732-633C11C6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416-9A3A-4ECF-A4A1-637291C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734-14ED-400E-A18E-58923861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500-DE64-4D36-BD45-5D32C55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23E-B763-4F96-9569-CF790FF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F1A-D333-4D74-B372-A6F8359F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66F-93EE-48B1-87BA-0BF726E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359-A06D-46C8-B5FD-ECB9F95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A24-B0E1-4025-BDAE-D7F488C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C09-6BD7-490B-98B4-59DE12FFF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00"/>
                </a:solidFill>
                <a:uFillTx/>
                <a:latin typeface="Arial"/>
              </a:rPr>
              <a:t>Тема у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З родини починається людина (на прикладі творів Лілії Блискавиц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578400" cy="396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80000" y="5805360"/>
            <a:ext cx="914400" cy="7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8865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Пригадайте з усної народної творчості вислови, які навчають дітей бережливому ставленню до ре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4292640"/>
            <a:ext cx="7921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Дайте відповідь на запитання: “Чому навчали Льолю бабуся і тітонька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цюємо з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Знайдіть в тексті твору фразеологізми, які використовує автор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Доберіть фразеологізми-синоні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Переглядаючи малюнки, пригадай в з яких творів ці герої і як їх зв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6059520" cy="492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56720" y="5734080"/>
            <a:ext cx="914400" cy="743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992160"/>
            <a:ext cx="8569080" cy="4454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401760"/>
            <a:ext cx="7488360" cy="570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26920" y="430200"/>
            <a:ext cx="7632720" cy="5646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3380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48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Дайте відповідь на запи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Чому навчають твори Лілії Блискавиц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Які правила ви почерпнули для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М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00"/>
                </a:solidFill>
                <a:latin typeface="Arial"/>
              </a:rPr>
              <a:t>ознайомити дітей з біографічними відомостями про Лілію Блискавицю;  спробувати зануритися у світ її образів та думок;  з'ясувати основні проблеми, які піднімає письменниця та проаналізувати художні засоби, якими вона їх реалізовує;навчатися висловлювати свою думку й аргументувати ї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00"/>
                </a:solidFill>
                <a:latin typeface="Arial"/>
              </a:rPr>
              <a:t>розвивати зв'язне мовлення учнів, логічне та образне мислення, афористичність і точність думки; зосереджувати увагу на виборі лексики для власних судж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00"/>
                </a:solidFill>
                <a:latin typeface="Arial"/>
              </a:rPr>
              <a:t>вчити учнів бути чемними, шанувати батьків, допомагати їм, любити і завжди пам'ятати місце, де народилися, рідну оселю, свій народ, рідну мову, Україну, розширити кругозір, виховувати лю­бов до найближчих і найрідніших людей — матері й батька, бабусі й діду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3300"/>
                </a:solidFill>
                <a:latin typeface="Arial"/>
              </a:rPr>
              <a:t>Пояснення домашнь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3300"/>
                </a:solidFill>
                <a:latin typeface="Arial"/>
              </a:rPr>
              <a:t>Читати і переказувати оповідання «Блискавка», скласти тестові завдан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92000" y="3886200"/>
            <a:ext cx="4280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Презентацію підготу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Вчитель української мови та літ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3300"/>
                </a:solidFill>
                <a:latin typeface="Arial"/>
              </a:rPr>
              <a:t>Волошина С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9898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Сім’я для малої дитини – це Космос,де мама – Сонце , тато – Місяць, а численні родичі – планети. Саме тут вона черпає сили і енергію для життя, вчиться мудрості і набирається досвіду. Космічна гармонія створює міцну ауру, яка захищає від різних негараздів…»</a:t>
            </a:r>
            <a:br>
              <a:rPr sz="32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Т.Амксєєн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04640"/>
            <a:ext cx="3672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Епі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	</a:t>
            </a:r>
            <a:br>
              <a:rPr sz="4000"/>
            </a:br>
            <a:r>
              <a:rPr b="0" lang="uk-UA" sz="4000" spc="-1" strike="noStrike">
                <a:solidFill>
                  <a:srgbClr val="663300"/>
                </a:solidFill>
                <a:latin typeface="Arial"/>
              </a:rPr>
              <a:t>Бесіда за питання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Які художні твори ви любите читати?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Яке повчальне значення для вас мають твори художньої літератури. Відповідаючи, посилайтеся на приклади з відомих вам тво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Дитяча письменниця Лілія Блискавиця презентувала нову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79400" y="1600200"/>
            <a:ext cx="3394080" cy="4525920"/>
            <a:chOff x="779400" y="1600200"/>
            <a:chExt cx="3394080" cy="45259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79400" y="1600200"/>
              <a:ext cx="33940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779400" y="1600200"/>
              <a:ext cx="33940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тхнення з’являється від природи, від оточуючого середовища. Моє натхнення лине від самого дитинства, з бабусиного городу, з маленьких курочок, які бігали на подвір’ї. Я завжди спілкувалася із ними, як з рідними, тому що завжди треба поважати оточуюче середовище, любити природу і вона буде віддавати тобі своє тепло. Все, що я бачила навколо, я хотіла описувати і воно збереглося в моїй пам’я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3300"/>
                </a:solidFill>
                <a:latin typeface="Arial"/>
              </a:rPr>
              <a:t>Знайомство з оповіданням письменниці “Ляльковий концер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тання тексту ланцюжком (міні-підруч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5516640"/>
            <a:ext cx="914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Робота з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Визначте тему твору та головну ід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Продовжте речення: “Основною думкою твору є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Визначте композицію цього тв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11640" y="5084640"/>
            <a:ext cx="914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00"/>
                </a:solidFill>
                <a:latin typeface="Arial"/>
              </a:rPr>
              <a:t>Літературознавча хвил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Пригадайте складові композиції тв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00"/>
                </a:solidFill>
                <a:latin typeface="Arial"/>
              </a:rPr>
              <a:t>Перевірте сказ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експозиц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зав'яз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кульмінац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3300"/>
                </a:solidFill>
                <a:latin typeface="Arial"/>
              </a:rPr>
              <a:t>розв'язк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8:14:45Z</dcterms:created>
  <dc:creator>Admin</dc:creator>
  <dc:description/>
  <dc:language>en-US</dc:language>
  <cp:lastModifiedBy>Admin</cp:lastModifiedBy>
  <dcterms:modified xsi:type="dcterms:W3CDTF">2013-02-06T20:25:57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8000000000001024140</vt:lpwstr>
  </property>
</Properties>
</file>