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EC8D-1329-4C8A-81B8-CBEA9D6D3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3209-6979-4457-8104-4D3B1325E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DB4-2D67-4025-B4D8-922BCEB30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C786-49C9-4BE5-9389-02A9C4EFD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B936-4C5D-4D6D-A0F3-5A187277F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256-089F-4E90-9820-48B867B08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CD24-7799-4A69-907C-7557A2D6D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0B8-DFF2-44E0-B93A-70A4C87D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1FB-D4CE-404F-A8CE-C4D03DD8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2F8-DC49-44FE-9242-57820ADD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D03-B9DA-44DE-8BFC-74459FDE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5CA-96F4-4140-938D-2068179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D00D-E84A-42B2-8A63-FECB4E00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608-AB9F-4366-BAE5-C6238A4F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ECA-0927-42A1-AE04-9A18E9E6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290-50E3-4B70-AB78-184AEAE6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7B4-D6CC-4FFC-8E8F-4C113DE5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8C3-8884-4807-815F-102CD4B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8EF-5A62-4828-B812-106AE48A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8108-E2D4-4E70-B0F4-B675462BBD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Урок патріотизму на прикладі життя і творчості Євгена Маланюк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560" y="1628280"/>
            <a:ext cx="7958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15920" indent="0" algn="just">
              <a:lnSpc>
                <a:spcPct val="7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«У нашому житті все не так, як має бути, - і то не лише з нашої вини» ( Є. Маланюк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Євген Маланюк у часи Першої світової вій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2268360" y="1844640"/>
            <a:ext cx="42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вген Маланюк із сім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2484360" y="1484280"/>
            <a:ext cx="4680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d0bcd0b0d0bbd0b0d0bdd18ed0ba"/>
          <p:cNvPicPr/>
          <p:nvPr/>
        </p:nvPicPr>
        <p:blipFill>
          <a:blip r:embed="rId2"/>
          <a:stretch/>
        </p:blipFill>
        <p:spPr>
          <a:xfrm>
            <a:off x="2268360" y="1268280"/>
            <a:ext cx="4824720" cy="5256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вген Маланю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036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ети «празької школ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2447640" cy="244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2466720" cy="252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35280" y="371628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300720" y="3716280"/>
            <a:ext cx="244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705800" cy="61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АМ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Я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ій ярий крик, мій біл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ужавий,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палюючи ржу і гріх,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ійде у склад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жави,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Як криця й камінь сл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ї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50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7:34:25Z</dcterms:created>
  <dc:creator>Customer</dc:creator>
  <dc:description/>
  <cp:keywords/>
  <dc:language>en-US</dc:language>
  <cp:lastModifiedBy>Методкабінет</cp:lastModifiedBy>
  <dcterms:modified xsi:type="dcterms:W3CDTF">2013-01-02T13:10:34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3000000000001024140</vt:lpwstr>
  </property>
  <property fmtid="{D5CDD505-2E9C-101B-9397-08002B2CF9AE}" pid="3" name="_TemplateID">
    <vt:lpwstr>TC101080301049</vt:lpwstr>
  </property>
</Properties>
</file>