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C4D1-30B7-423A-A2C6-B42212879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1E6B-3F7E-4BF8-8E46-95156F56C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599C-6E23-4DC3-804E-CFDAD64AF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8F96-B95F-4740-8083-807B6156E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98C7-5D38-4BA8-8219-1ABB041AA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A4DE-9B90-4E1F-8B1E-FA4ED8611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84E7-E83C-4482-95E3-12B8CD16E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9A4-ACD0-44F8-9004-72D0B2A8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7AB-B6C5-49E0-B117-A7080B6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8A4-B45B-4E6F-A397-E614394D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9C6-C5DC-4912-A95B-F778B346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F87-3E82-4768-9B09-B643DA72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56F-3010-4BB6-9117-7DBFA03A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0A9-A40F-4070-A938-780F50DD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59D-C56D-42F9-A10E-2EDC016D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F9C-73BB-4C82-A270-090490F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EA4-01E2-49A8-8C90-5E52E8D3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28B-FB30-4B07-804C-B6606DB5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41E-7D6D-4649-80BF-9FF14A4E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B131-31E7-4038-9B99-2B2E36E637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Урок патріотизму на прикладі життя і творчості Євгена Маланюк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1628280"/>
            <a:ext cx="7958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15920" indent="0" algn="just">
              <a:lnSpc>
                <a:spcPct val="7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У нашому житті все не так, як має бути, - і то не лише з нашої вини» ( Є. Маланюк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Євген Маланюк у часи Першої світової вій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2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вген Маланюк із сім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2"/>
          <a:stretch/>
        </p:blipFill>
        <p:spPr>
          <a:xfrm>
            <a:off x="2484360" y="1484280"/>
            <a:ext cx="468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d0bcd0b0d0bbd0b0d0bdd18ed0ba"/>
          <p:cNvPicPr/>
          <p:nvPr/>
        </p:nvPicPr>
        <p:blipFill>
          <a:blip r:embed="rId2"/>
          <a:stretch/>
        </p:blipFill>
        <p:spPr>
          <a:xfrm>
            <a:off x="2268360" y="1268280"/>
            <a:ext cx="4824720" cy="5256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вген Маланю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036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ети «празької школ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2447640" cy="244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2466720" cy="252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35280" y="371628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300720" y="3716280"/>
            <a:ext cx="244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705800" cy="61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АМ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Я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ій ярий крик, мій бі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жавий,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палюючи ржу і гріх,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ійде у склад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жави,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к криця й камінь сл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ї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50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34:25Z</dcterms:created>
  <dc:creator>Customer</dc:creator>
  <dc:description/>
  <cp:keywords/>
  <dc:language>en-US</dc:language>
  <cp:lastModifiedBy>Методкабінет</cp:lastModifiedBy>
  <dcterms:modified xsi:type="dcterms:W3CDTF">2013-01-02T13:10:34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3000000000001024140</vt:lpwstr>
  </property>
  <property fmtid="{D5CDD505-2E9C-101B-9397-08002B2CF9AE}" pid="3" name="_TemplateID">
    <vt:lpwstr>TC101080301049</vt:lpwstr>
  </property>
</Properties>
</file>