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33B68-0E96-4DF6-9C43-28F77A943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17A5F-29D5-47D4-9610-07C72AD3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303B6-45BC-4BA1-AB35-B7CF7636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467DD-625C-4689-AFC4-6929B689B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E9245-C96C-41C1-9D50-2B76BDC3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9D18B-E50C-41CB-822B-FBE33B38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AB4A0-694F-43FA-9A03-CB4AA617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AC910-9DF4-46B1-AFB7-75B08612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95057-22B4-4F5D-99E5-826138C0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0D033-4736-4997-ADF6-8A07A419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B0231-2DB8-49B4-847C-03657B5D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60861-D2AB-48DF-99E5-98B2A04B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145C-AD7C-407A-BB76-27DCCC0F6F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8000" spc="-1" strike="noStrike" u="sng">
                <a:solidFill>
                  <a:srgbClr val="ff3399"/>
                </a:solidFill>
                <a:uFillTx/>
                <a:latin typeface="Tahoma"/>
              </a:rPr>
              <a:t>Епіграма</a:t>
            </a:r>
            <a:r>
              <a:rPr b="1" lang="uk-UA" sz="7200" spc="-1" strike="noStrike">
                <a:solidFill>
                  <a:srgbClr val="ff3399"/>
                </a:solidFill>
                <a:latin typeface="Tahoma"/>
              </a:rPr>
              <a:t> </a:t>
            </a:r>
            <a:r>
              <a:rPr b="0" lang="uk-UA" sz="7200" spc="-1" strike="noStrike">
                <a:solidFill>
                  <a:srgbClr val="ffffff"/>
                </a:solidFill>
                <a:latin typeface="Tahoma"/>
              </a:rPr>
              <a:t>– злобний вірш, що висміює якусь особу.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1915920"/>
            <a:ext cx="8218440" cy="21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Tahoma"/>
              </a:rPr>
              <a:t>Тема 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: болючі переживання ліричної героїні з приводу власного здоров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'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я .</a:t>
            </a:r>
            <a:br>
              <a:rPr sz="4400"/>
            </a:b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1" lang="uk-UA" sz="4400" spc="-1" strike="noStrike">
                <a:solidFill>
                  <a:srgbClr val="ff0000"/>
                </a:solidFill>
                <a:latin typeface="Tahoma"/>
              </a:rPr>
              <a:t>Основна думка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: тільки сильна духом людина здатна подолати будь – які труднощі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54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uk-UA" sz="4400" spc="-1" strike="noStrike">
                <a:solidFill>
                  <a:srgbClr val="ff0000"/>
                </a:solidFill>
                <a:latin typeface="Tahoma"/>
              </a:rPr>
              <a:t>Епітет</a:t>
            </a:r>
            <a:r>
              <a:rPr b="0" lang="uk-UA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художнє означення,за допомогою якого автор підкреслює певну властивість чи рису зображуваного предмета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uk-UA" sz="4400" spc="-1" strike="noStrike">
                <a:solidFill>
                  <a:srgbClr val="ff0000"/>
                </a:solidFill>
                <a:latin typeface="Tahoma"/>
              </a:rPr>
              <a:t>Метафора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вживання слів і   словосполучень в непрямому значенні на основі подібності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5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9600" spc="-1" strike="noStrike" u="sng">
                <a:solidFill>
                  <a:srgbClr val="ff0000"/>
                </a:solidFill>
                <a:uFillTx/>
                <a:latin typeface="Tahoma"/>
              </a:rPr>
              <a:t>Злий жарт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480960"/>
            <a:ext cx="8229600" cy="63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ff0000"/>
                </a:solidFill>
                <a:uFillTx/>
                <a:latin typeface="Tahoma"/>
              </a:rPr>
              <a:t>“</a:t>
            </a:r>
            <a:r>
              <a:rPr b="1" lang="uk-UA" sz="9600" spc="-1" strike="noStrike" u="sng">
                <a:solidFill>
                  <a:srgbClr val="ff0000"/>
                </a:solidFill>
                <a:uFillTx/>
                <a:latin typeface="Tahoma"/>
              </a:rPr>
              <a:t>біль доходив”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000" y="1915920"/>
            <a:ext cx="8135640" cy="31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 u="sng">
                <a:solidFill>
                  <a:srgbClr val="ff0000"/>
                </a:solidFill>
                <a:uFillTx/>
                <a:latin typeface="Tahoma"/>
              </a:rPr>
              <a:t>“</a:t>
            </a:r>
            <a:r>
              <a:rPr b="1" lang="uk-UA" sz="9600" spc="-1" strike="noStrike" u="sng">
                <a:solidFill>
                  <a:srgbClr val="ff0000"/>
                </a:solidFill>
                <a:uFillTx/>
                <a:latin typeface="Tahoma"/>
              </a:rPr>
              <a:t>епіграма гостра, злобна”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8800" spc="-1" strike="noStrike" u="sng">
                <a:solidFill>
                  <a:srgbClr val="ff0000"/>
                </a:solidFill>
                <a:uFillTx/>
                <a:latin typeface="Tahoma"/>
              </a:rPr>
              <a:t>“</a:t>
            </a:r>
            <a:r>
              <a:rPr b="1" i="1" lang="uk-UA" sz="8800" spc="-1" strike="noStrike" u="sng">
                <a:solidFill>
                  <a:srgbClr val="ff0000"/>
                </a:solidFill>
                <a:uFillTx/>
                <a:latin typeface="Tahoma"/>
              </a:rPr>
              <a:t>зірватись має… епіграма”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 u="sng">
                <a:solidFill>
                  <a:srgbClr val="ff0000"/>
                </a:solidFill>
                <a:uFillTx/>
                <a:latin typeface="Tahoma"/>
              </a:rPr>
              <a:t>Оперний театр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Rectangle 3" descr="Одеський міський театр. 2 пол. ХІХ ст."/>
          <p:cNvPicPr/>
          <p:nvPr/>
        </p:nvPicPr>
        <p:blipFill>
          <a:blip r:embed="rId2"/>
          <a:stretch/>
        </p:blipFill>
        <p:spPr>
          <a:xfrm>
            <a:off x="2451240" y="2374920"/>
            <a:ext cx="42415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 u="sng">
                <a:solidFill>
                  <a:srgbClr val="ff0000"/>
                </a:solidFill>
                <a:uFillTx/>
                <a:latin typeface="Tahoma"/>
              </a:rPr>
              <a:t>Будинок Комарових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Rectangle 3" descr="Другий поверх будинку на Жуковського, 27, де мешкали Комарови. Сучасний вигляд "/>
          <p:cNvPicPr/>
          <p:nvPr/>
        </p:nvPicPr>
        <p:blipFill>
          <a:blip r:embed="rId2"/>
          <a:stretch/>
        </p:blipFill>
        <p:spPr>
          <a:xfrm>
            <a:off x="2457360" y="2374920"/>
            <a:ext cx="422928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Меморіальна дошка Лесі Українки на вул. Жуковського, 27"/>
          <p:cNvPicPr/>
          <p:nvPr/>
        </p:nvPicPr>
        <p:blipFill>
          <a:blip r:embed="rId2"/>
          <a:stretch/>
        </p:blipFill>
        <p:spPr>
          <a:xfrm>
            <a:off x="2411280" y="2133720"/>
            <a:ext cx="4465800" cy="39528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 u="sng">
                <a:solidFill>
                  <a:srgbClr val="ff0000"/>
                </a:solidFill>
                <a:uFillTx/>
                <a:latin typeface="Tahoma"/>
              </a:rPr>
              <a:t>Меморіальна дошк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Тема. Леся Українка. “Як дитиною, бувало…”, “Тиша морська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10920" y="3860280"/>
            <a:ext cx="7777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Мета: ознайомитися із життєвою долею Лесі Українки ( дитинство, роль родини у її вихованні); проаналізувати художні особливості поезій “Як дитиною, бувало…”, “Тиша морська” 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розвивати культуру мовлення, логічне мислення, пам’ять, увагу, уміння виразно читати поетичні твори, узагальнюват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виховувати  почуття пошани до творчості Лесі Українки, стоїчні риси характеру, прищеплювати інтерес до власної праці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 u="sng">
                <a:solidFill>
                  <a:srgbClr val="ff0000"/>
                </a:solidFill>
                <a:uFillTx/>
                <a:latin typeface="Tahoma"/>
              </a:rPr>
              <a:t>Леся Українка та Маргарита Комарова.1880рі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Rectangle 3" descr="Леся Українка і Маргарита Комарова. 1888 р."/>
          <p:cNvPicPr/>
          <p:nvPr/>
        </p:nvPicPr>
        <p:blipFill>
          <a:blip r:embed="rId2"/>
          <a:stretch/>
        </p:blipFill>
        <p:spPr>
          <a:xfrm>
            <a:off x="3259080" y="1905120"/>
            <a:ext cx="2624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 u="sng">
                <a:solidFill>
                  <a:srgbClr val="ff0000"/>
                </a:solidFill>
                <a:uFillTx/>
                <a:latin typeface="Tahoma"/>
              </a:rPr>
              <a:t>Морське узбережж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Rectangle 3" descr="Одеське узбережжя. Знімок 2. пол. ХІХ ст."/>
          <p:cNvPicPr/>
          <p:nvPr/>
        </p:nvPicPr>
        <p:blipFill>
          <a:blip r:embed="rId2"/>
          <a:stretch/>
        </p:blipFill>
        <p:spPr>
          <a:xfrm>
            <a:off x="2006640" y="2374920"/>
            <a:ext cx="51307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4105440" cy="4321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788000" y="1844640"/>
            <a:ext cx="4105080" cy="42483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Tahoma"/>
              </a:rPr>
              <a:t>ХАДЖИБЕЙСЬКИЙ ПАРК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000" spc="-1" strike="noStrike" u="sng">
                <a:solidFill>
                  <a:srgbClr val="ff0000"/>
                </a:solidFill>
                <a:uFillTx/>
                <a:latin typeface="Tahoma"/>
              </a:rPr>
              <a:t>“</a:t>
            </a:r>
            <a:r>
              <a:rPr b="0" i="1" lang="uk-UA" sz="6000" spc="-1" strike="noStrike" u="sng">
                <a:solidFill>
                  <a:srgbClr val="ff0000"/>
                </a:solidFill>
                <a:uFillTx/>
                <a:latin typeface="Tahoma"/>
              </a:rPr>
              <a:t>Тиша морська”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6" descr="экскурсия 215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 u="sng">
                <a:solidFill>
                  <a:srgbClr val="ff0000"/>
                </a:solidFill>
                <a:uFillTx/>
                <a:latin typeface="Tahoma"/>
              </a:rPr>
              <a:t>В одному з залів музею Лесі Українки у Києві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Rectangle 3" descr=""/>
          <p:cNvPicPr/>
          <p:nvPr/>
        </p:nvPicPr>
        <p:blipFill>
          <a:blip r:embed="rId2"/>
          <a:stretch/>
        </p:blipFill>
        <p:spPr>
          <a:xfrm>
            <a:off x="1187280" y="1963800"/>
            <a:ext cx="61214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Плинь, моя пісне, як хвиля хибкая ,-</a:t>
            </a:r>
            <a:br>
              <a:rPr sz="3600"/>
            </a:b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Вона не питає, куди вона плине;</a:t>
            </a:r>
            <a:br>
              <a:rPr sz="3600"/>
            </a:b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Линь. Моя пісне, як чайка прудкая ,-</a:t>
            </a:r>
            <a:br>
              <a:rPr sz="3600"/>
            </a:b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Вона не боїться, що в морі загине.</a:t>
            </a:r>
            <a:br>
              <a:rPr sz="3600"/>
            </a:b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                              Леся Україн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1. На сьогоднішньому уроці я відкрив (відкрила) для себе…</a:t>
            </a:r>
            <a:br>
              <a:rPr sz="4000"/>
            </a:br>
            <a:br>
              <a:rPr sz="4000"/>
            </a:b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2.Твори Лесі Українки читають і дорослі, і малі, тому що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-57240" y="239544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 u="sng">
                <a:solidFill>
                  <a:srgbClr val="ff0000"/>
                </a:solidFill>
                <a:uFillTx/>
                <a:latin typeface="Tahoma"/>
              </a:rPr>
              <a:t>Домашнє завдання</a:t>
            </a:r>
            <a:br>
              <a:rPr sz="4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Tahoma"/>
              </a:rPr>
              <a:t>Вивчити напам'ять поезію Лесі Українки “Як дитиною, бувало…”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8000" spc="-1" strike="noStrike" u="sng">
                <a:solidFill>
                  <a:srgbClr val="ff3399"/>
                </a:solidFill>
                <a:uFillTx/>
                <a:latin typeface="Tahoma"/>
              </a:rPr>
              <a:t>Дякую за урок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Rectangle 3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7488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Л</a:t>
            </a: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еся Українка</a:t>
            </a:r>
            <a:br>
              <a:rPr sz="4400"/>
            </a:b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(1871 – 1913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5" descr="01"/>
          <p:cNvPicPr/>
          <p:nvPr/>
        </p:nvPicPr>
        <p:blipFill>
          <a:blip r:embed="rId2"/>
          <a:stretch/>
        </p:blipFill>
        <p:spPr>
          <a:xfrm>
            <a:off x="2700360" y="1844640"/>
            <a:ext cx="366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Новоград – Волинський. У цій хаті народилася Леся Українк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6" descr="01"/>
          <p:cNvPicPr/>
          <p:nvPr/>
        </p:nvPicPr>
        <p:blipFill>
          <a:blip r:embed="rId2"/>
          <a:stretch/>
        </p:blipFill>
        <p:spPr>
          <a:xfrm>
            <a:off x="1357200" y="2068560"/>
            <a:ext cx="505944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Батьки Лесі Україн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8" descr="01"/>
          <p:cNvPicPr/>
          <p:nvPr/>
        </p:nvPicPr>
        <p:blipFill>
          <a:blip r:embed="rId2"/>
          <a:stretch/>
        </p:blipFill>
        <p:spPr>
          <a:xfrm>
            <a:off x="368280" y="1557360"/>
            <a:ext cx="3382920" cy="486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01"/>
          <p:cNvPicPr/>
          <p:nvPr/>
        </p:nvPicPr>
        <p:blipFill>
          <a:blip r:embed="rId3"/>
          <a:stretch/>
        </p:blipFill>
        <p:spPr>
          <a:xfrm>
            <a:off x="5219640" y="1557360"/>
            <a:ext cx="34527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Леся</a:t>
            </a:r>
            <a:br>
              <a:rPr sz="4000"/>
            </a:b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фото 1878 – 1879 рр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6" descr="01"/>
          <p:cNvPicPr/>
          <p:nvPr/>
        </p:nvPicPr>
        <p:blipFill>
          <a:blip r:embed="rId2"/>
          <a:stretch/>
        </p:blipFill>
        <p:spPr>
          <a:xfrm>
            <a:off x="2268360" y="1557360"/>
            <a:ext cx="43196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Леся і брат Михайло</a:t>
            </a:r>
            <a:br>
              <a:rPr sz="4000"/>
            </a:b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Фото 1880 – 1881 р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9" descr="01"/>
          <p:cNvPicPr/>
          <p:nvPr/>
        </p:nvPicPr>
        <p:blipFill>
          <a:blip r:embed="rId2"/>
          <a:stretch/>
        </p:blipFill>
        <p:spPr>
          <a:xfrm>
            <a:off x="2050920" y="1700280"/>
            <a:ext cx="496908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1884 р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і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268360" y="1341360"/>
            <a:ext cx="4535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 u="sng">
                <a:solidFill>
                  <a:srgbClr val="ff0000"/>
                </a:solidFill>
                <a:uFillTx/>
                <a:latin typeface="Tahoma"/>
              </a:rPr>
              <a:t>Як дитиною, бувало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692360" y="1484280"/>
            <a:ext cx="57592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2:41:11Z</dcterms:created>
  <dc:creator>www.PHILka.RU</dc:creator>
  <dc:description/>
  <dc:language>en-US</dc:language>
  <cp:lastModifiedBy>www.PHILka.RU</cp:lastModifiedBy>
  <dcterms:modified xsi:type="dcterms:W3CDTF">2013-01-29T22:06:39Z</dcterms:modified>
  <cp:revision>8</cp:revision>
  <dc:subject/>
  <dc:title>Леся Українка (1871 – 1913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0c000000000001024140</vt:lpwstr>
  </property>
</Properties>
</file>