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2BFB-BEC0-4CFB-B568-DEC7832F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7126-0031-4B4D-92BA-64D28D55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22BD-1471-4934-BCCF-DF28367D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C5E3-DF71-478B-A609-D191ED99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6CBD-8904-46D6-A213-8FF79A6B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8132-E1DD-4E9B-A379-2DCA6100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34A2-67FC-460A-AFD0-1CD7D3DB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D63F-24B2-4F6A-973A-4AAF8D8E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059E-72A4-45E2-83F2-45D1194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7BD8-9143-45E2-8AA3-A5160C52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5BEE-87D2-4074-82E4-D7D3E720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4A60-D0EC-4A79-A98B-6996AAE5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41C7-762D-4816-8E16-0C08DC6E6E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 u="sng">
                <a:solidFill>
                  <a:srgbClr val="ff3399"/>
                </a:solidFill>
                <a:uFillTx/>
                <a:latin typeface="Tahoma"/>
              </a:rPr>
              <a:t>Епіграма</a:t>
            </a:r>
            <a:r>
              <a:rPr b="1" lang="uk-UA" sz="72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Tahoma"/>
              </a:rPr>
              <a:t>– злобний вірш, що висміює якусь особу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1844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ahoma"/>
              </a:rPr>
              <a:t>Тема 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: болючі переживання ліричної героїні з приводу власного здоров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'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я .</a:t>
            </a:r>
            <a:br>
              <a:rPr sz="44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Основна думка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: тільки сильна духом людина здатна подолати будь – які труднощі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Епітет</a:t>
            </a:r>
            <a:r>
              <a:rPr b="0" lang="uk-UA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художнє означення,за допомогою якого автор підкреслює певну властивість чи рису зображуваного предмета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Метафора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вживання слів і   словосполучень в непрямому значенні на основі подіб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9600" spc="-1" strike="noStrike" u="sng">
                <a:solidFill>
                  <a:srgbClr val="ff0000"/>
                </a:solidFill>
                <a:uFillTx/>
                <a:latin typeface="Tahoma"/>
              </a:rPr>
              <a:t>Злий жарт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480960"/>
            <a:ext cx="8229600" cy="63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1" lang="uk-UA" sz="9600" spc="-1" strike="noStrike" u="sng">
                <a:solidFill>
                  <a:srgbClr val="ff0000"/>
                </a:solidFill>
                <a:uFillTx/>
                <a:latin typeface="Tahoma"/>
              </a:rPr>
              <a:t>біль доходив”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1915920"/>
            <a:ext cx="8135640" cy="31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1" lang="uk-UA" sz="9600" spc="-1" strike="noStrike" u="sng">
                <a:solidFill>
                  <a:srgbClr val="ff0000"/>
                </a:solidFill>
                <a:uFillTx/>
                <a:latin typeface="Tahoma"/>
              </a:rPr>
              <a:t>епіграма гостра, злобна”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8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1" i="1" lang="uk-UA" sz="8800" spc="-1" strike="noStrike" u="sng">
                <a:solidFill>
                  <a:srgbClr val="ff0000"/>
                </a:solidFill>
                <a:uFillTx/>
                <a:latin typeface="Tahoma"/>
              </a:rPr>
              <a:t>зірватись має… епіграма”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 u="sng">
                <a:solidFill>
                  <a:srgbClr val="ff0000"/>
                </a:solidFill>
                <a:uFillTx/>
                <a:latin typeface="Tahoma"/>
              </a:rPr>
              <a:t>Оперний теат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Rectangle 3" descr="Одеський міський театр. 2 пол. ХІХ ст."/>
          <p:cNvPicPr/>
          <p:nvPr/>
        </p:nvPicPr>
        <p:blipFill>
          <a:blip r:embed="rId2"/>
          <a:stretch/>
        </p:blipFill>
        <p:spPr>
          <a:xfrm>
            <a:off x="2451240" y="2374920"/>
            <a:ext cx="4241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 u="sng">
                <a:solidFill>
                  <a:srgbClr val="ff0000"/>
                </a:solidFill>
                <a:uFillTx/>
                <a:latin typeface="Tahoma"/>
              </a:rPr>
              <a:t>Будинок Комарови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Rectangle 3" descr="Другий поверх будинку на Жуковського, 27, де мешкали Комарови. Сучасний вигляд "/>
          <p:cNvPicPr/>
          <p:nvPr/>
        </p:nvPicPr>
        <p:blipFill>
          <a:blip r:embed="rId2"/>
          <a:stretch/>
        </p:blipFill>
        <p:spPr>
          <a:xfrm>
            <a:off x="2457360" y="2374920"/>
            <a:ext cx="42292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Меморіальна дошка Лесі Українки на вул. Жуковського, 27"/>
          <p:cNvPicPr/>
          <p:nvPr/>
        </p:nvPicPr>
        <p:blipFill>
          <a:blip r:embed="rId2"/>
          <a:stretch/>
        </p:blipFill>
        <p:spPr>
          <a:xfrm>
            <a:off x="2411280" y="2133720"/>
            <a:ext cx="4465800" cy="3952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 u="sng">
                <a:solidFill>
                  <a:srgbClr val="ff0000"/>
                </a:solidFill>
                <a:uFillTx/>
                <a:latin typeface="Tahoma"/>
              </a:rPr>
              <a:t>Меморіальна дош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Тема. Леся Українка. “Як дитиною, бувало…”, “Тиша морська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3860280"/>
            <a:ext cx="777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Мета: ознайомитися із життєвою долею Лесі Українки ( дитинство, роль родини у її вихованні); проаналізувати художні особливості поезій “Як дитиною, бувало…”, “Тиша морська” 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розвивати культуру мовлення, логічне мислення, пам’ять, увагу, уміння виразно читати поетичні твори, узагальнюва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иховувати  почуття пошани до творчості Лесі Українки, стоїчні риси характеру, прищеплювати інтерес до власної прац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 u="sng">
                <a:solidFill>
                  <a:srgbClr val="ff0000"/>
                </a:solidFill>
                <a:uFillTx/>
                <a:latin typeface="Tahoma"/>
              </a:rPr>
              <a:t>Леся Українка та Маргарита Комарова.1880рі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Rectangle 3" descr="Леся Українка і Маргарита Комарова. 1888 р."/>
          <p:cNvPicPr/>
          <p:nvPr/>
        </p:nvPicPr>
        <p:blipFill>
          <a:blip r:embed="rId2"/>
          <a:stretch/>
        </p:blipFill>
        <p:spPr>
          <a:xfrm>
            <a:off x="3259080" y="1905120"/>
            <a:ext cx="262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 u="sng">
                <a:solidFill>
                  <a:srgbClr val="ff0000"/>
                </a:solidFill>
                <a:uFillTx/>
                <a:latin typeface="Tahoma"/>
              </a:rPr>
              <a:t>Морське узбережж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Rectangle 3" descr="Одеське узбережжя. Знімок 2. пол. ХІХ ст."/>
          <p:cNvPicPr/>
          <p:nvPr/>
        </p:nvPicPr>
        <p:blipFill>
          <a:blip r:embed="rId2"/>
          <a:stretch/>
        </p:blipFill>
        <p:spPr>
          <a:xfrm>
            <a:off x="2006640" y="2374920"/>
            <a:ext cx="51307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105440" cy="432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4105080" cy="4248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ahoma"/>
              </a:rPr>
              <a:t>ХАДЖИБЕЙСЬКИЙ ПАР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0" i="1" lang="uk-UA" sz="6000" spc="-1" strike="noStrike" u="sng">
                <a:solidFill>
                  <a:srgbClr val="ff0000"/>
                </a:solidFill>
                <a:uFillTx/>
                <a:latin typeface="Tahoma"/>
              </a:rPr>
              <a:t>Тиша морська”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6" descr="экскурсия 215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 u="sng">
                <a:solidFill>
                  <a:srgbClr val="ff0000"/>
                </a:solidFill>
                <a:uFillTx/>
                <a:latin typeface="Tahoma"/>
              </a:rPr>
              <a:t>В одному з залів музею Лесі Українки у Києв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1187280" y="1963800"/>
            <a:ext cx="61214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Плинь, моя пісне, як хвиля хибкая ,-</a:t>
            </a:r>
            <a:br>
              <a:rPr sz="3600"/>
            </a:b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Вона не питає, куди вона плине;</a:t>
            </a:r>
            <a:br>
              <a:rPr sz="3600"/>
            </a:b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Линь. Моя пісне, як чайка прудкая ,-</a:t>
            </a:r>
            <a:br>
              <a:rPr sz="3600"/>
            </a:b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Вона не боїться, що в морі загине.</a:t>
            </a:r>
            <a:br>
              <a:rPr sz="3600"/>
            </a:b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                              Леся Україн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1. На сьогоднішньому уроці я відкрив (відкрила) для себе…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2.Твори Лесі Українки читають і дорослі, і малі, тому що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-57240" y="23954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 u="sng">
                <a:solidFill>
                  <a:srgbClr val="ff0000"/>
                </a:solidFill>
                <a:uFillTx/>
                <a:latin typeface="Tahoma"/>
              </a:rPr>
              <a:t>Домашнє завдання</a:t>
            </a:r>
            <a:br>
              <a:rPr sz="4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ahoma"/>
              </a:rPr>
              <a:t>Вивчити напам'ять поезію Лесі Українки “Як дитиною, бувало…”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0" spc="-1" strike="noStrike" u="sng">
                <a:solidFill>
                  <a:srgbClr val="ff3399"/>
                </a:solidFill>
                <a:uFillTx/>
                <a:latin typeface="Tahoma"/>
              </a:rPr>
              <a:t>Дякую за урок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488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еся Українка</a:t>
            </a:r>
            <a:br>
              <a:rPr sz="4400"/>
            </a:b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(1871 – 191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01"/>
          <p:cNvPicPr/>
          <p:nvPr/>
        </p:nvPicPr>
        <p:blipFill>
          <a:blip r:embed="rId2"/>
          <a:stretch/>
        </p:blipFill>
        <p:spPr>
          <a:xfrm>
            <a:off x="2700360" y="1844640"/>
            <a:ext cx="366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Новоград – Волинський. У цій хаті народилася Леся Україн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6" descr="01"/>
          <p:cNvPicPr/>
          <p:nvPr/>
        </p:nvPicPr>
        <p:blipFill>
          <a:blip r:embed="rId2"/>
          <a:stretch/>
        </p:blipFill>
        <p:spPr>
          <a:xfrm>
            <a:off x="1357200" y="2068560"/>
            <a:ext cx="5059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Батьки Лесі Україн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8" descr="01"/>
          <p:cNvPicPr/>
          <p:nvPr/>
        </p:nvPicPr>
        <p:blipFill>
          <a:blip r:embed="rId2"/>
          <a:stretch/>
        </p:blipFill>
        <p:spPr>
          <a:xfrm>
            <a:off x="368280" y="1557360"/>
            <a:ext cx="3382920" cy="486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01"/>
          <p:cNvPicPr/>
          <p:nvPr/>
        </p:nvPicPr>
        <p:blipFill>
          <a:blip r:embed="rId3"/>
          <a:stretch/>
        </p:blipFill>
        <p:spPr>
          <a:xfrm>
            <a:off x="5219640" y="1557360"/>
            <a:ext cx="3452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Леся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фото 1878 – 1879 р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6" descr="01"/>
          <p:cNvPicPr/>
          <p:nvPr/>
        </p:nvPicPr>
        <p:blipFill>
          <a:blip r:embed="rId2"/>
          <a:stretch/>
        </p:blipFill>
        <p:spPr>
          <a:xfrm>
            <a:off x="2268360" y="1557360"/>
            <a:ext cx="4319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Леся і брат Михайло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Фото 1880 – 1881 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01"/>
          <p:cNvPicPr/>
          <p:nvPr/>
        </p:nvPicPr>
        <p:blipFill>
          <a:blip r:embed="rId2"/>
          <a:stretch/>
        </p:blipFill>
        <p:spPr>
          <a:xfrm>
            <a:off x="205092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884 р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і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4535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 u="sng">
                <a:solidFill>
                  <a:srgbClr val="ff0000"/>
                </a:solidFill>
                <a:uFillTx/>
                <a:latin typeface="Tahoma"/>
              </a:rPr>
              <a:t>Як дитиною, бувало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759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41:11Z</dcterms:created>
  <dc:creator>www.PHILka.RU</dc:creator>
  <dc:description/>
  <dc:language>en-US</dc:language>
  <cp:lastModifiedBy>www.PHILka.RU</cp:lastModifiedBy>
  <dcterms:modified xsi:type="dcterms:W3CDTF">2013-01-29T22:06:39Z</dcterms:modified>
  <cp:revision>8</cp:revision>
  <dc:subject/>
  <dc:title>Леся Українка (1871 – 1913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c000000000001024140</vt:lpwstr>
  </property>
</Properties>
</file>