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1E8-DC42-43D7-A8BC-A23D6BBF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EFA-9795-458C-91D1-0270616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A66-FA6F-40A1-821E-04872BA4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F86-FA83-4EF2-B6CB-34E9EE89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3C59-7B02-4830-8616-EDC54104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18C8-D70B-4F33-AF05-71C82746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C341-353A-4ADF-A597-ABC0406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62D1-1C23-491F-B159-01460411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1B8F-4DF3-4EE7-9EB7-03DE71D0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EEF3-C8B0-4FF5-8F64-80F19A2F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DA8C-6596-40E4-89DF-BF9F8B1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701-32E2-4396-8064-1CF4CD23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3CC2-57C0-4696-A97A-32328FC0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7518-8097-48F1-A39B-EBE6D7B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9D53-A9F9-45D2-857C-00E5ACF9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4E11-9FFF-4EBE-844B-D26D6A62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AF31-D342-41E6-AC63-083FDF60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5FED-02C9-471A-8712-DF0A3388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F316-97E2-456C-B772-64A57F6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6F66-59BC-4FC8-8620-D9E7DEA5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58B3-4B1A-49E5-BE68-D236F396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BEFF-8B99-48D6-98F6-25A4D40B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1CB-2A0D-48FE-B0A8-801DE546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1D8F-DB3E-4082-A42B-15F900C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95D4-BF57-48C1-8F61-743A3DE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E25E-2C41-4F8C-80C2-F3FA8DE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132C-33BD-48FB-9861-650A47E6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C94D-FE63-4358-A10E-2401113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9ABC-7E98-44C6-89C2-D5D02A61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B3A1-06FC-4075-B8E0-333B0C72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CEF0-8A01-477E-8F2C-DFF6F634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BC42-C08D-4BA8-95D6-68AAE154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4680-7585-4CA3-93E8-5BB993C1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64B-69B7-4544-86EC-55BA6A6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BDC8-37A7-4568-A723-70BD35D9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6854-9C9B-4D5B-9096-BBD4D0DB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FD66-F0D4-454A-BFD1-C32802E4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AE7D-8D49-4B01-8D59-E964DAFE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803E-26DA-49CA-BA29-C6C5B16F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917D-CBA2-4EF9-A7A4-AF95C4BC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C4B1-5CED-48EE-A33D-4CF75201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69F9-F4FD-4274-909B-D46A1368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E1128-7244-4C0E-BD11-DC9671F1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AE8F-B73B-4378-9FB2-2799F1B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068-3B47-409B-AD75-148BCD1D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9B31-A5BE-4320-8E5C-25D76A5D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6CDF4-8A67-4ACC-BDE4-E1E627F5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8E11-4F23-415E-888F-2BAE19E5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35EB-F82D-4A71-A55B-E5FF341C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CC37-A9B9-411B-8BF4-A4D98FC3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60205-A380-4DD9-BF44-65B4D261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CF1A-BBC8-48F0-8C99-86AA913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1354-21C3-46C7-BBDD-29AE7D2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7306-518F-4ACB-9056-79DF15A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3AAB-7608-4AB0-9F2F-F8770ABD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E46-B7A1-47FB-A6B2-84F508B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2DC4-59DA-47AF-8AB2-5435BB4B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60B7D-BBA5-4D4D-A598-0C89CB9D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74FB-3695-45D9-8AE1-CFD657D2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DB3B-8EDB-4EFB-A6CD-2324881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6C4A-4160-44C8-A03F-792FE4D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DFC1-840B-46E3-A5C5-9B987B7C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BFCC2-8984-42E9-A691-3C40901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E1774-DE21-440C-AC4D-CA7B2875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E9D2-A18B-4626-A518-A7084A2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B209-1138-4B1E-9918-F04CB2E9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CE8-F26C-408E-976B-94D2984C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FF52-F900-4880-83FE-66BA696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8248-8205-4DF4-805A-3AA00F0D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EE21D-354A-445A-AD77-4B7AEFFA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F2ED3-07AA-4C27-9EF8-52F0F677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7332-01C6-4C12-96C7-38AB82BF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7AD14-9660-4F80-82A9-5810071E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7E861-1DE6-46FC-A61D-41DE4844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570F-4642-4619-95A2-3E1783D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2959E-B4AA-4B34-B3EC-D98A0F8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7810D-23CF-425A-984C-2AEB88E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CE7-EB66-439C-8257-7AD85A3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BEEC-6649-4A7F-9EEB-919D651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6D3C-8FA0-45D9-8D6D-E7A09173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AF3C0-92A3-4CC9-BC53-9197BE78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F0A95-1811-467E-94BD-6CC3C7A2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F1AF-360E-4764-BBBB-565459D7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5D8-659F-4B1C-A8BE-B938504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E444-8A81-4507-9F66-08968131BDA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52d88"/>
              </a:gs>
              <a:gs pos="100000">
                <a:srgbClr val="8394f7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B47C-4C1F-41EB-AC41-7972CD86D32B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D1B-34E6-4F70-BFDE-1CDC35B94B0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52d88"/>
              </a:gs>
              <a:gs pos="100000">
                <a:srgbClr val="8394f7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4939-9D26-4E98-9919-F6CB22DF287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9FAB-4DBD-4003-9F01-9CE30760CB7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DFF-EA3C-497C-A443-76C76F8D86D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98E7-F642-4726-AE10-04DB73ABAF5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9" descr="C:\Documents and Settings\Admin\Мои документы\Буклети\лебеді22.jpg"/>
          <p:cNvPicPr/>
          <p:nvPr/>
        </p:nvPicPr>
        <p:blipFill>
          <a:blip r:embed="rId1"/>
          <a:stretch/>
        </p:blipFill>
        <p:spPr>
          <a:xfrm>
            <a:off x="82440" y="0"/>
            <a:ext cx="8953560" cy="647856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1"/>
          <p:cNvSpPr/>
          <p:nvPr/>
        </p:nvSpPr>
        <p:spPr>
          <a:xfrm>
            <a:off x="82440" y="266760"/>
            <a:ext cx="68659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ріють крилами з туману лебеді рожеві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иплють ночі у лимани зорі сургучев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глядає в шибу казка сивими очим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атеринська добра ласка в неї за плечима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Василь Симон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395280" y="333360"/>
            <a:ext cx="8137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 Narrow"/>
              </a:rPr>
              <a:t>                     </a:t>
            </a:r>
            <a:r>
              <a:rPr b="1" i="1" lang="uk-UA" sz="4800" spc="-1" strike="noStrike">
                <a:solidFill>
                  <a:srgbClr val="ff0000"/>
                </a:solidFill>
                <a:latin typeface="Arial Narrow"/>
              </a:rPr>
              <a:t>Сенк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Arial Narrow"/>
              </a:rPr>
              <a:t>              </a:t>
            </a:r>
            <a:r>
              <a:rPr b="1" i="1" lang="uk-UA" sz="2400" spc="-1" strike="noStrike">
                <a:solidFill>
                  <a:srgbClr val="c00000"/>
                </a:solidFill>
                <a:latin typeface="Arial Narrow"/>
              </a:rPr>
              <a:t>СХЕМА СКЛАД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1.Що це таке? ( 1 слово – іменник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2.Яке воно? ( 2 слова – прикметник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3.Що воно робить? ( 3 слова – дієслова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4.Як ви до цього ставитесь? ( Речення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5.Як  інакше можна це назват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Documents and Settings\Admin\Мои документы\Буклети\портрет6.jpeg"/>
          <p:cNvPicPr/>
          <p:nvPr/>
        </p:nvPicPr>
        <p:blipFill>
          <a:blip r:embed="rId1"/>
          <a:stretch/>
        </p:blipFill>
        <p:spPr>
          <a:xfrm>
            <a:off x="3494160" y="1571760"/>
            <a:ext cx="2284200" cy="2328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C:\Documents and Settings\Admin\Мои документы\Буклети\книжки1.jpeg"/>
          <p:cNvPicPr/>
          <p:nvPr/>
        </p:nvPicPr>
        <p:blipFill>
          <a:blip r:embed="rId2"/>
          <a:stretch/>
        </p:blipFill>
        <p:spPr>
          <a:xfrm>
            <a:off x="3722760" y="60480"/>
            <a:ext cx="1828800" cy="1428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C:\Documents and Settings\Admin\Рабочий стол\цар\15.jpg"/>
          <p:cNvPicPr/>
          <p:nvPr/>
        </p:nvPicPr>
        <p:blipFill>
          <a:blip r:embed="rId3"/>
          <a:stretch/>
        </p:blipFill>
        <p:spPr>
          <a:xfrm>
            <a:off x="5753160" y="2602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C:\Documents and Settings\Admin\Рабочий стол\цар\21.jpg"/>
          <p:cNvPicPr/>
          <p:nvPr/>
        </p:nvPicPr>
        <p:blipFill>
          <a:blip r:embed="rId4"/>
          <a:stretch/>
        </p:blipFill>
        <p:spPr>
          <a:xfrm rot="20916000">
            <a:off x="5352840" y="4714920"/>
            <a:ext cx="1031760" cy="1693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Documents and Settings\Admin\Рабочий стол\цар\33.jpg"/>
          <p:cNvPicPr/>
          <p:nvPr/>
        </p:nvPicPr>
        <p:blipFill>
          <a:blip r:embed="rId5"/>
          <a:stretch/>
        </p:blipFill>
        <p:spPr>
          <a:xfrm>
            <a:off x="2409840" y="297000"/>
            <a:ext cx="869760" cy="1249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C:\Documents and Settings\Admin\Рабочий стол\цар\34.jpg"/>
          <p:cNvPicPr/>
          <p:nvPr/>
        </p:nvPicPr>
        <p:blipFill>
          <a:blip r:embed="rId6"/>
          <a:stretch/>
        </p:blipFill>
        <p:spPr>
          <a:xfrm>
            <a:off x="371520" y="243000"/>
            <a:ext cx="1763640" cy="2493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C:\Documents and Settings\Admin\Рабочий стол\цар\35.jpg"/>
          <p:cNvPicPr/>
          <p:nvPr/>
        </p:nvPicPr>
        <p:blipFill>
          <a:blip r:embed="rId7"/>
          <a:stretch/>
        </p:blipFill>
        <p:spPr>
          <a:xfrm>
            <a:off x="7099200" y="1420920"/>
            <a:ext cx="1947960" cy="2401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C:\Documents and Settings\Admin\Рабочий стол\цар\36.jpg"/>
          <p:cNvPicPr/>
          <p:nvPr/>
        </p:nvPicPr>
        <p:blipFill>
          <a:blip r:embed="rId8"/>
          <a:stretch/>
        </p:blipFill>
        <p:spPr>
          <a:xfrm rot="393600">
            <a:off x="5735520" y="2680920"/>
            <a:ext cx="1212840" cy="1832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C:\Documents and Settings\Admin\Рабочий стол\цар\16.jpg"/>
          <p:cNvPicPr/>
          <p:nvPr/>
        </p:nvPicPr>
        <p:blipFill>
          <a:blip r:embed="rId9"/>
          <a:stretch/>
        </p:blipFill>
        <p:spPr>
          <a:xfrm>
            <a:off x="6767640" y="3774960"/>
            <a:ext cx="1947600" cy="2805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C:\Documents and Settings\Admin\Рабочий стол\цар\22.jpg"/>
          <p:cNvPicPr/>
          <p:nvPr/>
        </p:nvPicPr>
        <p:blipFill>
          <a:blip r:embed="rId10"/>
          <a:stretch/>
        </p:blipFill>
        <p:spPr>
          <a:xfrm>
            <a:off x="128520" y="3778200"/>
            <a:ext cx="2716200" cy="2714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C:\Documents and Settings\Admin\Рабочий стол\цар\27.jpg"/>
          <p:cNvPicPr/>
          <p:nvPr/>
        </p:nvPicPr>
        <p:blipFill>
          <a:blip r:embed="rId11"/>
          <a:stretch/>
        </p:blipFill>
        <p:spPr>
          <a:xfrm rot="484200">
            <a:off x="3392640" y="3903480"/>
            <a:ext cx="1620720" cy="2706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"/>
          <p:cNvPicPr/>
          <p:nvPr/>
        </p:nvPicPr>
        <p:blipFill>
          <a:blip r:embed="rId12"/>
          <a:stretch/>
        </p:blipFill>
        <p:spPr>
          <a:xfrm rot="248400">
            <a:off x="1963800" y="2166840"/>
            <a:ext cx="119700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7183e6"/>
                </a:solidFill>
                <a:latin typeface="Century Gothic"/>
              </a:rPr>
              <a:t>Домашнє завдання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entury Gothic"/>
              </a:rPr>
              <a:t>На наступний урок</a:t>
            </a: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 – змінити останній розділ казк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entury Gothic"/>
              </a:rPr>
              <a:t>На наступний рік</a:t>
            </a: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 – прочитати якомога більше творів В. Симоненк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entury Gothic"/>
              </a:rPr>
              <a:t>На весь вік</a:t>
            </a: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 – поспішайте творити добр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4fff8"/>
          <p:cNvPicPr/>
          <p:nvPr/>
        </p:nvPicPr>
        <p:blipFill>
          <a:blip r:embed="rId1"/>
          <a:srcRect l="0" t="0" r="-172" b="0"/>
          <a:stretch/>
        </p:blipFill>
        <p:spPr>
          <a:xfrm>
            <a:off x="1908000" y="189000"/>
            <a:ext cx="51181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1042920" y="476280"/>
            <a:ext cx="67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Century Gothic"/>
              </a:rPr>
              <a:t>Тема</a:t>
            </a:r>
            <a:r>
              <a:rPr b="1" lang="uk-UA" sz="2800" spc="-1" strike="noStrike">
                <a:solidFill>
                  <a:srgbClr val="ffffff"/>
                </a:solidFill>
                <a:latin typeface="Century Gothic"/>
              </a:rPr>
              <a:t>. Василь Симонен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Century Gothic"/>
              </a:rPr>
              <a:t>«Цар Плаксій і Лоскот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C:\Documents and Settings\Admin\Мои документы\Буклети\ппортрет 56.jpg"/>
          <p:cNvPicPr/>
          <p:nvPr/>
        </p:nvPicPr>
        <p:blipFill>
          <a:blip r:embed="rId1"/>
          <a:stretch/>
        </p:blipFill>
        <p:spPr>
          <a:xfrm>
            <a:off x="826920" y="2708280"/>
            <a:ext cx="3384720" cy="3673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4fff8"/>
          <p:cNvPicPr/>
          <p:nvPr/>
        </p:nvPicPr>
        <p:blipFill>
          <a:blip r:embed="rId2"/>
          <a:srcRect l="0" t="0" r="-172" b="0"/>
          <a:stretch/>
        </p:blipFill>
        <p:spPr>
          <a:xfrm>
            <a:off x="4710240" y="2205000"/>
            <a:ext cx="29574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C:\Documents and Settings\Admin\Мои документы\Буклети\могила.jpeg"/>
          <p:cNvPicPr/>
          <p:nvPr/>
        </p:nvPicPr>
        <p:blipFill>
          <a:blip r:embed="rId1"/>
          <a:stretch/>
        </p:blipFill>
        <p:spPr>
          <a:xfrm>
            <a:off x="3887640" y="4376880"/>
            <a:ext cx="2094120" cy="1569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Documents and Settings\Admin\Мои документы\Буклети\памятник.jpeg"/>
          <p:cNvPicPr/>
          <p:nvPr/>
        </p:nvPicPr>
        <p:blipFill>
          <a:blip r:embed="rId2"/>
          <a:stretch/>
        </p:blipFill>
        <p:spPr>
          <a:xfrm>
            <a:off x="3816360" y="2746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C:\Documents and Settings\Admin\Мои документы\Буклети\хата симоненко.jpeg"/>
          <p:cNvPicPr/>
          <p:nvPr/>
        </p:nvPicPr>
        <p:blipFill>
          <a:blip r:embed="rId3"/>
          <a:stretch/>
        </p:blipFill>
        <p:spPr>
          <a:xfrm>
            <a:off x="6227640" y="179280"/>
            <a:ext cx="2232000" cy="2028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C:\Documents and Settings\Admin\Мои документы\Буклети\хата 2.jpeg"/>
          <p:cNvPicPr/>
          <p:nvPr/>
        </p:nvPicPr>
        <p:blipFill>
          <a:blip r:embed="rId4"/>
          <a:stretch/>
        </p:blipFill>
        <p:spPr>
          <a:xfrm>
            <a:off x="3436920" y="162000"/>
            <a:ext cx="2592360" cy="2303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C:\Documents and Settings\Admin\Мои документы\Буклети\хата3.jpeg"/>
          <p:cNvPicPr/>
          <p:nvPr/>
        </p:nvPicPr>
        <p:blipFill>
          <a:blip r:embed="rId5"/>
          <a:stretch/>
        </p:blipFill>
        <p:spPr>
          <a:xfrm>
            <a:off x="5292720" y="1571760"/>
            <a:ext cx="1871640" cy="1174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C:\Documents and Settings\Admin\Рабочий стол\цар\23.jpg"/>
          <p:cNvPicPr/>
          <p:nvPr/>
        </p:nvPicPr>
        <p:blipFill>
          <a:blip r:embed="rId6"/>
          <a:stretch/>
        </p:blipFill>
        <p:spPr>
          <a:xfrm>
            <a:off x="6659640" y="2641680"/>
            <a:ext cx="2282760" cy="3508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0" descr="C:\Documents and Settings\Admin\Рабочий стол\цар\24.jpg"/>
          <p:cNvPicPr/>
          <p:nvPr/>
        </p:nvPicPr>
        <p:blipFill>
          <a:blip r:embed="rId7"/>
          <a:srcRect l="0" t="-8836" r="50567" b="-38"/>
          <a:stretch/>
        </p:blipFill>
        <p:spPr>
          <a:xfrm>
            <a:off x="179280" y="214200"/>
            <a:ext cx="3130560" cy="2818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1" descr="C:\Documents and Settings\Admin\Рабочий стол\цар\24.jpg"/>
          <p:cNvPicPr/>
          <p:nvPr/>
        </p:nvPicPr>
        <p:blipFill>
          <a:blip r:embed="rId8"/>
          <a:srcRect l="62600" t="0" r="0" b="814"/>
          <a:stretch/>
        </p:blipFill>
        <p:spPr>
          <a:xfrm>
            <a:off x="297000" y="3443400"/>
            <a:ext cx="3313080" cy="288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C:\Documents and Settings\Admin\Рабочий стол\цар\20.jpg"/>
          <p:cNvPicPr/>
          <p:nvPr/>
        </p:nvPicPr>
        <p:blipFill>
          <a:blip r:embed="rId9"/>
          <a:stretch/>
        </p:blipFill>
        <p:spPr>
          <a:xfrm>
            <a:off x="5227560" y="548172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Admin\Мои документы\Буклети\портрет44.jpg"/>
          <p:cNvPicPr/>
          <p:nvPr/>
        </p:nvPicPr>
        <p:blipFill>
          <a:blip r:embed="rId1"/>
          <a:stretch/>
        </p:blipFill>
        <p:spPr>
          <a:xfrm>
            <a:off x="2190600" y="83664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"/>
          <p:cNvSpPr/>
          <p:nvPr/>
        </p:nvSpPr>
        <p:spPr>
          <a:xfrm>
            <a:off x="1403280" y="3105000"/>
            <a:ext cx="705636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Ти знаєш, що ти Люди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кутник 4" descr=""/>
          <p:cNvPicPr/>
          <p:nvPr/>
        </p:nvPicPr>
        <p:blipFill>
          <a:blip r:embed="rId2"/>
          <a:stretch/>
        </p:blipFill>
        <p:spPr>
          <a:xfrm>
            <a:off x="0" y="-176040"/>
            <a:ext cx="9156600" cy="13888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285840" y="1500120"/>
            <a:ext cx="42148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Плаксі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Автор не люби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отворна зовнішні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Жорстокий і песимістич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нущається з  люд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воєї країни, народ не любить свого волода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5214960" y="1714680"/>
            <a:ext cx="392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Лоско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Автор любить, викликає захоплення в чита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ваблива зовнішні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обр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арує сміх і раді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зраджує у нелегкому житті; люблять люди; визволяю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іклую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4286160" y="2714760"/>
            <a:ext cx="57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Л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І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Д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Е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564000" y="1052280"/>
            <a:ext cx="5472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-336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Century Gothic"/>
              </a:rPr>
              <a:t>життєрадісні, бадьорі люди, твердо вірять в краще майбутнє, в успіх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Усміхнене обличчя 7"/>
          <p:cNvSpPr/>
          <p:nvPr/>
        </p:nvSpPr>
        <p:spPr>
          <a:xfrm>
            <a:off x="428760" y="357120"/>
            <a:ext cx="2857320" cy="27147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Усміхнене обличчя 8"/>
          <p:cNvSpPr/>
          <p:nvPr/>
        </p:nvSpPr>
        <p:spPr>
          <a:xfrm>
            <a:off x="428760" y="3857760"/>
            <a:ext cx="2857320" cy="27144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Прямокутник 5" descr=""/>
          <p:cNvPicPr/>
          <p:nvPr/>
        </p:nvPicPr>
        <p:blipFill>
          <a:blip r:embed="rId1"/>
          <a:stretch/>
        </p:blipFill>
        <p:spPr>
          <a:xfrm>
            <a:off x="3230640" y="-244440"/>
            <a:ext cx="5664240" cy="139068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кутник 6" descr=""/>
          <p:cNvPicPr/>
          <p:nvPr/>
        </p:nvPicPr>
        <p:blipFill>
          <a:blip r:embed="rId2"/>
          <a:stretch/>
        </p:blipFill>
        <p:spPr>
          <a:xfrm>
            <a:off x="3322800" y="3352680"/>
            <a:ext cx="5645160" cy="13906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"/>
          <p:cNvSpPr/>
          <p:nvPr/>
        </p:nvSpPr>
        <p:spPr>
          <a:xfrm>
            <a:off x="4067280" y="43657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ерейняті смутком, безнадією, зневірою в успіх, у краще майбутнє лю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Documents and Settings\Admin\Мои документы\Буклети\Барвінок2.jpg"/>
          <p:cNvPicPr/>
          <p:nvPr/>
        </p:nvPicPr>
        <p:blipFill>
          <a:blip r:embed="rId1"/>
          <a:srcRect l="0" t="0" r="-100" b="-17"/>
          <a:stretch/>
        </p:blipFill>
        <p:spPr>
          <a:xfrm>
            <a:off x="900000" y="404640"/>
            <a:ext cx="727092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250920" y="549360"/>
            <a:ext cx="66070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entury Gothic"/>
              </a:rPr>
              <a:t>Твір «Цар Плаксій і Лоскотон» - казка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entury Gothic"/>
              </a:rPr>
              <a:t>тому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Цар Плаксій і Лоскотон» - каз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uk-UA" sz="4800" spc="-1" strike="noStrike">
                <a:solidFill>
                  <a:srgbClr val="ffffff"/>
                </a:solidFill>
                <a:latin typeface="Century Gothic"/>
              </a:rPr>
              <a:t>ародна чи літературн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C:\Documents and Settings\Admin\Рабочий стол\цар\15.jpg"/>
          <p:cNvPicPr/>
          <p:nvPr/>
        </p:nvPicPr>
        <p:blipFill>
          <a:blip r:embed="rId1"/>
          <a:stretch/>
        </p:blipFill>
        <p:spPr>
          <a:xfrm>
            <a:off x="7269120" y="18900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C:\Documents and Settings\Admin\Рабочий стол\цар\12.jpg"/>
          <p:cNvPicPr/>
          <p:nvPr/>
        </p:nvPicPr>
        <p:blipFill>
          <a:blip r:embed="rId2"/>
          <a:stretch/>
        </p:blipFill>
        <p:spPr>
          <a:xfrm>
            <a:off x="6000840" y="2852640"/>
            <a:ext cx="2857320" cy="35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16:28Z</dcterms:created>
  <dc:creator>Admin</dc:creator>
  <dc:description/>
  <dc:language>en-US</dc:language>
  <cp:lastModifiedBy>Admin</cp:lastModifiedBy>
  <dcterms:modified xsi:type="dcterms:W3CDTF">2013-01-25T08:23:10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c000000000001024140</vt:lpwstr>
  </property>
</Properties>
</file>