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B29-14C2-4A67-B6F8-EDE9D9FD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6CF-1B51-4AC8-B40E-2D1AB0F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8E9-5D7F-4451-9EE1-01009465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0E9-D2CE-41A3-8AA0-16D8E152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4565-BD53-46EC-AA51-1138264C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1246-B2BC-4B21-B1BB-B8F85E44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A8DD-4D47-4CC4-A203-659FEFB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5B0-6DA9-419F-9216-641A0A2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7A48-EB4B-465F-9815-DCE2F488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72F3-6B7A-495E-9DC7-8A0F0653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A904-AB84-4994-97F7-44306A7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E26-9ED5-4D00-92D9-86E46E9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FD81-B7A5-4127-A079-70B860B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A26D-11A3-4433-8270-2070C9F9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411E-CFE0-4232-980C-20B844AF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6D6E-E75C-40F6-8055-A9AE1A8D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186-54D5-476B-BD10-EA447F51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5026-2FFF-40DD-BED8-15368D8D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C5D9-6075-44B2-AFBF-E29F0A11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0AA8E-39B9-47CF-84BC-11D433CA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BCC8-D5E8-40A3-BFEA-3C02F5B3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130E-E165-43D2-8BCF-8F3C0512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437-BDE3-4C9E-BE26-FEB68ED2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1F27-119A-4A6C-AC6C-88D8D729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9C409-C2B6-4DF6-BB79-CD74A00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1454-FC9A-48F3-83C0-01C7926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A380-F4AD-4015-830A-A593505C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E966-C8CC-44DA-B092-848D5405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0F72A-7EC7-4C34-88E1-E139B949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0F1F-40F1-4541-933D-F43E03BA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D45D-21ED-4346-859B-D66ED798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154B-A339-453B-8D22-92903544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5403-1616-4CEA-817B-6E7432A7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D74-577B-4465-A871-FF370829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D55F-B6E1-480D-8A26-D78C629B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7CB6-CF4E-4455-A312-FB3803E3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9B73-9DB4-4499-8B41-4E4485FF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BC89-12B5-41EC-B8CB-7636B4D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9694-D3FB-4192-A48E-316A260F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2AA54-33F9-4C42-BD2D-A02486C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84C4-36F0-4074-BA9E-98976722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303D8-BFA8-4360-8389-045E0704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7574-F619-493C-9FDA-FE4392A2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837B3-899D-42A1-85C8-662B94EF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D40-7667-413E-AA54-ADE4267A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4DBC5-C290-4D10-AC44-B9288C8F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A9844-A7CA-4E29-BEA7-5DA518E8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D3B62-BB8D-4742-B5AB-D7D67CFF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6D3A2-09B2-4596-88DB-A6D2ED83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E177-9E8A-4947-BDFA-9050116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F03B8-0559-498E-AA4D-22E5686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E75BB-A439-4163-A9B3-0E86D86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D8EC0-6D2C-4C47-8231-6DA8224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4D1CD-9159-4F9E-95E0-3B020DD7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CFEAF-4CCF-40EB-89E5-E941760E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80A-E66B-48D5-AA4A-8085CA44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BE24-2E76-4A78-895A-49613527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5D6F1-A770-4C29-9E3A-4D5B43A1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9A96-3088-4B4E-98E1-67545112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09BEA-449B-43E9-B7DD-BD58556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E92D2-2BE8-44AE-8D19-25E891BE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CF3C-C4B7-4A0F-8F93-276C81C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EBDC7-D490-4715-A11F-014A9EB3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585B8-3B03-4CB2-A1C3-33A1DF1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EAFB9-DA31-4BA7-8313-E9E5455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5D108-9749-4790-BFF1-F56DF4F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4F7-7C59-4A2D-BED8-071AD06F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90247-7A5B-44B4-9896-5451249E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0564F-7DC0-42BD-9200-E2485D79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C1001-4C52-45B8-9785-34EA2288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8582F-B4B7-474D-A990-B960A972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7668A-3BB3-430B-93D6-7E4A8A4F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C4449-02E3-476C-A371-5A919DD7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3215F-DE17-4511-998B-81B69255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1BC3C-68DF-4001-B82C-3105B81F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E3A61-6A79-44F9-90FF-A9D92538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2C2BE-7300-46DA-AFC7-AF22447E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48E-2F57-4E68-8B9A-1DEBE41B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03D1-A700-4CFB-9C2A-3266DEC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1ECC6-B7F8-41A3-994C-97039E2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02BE6-17EB-4511-9EA1-2F918549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EF970-3886-49B0-A450-BC746B97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DF40C-999C-4956-AB5E-3F8985C8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286-B5E8-4437-BD95-65808D18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4dcfa">
                  <a:alpha val="1176"/>
                </a:srgbClr>
              </a:gs>
              <a:gs pos="100000">
                <a:srgbClr val="b4dc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2b3b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bbcc2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E947-55AE-4F1B-A90A-886443D89B9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4dcfa">
                  <a:alpha val="1176"/>
                </a:srgbClr>
              </a:gs>
              <a:gs pos="100000">
                <a:srgbClr val="b4dc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2b3b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bbcc2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52d88"/>
              </a:gs>
              <a:gs pos="100000">
                <a:srgbClr val="8394f7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2912-8AD4-4AD0-A5AC-70BAB536687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4dcfa">
                  <a:alpha val="1176"/>
                </a:srgbClr>
              </a:gs>
              <a:gs pos="100000">
                <a:srgbClr val="b4dc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2b3b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bbcc2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0D21-2E71-499B-96F0-0BC67E85D21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b4dcfa">
                  <a:alpha val="1176"/>
                </a:srgbClr>
              </a:gs>
              <a:gs pos="100000">
                <a:srgbClr val="b4dcfa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52d88"/>
              </a:gs>
              <a:gs pos="100000">
                <a:srgbClr val="8394f7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bbcc2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2b3b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7C36-65DD-45FF-8A97-9E7BCD6D172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DC5A-D143-4C6D-BEBA-21DC606264F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E689-0362-4123-B75B-D94A223D4AEF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183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e67c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6a0d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6765-833D-4E50-B619-B8F5D0D04F0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9" descr="C:\Documents and Settings\Admin\Мои документы\Буклети\лебеді22.jpg"/>
          <p:cNvPicPr/>
          <p:nvPr/>
        </p:nvPicPr>
        <p:blipFill>
          <a:blip r:embed="rId1"/>
          <a:stretch/>
        </p:blipFill>
        <p:spPr>
          <a:xfrm>
            <a:off x="82440" y="0"/>
            <a:ext cx="8953560" cy="647856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1"/>
          <p:cNvSpPr/>
          <p:nvPr/>
        </p:nvSpPr>
        <p:spPr>
          <a:xfrm>
            <a:off x="82440" y="266760"/>
            <a:ext cx="68659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ріють крилами з туману лебеді рожеві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иплють ночі у лимани зорі сургучев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глядає в шибу казка сивими очим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атеринська добра ласка в неї за плечима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Василь Симон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395280" y="333360"/>
            <a:ext cx="8137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 Narrow"/>
              </a:rPr>
              <a:t>                     </a:t>
            </a:r>
            <a:r>
              <a:rPr b="1" i="1" lang="uk-UA" sz="4800" spc="-1" strike="noStrike">
                <a:solidFill>
                  <a:srgbClr val="ff0000"/>
                </a:solidFill>
                <a:latin typeface="Arial Narrow"/>
              </a:rPr>
              <a:t>Сенка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Arial Narrow"/>
              </a:rPr>
              <a:t>              </a:t>
            </a:r>
            <a:r>
              <a:rPr b="1" i="1" lang="uk-UA" sz="2400" spc="-1" strike="noStrike">
                <a:solidFill>
                  <a:srgbClr val="c00000"/>
                </a:solidFill>
                <a:latin typeface="Arial Narrow"/>
              </a:rPr>
              <a:t>СХЕМА СКЛАД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1.Що це таке? ( 1 слово – іменник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2.Яке воно? ( 2 слова – прикметники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3.Що воно робить? ( 3 слова – дієслова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4.Як ви до цього ставитесь? ( Речення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fadf3"/>
                </a:solidFill>
                <a:latin typeface="Arial Narrow"/>
              </a:rPr>
              <a:t>5.Як  інакше можна це назват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Documents and Settings\Admin\Мои документы\Буклети\портрет6.jpeg"/>
          <p:cNvPicPr/>
          <p:nvPr/>
        </p:nvPicPr>
        <p:blipFill>
          <a:blip r:embed="rId1"/>
          <a:stretch/>
        </p:blipFill>
        <p:spPr>
          <a:xfrm>
            <a:off x="3494160" y="1571760"/>
            <a:ext cx="2284200" cy="2328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C:\Documents and Settings\Admin\Мои документы\Буклети\книжки1.jpeg"/>
          <p:cNvPicPr/>
          <p:nvPr/>
        </p:nvPicPr>
        <p:blipFill>
          <a:blip r:embed="rId2"/>
          <a:stretch/>
        </p:blipFill>
        <p:spPr>
          <a:xfrm>
            <a:off x="3722760" y="60480"/>
            <a:ext cx="1828800" cy="1428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C:\Documents and Settings\Admin\Рабочий стол\цар\15.jpg"/>
          <p:cNvPicPr/>
          <p:nvPr/>
        </p:nvPicPr>
        <p:blipFill>
          <a:blip r:embed="rId3"/>
          <a:stretch/>
        </p:blipFill>
        <p:spPr>
          <a:xfrm>
            <a:off x="5753160" y="2602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C:\Documents and Settings\Admin\Рабочий стол\цар\21.jpg"/>
          <p:cNvPicPr/>
          <p:nvPr/>
        </p:nvPicPr>
        <p:blipFill>
          <a:blip r:embed="rId4"/>
          <a:stretch/>
        </p:blipFill>
        <p:spPr>
          <a:xfrm rot="20916000">
            <a:off x="5352840" y="4714920"/>
            <a:ext cx="1031760" cy="1693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C:\Documents and Settings\Admin\Рабочий стол\цар\33.jpg"/>
          <p:cNvPicPr/>
          <p:nvPr/>
        </p:nvPicPr>
        <p:blipFill>
          <a:blip r:embed="rId5"/>
          <a:stretch/>
        </p:blipFill>
        <p:spPr>
          <a:xfrm>
            <a:off x="2409840" y="297000"/>
            <a:ext cx="869760" cy="1249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C:\Documents and Settings\Admin\Рабочий стол\цар\34.jpg"/>
          <p:cNvPicPr/>
          <p:nvPr/>
        </p:nvPicPr>
        <p:blipFill>
          <a:blip r:embed="rId6"/>
          <a:stretch/>
        </p:blipFill>
        <p:spPr>
          <a:xfrm>
            <a:off x="371520" y="243000"/>
            <a:ext cx="1763640" cy="2493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C:\Documents and Settings\Admin\Рабочий стол\цар\35.jpg"/>
          <p:cNvPicPr/>
          <p:nvPr/>
        </p:nvPicPr>
        <p:blipFill>
          <a:blip r:embed="rId7"/>
          <a:stretch/>
        </p:blipFill>
        <p:spPr>
          <a:xfrm>
            <a:off x="7099200" y="1420920"/>
            <a:ext cx="1947960" cy="2401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C:\Documents and Settings\Admin\Рабочий стол\цар\36.jpg"/>
          <p:cNvPicPr/>
          <p:nvPr/>
        </p:nvPicPr>
        <p:blipFill>
          <a:blip r:embed="rId8"/>
          <a:stretch/>
        </p:blipFill>
        <p:spPr>
          <a:xfrm rot="393600">
            <a:off x="5735520" y="2680920"/>
            <a:ext cx="1212840" cy="1832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C:\Documents and Settings\Admin\Рабочий стол\цар\16.jpg"/>
          <p:cNvPicPr/>
          <p:nvPr/>
        </p:nvPicPr>
        <p:blipFill>
          <a:blip r:embed="rId9"/>
          <a:stretch/>
        </p:blipFill>
        <p:spPr>
          <a:xfrm>
            <a:off x="6767640" y="3774960"/>
            <a:ext cx="1947600" cy="2805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C:\Documents and Settings\Admin\Рабочий стол\цар\22.jpg"/>
          <p:cNvPicPr/>
          <p:nvPr/>
        </p:nvPicPr>
        <p:blipFill>
          <a:blip r:embed="rId10"/>
          <a:stretch/>
        </p:blipFill>
        <p:spPr>
          <a:xfrm>
            <a:off x="128520" y="3778200"/>
            <a:ext cx="2716200" cy="2714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8" descr="C:\Documents and Settings\Admin\Рабочий стол\цар\27.jpg"/>
          <p:cNvPicPr/>
          <p:nvPr/>
        </p:nvPicPr>
        <p:blipFill>
          <a:blip r:embed="rId11"/>
          <a:stretch/>
        </p:blipFill>
        <p:spPr>
          <a:xfrm rot="484200">
            <a:off x="3392640" y="3903480"/>
            <a:ext cx="1620720" cy="2706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"/>
          <p:cNvPicPr/>
          <p:nvPr/>
        </p:nvPicPr>
        <p:blipFill>
          <a:blip r:embed="rId12"/>
          <a:stretch/>
        </p:blipFill>
        <p:spPr>
          <a:xfrm rot="248400">
            <a:off x="1963800" y="2166840"/>
            <a:ext cx="119700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7183e6"/>
                </a:solidFill>
                <a:latin typeface="Century Gothic"/>
              </a:rPr>
              <a:t>Домашнє завдання</a:t>
            </a:r>
            <a:endParaRPr b="0" lang="en-US" sz="4200" spc="-1" strike="noStrike">
              <a:solidFill>
                <a:srgbClr val="7183e6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entury Gothic"/>
              </a:rPr>
              <a:t>На наступний урок</a:t>
            </a: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 – змінити останній розділ казк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entury Gothic"/>
              </a:rPr>
              <a:t>На наступний рік</a:t>
            </a: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 – прочитати якомога більше творів В. Симоненк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entury Gothic"/>
              </a:rPr>
              <a:t>На весь вік</a:t>
            </a: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 – поспішайте творити добр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5" descr="4fff8"/>
          <p:cNvPicPr/>
          <p:nvPr/>
        </p:nvPicPr>
        <p:blipFill>
          <a:blip r:embed="rId1"/>
          <a:srcRect l="0" t="0" r="-172" b="0"/>
          <a:stretch/>
        </p:blipFill>
        <p:spPr>
          <a:xfrm>
            <a:off x="1908000" y="189000"/>
            <a:ext cx="51181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1042920" y="476280"/>
            <a:ext cx="67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Century Gothic"/>
              </a:rPr>
              <a:t>Тема</a:t>
            </a:r>
            <a:r>
              <a:rPr b="1" lang="uk-UA" sz="2800" spc="-1" strike="noStrike">
                <a:solidFill>
                  <a:srgbClr val="ffffff"/>
                </a:solidFill>
                <a:latin typeface="Century Gothic"/>
              </a:rPr>
              <a:t>. Василь Симонен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Century Gothic"/>
              </a:rPr>
              <a:t>«Цар Плаксій і Лоското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C:\Documents and Settings\Admin\Мои документы\Буклети\ппортрет 56.jpg"/>
          <p:cNvPicPr/>
          <p:nvPr/>
        </p:nvPicPr>
        <p:blipFill>
          <a:blip r:embed="rId1"/>
          <a:stretch/>
        </p:blipFill>
        <p:spPr>
          <a:xfrm>
            <a:off x="826920" y="2708280"/>
            <a:ext cx="3384720" cy="3673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4fff8"/>
          <p:cNvPicPr/>
          <p:nvPr/>
        </p:nvPicPr>
        <p:blipFill>
          <a:blip r:embed="rId2"/>
          <a:srcRect l="0" t="0" r="-172" b="0"/>
          <a:stretch/>
        </p:blipFill>
        <p:spPr>
          <a:xfrm>
            <a:off x="4710240" y="2205000"/>
            <a:ext cx="29574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5" descr="C:\Documents and Settings\Admin\Мои документы\Буклети\могила.jpeg"/>
          <p:cNvPicPr/>
          <p:nvPr/>
        </p:nvPicPr>
        <p:blipFill>
          <a:blip r:embed="rId1"/>
          <a:stretch/>
        </p:blipFill>
        <p:spPr>
          <a:xfrm>
            <a:off x="3887640" y="4376880"/>
            <a:ext cx="2094120" cy="1569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Documents and Settings\Admin\Мои документы\Буклети\памятник.jpeg"/>
          <p:cNvPicPr/>
          <p:nvPr/>
        </p:nvPicPr>
        <p:blipFill>
          <a:blip r:embed="rId2"/>
          <a:stretch/>
        </p:blipFill>
        <p:spPr>
          <a:xfrm>
            <a:off x="3816360" y="2746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C:\Documents and Settings\Admin\Мои документы\Буклети\хата симоненко.jpeg"/>
          <p:cNvPicPr/>
          <p:nvPr/>
        </p:nvPicPr>
        <p:blipFill>
          <a:blip r:embed="rId3"/>
          <a:stretch/>
        </p:blipFill>
        <p:spPr>
          <a:xfrm>
            <a:off x="6227640" y="179280"/>
            <a:ext cx="2232000" cy="2028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C:\Documents and Settings\Admin\Мои документы\Буклети\хата 2.jpeg"/>
          <p:cNvPicPr/>
          <p:nvPr/>
        </p:nvPicPr>
        <p:blipFill>
          <a:blip r:embed="rId4"/>
          <a:stretch/>
        </p:blipFill>
        <p:spPr>
          <a:xfrm>
            <a:off x="3436920" y="162000"/>
            <a:ext cx="2592360" cy="2303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C:\Documents and Settings\Admin\Мои документы\Буклети\хата3.jpeg"/>
          <p:cNvPicPr/>
          <p:nvPr/>
        </p:nvPicPr>
        <p:blipFill>
          <a:blip r:embed="rId5"/>
          <a:stretch/>
        </p:blipFill>
        <p:spPr>
          <a:xfrm>
            <a:off x="5292720" y="1571760"/>
            <a:ext cx="1871640" cy="1174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C:\Documents and Settings\Admin\Рабочий стол\цар\23.jpg"/>
          <p:cNvPicPr/>
          <p:nvPr/>
        </p:nvPicPr>
        <p:blipFill>
          <a:blip r:embed="rId6"/>
          <a:stretch/>
        </p:blipFill>
        <p:spPr>
          <a:xfrm>
            <a:off x="6659640" y="2641680"/>
            <a:ext cx="2282760" cy="35082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0" descr="C:\Documents and Settings\Admin\Рабочий стол\цар\24.jpg"/>
          <p:cNvPicPr/>
          <p:nvPr/>
        </p:nvPicPr>
        <p:blipFill>
          <a:blip r:embed="rId7"/>
          <a:srcRect l="0" t="-8836" r="50567" b="-38"/>
          <a:stretch/>
        </p:blipFill>
        <p:spPr>
          <a:xfrm>
            <a:off x="179280" y="214200"/>
            <a:ext cx="3130560" cy="2818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1" descr="C:\Documents and Settings\Admin\Рабочий стол\цар\24.jpg"/>
          <p:cNvPicPr/>
          <p:nvPr/>
        </p:nvPicPr>
        <p:blipFill>
          <a:blip r:embed="rId8"/>
          <a:srcRect l="62600" t="0" r="0" b="814"/>
          <a:stretch/>
        </p:blipFill>
        <p:spPr>
          <a:xfrm>
            <a:off x="297000" y="3443400"/>
            <a:ext cx="3313080" cy="2881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C:\Documents and Settings\Admin\Рабочий стол\цар\20.jpg"/>
          <p:cNvPicPr/>
          <p:nvPr/>
        </p:nvPicPr>
        <p:blipFill>
          <a:blip r:embed="rId9"/>
          <a:stretch/>
        </p:blipFill>
        <p:spPr>
          <a:xfrm>
            <a:off x="5227560" y="548172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Documents and Settings\Admin\Мои документы\Буклети\портрет44.jpg"/>
          <p:cNvPicPr/>
          <p:nvPr/>
        </p:nvPicPr>
        <p:blipFill>
          <a:blip r:embed="rId1"/>
          <a:stretch/>
        </p:blipFill>
        <p:spPr>
          <a:xfrm>
            <a:off x="2190600" y="83664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1"/>
          <p:cNvSpPr/>
          <p:nvPr/>
        </p:nvSpPr>
        <p:spPr>
          <a:xfrm>
            <a:off x="1403280" y="3105000"/>
            <a:ext cx="705636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Ти знаєш, що ти Люди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кутник 4" descr=""/>
          <p:cNvPicPr/>
          <p:nvPr/>
        </p:nvPicPr>
        <p:blipFill>
          <a:blip r:embed="rId2"/>
          <a:stretch/>
        </p:blipFill>
        <p:spPr>
          <a:xfrm>
            <a:off x="0" y="-176040"/>
            <a:ext cx="9156600" cy="13888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285840" y="1500120"/>
            <a:ext cx="42148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Плаксі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Автор не люби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отворна зовнішні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Жорстокий і песимістич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нущається з  люд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воєї країни, народ не любить свого волода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5214960" y="1714680"/>
            <a:ext cx="392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Лоско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Автор любить, викликає захоплення в чита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иваблива зовнішні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обр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арує сміх і раді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зраджує у нелегкому житті; люблять люди; визволяю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іклую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4286160" y="2714760"/>
            <a:ext cx="57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Л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І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Д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Е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Р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564000" y="1052280"/>
            <a:ext cx="5472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-336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Century Gothic"/>
              </a:rPr>
              <a:t>життєрадісні, бадьорі люди, твердо вірять в краще майбутнє, в успіх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Усміхнене обличчя 7"/>
          <p:cNvSpPr/>
          <p:nvPr/>
        </p:nvSpPr>
        <p:spPr>
          <a:xfrm>
            <a:off x="428760" y="357120"/>
            <a:ext cx="2857320" cy="27147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Усміхнене обличчя 8"/>
          <p:cNvSpPr/>
          <p:nvPr/>
        </p:nvSpPr>
        <p:spPr>
          <a:xfrm>
            <a:off x="428760" y="3857760"/>
            <a:ext cx="2857320" cy="27144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Прямокутник 5" descr=""/>
          <p:cNvPicPr/>
          <p:nvPr/>
        </p:nvPicPr>
        <p:blipFill>
          <a:blip r:embed="rId1"/>
          <a:stretch/>
        </p:blipFill>
        <p:spPr>
          <a:xfrm>
            <a:off x="3230640" y="-244440"/>
            <a:ext cx="5664240" cy="139068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кутник 6" descr=""/>
          <p:cNvPicPr/>
          <p:nvPr/>
        </p:nvPicPr>
        <p:blipFill>
          <a:blip r:embed="rId2"/>
          <a:stretch/>
        </p:blipFill>
        <p:spPr>
          <a:xfrm>
            <a:off x="3322800" y="3352680"/>
            <a:ext cx="5645160" cy="139068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7"/>
          <p:cNvSpPr/>
          <p:nvPr/>
        </p:nvSpPr>
        <p:spPr>
          <a:xfrm>
            <a:off x="4067280" y="436572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ерейняті смутком, безнадією, зневірою в успіх, у краще майбутнє лю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C:\Documents and Settings\Admin\Мои документы\Буклети\Барвінок2.jpg"/>
          <p:cNvPicPr/>
          <p:nvPr/>
        </p:nvPicPr>
        <p:blipFill>
          <a:blip r:embed="rId1"/>
          <a:srcRect l="0" t="0" r="-100" b="-17"/>
          <a:stretch/>
        </p:blipFill>
        <p:spPr>
          <a:xfrm>
            <a:off x="900000" y="404640"/>
            <a:ext cx="7270920" cy="58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e40"/>
            </a:gs>
            <a:gs pos="100000">
              <a:srgbClr val="5f65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250920" y="549360"/>
            <a:ext cx="66070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entury Gothic"/>
              </a:rPr>
              <a:t>Твір «Цар Плаксій і Лоскотон» - казка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entury Gothic"/>
              </a:rPr>
              <a:t>тому що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Цар Плаксій і Лоскотон» - каз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uk-UA" sz="4800" spc="-1" strike="noStrike">
                <a:solidFill>
                  <a:srgbClr val="ffffff"/>
                </a:solidFill>
                <a:latin typeface="Century Gothic"/>
              </a:rPr>
              <a:t>ародна чи літературн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C:\Documents and Settings\Admin\Рабочий стол\цар\15.jpg"/>
          <p:cNvPicPr/>
          <p:nvPr/>
        </p:nvPicPr>
        <p:blipFill>
          <a:blip r:embed="rId1"/>
          <a:stretch/>
        </p:blipFill>
        <p:spPr>
          <a:xfrm>
            <a:off x="7269120" y="18900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C:\Documents and Settings\Admin\Рабочий стол\цар\12.jpg"/>
          <p:cNvPicPr/>
          <p:nvPr/>
        </p:nvPicPr>
        <p:blipFill>
          <a:blip r:embed="rId2"/>
          <a:stretch/>
        </p:blipFill>
        <p:spPr>
          <a:xfrm>
            <a:off x="6000840" y="2852640"/>
            <a:ext cx="2857320" cy="35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16:28Z</dcterms:created>
  <dc:creator>Admin</dc:creator>
  <dc:description/>
  <dc:language>en-US</dc:language>
  <cp:lastModifiedBy>Admin</cp:lastModifiedBy>
  <dcterms:modified xsi:type="dcterms:W3CDTF">2013-01-25T08:23:10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c000000000001024140</vt:lpwstr>
  </property>
</Properties>
</file>