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38D-8481-495E-A07D-19E895BF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99C-9D6C-4E6C-B431-FCD7D03A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FC3-61FE-41AB-86F5-560DA4C5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A5D-8E26-4A03-AACC-9C328721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D54C-4F22-4121-AF89-8B184F41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D467-A1BC-44BA-BF8A-E8DC58C3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3B03-D951-48C7-854B-42C55F2B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3E96-1B19-4378-886B-8763523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8DEE-D115-48B7-AB3D-309DBDC2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5C9C-4D97-4D37-A301-83DDD915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9BDC-FC97-49F9-94EE-37F8A28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18C-4E24-4A01-8A2E-E16593FC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49B8-3CE7-4ABD-8746-9AAC5257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70DE-CBCB-4ECB-BC8A-C14C1EDE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B891-3663-470D-9AA7-09F21C14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FD24-F54F-4B75-97E0-2D062A85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434D-E94F-41BF-9DE3-2E1E788A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4E6-1AEB-4C1B-B382-97EA27C5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F09-2BAE-4141-A32D-2DABFC22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4E9-54CF-4FDE-B96F-7265780B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0DA-95A9-44E6-B89D-5AD1C76C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9B6-2980-400D-848C-CEDA18A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269-B478-4B90-9C84-4C7520EA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761-9312-43CC-AD1E-30DADD4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351F-849B-4106-A47E-263B9FF5EE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F771-5BDC-483A-8B69-9F961C27B73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304920"/>
            <a:ext cx="785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Урок-презентац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Georgia"/>
              </a:rPr>
              <a:t>        “</a:t>
            </a:r>
            <a:r>
              <a:rPr b="1" i="1" lang="uk-UA" sz="3200" spc="-1" strike="noStrike">
                <a:solidFill>
                  <a:srgbClr val="ffffff"/>
                </a:solidFill>
                <a:latin typeface="Georgia"/>
              </a:rPr>
              <a:t>Світлий образ жінки-матер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Georgia"/>
              </a:rPr>
              <a:t>в поезії Т.Г. Шевченка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038400" cy="3857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46800" y="5249880"/>
            <a:ext cx="184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иконавец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23120" y="4106880"/>
            <a:ext cx="18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280" y="5929200"/>
            <a:ext cx="687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Донецька загальноосвітня школа І-Ш ступенів № 83 імені Г.І.Балан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Учитель української мови та літератури Івахно Ірина Анатолії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38088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Малюнок  за  уявлення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думати і розказати, якою квіткою ви уявляєте свою маму і чому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2666880" cy="385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2895480" cy="3857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095880" y="1828800"/>
            <a:ext cx="2819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247680"/>
            <a:ext cx="82296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машн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є завд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Обов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язкове:</a:t>
            </a:r>
            <a:r>
              <a:rPr b="1" i="1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аписати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твір на одну з пропанованих учителем тем (на вибі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За бажанням: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амалювати портрети героїв обраного твору.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609480"/>
            <a:ext cx="7696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І перед нею помолю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Мов перед образом свят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Тієї матері святої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Т.Г.Ш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евченко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І на оновленій земл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Врага не буде, супоста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А буде син, і буде ма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І будуть люде на землі.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Т.Г.Шевчен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07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533520"/>
            <a:ext cx="7772400" cy="60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Матуся, доб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То від тебе світл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Усе, що маю,- із твоїх плеч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Якщо я нині щось у світі знач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То це твоє терпіння незем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Ганна Чубач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Я – жін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Я – мат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Запалена Бог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Одвічна св0і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Я -  все-таки силь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Я – щось-таки знач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Я світ цей див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расивим дит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Ганна Чуба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31053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57800" y="228600"/>
            <a:ext cx="35622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Все упованіє моє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На тебе, мій пресвітлий ра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На милосердіє твоє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Все упованіє мо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На тебе, мати, возлага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Святая сила всіх святи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Пренепорочная блага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Молюся, плачу і ридаю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Возри, пречистая, на ї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Отих окрадених, сліп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Невольників. Подай їм си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Твойого мученика си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Щоб хрест-кайдани донес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До самго, самого кра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Достойнопітая! Благаю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Царице неба і землі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Вонми їх стону і пош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Благий кінець, о всеблага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А я, незлобний, воспо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Як процвітуть убогі сел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Псалмом і тихим, і весели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Святую доленьку тво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А нині плач, і скорбь, і сльоз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Душі убогої – убогі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Останню лепту пода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67040" y="905040"/>
            <a:ext cx="50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обота в парах  - “Кубування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38520" cy="3857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17040" y="1717560"/>
            <a:ext cx="458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1. Як би ви прослідкув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олю головної героїні 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балади Т.Шевч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ополя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2. Чи була щасливою д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героїні поеми “Сова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3810240" cy="5410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8680" y="609480"/>
            <a:ext cx="33264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 діброві вітер виє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уляє по пол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рай дороги гне топол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 самого до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тан високий, лист широ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арне зеленіє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ругом поле, як те м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Широке, синіє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умак іде, поди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 й голову схил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абан вранці з сопілко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яде на могил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ивиться — серце ниє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ругом ні бил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дна, одна, як си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 чужині, гин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73392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990720"/>
            <a:ext cx="4343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Катерина … Кохання її світле, щаслив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піднесене. Кохання окрилює її. Вона впевнена в щасливому майбутньому, тому що вірить у порядність людей. А чи можемо ми назвати Катерину і Тополю сестрам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- Які риси характеру Катерини спільні з рисами дівчини-тополі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Але Катерина переживає трагедію не тільки закоханої жінки, а й трагедію матері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- Який епізод ви вважаєте найдрама-тичніши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- Які слова при цьому вживає мат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Назвіть ї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- Для чого автор вживає пестливі слов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- Чому мати виганяє Катерину з дом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- Які почуття викликають у вас дві матері: мати Катерини і Катерина-мати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8560" y="152280"/>
            <a:ext cx="573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uk-UA" sz="3200" spc="-1" strike="noStrike">
                <a:solidFill>
                  <a:srgbClr val="ffffff"/>
                </a:solidFill>
                <a:latin typeface="Monotype Corsiva"/>
              </a:rPr>
              <a:t>Бесіда за змістом твор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24280" cy="4505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&amp;Ncy;&amp;acy;&amp;jcy;&amp;mcy;&amp;ycy;&amp;chcy;&amp;kcy;&amp;acy;_8 (250x339, 21 Kb)"/>
          <p:cNvPicPr/>
          <p:nvPr/>
        </p:nvPicPr>
        <p:blipFill>
          <a:blip r:embed="rId2"/>
          <a:stretch/>
        </p:blipFill>
        <p:spPr>
          <a:xfrm>
            <a:off x="609480" y="2438280"/>
            <a:ext cx="3048120" cy="3962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040" y="208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33520"/>
            <a:ext cx="3429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Яка  драма Ган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Що є відмінного в образах Катерини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і Ган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915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34120" y="152388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Садок вишневий коло ха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Хрущі над вишнями гуду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лугатарі з плугами йду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Співають ідучи дівча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А матері вечерять жд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хно</cp:lastModifiedBy>
  <dcterms:modified xsi:type="dcterms:W3CDTF">2012-12-09T11:00:2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07000000000001024140</vt:lpwstr>
  </property>
  <property fmtid="{D5CDD505-2E9C-101B-9397-08002B2CF9AE}" pid="3" name="Version">
    <vt:r8>1</vt:r8>
  </property>
</Properties>
</file>