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FB53-BCED-46B3-9E18-96C8701F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D895-8D50-4AC4-B5FE-C6898866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C476-916C-4A32-84CB-DDF2220D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6E87C-50D2-4EF5-9F8B-31863DD8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B24C-71F6-4AE0-9178-2DD5BD55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2CEA-E8B7-4452-8F5E-5007EE62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849B-C9A2-41DA-9537-14F431C0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80C4-F1C4-464E-96CA-BCFDEDBF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419B-8ABB-4187-ACCB-732A193E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E9B3-5E97-44C2-8C46-39F4F00A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0B2A-1F3C-41CC-B015-62BDD5F0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2BEC-1A95-43A3-8C76-BCC15114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D259-2F85-4F0F-B9FB-B4D0F6CC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508B-6793-4872-B3F7-D7A99A65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E5CA-9815-4957-8B36-8F8FA6DF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8490-BBB3-4485-92FC-EEF5AA36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EF79-6F7B-46D6-BF29-B08C2EFF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4C3F6-53EC-44F8-AF01-08EC5024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9152-1652-44CE-9D37-BB280CDB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DDF2-E09A-4926-8959-7399D4BF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7D9A5-6304-4AC0-A3B4-D8BC11E4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560C-5DAD-42FC-9873-B381F891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54D39-A634-4465-98C3-7147936A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81E6C-4736-4033-9B29-4E827B5F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2B05-1531-43FF-AA84-4741EBF587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968B-4CA8-4138-8C52-67C7C0E769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0066"/>
                </a:solidFill>
                <a:latin typeface="Tahoma"/>
              </a:rPr>
              <a:t>Василь Бар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89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Барка є одним з небагатьох митців слова, що з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’</a:t>
            </a: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ясовує трагедію, химерність і чар життя люди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8000"/>
                </a:solidFill>
                <a:latin typeface="Tahoma"/>
              </a:rPr>
              <a:t>Все зміниться! Буде все без насильства, злиднів, неправ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 u="sng">
                <a:solidFill>
                  <a:srgbClr val="008000"/>
                </a:solidFill>
                <a:uFillTx/>
                <a:latin typeface="Tahoma"/>
              </a:rPr>
              <a:t>Василь Бар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267000" cy="462924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6600"/>
                </a:solidFill>
                <a:latin typeface="Tahoma"/>
              </a:rPr>
              <a:t>Тема.</a:t>
            </a: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uk-UA" sz="3800" spc="-1" strike="noStrike">
                <a:solidFill>
                  <a:srgbClr val="ebf25a"/>
                </a:solidFill>
                <a:latin typeface="Tahoma"/>
              </a:rPr>
              <a:t>Василь Барка “Жовтий князь”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435520" cy="4708080"/>
        </p:xfrm>
        <a:graphic>
          <a:graphicData uri="http://schemas.openxmlformats.org/drawingml/2006/table">
            <a:tbl>
              <a:tblPr/>
              <a:tblGrid>
                <a:gridCol w="4144680"/>
                <a:gridCol w="4290840"/>
              </a:tblGrid>
              <a:tr h="99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Знат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Вміт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іографічні відомості про письменника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сторію написання роману “Жовтий князь”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сторичну основу твору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міст роман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характеризувати духовний світ Василя Барк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зкрити проблематику твору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яснювати життєві явища, події, вчинки літературних героїв у контексті загальнолюдських понять і цінностей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зкрити зміст образів – символів роману.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w Cen MT Condensed Extra Bold"/>
              </a:rPr>
              <a:t>Голодомор 1932-1933 рр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Хто знав, хто вів смертям і стратам лік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Де фільм, який нам показав би голод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Отой проклятий 33-й рік?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81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Внаслідок повного виснаження організму від голоду вимерло 12 млн. українці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3184560" cy="3367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27640" y="2708280"/>
            <a:ext cx="4032000" cy="226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5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5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Tahoma"/>
              </a:rPr>
              <a:t>З пам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’</a:t>
            </a:r>
            <a:r>
              <a:rPr b="1" lang="uk-UA" sz="2400" spc="-1" strike="noStrike">
                <a:solidFill>
                  <a:srgbClr val="ff3300"/>
                </a:solidFill>
                <a:latin typeface="Tahoma"/>
              </a:rPr>
              <a:t>ятю про минуле, з вірою про майбутнє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537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З нагоди 70-річчя трагедії українського народу – голодомору 1932-1933 років, із вірою в те, що подібне ніколи більше не повториться, в Жовтих Водах відкрито меморіальну стелу як символ вічної народної па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яті про ті неймовірні страхітт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4392720" cy="5545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ff3300"/>
                </a:solidFill>
                <a:latin typeface="Tahoma"/>
              </a:rPr>
              <a:t>Проблематика роману</a:t>
            </a:r>
            <a:r>
              <a:rPr b="1" lang="uk-UA" sz="42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ffff"/>
                </a:solidFill>
                <a:latin typeface="Tahoma"/>
              </a:rPr>
              <a:t>“</a:t>
            </a:r>
            <a:r>
              <a:rPr b="0" i="1" lang="uk-UA" sz="3200" spc="-1" strike="noStrike">
                <a:solidFill>
                  <a:srgbClr val="00ffff"/>
                </a:solidFill>
                <a:latin typeface="Tahoma"/>
              </a:rPr>
              <a:t>Жовтий князь” – роман </a:t>
            </a:r>
            <a:r>
              <a:rPr b="1" i="1" lang="uk-UA" sz="3200" spc="-1" strike="noStrike" u="sng">
                <a:solidFill>
                  <a:srgbClr val="00ffff"/>
                </a:solidFill>
                <a:uFillTx/>
                <a:latin typeface="Tahoma"/>
              </a:rPr>
              <a:t>триплановий</a:t>
            </a:r>
            <a:r>
              <a:rPr b="0" i="1" lang="uk-UA" sz="3200" spc="-1" strike="noStrike">
                <a:solidFill>
                  <a:srgbClr val="00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ahoma"/>
              </a:rPr>
              <a:t>Реалістичне зображення нещастя в сім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’</a:t>
            </a:r>
            <a:r>
              <a:rPr b="0" i="1" lang="uk-UA" sz="3200" spc="-1" strike="noStrike">
                <a:solidFill>
                  <a:srgbClr val="ffffcc"/>
                </a:solidFill>
                <a:latin typeface="Tahoma"/>
              </a:rPr>
              <a:t>ї селянина Мирона Катранни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ahoma"/>
              </a:rPr>
              <a:t>Психологічні нариси, описи незвичайних перемін в житті кожного в родині, яка вимирає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cc"/>
                </a:solidFill>
                <a:latin typeface="Tahoma"/>
              </a:rPr>
              <a:t>Метафізичний вимір: боротьба темряви зі світлом, Бога з дияволом, людини з людино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14480" y="476280"/>
            <a:ext cx="9029160" cy="5486040"/>
            <a:chOff x="114480" y="476280"/>
            <a:chExt cx="9029160" cy="5486040"/>
          </a:xfrm>
        </p:grpSpPr>
        <p:grpSp>
          <p:nvGrpSpPr>
            <p:cNvPr id="140" name=""/>
            <p:cNvGrpSpPr/>
            <p:nvPr/>
          </p:nvGrpSpPr>
          <p:grpSpPr>
            <a:xfrm>
              <a:off x="3314520" y="476280"/>
              <a:ext cx="2514600" cy="1142280"/>
              <a:chOff x="3314520" y="476280"/>
              <a:chExt cx="2514600" cy="1142280"/>
            </a:xfrm>
          </p:grpSpPr>
          <p:sp>
            <p:nvSpPr>
              <p:cNvPr id="141" name=""/>
              <p:cNvSpPr/>
              <p:nvPr/>
            </p:nvSpPr>
            <p:spPr>
              <a:xfrm>
                <a:off x="3314520" y="476280"/>
                <a:ext cx="251460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200" spc="-1" strike="noStrike">
                    <a:solidFill>
                      <a:srgbClr val="000000"/>
                    </a:solidFill>
                    <a:latin typeface="Tahoma"/>
                  </a:rPr>
                  <a:t>Констатація психологічного стану героя: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14520" y="933120"/>
                <a:ext cx="12571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Tahoma"/>
                  </a:rPr>
                  <a:t>Авторська характеристик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1640" y="933120"/>
                <a:ext cx="125712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000" spc="-1" strike="noStrike">
                    <a:solidFill>
                      <a:srgbClr val="000000"/>
                    </a:solidFill>
                    <a:latin typeface="Tahoma"/>
                  </a:rPr>
                  <a:t>Характеристика одного із персонажів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14480" y="1847880"/>
              <a:ext cx="2285640" cy="2514240"/>
              <a:chOff x="114480" y="1847880"/>
              <a:chExt cx="2285640" cy="251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114480" y="1847880"/>
                <a:ext cx="2285640" cy="57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200" spc="-1" strike="noStrike">
                    <a:solidFill>
                      <a:srgbClr val="000000"/>
                    </a:solidFill>
                    <a:latin typeface="Tahoma"/>
                  </a:rPr>
                  <a:t>Опис зовнішніх виявів психічного стану: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480" y="2419200"/>
                <a:ext cx="2285640" cy="194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lvl="1" marL="1792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психологічний портрет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1" marL="1792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психологічний пейзаж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1" marL="1792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психологічний інтер’єр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1" marL="1792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особливості мовлення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lvl="1" marL="179280"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психологічна деталь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972120" y="1847880"/>
              <a:ext cx="217152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Tahoma"/>
                </a:rPr>
                <a:t>Зображення перебігу процесів внутрішнього життя персонаж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ahoma"/>
                </a:rPr>
                <a:t>внутрішній монолог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ahoma"/>
                </a:rPr>
                <a:t>діалог із самим собою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ahoma"/>
                </a:rPr>
                <a:t>психологічний самоаналі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ahoma"/>
                </a:rPr>
                <a:t>плин свідомості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Tahoma"/>
                </a:rPr>
                <a:t>авторський психічний аналіз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200400" y="4705200"/>
              <a:ext cx="2857320" cy="1257120"/>
              <a:chOff x="3200400" y="4705200"/>
              <a:chExt cx="2857320" cy="1257120"/>
            </a:xfrm>
          </p:grpSpPr>
          <p:sp>
            <p:nvSpPr>
              <p:cNvPr id="149" name=""/>
              <p:cNvSpPr/>
              <p:nvPr/>
            </p:nvSpPr>
            <p:spPr>
              <a:xfrm>
                <a:off x="3200400" y="4705200"/>
                <a:ext cx="2857320" cy="571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200" spc="-1" strike="noStrike">
                    <a:solidFill>
                      <a:srgbClr val="000000"/>
                    </a:solidFill>
                    <a:latin typeface="Tahoma"/>
                  </a:rPr>
                  <a:t>Опосередкований вияв психічного стану героя: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00400" y="5276520"/>
                <a:ext cx="285732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Видіння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марення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000000"/>
                    </a:solidFill>
                    <a:latin typeface="Tahoma"/>
                  </a:rPr>
                  <a:t>сни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086280" y="2419200"/>
              <a:ext cx="3314520" cy="1371600"/>
              <a:chOff x="3086280" y="2419200"/>
              <a:chExt cx="3314520" cy="1371600"/>
            </a:xfrm>
          </p:grpSpPr>
          <p:sp>
            <p:nvSpPr>
              <p:cNvPr id="152" name=""/>
              <p:cNvSpPr/>
              <p:nvPr/>
            </p:nvSpPr>
            <p:spPr>
              <a:xfrm>
                <a:off x="3086280" y="2419200"/>
                <a:ext cx="3314520" cy="137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57600" y="2647800"/>
                <a:ext cx="228600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1800" spc="-1" strike="noStrike">
                    <a:solidFill>
                      <a:srgbClr val="000000"/>
                    </a:solidFill>
                    <a:latin typeface="Tahoma"/>
                  </a:rPr>
                  <a:t>Психологічне дослідження геро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flipV="1">
              <a:off x="4686120" y="18478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86120" y="4019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514240" y="3105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14920" y="310500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Tahoma"/>
              </a:rPr>
              <a:t>Образи твору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628640"/>
          <a:ext cx="8229600" cy="3997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7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Мирон Катранни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6600"/>
                          </a:solidFill>
                          <a:latin typeface="Tahoma"/>
                        </a:rPr>
                        <a:t>Григорій Отроході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Середовий чоловік, “був святий словом і серцем”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Усіма своїми силами прагне зберегти життя своєї родин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“</a:t>
                      </a: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Хмурий”, “страшний, ох, страшний”. Бездушний, цинічний, жорстокий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Задля кар'єри готовий умертвити все, що скажуть владноможці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Християнська віра в Бога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990099"/>
                          </a:solidFill>
                          <a:latin typeface="Tahoma"/>
                        </a:rPr>
                        <a:t>партійно-більшовицька вір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ebf25a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 u="sng">
                <a:solidFill>
                  <a:srgbClr val="ebf25a"/>
                </a:solidFill>
                <a:uFillTx/>
                <a:latin typeface="Tahoma"/>
              </a:rPr>
              <a:t>Рефлексійна анке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1)Чи сподобався тобі проведений урок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А) так; Б) не дуже; В) ні</a:t>
            </a: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2)Якщо урок сподобався, спробуй визначити, чим саме. Для цього в наведеному переліку підкреслити 3 фактора, які обумовили твоє позитивне ставлення: Проведений урок мені сподобався, бо на ньому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А) я почувався впевнено і спокійно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Б) було цікаво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В) вироблялися вміння працювати в парі, групі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Г) міцно засвоювався програмовий матеріал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Д) кожен розвивав власні здібності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3) Які розумові рівні були актуалізовані під час уроку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А) аналітични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Б) критични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В) синтез інформації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Tahoma"/>
              </a:rPr>
              <a:t>4) чи змінилося твоє уявлення про письменника В. Барку внаслідок почутої інформації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ffffff"/>
                </a:solidFill>
                <a:latin typeface="Tahoma"/>
              </a:rPr>
              <a:t>А) так; Б) ні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1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3:30:25Z</dcterms:created>
  <dc:creator>VSG</dc:creator>
  <dc:description/>
  <dc:language>en-US</dc:language>
  <cp:lastModifiedBy>VSG</cp:lastModifiedBy>
  <dcterms:modified xsi:type="dcterms:W3CDTF">2007-10-01T14:53:01Z</dcterms:modified>
  <cp:revision>3</cp:revision>
  <dc:subject/>
  <dc:title>Василь Бар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03000000000001024140</vt:lpwstr>
  </property>
</Properties>
</file>