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F15D-16AF-40D3-88C7-48C91B0C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3C65-A028-4BCA-B137-46F91805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707C-C487-409D-8F28-72A191D9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D9AE-E002-4212-9575-8D10C0D4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910D-2571-471A-9A45-A645EEEF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0050-211F-4D63-835B-7A0BFA7C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D782-D9E0-42AB-A5E4-644816BA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FC62-DFE9-492F-980E-AB98C747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BDF9-9FF1-4C4A-80B0-D93A1EF4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1047-4F5B-405A-895B-DEDDBC1B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E5E-7AAD-4F7E-8E49-5A7672B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AE7A-7E44-4EC5-B36B-D5325B0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2C67-56E9-4A79-8748-B025A4F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2EB0-C72D-461E-A4F2-0B572DF0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7112-8D84-4A7A-A97A-9172D16A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FA13-3491-4B73-BCA3-129FAB8E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7831-EEAE-4973-9D0B-AD5F810F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4C2F-707E-416F-9BE1-13D51DD6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4F06-B6D9-4EF0-9BA9-A8A1BC16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E43D-395C-493F-82CC-F52BA9F3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EF41-4396-478D-9C23-923F11BA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BF9F-2C90-4643-8DD9-7BE0B70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25B6-BE94-4F41-9F4B-2206BC4D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D2C5-E578-461F-A3F8-B12DFEE0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E442-8492-4DA6-91DB-D22D65C573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4945-A0C4-41A2-8029-0BDC6E8FFD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0066"/>
                </a:solidFill>
                <a:latin typeface="Tahoma"/>
              </a:rPr>
              <a:t>Василь Бар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Барка є одним з небагатьох митців слова, що з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ясовує трагедію, химерність і чар життя люди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8000"/>
                </a:solidFill>
                <a:latin typeface="Tahoma"/>
              </a:rPr>
              <a:t>Все зміниться! Буде все без насильства, злиднів, неправ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8000"/>
                </a:solidFill>
                <a:uFillTx/>
                <a:latin typeface="Tahoma"/>
              </a:rPr>
              <a:t>Василь Бар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267000" cy="46292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6600"/>
                </a:solidFill>
                <a:latin typeface="Tahoma"/>
              </a:rPr>
              <a:t>Тема.</a:t>
            </a: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uk-UA" sz="3800" spc="-1" strike="noStrike">
                <a:solidFill>
                  <a:srgbClr val="ebf25a"/>
                </a:solidFill>
                <a:latin typeface="Tahoma"/>
              </a:rPr>
              <a:t>Василь Барка “Жовтий князь”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435520" cy="4708080"/>
        </p:xfrm>
        <a:graphic>
          <a:graphicData uri="http://schemas.openxmlformats.org/drawingml/2006/table">
            <a:tbl>
              <a:tblPr/>
              <a:tblGrid>
                <a:gridCol w="4144680"/>
                <a:gridCol w="4290840"/>
              </a:tblGrid>
              <a:tr h="99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Знат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Вміт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іографічні відомості про письменник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сторію написання роману “Жовтий князь”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сторичну основу твору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міст рома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характеризувати духовний світ Василя Барк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зкрити проблематику твору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яснювати життєві явища, події, вчинки літературних героїв у контексті загальнолюдських понять і цінносте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зкрити зміст образів – символів роману.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w Cen MT Condensed Extra Bold"/>
              </a:rPr>
              <a:t>Голодомор 1932-1933 рр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Хто знав, хто вів смертям і стратам лік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Де фільм, який нам показав би голод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Отой проклятий 33-й рік?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наслідок повного виснаження організму від голоду вимерло 12 млн. українці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184560" cy="336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4032000" cy="226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ahoma"/>
              </a:rPr>
              <a:t>З пам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’</a:t>
            </a:r>
            <a:r>
              <a:rPr b="1" lang="uk-UA" sz="2400" spc="-1" strike="noStrike">
                <a:solidFill>
                  <a:srgbClr val="ff3300"/>
                </a:solidFill>
                <a:latin typeface="Tahoma"/>
              </a:rPr>
              <a:t>ятю про минуле, з вірою про майбутнє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537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З нагоди 70-річчя трагедії українського народу – голодомору 1932-1933 років, із вірою в те, що подібне ніколи більше не повториться, в Жовтих Водах відкрито меморіальну стелу як символ вічної народної па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яті про ті неймовірні страхітт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39272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ff3300"/>
                </a:solidFill>
                <a:latin typeface="Tahoma"/>
              </a:rPr>
              <a:t>Проблематика роману</a:t>
            </a:r>
            <a:r>
              <a:rPr b="1" lang="uk-UA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ff"/>
                </a:solidFill>
                <a:latin typeface="Tahoma"/>
              </a:rPr>
              <a:t>“</a:t>
            </a:r>
            <a:r>
              <a:rPr b="0" i="1" lang="uk-UA" sz="3200" spc="-1" strike="noStrike">
                <a:solidFill>
                  <a:srgbClr val="00ffff"/>
                </a:solidFill>
                <a:latin typeface="Tahoma"/>
              </a:rPr>
              <a:t>Жовтий князь” – роман </a:t>
            </a:r>
            <a:r>
              <a:rPr b="1" i="1" lang="uk-UA" sz="3200" spc="-1" strike="noStrike" u="sng">
                <a:solidFill>
                  <a:srgbClr val="00ffff"/>
                </a:solidFill>
                <a:uFillTx/>
                <a:latin typeface="Tahoma"/>
              </a:rPr>
              <a:t>триплановий</a:t>
            </a:r>
            <a:r>
              <a:rPr b="0" i="1" lang="uk-UA" sz="3200" spc="-1" strike="noStrike">
                <a:solidFill>
                  <a:srgbClr val="00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ahoma"/>
              </a:rPr>
              <a:t>Реалістичне зображення нещастя в сім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’</a:t>
            </a:r>
            <a:r>
              <a:rPr b="0" i="1" lang="uk-UA" sz="3200" spc="-1" strike="noStrike">
                <a:solidFill>
                  <a:srgbClr val="ffffcc"/>
                </a:solidFill>
                <a:latin typeface="Tahoma"/>
              </a:rPr>
              <a:t>ї селянина Мирона Катран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ahoma"/>
              </a:rPr>
              <a:t>Психологічні нариси, описи незвичайних перемін в житті кожного в родині, яка вимирає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ahoma"/>
              </a:rPr>
              <a:t>Метафізичний вимір: боротьба темряви зі світлом, Бога з дияволом, людини з людино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14480" y="476280"/>
            <a:ext cx="9029160" cy="5486040"/>
            <a:chOff x="114480" y="476280"/>
            <a:chExt cx="9029160" cy="5486040"/>
          </a:xfrm>
        </p:grpSpPr>
        <p:grpSp>
          <p:nvGrpSpPr>
            <p:cNvPr id="140" name=""/>
            <p:cNvGrpSpPr/>
            <p:nvPr/>
          </p:nvGrpSpPr>
          <p:grpSpPr>
            <a:xfrm>
              <a:off x="3314520" y="476280"/>
              <a:ext cx="2514600" cy="1142280"/>
              <a:chOff x="3314520" y="476280"/>
              <a:chExt cx="2514600" cy="1142280"/>
            </a:xfrm>
          </p:grpSpPr>
          <p:sp>
            <p:nvSpPr>
              <p:cNvPr id="141" name=""/>
              <p:cNvSpPr/>
              <p:nvPr/>
            </p:nvSpPr>
            <p:spPr>
              <a:xfrm>
                <a:off x="3314520" y="476280"/>
                <a:ext cx="251460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000000"/>
                    </a:solidFill>
                    <a:latin typeface="Tahoma"/>
                  </a:rPr>
                  <a:t>Констатація психологічного стану героя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14520" y="933120"/>
                <a:ext cx="12571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Tahoma"/>
                  </a:rPr>
                  <a:t>Авторська характеристик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1640" y="933120"/>
                <a:ext cx="12571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Tahoma"/>
                  </a:rPr>
                  <a:t>Характеристика одного із персонажів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14480" y="1847880"/>
              <a:ext cx="2285640" cy="2514240"/>
              <a:chOff x="114480" y="1847880"/>
              <a:chExt cx="2285640" cy="251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114480" y="1847880"/>
                <a:ext cx="2285640" cy="57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000000"/>
                    </a:solidFill>
                    <a:latin typeface="Tahoma"/>
                  </a:rPr>
                  <a:t>Опис зовнішніх виявів психічного стану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480" y="2419200"/>
                <a:ext cx="2285640" cy="194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психологічний портрет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психологічний пейзаж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психологічний інтер’єр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особливості мовлення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психологічна детал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972120" y="1847880"/>
              <a:ext cx="217152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ahoma"/>
                </a:rPr>
                <a:t>Зображення перебігу процесів внутрішнього життя персонаж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внутрішній моноло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діалог із самим собою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психологічний самоаналі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плин свідомост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авторський психічний аналі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00400" y="4705200"/>
              <a:ext cx="2857320" cy="1257120"/>
              <a:chOff x="3200400" y="4705200"/>
              <a:chExt cx="2857320" cy="1257120"/>
            </a:xfrm>
          </p:grpSpPr>
          <p:sp>
            <p:nvSpPr>
              <p:cNvPr id="149" name=""/>
              <p:cNvSpPr/>
              <p:nvPr/>
            </p:nvSpPr>
            <p:spPr>
              <a:xfrm>
                <a:off x="3200400" y="4705200"/>
                <a:ext cx="2857320" cy="57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000000"/>
                    </a:solidFill>
                    <a:latin typeface="Tahoma"/>
                  </a:rPr>
                  <a:t>Опосередкований вияв психічного стану героя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00400" y="5276520"/>
                <a:ext cx="28573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Видіння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марення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сни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086280" y="2419200"/>
              <a:ext cx="3314520" cy="1371600"/>
              <a:chOff x="3086280" y="2419200"/>
              <a:chExt cx="3314520" cy="1371600"/>
            </a:xfrm>
          </p:grpSpPr>
          <p:sp>
            <p:nvSpPr>
              <p:cNvPr id="152" name=""/>
              <p:cNvSpPr/>
              <p:nvPr/>
            </p:nvSpPr>
            <p:spPr>
              <a:xfrm>
                <a:off x="3086280" y="2419200"/>
                <a:ext cx="3314520" cy="137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57600" y="2647800"/>
                <a:ext cx="228600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Tahoma"/>
                  </a:rPr>
                  <a:t>Психологічне дослідження геро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V="1">
              <a:off x="4686120" y="1847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86120" y="4019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514240" y="3105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14920" y="31050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Tahoma"/>
              </a:rPr>
              <a:t>Образи твору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628640"/>
          <a:ext cx="8229600" cy="3997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Мирон Катран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Григорій Отроході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Середовий чоловік, “був святий словом і серцем”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Усіма своїми силами прагне зберегти життя своєї родин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“</a:t>
                      </a: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Хмурий”, “страшний, ох, страшний”. Бездушний, цинічний, жорстоки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Задля кар'єри готовий умертвити все, що скажуть владноможці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Християнська віра в Бога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партійно-більшовицька вір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 u="sng">
                <a:solidFill>
                  <a:srgbClr val="ebf25a"/>
                </a:solidFill>
                <a:uFillTx/>
                <a:latin typeface="Tahoma"/>
              </a:rPr>
              <a:t>Рефлексійна анке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)Чи сподобався тобі проведений урок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А) так; Б) не дуже; В) ні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2)Якщо урок сподобався, спробуй визначити, чим саме. Для цього в наведеному переліку підкреслити 3 фактора, які обумовили твоє позитивне ставлення: Проведений урок мені сподобався, бо на ньом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А) я почувався впевнено і спокійно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Б) було цікаво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В) вироблялися вміння працювати в парі, групі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Г) міцно засвоювався програмовий матеріал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Д) кожен розвивав власні здібності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3) Які розумові рівні були актуалізовані під час уроку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А) аналітич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Б) критич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В) синтез інформації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4) чи змінилося твоє уявлення про письменника В. Барку внаслідок почутої інформації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А) так; Б) ні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3:30:25Z</dcterms:created>
  <dc:creator>VSG</dc:creator>
  <dc:description/>
  <dc:language>en-US</dc:language>
  <cp:lastModifiedBy>VSG</cp:lastModifiedBy>
  <dcterms:modified xsi:type="dcterms:W3CDTF">2007-10-01T14:53:01Z</dcterms:modified>
  <cp:revision>3</cp:revision>
  <dc:subject/>
  <dc:title>Василь Бар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03000000000001024140</vt:lpwstr>
  </property>
</Properties>
</file>