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715-256E-4295-BC17-D6AC16D5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93-0A5A-4B25-BA0F-7C831DEB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A16-BEC4-4E99-AC74-D7F5A58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8F0-AAC8-4B24-9327-5A8A0B96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BC6-DB8C-4637-9F7F-56A1FFAE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433E-20A1-485B-9000-BD8D6C14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1264-B283-4D0E-9FC4-6743A4B1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CBEA-BA91-4498-BDBB-5E155672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24A-001C-408C-9C87-7D6B95F1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5E8B-E8C3-40FA-B873-C7D327B1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44FE-F1BA-44D2-953E-785FAD5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9FA-C8AC-4460-BAA3-F3E14965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801-F66C-4DB6-994A-FFDE0BE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A678-014B-44F1-9BFA-69C59E8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71E-0A8D-4E1E-9EC7-E37EB776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A433-DD66-4C04-86F0-BEAA87C5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5619-BC8C-4A28-805E-5A75B12A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C3A5-789B-437A-8C36-57F056D0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E32C-2DE2-4093-8928-F810EEB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8DCD-A453-4583-A14C-AB46B279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7DBA-2DAF-4E47-BCEE-5C7E5AB5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A7B4-93B8-463A-B360-31F029A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C27-9441-4137-96FF-3622199B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8E83-F54C-4580-AE72-997A23D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D176-75FF-4561-B6EA-6C926D8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3AF2-CA2D-443A-9B41-A7060AF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DDD8-F7B9-410D-9178-CDF8E259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28E6-3118-4FE4-903E-55A93551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C4FE-1C9F-43B2-BC6F-3FD903E0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9D3A-2352-4B22-BDFF-572EC386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626A-F29D-42BE-9CE9-72C0BE0B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FC21-1AE7-4893-BFC7-A08DE82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B46F-05AE-4116-B1E3-6E43E776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2EB-1B71-498F-BC15-79742261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A5E6-CF80-4610-9B0E-2F007349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F582-E006-4E44-898B-7FA863CE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A685-D1F7-48B2-BB81-3C6A47C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274E-70C9-463B-8685-D356575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DD8D-1E3C-458E-9435-17E6A43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AFBF-5234-43A5-9B97-3017859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EB02-A9A0-48B4-9EA9-192DC0B2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5DDA-9781-4446-A614-F9154AD9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1F75-3C2D-4D01-BE4F-4703EF5D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A415-34BE-455B-964D-933294C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C8D-C222-44BB-AE22-AC9E411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10D7-1403-4EB8-9574-894D21B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552C-9460-4BA4-8BEB-17EB7A2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D19F-D763-4596-BD98-40DA6B9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2D37-00A9-41C7-BEB0-3246512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9657-772F-4809-B2CB-CF8C4F92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3000-2DB5-49C8-AE63-8001478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F490-7777-4C65-81E0-15B3BE2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2DA2-AADA-4ED4-A232-E634354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2254-2177-4AAE-8F3E-B9AA5D85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8F7D-D1CD-4ECE-97F1-279D5229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DA2-3044-4276-B722-BAC5C15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4E50-8E91-4795-889D-A8363574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BE71-D645-4F11-9D7F-881CBA36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2422-5122-41B5-B190-277CB50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26CD-E4C7-44E6-9312-3DB4361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4CC5-1CD5-4F8C-BF1F-7B5DA5D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1C708-C997-4193-A7E5-0449F47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A0A7-34A6-4F9D-AC4E-68EFDFCC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700C6-171E-4EEB-A113-B24C8D9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A998-959F-4AFD-9207-7858470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3971-7A0C-421A-A781-3826D95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E21-7098-4F33-B76A-F70EF31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EFEF-0D05-4696-8A60-0918B30E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DFF0-9FF8-4A70-9F5B-960BF9C2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49BA-5B94-4FD8-9D56-CFD05953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C545-CCBD-443F-BC23-9D955482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A81D-FE22-419A-B48C-4258E63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B77D-20F2-4700-B837-5184C102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7A64-2397-44A4-9CD3-750E165C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D0A5-92F0-4084-8035-E4C7FEA3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9154-2AA0-466A-9C83-5814243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D561-A4A2-43AE-9A99-AD7168C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834-C9F8-4BA2-93B8-79830A3C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7F65-8AE2-4081-AFB8-41AAFD8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E213-2012-4C7F-B86B-F4CBF6F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B642-A77E-4623-8152-9AF560A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6F0F-5E5D-460B-8E86-E7B5A64A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373E-20EB-46DC-9E55-D01157F5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9E2-CB1F-4CD3-AAB2-B0FE541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79C-9A28-46A5-A1DF-A0C6E55CF8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6921-319D-48AD-BD4D-DC322EB37A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900-0F58-4025-89BA-858707A40E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C18-FD91-410F-AA04-0EE0DCE037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E9A-4E46-406C-AAF5-CEF420C9A4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457-00A1-44EA-8DD7-131E1A3A33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997-205C-4BCD-A823-3FE1A6B617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500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Дмитро Луценко – людина, </a:t>
            </a: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поет-пісняр, поет-ліри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5" descr="museum2_.jpg"/>
          <p:cNvPicPr/>
          <p:nvPr/>
        </p:nvPicPr>
        <p:blipFill>
          <a:blip r:embed="rId2"/>
          <a:stretch/>
        </p:blipFill>
        <p:spPr>
          <a:xfrm>
            <a:off x="1928880" y="500040"/>
            <a:ext cx="593388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В очі дивляться канни …”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943829.jpg"/>
          <p:cNvPicPr/>
          <p:nvPr/>
        </p:nvPicPr>
        <p:blipFill>
          <a:blip r:embed="rId2"/>
          <a:stretch/>
        </p:blipFill>
        <p:spPr>
          <a:xfrm>
            <a:off x="1285920" y="1285920"/>
            <a:ext cx="742932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506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Дорогими для мене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Стали схили Дніпра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Содержимое 3" descr="03530.jpg"/>
          <p:cNvPicPr/>
          <p:nvPr/>
        </p:nvPicPr>
        <p:blipFill>
          <a:blip r:embed="rId2"/>
          <a:stretch/>
        </p:blipFill>
        <p:spPr>
          <a:xfrm>
            <a:off x="1357200" y="157176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Вечорів оксамити – 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Мов щастя прибій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03256.jpg"/>
          <p:cNvPicPr/>
          <p:nvPr/>
        </p:nvPicPr>
        <p:blipFill>
          <a:blip r:embed="rId2"/>
          <a:stretch/>
        </p:blipFill>
        <p:spPr>
          <a:xfrm>
            <a:off x="1643040" y="1447920"/>
            <a:ext cx="70009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guliaev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76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Весна – народження людин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5" descr="00979.jpg"/>
          <p:cNvPicPr/>
          <p:nvPr/>
        </p:nvPicPr>
        <p:blipFill>
          <a:blip r:embed="rId2"/>
          <a:stretch/>
        </p:blipFill>
        <p:spPr>
          <a:xfrm>
            <a:off x="1428840" y="1357200"/>
            <a:ext cx="73580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572314"/>
                </a:solidFill>
                <a:latin typeface="Corbel"/>
              </a:rPr>
              <a:t>Літо – найкращі роки – юність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11" descr="Водяные лилии.jpg"/>
          <p:cNvPicPr/>
          <p:nvPr/>
        </p:nvPicPr>
        <p:blipFill>
          <a:blip r:embed="rId2"/>
          <a:stretch/>
        </p:blipFill>
        <p:spPr>
          <a:xfrm>
            <a:off x="1357200" y="142884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-214560"/>
            <a:ext cx="7497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572314"/>
                </a:solidFill>
                <a:latin typeface="Corbel"/>
              </a:rPr>
              <a:t>Життєва осінь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03547.jpg"/>
          <p:cNvPicPr/>
          <p:nvPr/>
        </p:nvPicPr>
        <p:blipFill>
          <a:blip r:embed="rId2"/>
          <a:stretch/>
        </p:blipFill>
        <p:spPr>
          <a:xfrm>
            <a:off x="1214280" y="1285920"/>
            <a:ext cx="7643880" cy="5214960"/>
          </a:xfrm>
          <a:prstGeom prst="rect">
            <a:avLst/>
          </a:prstGeom>
          <a:ln w="0">
            <a:noFill/>
          </a:ln>
        </p:spPr>
      </p:pic>
      <p:pic>
        <p:nvPicPr>
          <p:cNvPr id="348" name="lutzenko01-03.mp3" descr=""/>
          <p:cNvPicPr/>
          <p:nvPr/>
        </p:nvPicPr>
        <p:blipFill>
          <a:blip r:embed="rId3"/>
          <a:stretch/>
        </p:blipFill>
        <p:spPr>
          <a:xfrm>
            <a:off x="12859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448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2286000"/>
            <a:ext cx="864396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Усе любов</a:t>
            </a:r>
            <a:r>
              <a:rPr b="1" i="1" lang="en-US" sz="5400" spc="-1" strike="noStrike">
                <a:solidFill>
                  <a:srgbClr val="572314"/>
                </a:solidFill>
                <a:latin typeface="Gill Sans MT"/>
              </a:rPr>
              <a:t>’</a:t>
            </a: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ю зміряне до дна</a:t>
            </a:r>
            <a:br>
              <a:rPr sz="5400"/>
            </a:b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                                    </a:t>
            </a:r>
            <a:br>
              <a:rPr sz="3900"/>
            </a:b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  Д. Луценк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714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Музей школи №19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museum.jpg"/>
          <p:cNvPicPr/>
          <p:nvPr/>
        </p:nvPicPr>
        <p:blipFill>
          <a:blip r:embed="rId2"/>
          <a:stretch/>
        </p:blipFill>
        <p:spPr>
          <a:xfrm>
            <a:off x="1285920" y="1143000"/>
            <a:ext cx="75009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714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300" spc="-1" strike="noStrike">
                <a:solidFill>
                  <a:srgbClr val="572314"/>
                </a:solidFill>
                <a:latin typeface="Corbel"/>
              </a:rPr>
              <a:t>Музей школи №19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museum1_.jpg"/>
          <p:cNvPicPr/>
          <p:nvPr/>
        </p:nvPicPr>
        <p:blipFill>
          <a:blip r:embed="rId2"/>
          <a:stretch/>
        </p:blipFill>
        <p:spPr>
          <a:xfrm>
            <a:off x="1285920" y="1214280"/>
            <a:ext cx="7429320" cy="5286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Скільки нас із доріг</a:t>
            </a:r>
            <a:br>
              <a:rPr sz="3200"/>
            </a:br>
            <a:r>
              <a:rPr b="1" i="1" lang="uk-UA" sz="3200" spc="-1" strike="noStrike">
                <a:solidFill>
                  <a:srgbClr val="572314"/>
                </a:solidFill>
                <a:latin typeface="Corbel"/>
              </a:rPr>
              <a:t>  Не вернулось до отчого дому…”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6" descr="1941_51.jpg"/>
          <p:cNvPicPr/>
          <p:nvPr/>
        </p:nvPicPr>
        <p:blipFill>
          <a:blip r:embed="rId2"/>
          <a:stretch/>
        </p:blipFill>
        <p:spPr>
          <a:xfrm>
            <a:off x="4071960" y="1071720"/>
            <a:ext cx="4740120" cy="369252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3" descr="1941_8.jpg"/>
          <p:cNvPicPr/>
          <p:nvPr/>
        </p:nvPicPr>
        <p:blipFill>
          <a:blip r:embed="rId3"/>
          <a:stretch/>
        </p:blipFill>
        <p:spPr>
          <a:xfrm>
            <a:off x="1143000" y="3643200"/>
            <a:ext cx="3357720" cy="2954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442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«Радо мене зустр</a:t>
            </a:r>
            <a:r>
              <a:rPr b="0" lang="uk-UA" sz="2900" spc="-1" strike="noStrike">
                <a:solidFill>
                  <a:srgbClr val="572314"/>
                </a:solidFill>
                <a:latin typeface="Corbel"/>
              </a:rPr>
              <a:t>ічала</a:t>
            </a:r>
            <a:br>
              <a:rPr sz="2900"/>
            </a:br>
            <a:r>
              <a:rPr b="0" lang="uk-UA" sz="2900" spc="-1" strike="noStrike">
                <a:solidFill>
                  <a:srgbClr val="572314"/>
                </a:solidFill>
                <a:latin typeface="Corbel"/>
              </a:rPr>
              <a:t>  Мамина вишня в саду…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»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w00136.jpg"/>
          <p:cNvPicPr/>
          <p:nvPr/>
        </p:nvPicPr>
        <p:blipFill>
          <a:blip r:embed="rId2"/>
          <a:stretch/>
        </p:blipFill>
        <p:spPr>
          <a:xfrm>
            <a:off x="2357280" y="1428840"/>
            <a:ext cx="6357960" cy="4943520"/>
          </a:xfrm>
          <a:prstGeom prst="rect">
            <a:avLst/>
          </a:prstGeom>
          <a:ln w="0">
            <a:noFill/>
          </a:ln>
        </p:spPr>
      </p:pic>
      <p:pic>
        <p:nvPicPr>
          <p:cNvPr id="330" name="album_asx.asx" descr=""/>
          <p:cNvPicPr/>
          <p:nvPr/>
        </p:nvPicPr>
        <p:blipFill>
          <a:blip r:embed="rId3"/>
          <a:stretch/>
        </p:blipFill>
        <p:spPr>
          <a:xfrm>
            <a:off x="2500200" y="6072120"/>
            <a:ext cx="23832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i="1" lang="uk-UA" sz="5400" spc="-1" strike="noStrike">
                <a:solidFill>
                  <a:srgbClr val="572314"/>
                </a:solidFill>
                <a:latin typeface="Corbel"/>
              </a:rPr>
              <a:t>Києве мій”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03152.jpg"/>
          <p:cNvPicPr/>
          <p:nvPr/>
        </p:nvPicPr>
        <p:blipFill>
          <a:blip r:embed="rId2"/>
          <a:stretch/>
        </p:blipFill>
        <p:spPr>
          <a:xfrm>
            <a:off x="1714680" y="1428840"/>
            <a:ext cx="664344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Содержимое 5" descr="IMG_1496.JPG"/>
          <p:cNvPicPr/>
          <p:nvPr/>
        </p:nvPicPr>
        <p:blipFill>
          <a:blip r:embed="rId2"/>
          <a:stretch/>
        </p:blipFill>
        <p:spPr>
          <a:xfrm>
            <a:off x="1357200" y="428760"/>
            <a:ext cx="728676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03554.jpg"/>
          <p:cNvPicPr/>
          <p:nvPr/>
        </p:nvPicPr>
        <p:blipFill>
          <a:blip r:embed="rId2"/>
          <a:stretch/>
        </p:blipFill>
        <p:spPr>
          <a:xfrm>
            <a:off x="1285920" y="357120"/>
            <a:ext cx="757224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5T09:38:19Z</dcterms:modified>
  <cp:revision>16</cp:revision>
  <dc:subject/>
  <dc:title>Дмитро Луценко – людина,  поет-пісняр, поет-лір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0000000000001024140</vt:lpwstr>
  </property>
</Properties>
</file>