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1E7-63A0-4908-818F-408DEE6B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6C5-1CC5-4612-861C-2D056042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9CB-3ABB-4AD8-99CC-0FEF7059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D9B-DC7E-43D4-AEBC-4D62CB80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B867-D82B-49DE-B2F2-0293ABD3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9E8-5D56-4FD9-9347-29A75404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BC70-19F2-4DC6-A67D-98D9AB3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739-D98A-41AC-BACF-22973636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B49-C026-450C-AAAA-3207CD9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9ACD-0A2A-4DA8-A2F6-AD82A237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F08-8365-4376-822B-0CA21EB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1A3-FBD6-42C1-9C35-BDB03FE2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5D48-421A-4F53-A611-7A39A57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4E99-E0D3-4555-BB00-B1E2298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D141-CE24-498D-9377-095FE59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6FC-C0F1-4BF5-A968-E036CB0C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9EEA-CB68-4B88-9B0C-1D6FFA4F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7BC2-E8D5-4CFC-8076-F06A8691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62F7-64C2-4DAF-ACD0-CBF99214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EDD4-DA48-4073-B69D-3A011B1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D4AA-DE52-497F-949B-C626C8C2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BB54-243B-46ED-813C-6BE4049F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172-FAA9-4C51-A1B2-E50C081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4F4A-1C95-445F-B388-FADA51C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69FF-1430-4F04-93CA-CC3ED58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A1C3-ACFD-4DBD-AE1D-75B2D4C3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FFC9-2BB0-409D-AF28-87902850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B3B4-BF29-4E42-B863-221B88E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4F1A-11A7-40A5-A286-618DCC75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A0C3-25E0-4A56-A4B9-5AA47945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B4BB-328A-466F-ACE8-A4DD8AE5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BBCB-5DCA-462A-8531-8887A16A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F38F-12F6-47D6-8E9D-22A2E441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522-A0D7-4835-90BF-AFC4B510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046F-DD75-439E-B64B-148B306A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7BF1-723F-46C6-8724-02CC513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BABC-B865-4989-8327-9DBE6D1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D9ED-345C-4C08-A054-10DAEF5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DAEA-F78B-451E-BF81-E6E29EB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02C6-323C-4EA2-8293-122DA64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7F60-D11A-4802-AA6A-DCA0699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CE5A-4A7A-47E9-B5AD-A9F2B809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7C52-EF84-4F71-91B3-0CE6624F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5B6C-DF7B-4DCD-AB92-1A034CAC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AF2-5DC3-4FF4-A537-5FC3D11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1D11-56A6-4319-A225-720BBC9B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31C6-8577-4432-B137-EA65C60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3115-4C4C-488E-8C9F-CFBDB83A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034A-FEA6-473A-8C29-5CE1201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036C-B10A-4D2E-9AE7-C22CF8B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C719-4992-4B4D-B557-6DD9BCF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4B3F-F508-401F-83B0-B86D054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2972-84B6-4F80-B9E3-0D627B3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07D8-EA4C-4EF4-BDE0-F312901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C7D4-569A-4D93-8D77-DEB5801B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392-FC9A-4F67-90BB-10EFD483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8586-9285-4AA5-932E-3DACAAE3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11D2E-4063-409B-B172-3D18FAEB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B2B1-7ADF-4147-87E1-4B44E839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5957-DE65-4461-967B-5C1853A1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55B5-45CD-4843-9D70-31AE79D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9975-78A8-4C52-83EB-1290AE0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11BDA-E8AB-4A4E-B8A0-A1B707C9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12706-FC1E-4862-AF0B-620006B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536C-6FE7-421A-9A50-F8ADBDC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CDA8B-233B-41F5-A180-1DF039D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972-6376-430A-AC9B-039168E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C7B7-8594-4C89-A49D-8667120C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D9C9-C631-4415-B48E-828BE5F6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BD37-57C3-4EEF-91A5-A9F09F29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733E-66E9-4F37-B06A-1D799DE1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B7B7-C4E5-4F8C-B40C-71ADD4F5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AFC5-9157-44D7-BE0B-CD5F158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FC8E-65A7-482C-908F-B53242FD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50539-C5F7-49D1-99B6-0DFC3C72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2AC4B-F471-487A-8F4C-68BBC81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3B058-5782-4BEF-92B4-ABD8245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C1B-5E65-4D2A-AF32-28EF429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080AF-C309-4AB1-BE0A-422037A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5B33-C618-4F34-A3AD-7B534DF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4EA8-1005-4856-A1D7-8E6EEF02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260D-976C-4E7B-AEDE-78E4F1F6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5F83-86D2-4775-AC14-3DAC7D64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11B-BD60-475F-BF29-F2D35FB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92C-527E-45D0-8AC3-DE76E42E1B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08C-0DD7-4637-B19B-3F0728E6FD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B724-280E-463C-AB52-C42E80CC9A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A83-A01D-405C-A310-7FE7CB3D9E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8D2-9DEC-4F48-BBD8-ED09E4B4AB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8B8-6CB5-43E3-8600-C97F275314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23C-DE8A-4325-AA11-A4D9BBE1F2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500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Дмитро Луценко – людина, </a:t>
            </a: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поет-пісняр, поет-ліри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5" descr="museum2_.jpg"/>
          <p:cNvPicPr/>
          <p:nvPr/>
        </p:nvPicPr>
        <p:blipFill>
          <a:blip r:embed="rId2"/>
          <a:stretch/>
        </p:blipFill>
        <p:spPr>
          <a:xfrm>
            <a:off x="1928880" y="500040"/>
            <a:ext cx="593388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В очі дивляться канни …”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943829.jpg"/>
          <p:cNvPicPr/>
          <p:nvPr/>
        </p:nvPicPr>
        <p:blipFill>
          <a:blip r:embed="rId2"/>
          <a:stretch/>
        </p:blipFill>
        <p:spPr>
          <a:xfrm>
            <a:off x="1285920" y="1285920"/>
            <a:ext cx="742932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506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Дорогими для мене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Стали схили Дніпра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Содержимое 3" descr="03530.jpg"/>
          <p:cNvPicPr/>
          <p:nvPr/>
        </p:nvPicPr>
        <p:blipFill>
          <a:blip r:embed="rId2"/>
          <a:stretch/>
        </p:blipFill>
        <p:spPr>
          <a:xfrm>
            <a:off x="1357200" y="157176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Вечорів оксамити – 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Мов щастя прибій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03256.jpg"/>
          <p:cNvPicPr/>
          <p:nvPr/>
        </p:nvPicPr>
        <p:blipFill>
          <a:blip r:embed="rId2"/>
          <a:stretch/>
        </p:blipFill>
        <p:spPr>
          <a:xfrm>
            <a:off x="1643040" y="1447920"/>
            <a:ext cx="70009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guliaev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76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Весна – народження людин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5" descr="00979.jpg"/>
          <p:cNvPicPr/>
          <p:nvPr/>
        </p:nvPicPr>
        <p:blipFill>
          <a:blip r:embed="rId2"/>
          <a:stretch/>
        </p:blipFill>
        <p:spPr>
          <a:xfrm>
            <a:off x="1428840" y="1357200"/>
            <a:ext cx="73580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72314"/>
                </a:solidFill>
                <a:latin typeface="Corbel"/>
              </a:rPr>
              <a:t>Літо – найкращі роки – юність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11" descr="Водяные лилии.jpg"/>
          <p:cNvPicPr/>
          <p:nvPr/>
        </p:nvPicPr>
        <p:blipFill>
          <a:blip r:embed="rId2"/>
          <a:stretch/>
        </p:blipFill>
        <p:spPr>
          <a:xfrm>
            <a:off x="1357200" y="142884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-214560"/>
            <a:ext cx="7497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572314"/>
                </a:solidFill>
                <a:latin typeface="Corbel"/>
              </a:rPr>
              <a:t>Життєва осінь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03547.jpg"/>
          <p:cNvPicPr/>
          <p:nvPr/>
        </p:nvPicPr>
        <p:blipFill>
          <a:blip r:embed="rId2"/>
          <a:stretch/>
        </p:blipFill>
        <p:spPr>
          <a:xfrm>
            <a:off x="1214280" y="1285920"/>
            <a:ext cx="7643880" cy="5214960"/>
          </a:xfrm>
          <a:prstGeom prst="rect">
            <a:avLst/>
          </a:prstGeom>
          <a:ln w="0">
            <a:noFill/>
          </a:ln>
        </p:spPr>
      </p:pic>
      <p:pic>
        <p:nvPicPr>
          <p:cNvPr id="348" name="lutzenko01-03.mp3" descr=""/>
          <p:cNvPicPr/>
          <p:nvPr/>
        </p:nvPicPr>
        <p:blipFill>
          <a:blip r:embed="rId3"/>
          <a:stretch/>
        </p:blipFill>
        <p:spPr>
          <a:xfrm>
            <a:off x="12859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448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2286000"/>
            <a:ext cx="864396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Усе любов</a:t>
            </a:r>
            <a:r>
              <a:rPr b="1" i="1" lang="en-US" sz="5400" spc="-1" strike="noStrike">
                <a:solidFill>
                  <a:srgbClr val="572314"/>
                </a:solidFill>
                <a:latin typeface="Gill Sans MT"/>
              </a:rPr>
              <a:t>’</a:t>
            </a: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ю зміряне до дна</a:t>
            </a:r>
            <a:br>
              <a:rPr sz="5400"/>
            </a:b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                                    </a:t>
            </a:r>
            <a:br>
              <a:rPr sz="3900"/>
            </a:b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  Д. Луценк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714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Музей школи №19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museum.jpg"/>
          <p:cNvPicPr/>
          <p:nvPr/>
        </p:nvPicPr>
        <p:blipFill>
          <a:blip r:embed="rId2"/>
          <a:stretch/>
        </p:blipFill>
        <p:spPr>
          <a:xfrm>
            <a:off x="1285920" y="1143000"/>
            <a:ext cx="75009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714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Музей школи №19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museum1_.jpg"/>
          <p:cNvPicPr/>
          <p:nvPr/>
        </p:nvPicPr>
        <p:blipFill>
          <a:blip r:embed="rId2"/>
          <a:stretch/>
        </p:blipFill>
        <p:spPr>
          <a:xfrm>
            <a:off x="1285920" y="1214280"/>
            <a:ext cx="7429320" cy="5286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Скільки нас із доріг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  Не вернулось до отчого дому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6" descr="1941_51.jpg"/>
          <p:cNvPicPr/>
          <p:nvPr/>
        </p:nvPicPr>
        <p:blipFill>
          <a:blip r:embed="rId2"/>
          <a:stretch/>
        </p:blipFill>
        <p:spPr>
          <a:xfrm>
            <a:off x="4071960" y="1071720"/>
            <a:ext cx="4740120" cy="369252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3" descr="1941_8.jpg"/>
          <p:cNvPicPr/>
          <p:nvPr/>
        </p:nvPicPr>
        <p:blipFill>
          <a:blip r:embed="rId3"/>
          <a:stretch/>
        </p:blipFill>
        <p:spPr>
          <a:xfrm>
            <a:off x="1143000" y="3643200"/>
            <a:ext cx="3357720" cy="2954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442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«Радо мене зустр</a:t>
            </a:r>
            <a:r>
              <a:rPr b="0" lang="uk-UA" sz="2900" spc="-1" strike="noStrike">
                <a:solidFill>
                  <a:srgbClr val="572314"/>
                </a:solidFill>
                <a:latin typeface="Corbel"/>
              </a:rPr>
              <a:t>ічала</a:t>
            </a:r>
            <a:br>
              <a:rPr sz="2900"/>
            </a:br>
            <a:r>
              <a:rPr b="0" lang="uk-UA" sz="2900" spc="-1" strike="noStrike">
                <a:solidFill>
                  <a:srgbClr val="572314"/>
                </a:solidFill>
                <a:latin typeface="Corbel"/>
              </a:rPr>
              <a:t>  Мамина вишня в саду…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»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w00136.jpg"/>
          <p:cNvPicPr/>
          <p:nvPr/>
        </p:nvPicPr>
        <p:blipFill>
          <a:blip r:embed="rId2"/>
          <a:stretch/>
        </p:blipFill>
        <p:spPr>
          <a:xfrm>
            <a:off x="2357280" y="1428840"/>
            <a:ext cx="6357960" cy="4943520"/>
          </a:xfrm>
          <a:prstGeom prst="rect">
            <a:avLst/>
          </a:prstGeom>
          <a:ln w="0">
            <a:noFill/>
          </a:ln>
        </p:spPr>
      </p:pic>
      <p:pic>
        <p:nvPicPr>
          <p:cNvPr id="330" name="album_asx.asx" descr=""/>
          <p:cNvPicPr/>
          <p:nvPr/>
        </p:nvPicPr>
        <p:blipFill>
          <a:blip r:embed="rId3"/>
          <a:stretch/>
        </p:blipFill>
        <p:spPr>
          <a:xfrm>
            <a:off x="2500200" y="6072120"/>
            <a:ext cx="23832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Києве мій”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03152.jpg"/>
          <p:cNvPicPr/>
          <p:nvPr/>
        </p:nvPicPr>
        <p:blipFill>
          <a:blip r:embed="rId2"/>
          <a:stretch/>
        </p:blipFill>
        <p:spPr>
          <a:xfrm>
            <a:off x="1714680" y="1428840"/>
            <a:ext cx="664344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Содержимое 5" descr="IMG_1496.JPG"/>
          <p:cNvPicPr/>
          <p:nvPr/>
        </p:nvPicPr>
        <p:blipFill>
          <a:blip r:embed="rId2"/>
          <a:stretch/>
        </p:blipFill>
        <p:spPr>
          <a:xfrm>
            <a:off x="1357200" y="428760"/>
            <a:ext cx="728676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03554.jpg"/>
          <p:cNvPicPr/>
          <p:nvPr/>
        </p:nvPicPr>
        <p:blipFill>
          <a:blip r:embed="rId2"/>
          <a:stretch/>
        </p:blipFill>
        <p:spPr>
          <a:xfrm>
            <a:off x="1285920" y="357120"/>
            <a:ext cx="757224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5T09:38:19Z</dcterms:modified>
  <cp:revision>16</cp:revision>
  <dc:subject/>
  <dc:title>Дмитро Луценко – людина,  поет-пісняр, поет-лір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0000000000001024140</vt:lpwstr>
  </property>
</Properties>
</file>