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5D60-E91E-4EF3-BE20-100575AA1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EFCB-CDA9-476A-A86D-E8353468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D7592-9A19-4883-A2CB-19E5DF2D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4B6A6B-1096-4BD9-9237-C621AD67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71E85-4D45-4DF3-B474-A6E25ED1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03082-EE56-4A84-87CA-F4C4CA20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3FA90-BE92-4A9D-9328-AE2D7AE2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EF817-36EA-41BA-A675-C987FE61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3DDD6-13EA-43BC-B76B-89E92D7E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A9D35-B4AE-4E29-9FAD-FCEB13170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709ED-8605-4B19-A606-6585D0FDE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36586E-0BC6-4AC2-9FE7-44486043C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D16B-0844-4083-A195-469EF8A3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65FB2A-85BD-42E3-BC35-EA65BB08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17F8F3-F137-401E-B375-E60A4B30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B852FC-C20A-4AB5-A8F3-87C31006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D262E-C447-4B02-9309-F3B72DF9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0DE60E-9CBC-4F08-8CF2-9957412A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2F2EAE-F0A6-4AB2-98B5-B0166314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77ACF8-725F-44B5-BEA2-DEBCA32F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BF685-7DBD-46D7-8090-A0D2EBD6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4182C2-2A53-4776-ABE9-047B7DCC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C9D3D-34B7-4740-BACC-904F0AF3E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E327-1664-4673-8BD2-D5DE695B3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B31B6B-6E9A-44AA-B55E-283A96A4B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91DAF-6E57-4ECB-B0C3-44DF03E2E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FA2DF-A103-4151-B34E-1C003A83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3C093-26F6-4D85-8A20-D11697EF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ABB86-2A80-4BE6-B3C8-848E66CB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910C8-AD23-4828-A4FB-94F0FB49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96C70-F49A-457B-9552-ACBBD002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2B999-D740-4E78-937F-DE520EE7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7E705-0FAC-4997-864D-7E619B59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73E42-989E-4C58-8037-A4F436D7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B2FB-B0E3-4BD8-81E4-F20076C21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5BAEB-46B1-4207-AE9C-37E1E9AF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DB5BE-D237-4731-88C7-7D2DC99A9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BE160-A3C4-410E-A319-79EEF7C56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0AD855-ED33-470C-8F26-951343116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7EC479-00EE-45DD-90E0-CC4899E6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7A42C-AE51-4D3A-AFE9-D73CF7B7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E08BA8-22C2-4229-A1B3-0EFBF74C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F279D0-BEDA-4561-AB69-E26865F0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EAEE02-86A4-426A-8771-403C31E6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E624F0-A7A9-442A-A066-656A0653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E02D-D6B4-4038-AD59-67E16DC2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711DB9-813A-40BE-B4BF-0CB0A209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9802EC-243F-4150-9E7E-CF2359B5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191996-5836-4C77-A8B2-9BC8385B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6A4E17-4772-478E-A2DE-A7FE52C68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6F1115-E6C9-438E-B113-B1053C84A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FDAC7A-2298-486A-A52B-4ED3DCC80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E3FB5C-4DBF-413D-938F-FB7481E8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D87EE0-4FBD-4FEC-9F6B-A5284D27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DA3931-FCE7-4D00-9215-C20061DF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7BB7B6-BB67-42FC-9DFC-10F9C19D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FF92-E8DF-41D3-A738-54086B7D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8B3662-6332-4C0E-B009-361CA663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063DDB-092E-40A5-963C-73446D99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9E876A-606B-4CE6-93D2-7A288ED3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2C075A-5D98-4F91-911A-38BBC8BA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79BC33-2C3A-4F52-8AE8-66A001D3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8B883A-157B-4801-817D-551348303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1B50E8-4DC9-4359-9284-3FECF1064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643B9E-5C7C-42FA-94D3-8A32457DE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507BA9-C672-47F7-B99E-C6DF1028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BCDE40-6D42-4C58-B1C1-D89713D2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CB1C-36C2-46A3-BE77-09A57DBC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F6E295-F907-427B-BDB1-B4F1EAF6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E37EE5-10C1-4983-83DE-2361C227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194824-A187-4C2D-AAFD-D35D2130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09671C-3E19-4D74-834E-C062B3C0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B1F797-2996-4883-AD15-6AF2BD89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24A285-DCB2-4C9B-A982-9CA729BB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3174D1-DD54-4F21-9155-2DDFAED1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C91BDC-C9AB-41F8-BF2D-4E56A9EEE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F2D034-04FB-4086-B221-8E1E1BAA0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80A3AB-B7FA-4553-8B44-A5D625DD0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21CC-2B34-40F7-A6F0-6A9A9ACF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AA9291-00C4-4E35-886F-545F4476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093BB0-F903-487F-A063-058A8674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4F0B93-E1DD-420F-9BEC-B6AB6D2C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0B25D0-DDCE-44FF-B968-A8F4F395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99ED5D-A2E7-49B7-87F7-36049938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2E220C-FB3F-4F56-9257-52B6F9A6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C4E065-33FC-40FF-B6D6-4C6F1AF5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2EE689-0B1B-4431-8F02-D4050D95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F49F20-FD6E-46A1-9699-2B317631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72149C-DA1B-4FD3-B5E9-3833CD17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77E3-E78F-4B4D-99FB-438EE4C4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92C2FF-D769-4CD7-AEE1-BA06397E9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6B10156-DE5F-4A15-8E2C-927FEC36D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1FE6C9E-4820-4598-85E4-658EA56C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5AC1780-FF0A-4FF3-8442-80FB4679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436C6D5-3E10-4A75-90A4-F3D77DF9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B793BA8-919B-4AF4-95D8-DFE83BA3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EC0A579-8EF4-4B41-9B8B-73F472AB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CE9CEE1-F608-4BDE-AFE8-C7538917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8567122-4F76-4A52-A638-F8F7575C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6A144D6-8271-4B2E-A392-1B2446D8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DDF6-B9F9-46C8-86A5-7D70DE77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C0E2543-B45E-4207-A261-956633EC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552EFE4-F20B-421E-841D-CFEAAE15F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F37F48A-2A4F-4BB6-840E-5EA9EDD9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7F582E-FF9A-44FE-8B8D-01AFD1774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0FD2E3-2077-4121-8131-BBA12189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8A4981-8C57-4580-8CE3-E4F30779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304213-25DF-45B0-991E-E4B488C6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1120A8-F16B-493E-A25B-357F0928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090147-94CA-4284-ADAD-41CDFF70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17E2B4-125D-41F5-844B-75259B37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5C98-6387-4AD4-A443-A74D8E2F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0242-8952-453C-BB9F-D829468D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9EC376-03B4-4701-86B4-B4204353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185110-E25C-45F6-827B-60501341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C736BA-177E-48F2-9971-DCE8719A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0D36EB-C7DB-4C93-B4E2-5569E41C7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684F32-9880-4EED-BD1F-35A9C83BC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8EE5-BCAE-4F34-8565-FABA4674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9529-2C43-4C5E-B7E4-9CC20D68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C1CA-DB64-4777-949E-60201C362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5BEA-CAAB-470A-AEEA-6873C15E3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1219C-4FE1-466F-9D0A-60A9AE221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1765A-2661-4E0D-9411-48EF45E7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46675-FC48-4287-ADCC-D28AF2AB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40979-6D32-4A21-9239-D9A1D66A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4B264-0D31-4B2E-A623-2E84EB6E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EFFE-BFD3-4D51-8A04-6817F174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7B424-71A9-4219-B1F7-2A79E5D1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448A2-395C-4B30-9573-FB625BA7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AB824-9E77-45AC-9A70-AF10CA0F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CCCB4-100D-4E1D-8F91-C7BC5ADE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26FD9-4883-40F1-9B8D-D99F71DF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B76B8-3D0E-4725-9769-5D4372E00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ED314-5AAB-4F23-A863-3E40349B8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EC0DB-B700-4503-9EE3-25DA33004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C4F7E-EA49-46D5-92E4-7F7D243C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18976-F4B7-4546-A20E-74DE4E7C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2CB5-7B3C-4626-8D22-BDDA894A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83D95-D75F-477F-885A-444D5A1F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B872D-8414-4A3B-8ED1-4EA10601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A4677-88D3-4960-B29B-DCD06F22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C6442-9EA8-4378-8DAD-2F5AEA6D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298C5-5275-41C8-AEA6-C8573032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74B00-1C3A-4F91-863C-B80A697F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E77E3-34C1-4084-9A68-43A450AA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941EF-F3DC-4DB7-BEA7-BEC0D6303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01D36-4D83-47C5-80E7-6DBE72DE6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91236-9DBF-4DDB-9C92-FF8303FCD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72D5-76D6-4A1F-9A1A-9F89075D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85CF6-E231-4E3C-8569-DCD7BA09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122AE-22EA-41AE-878C-84D921D6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5E92A-A5C1-490D-96E8-525316A4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408B0-E652-4652-ABF1-1FC6F97E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95590-BB6D-4F9F-B620-439D1EC3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F8D1E-B06B-4513-B3CF-4FBAE6D3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7E805-0AF1-493E-9995-337CE75F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A3A7F-604C-4392-8718-FB48FD44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08A22-2AD5-452A-ACB6-EA60D9D4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651B1-BFEA-49E8-840F-3D704D72C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8C7C-DC6F-4D27-AC6B-7626D695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3256F-DBD3-4C7E-8125-F1F6CC23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C4EFD-D518-46DD-AD04-6BB029301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F9795-BB07-4F2E-9CF5-E2C61CAA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13345-11E6-48FA-85F2-D080C255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D2C63-B857-4489-A5E5-E3566934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C5613-AACD-469D-9CC0-21C31529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AD009-3D61-4DB9-975E-8F9A407C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E3149-3FBE-4DC3-8F9A-3D629487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63AAB-7FE8-4C10-97E1-35DD95C1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B72B5-8AAE-4C22-8026-F5C17AD3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7C04-3BB0-4070-AE1B-1DA5F539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CD59D-BD90-41CC-B9D0-DC2E4509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C66D2-80B9-4ADD-A7B2-C920495B1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CFAF6-2C1A-4412-86F8-B1D8929E6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F4F34-0B4A-4883-B698-1D3185B0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28D82-C506-44D0-A24E-2CDF17C3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F893F-BD28-45FC-A576-000A70BF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3727B-8F48-40D6-9676-C562F2A8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5456A-1AC7-40BB-A88A-B3FB53BA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0EBFB-6142-45C0-B3CD-E7C93BAC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E793F-8B53-4AE7-A37E-06DDA33F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690C-0949-4C6B-BCD0-F708E9EE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33B42-872E-4155-BBBF-AA948930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F1A9A-0FE1-4EDA-AB70-09B7A5E0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D367E-7566-4E2A-85B2-32196D83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F695D-C90F-4373-B872-3C89FE4B2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07003-56D9-4DF6-9CEF-2AEFB4B5B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09D26-5BEC-40FB-81AC-10232328A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CC873-CA84-4FDC-91CB-B3415E9B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A5558-55A8-4584-9FA8-E3EBA41B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C91B0-97DE-486B-9C06-0BDB46BD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B004D-5BA8-4B71-9108-0C91C303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B70B-7150-44F6-B552-83BC5388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19EE9-65ED-4811-8108-626DB08B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B3C71-768A-42F7-8B28-7C35AF22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DB128-9B5A-4A59-AC1E-9D940B77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C9CC9-77B4-43D0-87AF-D039C2D4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CC2A5-BAE6-4C5E-A8CF-680F386F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66E52-30BE-44CF-8A0E-480949EC5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ADE6F-1AED-4CCE-9AF0-C952CE6C0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A9FD6-E0C8-43FE-8DAC-0FBB0D98F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65972A-DB1B-48C8-A94A-0AD7EBF2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D577F-F4B7-441B-92A2-0EBC7527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5EEF-275D-47F4-800D-2608998B5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4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8F8C-C376-4D8A-A452-CE20B27164F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89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98C1-2316-4745-BEC1-127E720CBA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37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7950-09DB-4C33-92E6-93378222F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97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CE47-36DF-452F-954E-CF10E42D4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756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PlaceHolder 1"/>
          <p:cNvSpPr>
            <a:spLocks noGrp="1"/>
          </p:cNvSpPr>
          <p:nvPr>
            <p:ph type="dt" idx="4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ftr" idx="4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85EA-B93C-437C-B82B-EE84BBBCC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5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806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dt" idx="4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 type="ftr" idx="4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 type="sldNum" idx="4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8432-6336-4970-8B2D-02D6411BB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5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ftr" idx="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7645-9825-4871-BD70-52EFEE89B7E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dt" idx="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91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7281-DE18-47DA-B669-1D77B9C7991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2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A295-0BC2-4525-BACE-B7B392F2F9E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9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1F10-7071-438C-AE0F-B28088622F6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55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FCA7-D75C-4EBF-BDF3-7FE005A2CA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3955-0873-44C1-88F9-690511758D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40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19D5-B409-48D9-96BB-9F4468366B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285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19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ftr" idx="20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21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89AF-F62A-4107-ACAB-A0FA39E14F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30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32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44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63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81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8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0AFB-1DA9-492E-B79F-583D949D3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5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37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49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68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86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3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9FEC-740B-44FC-B500-677C31FFE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0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042920" y="580500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Уривок з етюду М. Черемшини «Добрий вечір, пане брате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1128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Жайворонки злетілися і над дитиною збили крильцями та й заголосили, аж дєдя і мати жахнулися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Дєдя казали, що укрутили би жайворонкам в'язи за того, що дитині ворожуть жайворончину долю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...Із криничок вилетів вітрець і обкрутився над дитиною, та й прикликав хмари, і закрив сонце перед її оченя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А відтак прилетіли чорні птахи та й все поле вкрили і закря­кали. Розгримілися громи — і земля під пшеницями задрижала, заблискали блискавиці — і його долю над селом виписували, розіллялися води — і його щастя споліскували та й у ріку за­бирали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Збоялися за дитину жайворонки і хотіли її крильцями на­кри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Але мама поклали її у пазуху та й тулили до свого серця і пла­кали, що небо із бурею на її дитину змовилося та її керваву до­рогу призначи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А як заклекотів кований віз і дєдя везли у село і маму, і ди­тину, то жайворонки летіли мокріські за возом і так, жалібно спі­вали, що всі села на дорогу повиходи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Мужики прижмурювали свої глибокі очі і розпізнавали, що цю дитину птахи у неба випросили, аби ввесь смуток із сіл зібрала та. й аби його буйним вітром вгору передала. Та й казали, що цей хлопець буде сонечком села гріти і землю дощиком роси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3816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ff0000"/>
                </a:solidFill>
                <a:latin typeface="Baskerville Old Face"/>
              </a:rPr>
              <a:t>У 1883 році Стефаник вступає до польської гімназії в Коломи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uk-UA" sz="2400" spc="-1" strike="noStrike">
                <a:solidFill>
                  <a:srgbClr val="ffffff"/>
                </a:solidFill>
                <a:latin typeface="Baskerville Old Face"/>
              </a:rPr>
              <a:t>«Я пішов від мами у біленькій сорочці, сам білий. З білої сорочечки сміялися. Кривдили мене і ранили, я ходив тихонько, як біленький кіт, аби паничики не чули. Я чув свою підлість за тихий хід і кров моя діточа з серця капала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8c0039"/>
                </a:solidFill>
                <a:latin typeface="Arial"/>
              </a:rPr>
              <a:t>Питанн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пояснити таку реакцію хлопц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2352240" y="4796640"/>
            <a:ext cx="454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ston"/>
              </a:rPr>
              <a:t>«Покутська трійц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498960" y="6102360"/>
            <a:ext cx="202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Baskerville Old Face"/>
              </a:rPr>
              <a:t>Лесь Март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708360" y="3500280"/>
            <a:ext cx="203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Baskerville Old Face"/>
              </a:rPr>
              <a:t>Василь Стефа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5644800" y="630864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Baskerville Old Face"/>
              </a:rPr>
              <a:t>Марко Черемш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/>
          </p:nvPr>
        </p:nvSpPr>
        <p:spPr>
          <a:xfrm>
            <a:off x="4211640" y="90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«Писати я почав дуже рано, ще в гімназії, та величезний талант Мартовича просто паралізував мене, і я ніколи не признавався, що я також письменник»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8" name="" descr="Стефаник Василь"/>
          <p:cNvPicPr/>
          <p:nvPr/>
        </p:nvPicPr>
        <p:blipFill>
          <a:blip r:embed="rId1"/>
          <a:stretch/>
        </p:blipFill>
        <p:spPr>
          <a:xfrm>
            <a:off x="1116000" y="1268280"/>
            <a:ext cx="305748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/>
          </p:nvPr>
        </p:nvSpPr>
        <p:spPr>
          <a:xfrm>
            <a:off x="2050920" y="691920"/>
            <a:ext cx="460872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askerville Old Face"/>
              </a:rPr>
              <a:t>У 1890 році Стефаник у зв'язку із звинуваченням в нелегальній громадсько-культурній роботі змушений був залишити навчання в Коломиї і продовжити його в Дрогобицькій гімназії. Там він брав участь у громадському житті, став членом таємного гуртка молоді, особисто познайомився з Франком, з яким потім підтримував дружні зв'яз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0" name="Содержимое 4" descr="pic1.gif"/>
          <p:cNvPicPr/>
          <p:nvPr/>
        </p:nvPicPr>
        <p:blipFill>
          <a:blip r:embed="rId2"/>
          <a:stretch/>
        </p:blipFill>
        <p:spPr>
          <a:xfrm>
            <a:off x="6443640" y="2924280"/>
            <a:ext cx="2319480" cy="3411360"/>
          </a:xfrm>
          <a:prstGeom prst="rect">
            <a:avLst/>
          </a:prstGeom>
          <a:ln w="0">
            <a:noFill/>
          </a:ln>
        </p:spPr>
      </p:pic>
      <p:pic>
        <p:nvPicPr>
          <p:cNvPr id="1001" name="" descr=""/>
          <p:cNvPicPr/>
          <p:nvPr/>
        </p:nvPicPr>
        <p:blipFill>
          <a:blip r:embed="rId3"/>
          <a:stretch/>
        </p:blipFill>
        <p:spPr>
          <a:xfrm>
            <a:off x="250920" y="476280"/>
            <a:ext cx="1895400" cy="2808360"/>
          </a:xfrm>
          <a:prstGeom prst="rect">
            <a:avLst/>
          </a:prstGeom>
          <a:ln w="0">
            <a:noFill/>
          </a:ln>
        </p:spPr>
      </p:pic>
      <p:pic>
        <p:nvPicPr>
          <p:cNvPr id="1002" name="" descr=""/>
          <p:cNvPicPr/>
          <p:nvPr/>
        </p:nvPicPr>
        <p:blipFill>
          <a:blip r:embed="rId4"/>
          <a:stretch/>
        </p:blipFill>
        <p:spPr>
          <a:xfrm>
            <a:off x="6588000" y="333360"/>
            <a:ext cx="239076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8c0039"/>
                </a:solidFill>
                <a:latin typeface="Arial"/>
              </a:rPr>
              <a:t>Запитанн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е враження справив на вас Стефаник-студен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Baskerville Old Face"/>
              </a:rPr>
              <a:t>Після закінчення гімназії (1892) Стефаник вступає на медичний факультет Краківського університету. Однак, за визнанням письменника, з тією медициною “вийшло діло без пуття”. Замість студіювання медицини він поринає у літературне і громадське життя Кракова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Сімейні драм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ffffff"/>
                </a:solidFill>
                <a:latin typeface="Arial"/>
              </a:rPr>
              <a:t>В останній рік навчання в Дрогобицькій гімназії помирає старша сестра Марія, що була для Василя і вихователем, і другом-порадником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ffffff"/>
                </a:solidFill>
                <a:latin typeface="Arial"/>
              </a:rPr>
              <a:t>У 1899 році помирає перша любов Василя — Євгенія Бачинська. Туберкульоз знищив її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ffffff"/>
                </a:solidFill>
                <a:latin typeface="Arial"/>
              </a:rPr>
              <a:t>У 1890 році Василь втратив матір Оксану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ffffff"/>
                </a:solidFill>
                <a:latin typeface="Arial"/>
              </a:rPr>
              <a:t>Весілля батька з Василевою ровесницею.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сторінках газети “Праця” у 1897 році під редакцією Вячеслава Будзиновського з’являються перші новели Стефаника, які одразу засвідчують, що в літературу прийшов неперевершений майстер. Пан Морачевський береться за переклади творів покутянина на польську мову. Він уже має успіх як письменник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Творчість письменника</a:t>
            </a:r>
            <a:br>
              <a:rPr sz="4000"/>
            </a:b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першого період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1899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askerville Old Face"/>
              </a:rPr>
              <a:t>У Чернівцях вийшла у світ перша збірка новел — «Синя книжечка», яка принесла Василю Стефанику загальне визнання, була зустрінута захопленими відгуками найбільших літературних авторитетів, , серед яких, крім І.Франка, були Леся Українка, М.Коцюбинський, О.Кобилянська, стала помітною віхою в розвитку української прози. Автор «Синьої книжечки» звернув на себе увагу насамперед показом трагедії селян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8c0039"/>
                </a:solidFill>
                <a:latin typeface="Arial"/>
              </a:rPr>
              <a:t>Запитанн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оментуючи яскраві символічні картини пейзажу, подані в етюді, скажіть, яке майбутнє пророкувала природа ново­народженому хлопчик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ви розумієте слова останнього абзац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1900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askerville Old Face"/>
              </a:rPr>
              <a:t>Вийшла друга збірка Стефаника — «Камінний хрест». У другій збірці головне місце займає тема, що хвилювала письменника протягом усього творчого життя, — одинока старість, трагедія зайвих ротів у бідних селянських родина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4" name="" descr=""/>
          <p:cNvPicPr/>
          <p:nvPr/>
        </p:nvPicPr>
        <p:blipFill>
          <a:blip r:embed="rId1"/>
          <a:stretch/>
        </p:blipFill>
        <p:spPr>
          <a:xfrm>
            <a:off x="5364000" y="1197000"/>
            <a:ext cx="281952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90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askerville Old Face"/>
              </a:rPr>
              <a:t>Вийшла в світ третя збірка новел В.Стефаника — «Дорога», яка становила новий крок у розвитку його провідних ідейно-художніх принципів. У збірці переважають новели безсюжетні, лірично-емоційного плану: «Давнина», «Вістуни»,  «Сон», «Озимина», «Злодій», «Палій», «Кленові листк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7" name="" descr=""/>
          <p:cNvPicPr/>
          <p:nvPr/>
        </p:nvPicPr>
        <p:blipFill>
          <a:blip r:embed="rId1"/>
          <a:stretch/>
        </p:blipFill>
        <p:spPr>
          <a:xfrm>
            <a:off x="5435640" y="126828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Baskerville Old Face"/>
              </a:rPr>
              <a:t>190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askerville Old Face"/>
              </a:rPr>
              <a:t>Вийшла в світ четверта збірка письменника — “Моє слово”. В ній уперше була надрукована новела “Суд”, яка завершує перший період творчості Стефаника.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0" name="" descr=""/>
          <p:cNvPicPr/>
          <p:nvPr/>
        </p:nvPicPr>
        <p:blipFill>
          <a:blip r:embed="rId1"/>
          <a:stretch/>
        </p:blipFill>
        <p:spPr>
          <a:xfrm>
            <a:off x="824040" y="1557360"/>
            <a:ext cx="3097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837720" y="765000"/>
            <a:ext cx="80074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Baskerville Old Face"/>
              </a:rPr>
              <a:t>26 січня 1904 року Василь Стефаник одружився з Ольгою Гаморак, надзвичайно розумною, делікатною і мужньою дівчиною з прогресивної сім'ї. Її батько високо цінував творчість зятя і після прочитання «Синьої книжечки» сказав: «Не пиши так, бо помреш». Сімейне щастя Стефаника тривало всього десять років. У лютому 1914 року Ольга померла, залишивши Василеві дрібних діток — трьох синів: </a:t>
            </a:r>
            <a:r>
              <a:rPr b="1" lang="ru-RU" sz="3200" spc="-1" strike="noStrike">
                <a:solidFill>
                  <a:srgbClr val="ffffff"/>
                </a:solidFill>
                <a:latin typeface="Baskerville Old Face"/>
              </a:rPr>
              <a:t>Семена, Кирила та Юрі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eec94"/>
                </a:solidFill>
                <a:latin typeface="Baskerville Old Face"/>
              </a:rPr>
              <a:t>Більше 10 років </a:t>
            </a:r>
            <a:br>
              <a:rPr sz="4000"/>
            </a:br>
            <a:r>
              <a:rPr b="0" lang="uk-UA" sz="4000" spc="-1" strike="noStrike">
                <a:solidFill>
                  <a:srgbClr val="feec94"/>
                </a:solidFill>
                <a:latin typeface="Baskerville Old Face"/>
              </a:rPr>
              <a:t>творчого мовчання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askerville Old Face"/>
              </a:rPr>
              <a:t>Після творчих успіхів надходить і затишшя. У 1905 році Стефаник надовго перестає писати, і з 1908 до 1918 року стає послом до австрійського парламенту. Про його діяльність на посаді розповідають численні матеріали та листи, які він адресував імперським чиновникам та допомагав селянам вирішувати їхні справ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8c0039"/>
                </a:solidFill>
                <a:latin typeface="Arial"/>
              </a:rPr>
              <a:t>Запитанн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и висловлювали свої думки про Стефаника-сина, про Стефаника-людину, Стефаника-батька. Що ви можете сказати про Стефаника-громадянин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ccecff"/>
                </a:solidFill>
                <a:latin typeface="Arial"/>
              </a:rPr>
              <a:t>Другий період творчості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1371600" y="2997000"/>
            <a:ext cx="6400800" cy="26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Baskerville Old Face"/>
              </a:rPr>
              <a:t>У 1925 році з'явилася нова збірка новел «Земля». Вона засвідчила, що письменник не втратив майстерності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askerville Old Face"/>
              </a:rPr>
              <a:t>1916р. Стефаник пише новелу “Марія”, яку присвячує пам'яті Франка. За “Марією” письменник публікує шість новел, які разом із двома названими творами другого періоду (“Діточа пригода” і “Марія”) склали п'яту збірку — “Вона — земля”, видану 1926р.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Baskerville Old Face"/>
              </a:rPr>
              <a:t>1926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askerville Old Face"/>
              </a:rPr>
              <a:t>Вийшла в світ п’ята збірка «Вона – земля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1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279576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askerville Old Face"/>
              </a:rPr>
              <a:t>1927-193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askerville Old Face"/>
              </a:rPr>
              <a:t>Василь Стефаник публікує більше десяти нов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askerville Old Face"/>
              </a:rPr>
              <a:t>1935-193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askerville Old Face"/>
              </a:rPr>
              <a:t>В останні роки життя В.Стефаник пише автобіографічні новели, белетризовані спогади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ccecff"/>
                </a:solidFill>
                <a:latin typeface="Baskerville Old Face"/>
              </a:rPr>
              <a:t>«БЕТХОВЕН УКРАЇНСЬКОГО СЛОВА».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Baskerville Old Face"/>
              </a:rPr>
              <a:t>(ЖИТТЯ І ТВОРЧІСТЬ ВАСИЛЯ СТЕФАНИК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935280" y="345960"/>
            <a:ext cx="197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ecff"/>
                </a:solidFill>
                <a:latin typeface="Baskerville Old Face"/>
              </a:rPr>
              <a:t>Тема урок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Baskerville Old Face"/>
              </a:rPr>
              <a:t>В. Стефаник написав 72 новели, писав публіцистичні статті. А ще листи, які самі по собі — маленькі драми. Така його творча спадщи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8c0039"/>
                </a:solidFill>
                <a:latin typeface="Arial"/>
              </a:rPr>
              <a:t>Запитанн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ви вважаєте, така творча спадщина — багато чи ма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/>
          </p:nvPr>
        </p:nvSpPr>
        <p:spPr>
          <a:xfrm>
            <a:off x="755640" y="836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Baskerville Old Face"/>
              </a:rPr>
              <a:t>Помер В. Стефаник 7 грудня 1936 р. у Русові від серцевого нападу. За заповітом митця поховали в рідному селі, поруч із могилою матері, адже відчуваючи подих смерті, він не раз повторю­вав: «То, небожата, мені вже треба йди до моєї мами».</a:t>
            </a:r>
            <a:r>
              <a:rPr b="1" lang="ru-RU" sz="2400" spc="-1" strike="noStrike">
                <a:solidFill>
                  <a:srgbClr val="ffffff"/>
                </a:solidFill>
                <a:latin typeface="Baskerville Old Face"/>
              </a:rPr>
              <a:t> Похорон був настільки великий, що такого Русів з всю свою історію не пам’ятав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7" name="" descr=""/>
          <p:cNvPicPr/>
          <p:nvPr/>
        </p:nvPicPr>
        <p:blipFill>
          <a:blip r:embed="rId1"/>
          <a:stretch/>
        </p:blipFill>
        <p:spPr>
          <a:xfrm>
            <a:off x="5076720" y="3357720"/>
            <a:ext cx="378000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ви вважаєте, чи справедливо Микола Шудря назвав Василя Стефаника “Бетховеном українського слова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8278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Baskerville Old Face"/>
              </a:rPr>
              <a:t>     </a:t>
            </a:r>
            <a:r>
              <a:rPr b="1" i="1" lang="ru-RU" sz="2800" spc="-1" strike="noStrike">
                <a:solidFill>
                  <a:srgbClr val="ffff00"/>
                </a:solidFill>
                <a:latin typeface="Baskerville Old Face"/>
              </a:rPr>
              <a:t>Народився Василь Семенович Стефаник </a:t>
            </a: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Baskerville Old Face"/>
              </a:rPr>
              <a:t>14 травня 1871 року в с. Русів (тепер Снятинського району Івано-Франківської області) в сім'ї заможного селянина. 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/>
          </p:nvPr>
        </p:nvSpPr>
        <p:spPr>
          <a:xfrm>
            <a:off x="324000" y="4437000"/>
            <a:ext cx="88200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Baskerville Old Face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одина жила заможно. Хоча під час пожежі у великодню п’ятницю 1911 року в родини згоріла хата. Проте мати винесла подушку, в якій були зашиті гроші. Так рід Стефаників знову залишився багатим. Семен натомість побудував ще більший будинок, який стоїть і донині. Зараз там знаходиться меморіальна частина музею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8c0039"/>
                </a:solidFill>
                <a:latin typeface="Arial"/>
              </a:rPr>
              <a:t>Запитанн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і особливості вдачі майбутнього письменника можна було визначити вже в дитинств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3419640" y="97200"/>
            <a:ext cx="5227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0000"/>
                </a:solidFill>
                <a:latin typeface="Arial"/>
              </a:rPr>
              <a:t>У 1880 році Семен Стефаник відвіз хлопчика в Снятин, де Василя зарахували до другого класу міської школи.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Baskerville Old Face"/>
              </a:rPr>
              <a:t>«Тут мене почали би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Baskerville Old Face"/>
              </a:rPr>
              <a:t>хоч дома мої батьки ніколи мене не били»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13:52:22Z</dcterms:created>
  <dc:creator>Леся</dc:creator>
  <dc:description/>
  <dc:language>en-US</dc:language>
  <cp:lastModifiedBy>Леся</cp:lastModifiedBy>
  <dcterms:modified xsi:type="dcterms:W3CDTF">2012-02-28T10:24:35Z</dcterms:modified>
  <cp:revision>4</cp:revision>
  <dc:subject/>
  <dc:title>Русів – батьківщина Василя Стефан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a0b000000000001024140</vt:lpwstr>
  </property>
</Properties>
</file>