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4253-6298-4AD2-9ABC-E9FCB377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0EBE-CD9E-43C8-A9C2-0B212533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CB84C-0E46-4DC4-93B2-52C0A0CC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D24B1-376C-4621-B83B-E8F220E9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7FFA5-A5E8-4184-A83C-DB38EA70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BFE9C-97FA-4CAB-A3C0-6486993E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35045-20FF-42B0-B02B-FC68DD5F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24DF6-7948-4442-9004-968DEFBC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C19A8-894F-4714-A572-C7645940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132B2-730D-4142-823F-F9595A47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F463D-1D75-4B8F-8F5A-4FAC3D18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BA861-F6FD-4578-BE2D-B3DF8047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3AE-1BE0-4404-95F9-C519DB05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33A3F-3D3E-4A06-8666-4A541F9F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BDBD5-D6BA-458C-8377-443D9B5C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ACACE-9775-4A6D-8289-99819145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8709E-4DBC-4518-B992-2C9E8E02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4F047-BCCE-4EC1-B36B-A7CA4E9D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6266E-129C-4169-9FDC-24258DF3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304C3-452B-4550-A73E-9AFECF68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AAAC9-5658-4FBA-B03C-79CB3DB1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71AE0-61A8-4C9E-86B0-96EAE570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0952B-B3EF-4067-9287-25510F97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989C-AFDA-484F-9A18-8812F51A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73E73-96D2-4305-92F3-76634929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7181A-0C5A-42CF-858A-30CDB142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46830-2D55-4B3B-A972-5C3BF18D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2736B-149C-4846-8ED0-7442F301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96E5C-2CA3-4A40-9464-03DACB45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5DE41-8451-4CCF-B6A8-502EE85D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08CB5-1BE4-4132-AAB8-F5BCACB2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5DFFB-1808-47E9-9C1E-220A2E38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2C5C4-276F-4A0F-940F-B044EFEA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D9246-C13A-40C5-95F1-FB32779B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4FAD-A483-4F92-95CB-26347EAA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B61A6-F5D1-49AB-B91D-9ADEDCF1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877B7-7A47-49F4-9B68-DD0AA0A6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259F7-8683-4DF3-9B81-E7BB5444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A8911-5478-4D65-BB0C-15CFC60C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35BC7-0145-4BC8-894A-8CEBCCDA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29934-B9DC-4B34-AA27-40C1595F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4D03C-4DC4-4B36-99F7-8A805C0D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5DF6A-D73E-4CD0-821E-BE3F2F44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66E59-64B2-41D2-854F-D76D0244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B2D1A-940D-42DD-B8E1-3BF34494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60F2-9D7D-4069-8DE0-44CD9BFA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B65E0-1310-4343-B15B-0C94ABAB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F8F90-EF65-4785-AE68-F0D6C06E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32507-2AFF-4FA6-98E9-233FAF90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6FC47-876E-495B-9A2D-B570346E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75AED-975D-42A2-9CC7-96BD104A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8DDC74-B5BB-46D3-A03C-0F21FED2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278F83-8AD4-42F6-B11D-B25E16C1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2C1773-E38F-4B1E-A436-AF1BD1A8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C1A8E1-25EF-4E37-AD45-319AD8CA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40AA40-95D2-49E4-9472-D60F6906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18BB-C439-4235-85A4-549E1B8E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B9654E-5AA2-4EF6-B437-5EE50AE1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57154E-D349-458A-A4D6-7EA53F09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24874B-3FB0-4E17-997D-B63EF750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5ABF6-1AA3-44AE-804B-74913E83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48A4DE-382D-4434-90F5-1808D485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8B172-037B-4520-BEFF-AFC4CD63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FA476-D092-4A0E-8EBD-0DC257C9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1A2B19-6461-4739-B6D7-33667C4F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6C775-01C0-41C6-9C83-570D75F4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528E2E-CC11-466D-BE9B-E9C67BA3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9505-CD52-4BC5-870E-23E3D067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B5CA32-46F0-4DDB-87B0-BFCE6E9E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2C81D-9302-4975-971B-26C57D9D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B172E0-9B23-48D9-A691-1A3465A5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DF7729-F337-4308-82F1-78FF574A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64D4B3-FD50-4A81-B2BC-32EFB404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635175-C275-49BD-9D0D-9E354B8C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B5A5CD-D87D-42AD-83D2-211B2329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45C990-AF19-44BA-8177-DF338A8B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1A98FA-5957-4636-8CB5-0D32680C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A5EFA8-F76C-47F1-9014-F067A45B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F4A8-5A83-48A1-B51B-4A4D0D5D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4B7E9F-9E48-4B76-A4CC-3F36E469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474A47-390E-4568-B676-66337003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FB0082-BBF7-4791-A675-AC35C3FF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54CBAE-44BE-4C72-B9ED-65ECABD8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B98317-42F0-4200-9D16-493C7D8C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188593-089A-4D16-A641-B765CF1C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7F7009-2AF4-4A2A-ABF2-49487995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6BFEAA-82FA-4A47-8F59-42502BE1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31CB37-299B-4CC1-B35E-84233BAC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1C0393-9739-4DE1-940E-31B661E3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07C3-E116-4F7B-A375-AD9D032B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F5E59B-17BE-4D39-8C5D-03E25632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F34EF1C-8F04-445A-888A-BCD98FD0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75BC64A-909A-42DC-9CE3-49690977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F4ADD05-EB37-4A24-A18C-3D66A16E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5995EE9-903F-4E5A-99D9-D198C0DE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F36E39-834D-4D3C-852D-19F1454E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ED8E10C-B2F8-43DF-BBB8-8A6D9757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804895E-0135-4762-A442-0176DB04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AEE6A49-D8B2-44DE-AF95-70A3AC56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55E6AEC-D2B5-4F05-A51C-A7EC42AD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D0A7-71F0-4E11-B22B-A7C97B15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996E819-FB43-416C-AE3E-D97FD5A2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6495A46-A99C-4C58-B1F1-8D1B5B36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43E519-3714-4E46-AD69-8568F4B4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00955D-47D4-4BC8-A4CB-0D9EB289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E665E2-49A0-4B68-A929-A08A7C84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851E7D-9B1A-4A7B-9924-7843092E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09285E-58D5-4E9A-9F42-BE6C9BA5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962890-B29B-484C-B17D-7E7FE471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5020AD-F814-4ED4-A16C-C18F649F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2AC1EE-05E8-4ADC-9436-AFD9031A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0409-152F-432B-A477-371AF57D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74A8-BD5E-473A-B708-4FF362D1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5D61EF-3E1B-48AD-A7C2-E03CBF67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B18C3C-4B57-41B2-8C78-CF2B33D2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DB6824-3F92-49D1-A9CD-08BCDA42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013F84-3CBB-4628-A0F9-2F323E84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B8430F-F523-43CA-8A03-84A4421B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BBB0-759B-4F01-80D9-5310C85B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834A-32CC-4447-BFCD-29160424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65AC-3D3F-447F-8726-8256FE3D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443A-2486-4854-B5E3-5117F5D1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75F05-05B9-4774-9180-A2294D07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26D1F-49C2-4458-84C1-45DBA51A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FCDFC-4614-4594-ABC5-52EA997E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2CE92-BBB9-4129-A3BE-0D83C2E2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09F24-8337-41BF-B10E-6E183F84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38A4-3EFD-4FCC-9711-2DAD0405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FBF48-219F-457E-82D1-5E582D00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55BD6-5404-4B42-A35A-658CC1FD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60813-FAC6-404B-8601-EECFA19A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2B3A8-691D-46F2-8306-0F9997ED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6D384-7180-42CB-B3BA-F40B554A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EF762-97DB-489C-9546-EE0B2AB0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B66EC-DE9B-41C4-96DF-00C36634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76D5C-0B0B-4560-A234-E77DA83A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4F960-3D7A-45C9-8D9E-3D45C4B4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B6E5A-8027-43E4-876C-C731ACE9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3E0D-610B-4377-AB1E-0B94AD25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6B43C-D69C-45AB-9685-CC409F8F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3283F-D4AC-40FD-BC06-89BE1361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2572B-95DE-4052-B58F-171296D5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6D423-C89D-4AF2-AB2B-C65A8988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36A5E-2CFB-480E-B2C0-CBF75CBB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E3A3B-4B8F-4B63-99B2-7077482D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46E61-F92E-4F4A-B848-CC628A56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872CE-10A9-4847-AD37-BAD752FC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7C032-FFF6-47C4-9F4D-E38DAD45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7C37D-D905-43EF-A33D-30161AE0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55AF-3BB4-4402-8FE3-CEAB2BFE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58B04-7C3F-40BB-8CC1-A0206A07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C93CF-A6BC-4436-A85B-6521DE1B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0A2CC-53FA-4988-9027-8373B02B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AB2A6-54DE-41B3-B433-F28F67D8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5753C-19F6-469C-A851-A2924EFF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C79B9-357C-4C02-8D52-03C5621F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487BE-DC41-4788-B19A-1925209F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5C7B6-7863-429D-8886-157FB13B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9BF1B-8509-4680-8D55-1F08EFAB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D6A10-6422-4B03-B9BF-0197C23A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B97-A6E7-4BA6-9C9E-D9D00D09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9021F-5CA2-4EB3-8C49-96B28BC7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D4F69-8974-4184-A29C-C3D56109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C81DE-16CE-472D-80E9-E8B202B9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7C317-FEC5-4FEE-8D40-60F97525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7D915-4804-4B1B-B72C-C79258D1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DAA86-BA85-4351-9D29-BAB8BB91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44B47-8C30-421C-94D4-3DDA0D97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DEFD3-D425-42C1-82AB-058D2BE3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55DFE-50D4-4F2A-BA72-0B4B2D7F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FD2B4-ACC3-46E8-8B16-1F5DF794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6D4C-FB8E-4F4E-9619-2316A4EE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E0C13-4E49-43BE-855D-D37A8376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DEC9D-13EC-4B4D-BC0E-B4067A0A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D7E8A-651A-40A2-8607-B17F1610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DB745-6196-45BE-AF4E-0D2EAC50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E7F17-C959-4E61-A839-6F294B89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60271-6CC3-4BB7-BAD7-C06C261B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B3EE1-FF3E-42C6-A303-B8989C1B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CA952-51B7-49E7-B146-309A11BB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3ABC6-9AF9-431B-A376-31015962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6E89B-3D2F-4B3E-9AC5-80A3403D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E282-19B6-46A6-9663-D7069387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94E32-1667-4ED8-988B-981FC3DE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55BE7-E85A-4438-AC40-F04E0C55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09EDC-3A01-44B8-BB70-372B929D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8BCAC-CD31-4F54-9BFB-ED3CFD06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D87F7-8CEE-4FD4-A5EE-752DC9C4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4863E-D54C-4364-9C02-AD9C6106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07065-1664-43EA-9496-361191BD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C0B42-9687-4E9D-8418-EA22621F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4A65A-3C07-4D2F-8D9B-94994ED3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40519-0E5D-4982-AF9E-5AD2E90F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E6B-4927-405E-81D3-804E3C95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76ACF-9A7F-449E-AEF7-029AA257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75F1F-3D87-4178-B3C7-6E0111D3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4D39A-D136-4C74-BC5D-29D6BB30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B377D-AF83-408F-9B50-79AE1E5F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B161E-129C-4891-AA2B-FF3CD577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B3F72-FA42-4FB5-A18F-A47F12A2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D5FD4-DE63-42A4-AB8C-FAF53963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4C64B-B6B5-4DCC-A19B-AEC41892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A81D9-8680-47AE-A196-8C2951ED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B9731-3DA2-418D-A58E-4EED3AFB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787E-55EE-4FA2-905D-6812EFFC7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4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B47B-5B18-49C7-92DE-795C083154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8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9319-3034-4AD5-A76A-1EDEA75FCF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3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B14F-00EC-42C3-9C46-6A954BDF5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9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B40D-A4EF-4E02-8325-8F842BEE6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56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PlaceHolder 1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FA83-BC20-460E-B19F-D7F0FF9C3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06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dt" idx="4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ftr" idx="4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6DEF-AD92-425A-B67A-7DA774BF2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5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ftr" idx="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F0D0-2C1F-4B9F-A09F-EEE976D632C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1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61B0-7BF6-49BF-9B5B-166D7BEB90F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6668-2C81-48AA-81DB-FA95788213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92A6-22E0-4E38-BE5A-429B378AA6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55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6EF6-BB00-4D8F-A4E0-C476E5C804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BB39-6652-4D0F-BCEB-F94EE59050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40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F41E-901F-424A-AC35-9A30BE3D57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85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19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20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21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5546-8903-4B3D-BF91-0A38447071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30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32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44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6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81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8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CC4F-FE38-4E25-A9A1-E4B3110FB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5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37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49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6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86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7675-6A85-48D7-BAFE-6AFC7FF60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0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042920" y="580500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Уривок з етюду М. Черемшини «Добрий вечір, пане брате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1128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Жайворонки злетілися і над дитиною збили крильцями та й заголосили, аж дєдя і мати жахнулися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Дєдя казали, що укрутили би жайворонкам в'язи за того, що дитині ворожуть жайворончину долю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...Із криничок вилетів вітрець і обкрутився над дитиною, та й прикликав хмари, і закрив сонце перед її оченя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А відтак прилетіли чорні птахи та й все поле вкрили і закря­кали. Розгримілися громи — і земля під пшеницями задрижала, заблискали блискавиці — і його долю над селом виписували, розіллялися води — і його щастя споліскували та й у ріку за­бирали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Збоялися за дитину жайворонки і хотіли її крильцями на­кри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Але мама поклали її у пазуху та й тулили до свого серця і пла­кали, що небо із бурею на її дитину змовилося та її керваву до­рогу призначи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А як заклекотів кований віз і дєдя везли у село і маму, і ди­тину, то жайворонки летіли мокріські за возом і так, жалібно спі­вали, що всі села на дорогу повиходи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Мужики прижмурювали свої глибокі очі і розпізнавали, що цю дитину птахи у неба випросили, аби ввесь смуток із сіл зібрала та. й аби його буйним вітром вгору передала. Та й казали, що цей хлопець буде сонечком села гріти і землю дощиком роси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3816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0000"/>
                </a:solidFill>
                <a:latin typeface="Baskerville Old Face"/>
              </a:rPr>
              <a:t>У 1883 році Стефаник вступає до польської гімназії в Коломи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uk-UA" sz="2400" spc="-1" strike="noStrike">
                <a:solidFill>
                  <a:srgbClr val="ffffff"/>
                </a:solidFill>
                <a:latin typeface="Baskerville Old Face"/>
              </a:rPr>
              <a:t>«Я пішов від мами у біленькій сорочці, сам білий. З білої сорочечки сміялися. Кривдили мене і ранили, я ходив тихонько, як біленький кіт, аби паничики не чули. Я чув свою підлість за тихий хід і кров моя діточа з серця капала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Питанн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пояснити таку реакцію хлопц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2352240" y="4796640"/>
            <a:ext cx="454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ston"/>
              </a:rPr>
              <a:t>«Покутська трійц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98960" y="6102360"/>
            <a:ext cx="202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Baskerville Old Face"/>
              </a:rPr>
              <a:t>Лесь Март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708360" y="3500280"/>
            <a:ext cx="20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Baskerville Old Face"/>
              </a:rPr>
              <a:t>Василь Стефа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644800" y="630864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Baskerville Old Face"/>
              </a:rPr>
              <a:t>Марко Черемш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421164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«Писати я почав дуже рано, ще в гімназії, та величезний талант Мартовича просто паралізував мене, і я ніколи не признавався, що я також письменник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" descr="Стефаник Василь"/>
          <p:cNvPicPr/>
          <p:nvPr/>
        </p:nvPicPr>
        <p:blipFill>
          <a:blip r:embed="rId1"/>
          <a:stretch/>
        </p:blipFill>
        <p:spPr>
          <a:xfrm>
            <a:off x="1116000" y="1268280"/>
            <a:ext cx="305748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/>
          </p:nvPr>
        </p:nvSpPr>
        <p:spPr>
          <a:xfrm>
            <a:off x="2050920" y="691920"/>
            <a:ext cx="460872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askerville Old Face"/>
              </a:rPr>
              <a:t>У 1890 році Стефаник у зв'язку із звинуваченням в нелегальній громадсько-культурній роботі змушений був залишити навчання в Коломиї і продовжити його в Дрогобицькій гімназії. Там він брав участь у громадському житті, став членом таємного гуртка молоді, особисто познайомився з Франком, з яким потім підтримував дружні зв'яз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Содержимое 4" descr="pic1.gif"/>
          <p:cNvPicPr/>
          <p:nvPr/>
        </p:nvPicPr>
        <p:blipFill>
          <a:blip r:embed="rId2"/>
          <a:stretch/>
        </p:blipFill>
        <p:spPr>
          <a:xfrm>
            <a:off x="6443640" y="2924280"/>
            <a:ext cx="2319480" cy="3411360"/>
          </a:xfrm>
          <a:prstGeom prst="rect">
            <a:avLst/>
          </a:prstGeom>
          <a:ln w="0">
            <a:noFill/>
          </a:ln>
        </p:spPr>
      </p:pic>
      <p:pic>
        <p:nvPicPr>
          <p:cNvPr id="1001" name="" descr=""/>
          <p:cNvPicPr/>
          <p:nvPr/>
        </p:nvPicPr>
        <p:blipFill>
          <a:blip r:embed="rId3"/>
          <a:stretch/>
        </p:blipFill>
        <p:spPr>
          <a:xfrm>
            <a:off x="250920" y="476280"/>
            <a:ext cx="1895400" cy="2808360"/>
          </a:xfrm>
          <a:prstGeom prst="rect">
            <a:avLst/>
          </a:prstGeom>
          <a:ln w="0">
            <a:noFill/>
          </a:ln>
        </p:spPr>
      </p:pic>
      <p:pic>
        <p:nvPicPr>
          <p:cNvPr id="1002" name="" descr=""/>
          <p:cNvPicPr/>
          <p:nvPr/>
        </p:nvPicPr>
        <p:blipFill>
          <a:blip r:embed="rId4"/>
          <a:stretch/>
        </p:blipFill>
        <p:spPr>
          <a:xfrm>
            <a:off x="6588000" y="333360"/>
            <a:ext cx="23907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Запитанн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е враження справив на вас Стефаник-студен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Baskerville Old Face"/>
              </a:rPr>
              <a:t>Після закінчення гімназії (1892) Стефаник вступає на медичний факультет Краківського університету. Однак, за визнанням письменника, з тією медициною “вийшло діло без пуття”. Замість студіювання медицини він поринає у літературне і громадське життя Кракова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Сімейні драм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ffffff"/>
                </a:solidFill>
                <a:latin typeface="Arial"/>
              </a:rPr>
              <a:t>В останній рік навчання в Дрогобицькій гімназії помирає старша сестра Марія, що була для Василя і вихователем, і другом-порадником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ffffff"/>
                </a:solidFill>
                <a:latin typeface="Arial"/>
              </a:rPr>
              <a:t>У 1899 році помирає перша любов Василя — Євгенія Бачинська. Туберкульоз знищив її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ffffff"/>
                </a:solidFill>
                <a:latin typeface="Arial"/>
              </a:rPr>
              <a:t>У 1890 році Василь втратив матір Оксану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ffffff"/>
                </a:solidFill>
                <a:latin typeface="Arial"/>
              </a:rPr>
              <a:t>Весілля батька з Василевою ровесницею.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сторінках газети “Праця” у 1897 році під редакцією Вячеслава Будзиновського з’являються перші новели Стефаника, які одразу засвідчують, що в літературу прийшов неперевершений майстер. Пан Морачевський береться за переклади творів покутянина на польську мову. Він уже має успіх як письменник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Творчість письменника</a:t>
            </a:r>
            <a:br>
              <a:rPr sz="4000"/>
            </a:b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першого період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899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askerville Old Face"/>
              </a:rPr>
              <a:t>У Чернівцях вийшла у світ перша збірка новел — «Синя книжечка», яка принесла Василю Стефанику загальне визнання, була зустрінута захопленими відгуками найбільших літературних авторитетів, , серед яких, крім І.Франка, були Леся Українка, М.Коцюбинський, О.Кобилянська, стала помітною віхою в розвитку української прози. Автор «Синьої книжечки» звернув на себе увагу насамперед показом трагедії селян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Запитанн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ментуючи яскраві символічні картини пейзажу, подані в етюді, скажіть, яке майбутнє пророкувала природа ново­народженому хлопчик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ви розумієте слова останнього абзац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900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askerville Old Face"/>
              </a:rPr>
              <a:t>Вийшла друга збірка Стефаника — «Камінний хрест». У другій збірці головне місце займає тема, що хвилювала письменника протягом усього творчого життя, — одинока старість, трагедія зайвих ротів у бідних селянських родин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281952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90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askerville Old Face"/>
              </a:rPr>
              <a:t>Вийшла в світ третя збірка новел В.Стефаника — «Дорога», яка становила новий крок у розвитку його провідних ідейно-художніх принципів. У збірці переважають новели безсюжетні, лірично-емоційного плану: «Давнина», «Вістуни»,  «Сон», «Озимина», «Злодій», «Палій», «Кленові листк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1"/>
          <a:stretch/>
        </p:blipFill>
        <p:spPr>
          <a:xfrm>
            <a:off x="5435640" y="126828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Baskerville Old Face"/>
              </a:rPr>
              <a:t>190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askerville Old Face"/>
              </a:rPr>
              <a:t>Вийшла в світ четверта збірка письменника — “Моє слово”. В ній уперше була надрукована новела “Суд”, яка завершує перший період творчості Стефаника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1"/>
          <a:stretch/>
        </p:blipFill>
        <p:spPr>
          <a:xfrm>
            <a:off x="824040" y="1557360"/>
            <a:ext cx="3097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837720" y="765000"/>
            <a:ext cx="80074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Baskerville Old Face"/>
              </a:rPr>
              <a:t>26 січня 1904 року Василь Стефаник одружився з Ольгою Гаморак, надзвичайно розумною, делікатною і мужньою дівчиною з прогресивної сім'ї. Її батько високо цінував творчість зятя і після прочитання «Синьої книжечки» сказав: «Не пиши так, бо помреш». Сімейне щастя Стефаника тривало всього десять років. У лютому 1914 року Ольга померла, залишивши Василеві дрібних діток — трьох синів: </a:t>
            </a:r>
            <a:r>
              <a:rPr b="1" lang="ru-RU" sz="3200" spc="-1" strike="noStrike">
                <a:solidFill>
                  <a:srgbClr val="ffffff"/>
                </a:solidFill>
                <a:latin typeface="Baskerville Old Face"/>
              </a:rPr>
              <a:t>Семена, Кирила та Юрі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eec94"/>
                </a:solidFill>
                <a:latin typeface="Baskerville Old Face"/>
              </a:rPr>
              <a:t>Більше 10 років </a:t>
            </a:r>
            <a:br>
              <a:rPr sz="4000"/>
            </a:br>
            <a:r>
              <a:rPr b="0" lang="uk-UA" sz="4000" spc="-1" strike="noStrike">
                <a:solidFill>
                  <a:srgbClr val="feec94"/>
                </a:solidFill>
                <a:latin typeface="Baskerville Old Face"/>
              </a:rPr>
              <a:t>творчого мовчання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askerville Old Face"/>
              </a:rPr>
              <a:t>Після творчих успіхів надходить і затишшя. У 1905 році Стефаник надовго перестає писати, і з 1908 до 1918 року стає послом до австрійського парламенту. Про його діяльність на посаді розповідають численні матеріали та листи, які він адресував імперським чиновникам та допомагав селянам вирішувати їхні справ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Запитанн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и висловлювали свої думки про Стефаника-сина, про Стефаника-людину, Стефаника-батька. Що ви можете сказати про Стефаника-громадянин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cecff"/>
                </a:solidFill>
                <a:latin typeface="Arial"/>
              </a:rPr>
              <a:t>Другий період творчості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26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Baskerville Old Face"/>
              </a:rPr>
              <a:t>У 1925 році з'явилася нова збірка новел «Земля». Вона засвідчила, що письменник не втратив майстерності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askerville Old Face"/>
              </a:rPr>
              <a:t>1916р. Стефаник пише новелу “Марія”, яку присвячує пам'яті Франка. За “Марією” письменник публікує шість новел, які разом із двома названими творами другого періоду (“Діточа пригода” і “Марія”) склали п'яту збірку — “Вона — земля”, видану 1926р.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Baskerville Old Face"/>
              </a:rPr>
              <a:t>1926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askerville Old Face"/>
              </a:rPr>
              <a:t>Вийшла в світ п’ята збірка «Вона – земля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1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27957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askerville Old Face"/>
              </a:rPr>
              <a:t>1927-19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askerville Old Face"/>
              </a:rPr>
              <a:t>Василь Стефаник публікує більше десяти нов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askerville Old Face"/>
              </a:rPr>
              <a:t>1935-19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askerville Old Face"/>
              </a:rPr>
              <a:t>В останні роки життя В.Стефаник пише автобіографічні новели, белетризовані спогади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ccecff"/>
                </a:solidFill>
                <a:latin typeface="Baskerville Old Face"/>
              </a:rPr>
              <a:t>«БЕТХОВЕН УКРАЇНСЬКОГО СЛОВА».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Baskerville Old Face"/>
              </a:rPr>
              <a:t>(ЖИТТЯ І ТВОРЧІСТЬ ВАСИЛЯ СТЕФАНИК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935280" y="345960"/>
            <a:ext cx="197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ecff"/>
                </a:solidFill>
                <a:latin typeface="Baskerville Old Face"/>
              </a:rPr>
              <a:t>Тема урок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Baskerville Old Face"/>
              </a:rPr>
              <a:t>В. Стефаник написав 72 новели, писав публіцистичні статті. А ще листи, які самі по собі — маленькі драми. Така його творча спадщи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Запитанн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ви вважаєте, така творча спадщина — багато чи ма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Baskerville Old Face"/>
              </a:rPr>
              <a:t>Помер В. Стефаник 7 грудня 1936 р. у Русові від серцевого нападу. За заповітом митця поховали в рідному селі, поруч із могилою матері, адже відчуваючи подих смерті, він не раз повторю­вав: «То, небожата, мені вже треба йди до моєї мами».</a:t>
            </a:r>
            <a:r>
              <a:rPr b="1" lang="ru-RU" sz="2400" spc="-1" strike="noStrike">
                <a:solidFill>
                  <a:srgbClr val="ffffff"/>
                </a:solidFill>
                <a:latin typeface="Baskerville Old Face"/>
              </a:rPr>
              <a:t> Похорон був настільки великий, що такого Русів з всю свою історію не пам’ятав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5076720" y="3357720"/>
            <a:ext cx="37800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ви вважаєте, чи справедливо Микола Шудря назвав Василя Стефаника “Бетховеном українського слова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278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askerville Old Face"/>
              </a:rPr>
              <a:t>     </a:t>
            </a:r>
            <a:r>
              <a:rPr b="1" i="1" lang="ru-RU" sz="2800" spc="-1" strike="noStrike">
                <a:solidFill>
                  <a:srgbClr val="ffff00"/>
                </a:solidFill>
                <a:latin typeface="Baskerville Old Face"/>
              </a:rPr>
              <a:t>Народився Василь Семенович Стефаник 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Baskerville Old Face"/>
              </a:rPr>
              <a:t>14 травня 1871 року в с. Русів (тепер Снятинського району Івано-Франківської області) в сім'ї заможного селянина.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/>
          </p:nvPr>
        </p:nvSpPr>
        <p:spPr>
          <a:xfrm>
            <a:off x="324000" y="4437000"/>
            <a:ext cx="88200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Baskerville Old Face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одина жила заможно. Хоча під час пожежі у великодню п’ятницю 1911 року в родини згоріла хата. Проте мати винесла подушку, в якій були зашиті гроші. Так рід Стефаників знову залишився багатим. Семен натомість побудував ще більший будинок, який стоїть і донині. Зараз там знаходиться меморіальна частина музею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Запитанн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особливості вдачі майбутнього письменника можна було визначити вже в дитинств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3419640" y="97200"/>
            <a:ext cx="5227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0000"/>
                </a:solidFill>
                <a:latin typeface="Arial"/>
              </a:rPr>
              <a:t>У 1880 році Семен Стефаник відвіз хлопчика в Снятин, де Василя зарахували до другого класу міської школи.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Baskerville Old Face"/>
              </a:rPr>
              <a:t>«Тут мене почали би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Baskerville Old Face"/>
              </a:rPr>
              <a:t>хоч дома мої батьки ніколи мене не били»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3:52:22Z</dcterms:created>
  <dc:creator>Леся</dc:creator>
  <dc:description/>
  <dc:language>en-US</dc:language>
  <cp:lastModifiedBy>Леся</cp:lastModifiedBy>
  <dcterms:modified xsi:type="dcterms:W3CDTF">2012-02-28T10:24:35Z</dcterms:modified>
  <cp:revision>4</cp:revision>
  <dc:subject/>
  <dc:title>Русів – батьківщина Василя Стефан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b000000000001024140</vt:lpwstr>
  </property>
</Properties>
</file>