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6118B-805D-49EE-BEA7-55D5823E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5A944-E874-4C16-9E01-2E19DFD17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D5669-3825-4067-990D-5CCDB352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143F0-0305-46B0-A4BA-6E3B74E9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54F6-2A1A-46B8-AF6A-F7165ED58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2269-AA00-4FFC-BF4D-F8C2252C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1EB4-EA93-4154-87A2-03ECC624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63E1-2059-49AB-BA21-5C1398A6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6334-CFD6-4946-92FD-D1324313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7EA77-D60A-491A-8AE5-BA45BC37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8764-7D74-4A08-AC68-EB802FA0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82EB9-13F1-4EC5-83A5-B70A518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FC7B-84D8-4F8E-923C-B2E4F08C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A8DF-CF34-4C04-BFBF-F52CA7B9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8D45-B595-456C-BEE5-1219B6A4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A525-8854-4A92-8BD3-CEF541B0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1D11-743A-40A0-8340-E911D9DDC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6EDE7-A636-4C24-ACE8-6DCADFCA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5D83-F90C-40A5-9A78-0CB26AC2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F46C3-3683-499D-BBCF-C969F3BF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89718-530D-4516-B655-D499F515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18293-A5C8-4669-80FB-A2FCEE4A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C286-A0C3-4B0B-B556-3B040A10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DEFB2-EA30-4EDB-93B5-A3D2DB41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" name="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" name="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44" name="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78" name="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120" name="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"/>
          </p:nvPr>
        </p:nvSpPr>
        <p:spPr>
          <a:xfrm>
            <a:off x="68580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sldNum" idx="2"/>
          </p:nvPr>
        </p:nvSpPr>
        <p:spPr>
          <a:xfrm>
            <a:off x="6553080" y="61718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D24E-2E38-4575-8914-5F7215B2233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3"/>
          </p:nvPr>
        </p:nvSpPr>
        <p:spPr>
          <a:xfrm>
            <a:off x="3124080" y="61718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-30600" y="6120"/>
            <a:ext cx="9195120" cy="6834240"/>
            <a:chOff x="-30600" y="6120"/>
            <a:chExt cx="9195120" cy="6834240"/>
          </a:xfrm>
        </p:grpSpPr>
        <p:grpSp>
          <p:nvGrpSpPr>
            <p:cNvPr id="195" name=""/>
            <p:cNvGrpSpPr/>
            <p:nvPr/>
          </p:nvGrpSpPr>
          <p:grpSpPr>
            <a:xfrm>
              <a:off x="90000" y="6120"/>
              <a:ext cx="8894880" cy="368640"/>
              <a:chOff x="90000" y="6120"/>
              <a:chExt cx="8894880" cy="368640"/>
            </a:xfrm>
          </p:grpSpPr>
          <p:sp>
            <p:nvSpPr>
              <p:cNvPr id="196" name=""/>
              <p:cNvSpPr/>
              <p:nvPr/>
            </p:nvSpPr>
            <p:spPr>
              <a:xfrm flipH="1">
                <a:off x="896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0800000">
                <a:off x="302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5184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0800000">
                <a:off x="729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9414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0800000">
                <a:off x="1152360" y="576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136440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10800000">
                <a:off x="15696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78524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0800000">
                <a:off x="1994040" y="576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20428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0800000">
                <a:off x="241596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628360" y="648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0800000">
                <a:off x="283644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304812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0800000">
                <a:off x="32608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3471840" y="6480"/>
                <a:ext cx="4334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0800000">
                <a:off x="367776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3890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0800000">
                <a:off x="41018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431496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0800000">
                <a:off x="4525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7340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494460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515700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536688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558000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578772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59983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0800000">
                <a:off x="620820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641916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0800000">
                <a:off x="6630480" y="576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845400" y="6480"/>
                <a:ext cx="4363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0800000">
                <a:off x="705492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72637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0800000">
                <a:off x="7475040" y="5760"/>
                <a:ext cx="435240" cy="36828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7686720" y="648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0800000">
                <a:off x="7899480" y="5760"/>
                <a:ext cx="4348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812412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0800000">
                <a:off x="8337240" y="5760"/>
                <a:ext cx="438120" cy="3682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8547840" y="6480"/>
                <a:ext cx="436680" cy="3682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726040" y="6480"/>
              <a:ext cx="438480" cy="6832440"/>
              <a:chOff x="8726040" y="6480"/>
              <a:chExt cx="438480" cy="6832440"/>
            </a:xfrm>
          </p:grpSpPr>
          <p:sp>
            <p:nvSpPr>
              <p:cNvPr id="238" name=""/>
              <p:cNvSpPr/>
              <p:nvPr/>
            </p:nvSpPr>
            <p:spPr>
              <a:xfrm>
                <a:off x="8766000" y="648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rot="5400000">
                <a:off x="8765280" y="34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16200000">
                <a:off x="8766000" y="2505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 rot="5400000">
                <a:off x="8766360" y="4651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200000">
                <a:off x="8766000" y="6886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 rot="5400000">
                <a:off x="8765280" y="8982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6200000">
                <a:off x="8766000" y="111240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5400000">
                <a:off x="8765280" y="13237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6200000">
                <a:off x="8766000" y="1533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5400000">
                <a:off x="8765280" y="17427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6200000">
                <a:off x="8766000" y="195696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5400000">
                <a:off x="8765280" y="2166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6200000">
                <a:off x="8766000" y="23778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5400000">
                <a:off x="8766360" y="259092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6200000">
                <a:off x="8766000" y="28015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5400000">
                <a:off x="8765280" y="30128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16200000">
                <a:off x="8766000" y="322524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5400000">
                <a:off x="8765280" y="34351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16200000">
                <a:off x="8766000" y="364608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5400000">
                <a:off x="8766360" y="38592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6200000">
                <a:off x="8766000" y="40701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5400000">
                <a:off x="8765280" y="428112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16200000">
                <a:off x="8766000" y="44906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5400000">
                <a:off x="8765280" y="470340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16200000">
                <a:off x="8766000" y="491472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5400000">
                <a:off x="8765280" y="512424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6200000">
                <a:off x="8766360" y="5338800"/>
                <a:ext cx="35856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766000" y="6400800"/>
                <a:ext cx="35892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5400000">
                <a:off x="8765280" y="554976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6200000">
                <a:off x="8766000" y="5759280"/>
                <a:ext cx="35856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5400000">
                <a:off x="8766000" y="5976360"/>
                <a:ext cx="358920" cy="43488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200000">
                <a:off x="8766000" y="61862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rot="5400000">
                <a:off x="8765280" y="6400440"/>
                <a:ext cx="35892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5640" y="6481800"/>
              <a:ext cx="8738640" cy="358560"/>
              <a:chOff x="35640" y="6481800"/>
              <a:chExt cx="8738640" cy="358560"/>
            </a:xfrm>
          </p:grpSpPr>
          <p:sp>
            <p:nvSpPr>
              <p:cNvPr id="272" name=""/>
              <p:cNvSpPr/>
              <p:nvPr/>
            </p:nvSpPr>
            <p:spPr>
              <a:xfrm rot="10800000">
                <a:off x="8545680" y="6483240"/>
                <a:ext cx="217440" cy="355680"/>
              </a:xfrm>
              <a:prstGeom prst="rtTriangle">
                <a:avLst/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8332920" y="648324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0800000">
                <a:off x="8121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913520" y="6483240"/>
                <a:ext cx="4384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0800000">
                <a:off x="7699320" y="6481800"/>
                <a:ext cx="4413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7475400" y="648324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 rot="10800000">
                <a:off x="725472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437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rot="10800000">
                <a:off x="68284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61824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rot="10800000">
                <a:off x="64076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9596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 rot="10800000">
                <a:off x="598536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73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rot="10800000">
                <a:off x="55630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3546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 rot="10800000">
                <a:off x="51393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930920" y="648324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rot="10800000">
                <a:off x="471708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152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 rot="10800000">
                <a:off x="429624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8636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rot="10800000">
                <a:off x="3875040" y="648180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6640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rot="10800000">
                <a:off x="34495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241800" y="6483240"/>
                <a:ext cx="43344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 rot="10800000">
                <a:off x="30279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rot="10800000">
                <a:off x="2608200" y="6481800"/>
                <a:ext cx="4348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39544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rot="10800000">
                <a:off x="2184480" y="6481800"/>
                <a:ext cx="4363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7316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rot="10800000">
                <a:off x="175932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55268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10800000">
                <a:off x="1338120" y="6481800"/>
                <a:ext cx="4399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128600" y="648324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0800000">
                <a:off x="916560" y="648180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04880" y="648324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800000">
                <a:off x="473760" y="6481800"/>
                <a:ext cx="439560" cy="357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63520" y="6483240"/>
                <a:ext cx="43812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rot="10800000">
                <a:off x="35280" y="6481800"/>
                <a:ext cx="436680" cy="357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-30600" y="6480"/>
              <a:ext cx="438480" cy="6832440"/>
              <a:chOff x="-30600" y="6480"/>
              <a:chExt cx="438480" cy="6832440"/>
            </a:xfrm>
          </p:grpSpPr>
          <p:sp>
            <p:nvSpPr>
              <p:cNvPr id="314" name=""/>
              <p:cNvSpPr/>
              <p:nvPr/>
            </p:nvSpPr>
            <p:spPr>
              <a:xfrm>
                <a:off x="6480" y="640080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6200000">
                <a:off x="6120" y="6368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rot="5400000">
                <a:off x="5400" y="61592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200000">
                <a:off x="6480" y="594828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 rot="5400000">
                <a:off x="5040" y="573372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6200000">
                <a:off x="6120" y="55242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rot="5400000">
                <a:off x="5400" y="53146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200000">
                <a:off x="6120" y="5100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rot="5400000">
                <a:off x="5040" y="488916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6200000">
                <a:off x="6120" y="4679640"/>
                <a:ext cx="36540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rot="5400000">
                <a:off x="5400" y="4465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6200000">
                <a:off x="6120" y="42559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rot="5400000">
                <a:off x="5400" y="40464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6200000">
                <a:off x="6480" y="383544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 rot="5400000">
                <a:off x="5400" y="3620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6200000">
                <a:off x="6120" y="34113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rot="5400000">
                <a:off x="6120" y="32004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6200000">
                <a:off x="6120" y="29876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rot="5400000">
                <a:off x="5400" y="27763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16200000">
                <a:off x="6120" y="256680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rot="5400000">
                <a:off x="5400" y="23540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16200000">
                <a:off x="6120" y="21430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rot="5400000">
                <a:off x="5400" y="19317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16200000">
                <a:off x="6480" y="1722600"/>
                <a:ext cx="365040" cy="43488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 rot="5400000">
                <a:off x="5400" y="15094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6200000">
                <a:off x="6120" y="129852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b5006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 rot="5400000">
                <a:off x="6120" y="1090080"/>
                <a:ext cx="365400" cy="434880"/>
              </a:xfrm>
              <a:prstGeom prst="triangle">
                <a:avLst>
                  <a:gd name="adj" fmla="val 49995"/>
                </a:avLst>
              </a:prstGeom>
              <a:solidFill>
                <a:srgbClr val="6c009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6200000">
                <a:off x="6120" y="87444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rot="5400000">
                <a:off x="5400" y="6681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f297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16200000">
                <a:off x="6120" y="45396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751fe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480" y="6480"/>
                <a:ext cx="365040" cy="438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 rot="5400000">
                <a:off x="5400" y="2332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0b7a5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6200000">
                <a:off x="6120" y="29880"/>
                <a:ext cx="365040" cy="438120"/>
              </a:xfrm>
              <a:prstGeom prst="triangle">
                <a:avLst>
                  <a:gd name="adj" fmla="val 49995"/>
                </a:avLst>
              </a:prstGeom>
              <a:solidFill>
                <a:srgbClr val="0100b4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4"/>
          </p:nvPr>
        </p:nvSpPr>
        <p:spPr>
          <a:xfrm>
            <a:off x="68580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5"/>
          </p:nvPr>
        </p:nvSpPr>
        <p:spPr>
          <a:xfrm>
            <a:off x="3124080" y="601992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9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F3CB-4291-4C15-842A-10AE26C129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uk-UA" sz="3600" spc="-1" strike="noStrike">
                <a:solidFill>
                  <a:srgbClr val="00b7a5"/>
                </a:solidFill>
                <a:latin typeface="Times New Roman"/>
              </a:rPr>
              <a:t>ЛІТЕРАТУРА РІДНОГО КРАЮ. МОЛИТВА У ТВОРЧОСТІ  ТЕТЯНИ ЯКОВ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’</a:t>
            </a:r>
            <a:r>
              <a:rPr b="0" lang="uk-UA" sz="3600" spc="-1" strike="noStrike">
                <a:solidFill>
                  <a:srgbClr val="00b7a5"/>
                </a:solidFill>
                <a:latin typeface="Times New Roman"/>
              </a:rPr>
              <a:t>ЮК</a:t>
            </a:r>
            <a:r>
              <a:rPr b="0" lang="uk-UA" sz="3200" spc="-1" strike="noStrike">
                <a:solidFill>
                  <a:srgbClr val="00b7a5"/>
                </a:solidFill>
                <a:latin typeface="Times New Roman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ЛАН ЗАНЯТТ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1. МОЛИТВА ЯК РЕЛІГІЙНО-ФІЛОСОФСЬКИЙ ЖАН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2. ЛІТЕРАТУРНА МОЛИ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3.МОЛИТВА У ТВОРЧОСТІ ТЕТЯНИ ЯКО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Ю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2031-146B-422C-8656-A2B264F8A9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5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67AD-0529-44DD-9B6D-9EE5E82C1C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3"/>
          <p:cNvSpPr/>
          <p:nvPr/>
        </p:nvSpPr>
        <p:spPr>
          <a:xfrm>
            <a:off x="685800" y="1816200"/>
            <a:ext cx="777240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1" name="Picture 5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50101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Номер слайда 5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A948-A3C1-4970-A198-D59A857BD55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2286000" y="428760"/>
            <a:ext cx="413064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Номер слайда 5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DC21-A1DF-42CC-B14E-BF1BF0394C5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Picture 64" descr=""/>
          <p:cNvPicPr/>
          <p:nvPr/>
        </p:nvPicPr>
        <p:blipFill>
          <a:blip r:embed="rId1"/>
          <a:stretch/>
        </p:blipFill>
        <p:spPr>
          <a:xfrm>
            <a:off x="2490840" y="404640"/>
            <a:ext cx="40258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Номер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F093-A2ED-4976-BB68-E8ACC86388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2286000" y="430200"/>
            <a:ext cx="447660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5437-1F68-41E7-9B8B-715E2F4085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1"/>
          <a:stretch/>
        </p:blipFill>
        <p:spPr>
          <a:xfrm>
            <a:off x="539640" y="720720"/>
            <a:ext cx="807264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Номер слайда 1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45B8-14FB-4954-A912-DA21603A771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2268360" y="404640"/>
            <a:ext cx="46958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1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3AEF-3D7F-4046-91C5-4B9F371792C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38322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817740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b7a5"/>
                </a:solidFill>
                <a:latin typeface="Times New Roman"/>
              </a:rPr>
              <a:t>Молитва – це світло для душі, посередниця між Богом і людьми, лік на болі, мир для душі, небесна провідниця в дорозі…, вона прикрашає людину всяким добром і покриває душу різними чеснотами…  </a:t>
            </a:r>
            <a:br>
              <a:rPr sz="3600"/>
            </a:br>
            <a:br>
              <a:rPr sz="3600"/>
            </a:br>
            <a:r>
              <a:rPr b="0" lang="uk-UA" sz="3600" spc="-1" strike="noStrike">
                <a:solidFill>
                  <a:srgbClr val="00b7a5"/>
                </a:solidFill>
                <a:latin typeface="Times New Roman"/>
              </a:rPr>
              <a:t>                                   </a:t>
            </a:r>
            <a:r>
              <a:rPr b="0" lang="en-US" sz="3600" spc="-1" strike="noStrike">
                <a:solidFill>
                  <a:srgbClr val="00b7a5"/>
                </a:solidFill>
                <a:latin typeface="Times New Roman"/>
              </a:rPr>
              <a:t>      </a:t>
            </a:r>
            <a:r>
              <a:rPr b="0" lang="uk-UA" sz="3600" spc="-1" strike="noStrike">
                <a:solidFill>
                  <a:srgbClr val="00b7a5"/>
                </a:solidFill>
                <a:latin typeface="Times New Roman"/>
              </a:rPr>
              <a:t>Іван Золотоуст                                                                                                            </a:t>
            </a:r>
            <a:endParaRPr b="0" lang="en-US" sz="36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36" name="Номер слайда 1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771D-8D2B-4C1D-A4F8-24268993089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uk-UA" sz="4400" spc="-1" strike="noStrike">
                <a:solidFill>
                  <a:srgbClr val="00b7a5"/>
                </a:solidFill>
                <a:latin typeface="Times New Roman"/>
              </a:rPr>
              <a:t>МЕНІ Ж, МІЙ БОЖЕ, НА</a:t>
            </a:r>
            <a:br>
              <a:rPr sz="4400"/>
            </a:br>
            <a:r>
              <a:rPr b="0" lang="uk-UA" sz="4400" spc="-1" strike="noStrike">
                <a:solidFill>
                  <a:srgbClr val="00b7a5"/>
                </a:solidFill>
                <a:latin typeface="Times New Roman"/>
              </a:rPr>
              <a:t>                                          ЗЕМЛІ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7a5"/>
                </a:solidFill>
                <a:latin typeface="Times New Roman"/>
              </a:rPr>
              <a:t>ПОДАЙ ЛЮБОВ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7a5"/>
                </a:solidFill>
                <a:latin typeface="Times New Roman"/>
              </a:rPr>
              <a:t>                    </a:t>
            </a:r>
            <a:r>
              <a:rPr b="0" lang="uk-UA" sz="4400" spc="-1" strike="noStrike">
                <a:solidFill>
                  <a:srgbClr val="00b7a5"/>
                </a:solidFill>
                <a:latin typeface="Times New Roman"/>
              </a:rPr>
              <a:t>СЕРДЕЧНИЙ РАЙ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7a5"/>
                </a:solidFill>
                <a:latin typeface="Times New Roman"/>
              </a:rPr>
              <a:t>                           </a:t>
            </a:r>
            <a:r>
              <a:rPr b="0" lang="uk-UA" sz="4400" spc="-1" strike="noStrike">
                <a:solidFill>
                  <a:srgbClr val="00b7a5"/>
                </a:solidFill>
                <a:latin typeface="Times New Roman"/>
              </a:rPr>
              <a:t>Т.ШЕВЧЕНКО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6FB27-1480-4026-90E9-E1D7FFFC6C5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929360" cy="52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b7a5"/>
                </a:solidFill>
                <a:latin typeface="Times New Roman"/>
              </a:rPr>
              <a:t>МОЛИТВАМИ РЯТУЮСЬ САМ-НА-САМ.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b7a5"/>
                </a:solidFill>
                <a:latin typeface="Times New Roman"/>
              </a:rPr>
              <a:t>ШЕПОЧЕ АНГЕЛ ЇХ МЕНІ НА ВУХО.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b7a5"/>
                </a:solidFill>
                <a:latin typeface="Times New Roman"/>
              </a:rPr>
              <a:t>БО, ДЯКУВАТИ БОГУ Й НЕБЕСАМ,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b7a5"/>
                </a:solidFill>
                <a:latin typeface="Times New Roman"/>
              </a:rPr>
              <a:t>Я СКЛАДЕНА ІЗ ВОЛІ, СИЛИ Й ДУХУ!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b7a5"/>
                </a:solidFill>
                <a:latin typeface="Times New Roman"/>
              </a:rPr>
              <a:t>                                              Т.ЯКОВ</a:t>
            </a:r>
            <a:r>
              <a:rPr b="0" lang="en-US" sz="3200" spc="-1" strike="noStrike">
                <a:solidFill>
                  <a:srgbClr val="00b7a5"/>
                </a:solidFill>
                <a:latin typeface="Times New Roman"/>
              </a:rPr>
              <a:t>’</a:t>
            </a:r>
            <a:r>
              <a:rPr b="0" lang="uk-UA" sz="3200" spc="-1" strike="noStrike">
                <a:solidFill>
                  <a:srgbClr val="00b7a5"/>
                </a:solidFill>
                <a:latin typeface="Times New Roman"/>
              </a:rPr>
              <a:t>ЮК</a:t>
            </a:r>
            <a:endParaRPr b="0" lang="en-US" sz="32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4" name="Номер слайда 5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CC14-6C9A-494F-8111-B2C92C7BF0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571680" y="428760"/>
            <a:ext cx="7986600" cy="50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457200" y="3962520"/>
            <a:ext cx="8381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07264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b7a5"/>
                </a:solidFill>
                <a:latin typeface="Times New Roman"/>
              </a:rPr>
              <a:t>МОЛИТВА – ЦЕ </a:t>
            </a:r>
            <a:br>
              <a:rPr sz="6600"/>
            </a:br>
            <a:br>
              <a:rPr sz="6600"/>
            </a:br>
            <a:r>
              <a:rPr b="0" lang="uk-UA" sz="6600" spc="-1" strike="noStrike">
                <a:solidFill>
                  <a:srgbClr val="00b7a5"/>
                </a:solidFill>
                <a:latin typeface="Times New Roman"/>
              </a:rPr>
              <a:t>РОЗМОВА З БОГОМ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b7a5"/>
                </a:solidFill>
                <a:latin typeface="Times New Roman"/>
              </a:rPr>
              <a:t>               </a:t>
            </a:r>
            <a:r>
              <a:rPr b="0" lang="uk-UA" sz="4400" spc="-1" strike="noStrike">
                <a:solidFill>
                  <a:srgbClr val="00b7a5"/>
                </a:solidFill>
                <a:latin typeface="Times New Roman"/>
              </a:rPr>
              <a:t>Святий Августин</a:t>
            </a:r>
            <a:r>
              <a:rPr b="0" lang="en-US" sz="4400" spc="-1" strike="noStrike">
                <a:solidFill>
                  <a:srgbClr val="00b7a5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398" name="Номер слайда 5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E8A7-E346-4569-B0C3-587B3BC4D3B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9"/>
          <p:cNvSpPr/>
          <p:nvPr/>
        </p:nvSpPr>
        <p:spPr>
          <a:xfrm>
            <a:off x="762120" y="17524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13"/>
          <p:cNvSpPr/>
          <p:nvPr/>
        </p:nvSpPr>
        <p:spPr>
          <a:xfrm>
            <a:off x="762120" y="35812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6840" cy="581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b7a5"/>
                </a:solidFill>
                <a:latin typeface="Times New Roman"/>
              </a:rPr>
              <a:t>МОЛИТВА – ЦЕ ПІДНЕСЕННЯ ДУХА ДО БОГ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b7a5"/>
                </a:solidFill>
                <a:latin typeface="Times New Roman"/>
              </a:rPr>
              <a:t>            </a:t>
            </a:r>
            <a:r>
              <a:rPr b="0" lang="uk-UA" sz="4400" spc="-1" strike="noStrike">
                <a:solidFill>
                  <a:srgbClr val="00b7a5"/>
                </a:solidFill>
                <a:latin typeface="Times New Roman"/>
              </a:rPr>
              <a:t>Святий Іван Дамаскин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F00B-D910-4502-A04E-9B7A8D31D1B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15200" cy="600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b7a5"/>
                </a:solidFill>
                <a:latin typeface="Times New Roman"/>
              </a:rPr>
              <a:t>МОЛИТВА – ЦЕ ПЕРЕБУВАННЯ З БОГОМ</a:t>
            </a:r>
            <a:br>
              <a:rPr sz="6600"/>
            </a:br>
            <a:br>
              <a:rPr sz="6600"/>
            </a:br>
            <a:r>
              <a:rPr b="0" lang="uk-UA" sz="4400" spc="-1" strike="noStrike">
                <a:solidFill>
                  <a:srgbClr val="00b7a5"/>
                </a:solidFill>
                <a:latin typeface="Times New Roman"/>
              </a:rPr>
              <a:t>Святий Григорій Ніський</a:t>
            </a:r>
            <a:endParaRPr b="0" lang="en-US" sz="4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5" name="Номер слайда 5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6F5B-7153-472E-B05C-BC15F842BD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6840" cy="59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en-US" sz="5400" spc="-1" strike="noStrike">
                <a:solidFill>
                  <a:srgbClr val="00b7a5"/>
                </a:solidFill>
                <a:latin typeface="Arial"/>
                <a:ea typeface="Arial"/>
              </a:rPr>
              <a:t>▪ </a:t>
            </a:r>
            <a:r>
              <a:rPr b="0" lang="uk-UA" sz="5400" spc="-1" strike="noStrike">
                <a:solidFill>
                  <a:srgbClr val="00b7a5"/>
                </a:solidFill>
                <a:latin typeface="Times New Roman"/>
              </a:rPr>
              <a:t>МОЛИТВА ПОДЯКИ</a:t>
            </a:r>
            <a:br>
              <a:rPr sz="5400"/>
            </a:br>
            <a:r>
              <a:rPr b="0" lang="en-US" sz="5400" spc="-1" strike="noStrike">
                <a:solidFill>
                  <a:srgbClr val="00b7a5"/>
                </a:solidFill>
                <a:latin typeface="Arial"/>
                <a:ea typeface="Arial"/>
              </a:rPr>
              <a:t>▪ </a:t>
            </a:r>
            <a:r>
              <a:rPr b="0" lang="uk-UA" sz="5400" spc="-1" strike="noStrike">
                <a:solidFill>
                  <a:srgbClr val="00b7a5"/>
                </a:solidFill>
                <a:latin typeface="Times New Roman"/>
              </a:rPr>
              <a:t>МОЛИТВА ПОКАЯННЯ</a:t>
            </a:r>
            <a:br>
              <a:rPr sz="5400"/>
            </a:br>
            <a:r>
              <a:rPr b="0" lang="en-US" sz="5400" spc="-1" strike="noStrike">
                <a:solidFill>
                  <a:srgbClr val="00b7a5"/>
                </a:solidFill>
                <a:latin typeface="Arial"/>
                <a:ea typeface="Arial"/>
              </a:rPr>
              <a:t>▪ </a:t>
            </a:r>
            <a:r>
              <a:rPr b="0" lang="uk-UA" sz="5400" spc="-1" strike="noStrike">
                <a:solidFill>
                  <a:srgbClr val="00b7a5"/>
                </a:solidFill>
                <a:latin typeface="Times New Roman"/>
              </a:rPr>
              <a:t>МОЛИТВА ПРОХАННЯ</a:t>
            </a:r>
            <a:br>
              <a:rPr sz="5400"/>
            </a:br>
            <a:r>
              <a:rPr b="0" lang="en-US" sz="5400" spc="-1" strike="noStrike">
                <a:solidFill>
                  <a:srgbClr val="00b7a5"/>
                </a:solidFill>
                <a:latin typeface="Arial"/>
                <a:ea typeface="Arial"/>
              </a:rPr>
              <a:t>▪ </a:t>
            </a:r>
            <a:r>
              <a:rPr b="0" lang="uk-UA" sz="5400" spc="-1" strike="noStrike">
                <a:solidFill>
                  <a:srgbClr val="00b7a5"/>
                </a:solidFill>
                <a:latin typeface="Times New Roman"/>
              </a:rPr>
              <a:t>МОЛИТВА ПРОСЛАВИ</a:t>
            </a:r>
            <a:br>
              <a:rPr sz="5400"/>
            </a:br>
            <a:r>
              <a:rPr b="0" lang="uk-UA" sz="5400" spc="-1" strike="noStrike">
                <a:solidFill>
                  <a:srgbClr val="00b7a5"/>
                </a:solidFill>
                <a:latin typeface="Times New Roman"/>
              </a:rPr>
              <a:t>                                 БОГА</a:t>
            </a:r>
            <a:br>
              <a:rPr sz="6000"/>
            </a:br>
            <a:endParaRPr b="0" lang="en-US" sz="54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07" name="Номер слайда 5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CC3F-7F86-4261-9FDB-A62432F85BA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304920" y="1676520"/>
            <a:ext cx="4800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Номер слайда 5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BB83-A4EC-4DF1-92DB-1B560C9397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685800" y="1816200"/>
            <a:ext cx="3809880" cy="29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3" name="Picture 20" descr=""/>
          <p:cNvPicPr/>
          <p:nvPr/>
        </p:nvPicPr>
        <p:blipFill>
          <a:blip r:embed="rId1"/>
          <a:stretch/>
        </p:blipFill>
        <p:spPr>
          <a:xfrm>
            <a:off x="2340000" y="404640"/>
            <a:ext cx="438624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6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56760"/>
            <a:ext cx="8064720" cy="607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b7a5"/>
                </a:solidFill>
                <a:latin typeface="Times New Roman"/>
              </a:rPr>
              <a:t>Молитва – це метажанр (або синкретичний жанр), зазвичай віршовий, котрий, імітуючи сакральний (ритуальний) діалог з ідеальним адресатом, здатний втілюватися в різні жанрово-видові</a:t>
            </a:r>
            <a:r>
              <a:rPr b="0" lang="en-US" sz="3200" spc="-1" strike="noStrike">
                <a:solidFill>
                  <a:srgbClr val="00b7a5"/>
                </a:solidFill>
                <a:latin typeface="Times New Roman"/>
              </a:rPr>
              <a:t> </a:t>
            </a:r>
            <a:r>
              <a:rPr b="0" lang="uk-UA" sz="3200" spc="-1" strike="noStrike">
                <a:solidFill>
                  <a:srgbClr val="00b7a5"/>
                </a:solidFill>
                <a:latin typeface="Times New Roman"/>
              </a:rPr>
              <a:t>форми (сонет, лірична медитація, елегія, духовна епіграма, пародія тощо) та жанрово-тематичні різновиди (молитва-сповідь, молитва за інших, молитва – боріння тощо), характерні для певної національної жанрової системи та підпорядковані різноплановим авторським задумам.</a:t>
            </a:r>
            <a:endParaRPr b="0" lang="en-US" sz="3200" spc="-1" strike="noStrike">
              <a:solidFill>
                <a:srgbClr val="00b7a5"/>
              </a:solidFill>
              <a:latin typeface="Times New Roman"/>
            </a:endParaRPr>
          </a:p>
        </p:txBody>
      </p:sp>
      <p:sp>
        <p:nvSpPr>
          <p:cNvPr id="415" name="Номер слайда 5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DF02-664C-4029-86A4-4AFEB3BE4FE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3"/>
          <p:cNvSpPr/>
          <p:nvPr/>
        </p:nvSpPr>
        <p:spPr>
          <a:xfrm>
            <a:off x="685800" y="1600200"/>
            <a:ext cx="777240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1T14:28:22Z</dcterms:created>
  <dc:creator>Kazachkovsky</dc:creator>
  <dc:description/>
  <dc:language>en-US</dc:language>
  <cp:lastModifiedBy>admin</cp:lastModifiedBy>
  <dcterms:modified xsi:type="dcterms:W3CDTF">2011-12-21T11:49:56Z</dcterms:modified>
  <cp:revision>349</cp:revision>
  <dc:subject/>
  <dc:title>МЕХАНИЧЕСКИЕ ХАРАКТЕРИСТ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3000000000001024140</vt:lpwstr>
  </property>
</Properties>
</file>