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02C-1ECB-4BC4-99EA-FD5C6783B9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4A1-0A10-4809-8EC7-1C1A4C38DECB}" type="slidenum">
              <a:rPr b="0" lang="ru-RU" sz="1200" spc="-1" strike="noStrike">
                <a:solidFill>
                  <a:srgbClr val="ffcc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FFD-35C6-4185-B78B-D078BE05690B}" type="slidenum">
              <a:rPr b="0" lang="ru-RU" sz="1200" spc="-1" strike="noStrike">
                <a:solidFill>
                  <a:srgbClr val="ffcc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A9D-DE09-4690-ADBA-6FE73DCC35F1}" type="slidenum">
              <a:rPr b="0" lang="ru-RU" sz="1200" spc="-1" strike="noStrike">
                <a:solidFill>
                  <a:srgbClr val="ffcc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679-39D0-44ED-ACCA-F973076A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84C-F902-4B13-A61C-D720A25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09F-2016-4A5E-842D-66ACA7D0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188-06A7-43A0-8225-603D6AE8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DD1-4263-4BA9-A577-E0D3A527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A0BE-4F54-42FC-8C56-C71B405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3C90-8C93-4B0D-A3F7-C4D8F88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067-8EC8-4A00-A5CE-60D573A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9A3-79F5-4530-AB0D-A7984B4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2EC8-EDA2-452E-84C6-FA8F8BC5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C7F3-76B0-426C-9A29-4332BC3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8C4-67EA-456E-BC84-7CFF7AE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77AD-C2B5-496B-AB0B-96A3FB92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D8BE-21A9-4FA3-9C93-8E1A480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D4B-B808-4B55-BAF2-C2CAD7A5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B20-D15B-4E16-913E-8E73212C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C94-D621-4CC9-B053-287FDD9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EA4-699E-42E6-85D1-E9DF63A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E67-3D3A-44A9-8AEB-1948A5A8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06C-EF6C-4CB1-A87F-305D3B05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47A-AB94-4410-8897-33AACB18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BE1-F413-411A-B079-6EF7AF4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290-5853-4842-ADEE-BB35F24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A7F-B155-4260-AA81-92FED43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Garamond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Garamond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Garamond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5E4B-5B91-4D67-8B58-59C7E1058D4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Garamond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Garamond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Garamond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552-D84A-488B-BBED-C8F97A03878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920" y="31417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Погляди на Велику В</a:t>
            </a:r>
            <a:r>
              <a:rPr b="0" lang="uk-UA" sz="5400" spc="-1" strike="noStrike">
                <a:solidFill>
                  <a:srgbClr val="ffffff"/>
                </a:solidFill>
                <a:latin typeface="Arial Black"/>
              </a:rPr>
              <a:t>ітчизняну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 В</a:t>
            </a:r>
            <a:r>
              <a:rPr b="0" lang="uk-UA" sz="5400" spc="-1" strike="noStrike">
                <a:solidFill>
                  <a:srgbClr val="ffffff"/>
                </a:solidFill>
                <a:latin typeface="Arial Black"/>
              </a:rPr>
              <a:t>і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йну з        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     ф</a:t>
            </a:r>
            <a:r>
              <a:rPr b="0" lang="uk-UA" sz="5400" spc="-1" strike="noStrike">
                <a:solidFill>
                  <a:srgbClr val="ffffff"/>
                </a:solidFill>
                <a:latin typeface="Arial Black"/>
              </a:rPr>
              <a:t>ільмів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Object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5688000" cy="39117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5867280" y="260280"/>
            <a:ext cx="327672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 «Белорусский вокзал»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они розійшлись ул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тку  1945 року на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Білоруському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вокзал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 А зараз з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бралися разом для того, щоб проводити в останній шлях товариша- гвард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полковника Валентина Матвєєва..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79280" y="54936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З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’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являється все б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ше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 про те, як люди згадують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у, д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ти згадують своих батьк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, загиблих на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ject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5832360" cy="45194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6012000" y="981000"/>
            <a:ext cx="252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6156360" y="333360"/>
            <a:ext cx="2736720" cy="55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Ати бати шли солдати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.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На станц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ю Переможна їдуть сини та дочки тих, хто вмер, захищаючи ц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околиц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у роки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и..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5"/>
          <p:cNvSpPr/>
          <p:nvPr/>
        </p:nvSpPr>
        <p:spPr>
          <a:xfrm>
            <a:off x="250920" y="26028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и про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у зн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аються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й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у справжн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 часи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 Було знят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У серпні 44-го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, “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На безіменній висоті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та багато інших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Тем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Великої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тчизняної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и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 завжди була і буде дуже актуальною у кіно,тому що ці події навіки залишились у пам’яті  народу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389" name="Picture 4" descr="Новый рисунок (34)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Object 4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545160" cy="4040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1116000" y="508464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22 червня 1941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ку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</a:rPr>
              <a:t> нападом гітлеровських сил почалася Велика Вітчизняна  війна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755640" y="2781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Під час Великої Вітчизняної війни було створено чимало фільмів, вони сповнювали надіями радянський народ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361" name="Picture 4" descr="Новый рисунок (36)"/>
          <p:cNvPicPr/>
          <p:nvPr/>
        </p:nvPicPr>
        <p:blipFill>
          <a:blip r:embed="rId1"/>
          <a:stretch/>
        </p:blipFill>
        <p:spPr>
          <a:xfrm>
            <a:off x="179280" y="189000"/>
            <a:ext cx="4175280" cy="2636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Новый рисунок (47)"/>
          <p:cNvPicPr/>
          <p:nvPr/>
        </p:nvPicPr>
        <p:blipFill>
          <a:blip r:embed="rId2"/>
          <a:stretch/>
        </p:blipFill>
        <p:spPr>
          <a:xfrm>
            <a:off x="5003640" y="3933720"/>
            <a:ext cx="39610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932360" y="404640"/>
            <a:ext cx="388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Garamond"/>
              </a:rPr>
              <a:t>Одразу хочу сказати про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“</a:t>
            </a:r>
            <a:r>
              <a:rPr b="1" lang="ru-RU" sz="2400" spc="-1" strike="noStrike">
                <a:solidFill>
                  <a:srgbClr val="66ff33"/>
                </a:solidFill>
                <a:latin typeface="Garamond"/>
              </a:rPr>
              <a:t>Бойові к</a:t>
            </a:r>
            <a:r>
              <a:rPr b="1" lang="uk-UA" sz="2400" spc="-1" strike="noStrike">
                <a:solidFill>
                  <a:srgbClr val="66ff33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66ff33"/>
                </a:solidFill>
                <a:latin typeface="Garamond"/>
              </a:rPr>
              <a:t>нозб</a:t>
            </a:r>
            <a:r>
              <a:rPr b="1" lang="uk-UA" sz="2400" spc="-1" strike="noStrike">
                <a:solidFill>
                  <a:srgbClr val="66ff33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66ff33"/>
                </a:solidFill>
                <a:latin typeface="Garamond"/>
              </a:rPr>
              <a:t>рники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” </a:t>
            </a:r>
            <a:r>
              <a:rPr b="1" lang="ru-RU" sz="2400" spc="-1" strike="noStrike">
                <a:solidFill>
                  <a:srgbClr val="66ff33"/>
                </a:solidFill>
                <a:latin typeface="Garamond"/>
              </a:rPr>
              <a:t>– </a:t>
            </a:r>
            <a:r>
              <a:rPr b="1" lang="uk-UA" sz="2400" spc="-1" strike="noStrike">
                <a:solidFill>
                  <a:srgbClr val="66ff33"/>
                </a:solidFill>
                <a:latin typeface="Garamond"/>
              </a:rPr>
              <a:t>це були збірники малих фільмів, які розповідали про героїзм, боротьбу з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66ff33"/>
                </a:solidFill>
                <a:latin typeface="Garamond"/>
              </a:rPr>
              <a:t>загарбниками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364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319640" cy="35002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7"/>
          <p:cNvSpPr/>
          <p:nvPr/>
        </p:nvSpPr>
        <p:spPr>
          <a:xfrm>
            <a:off x="250920" y="4005360"/>
            <a:ext cx="4319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Так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и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були дуже важливими. Вони підіймали моральный дух людей, завдяки їм була отримана перемога.</a:t>
            </a:r>
            <a:r>
              <a:rPr b="0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366" name="Picture 6" descr="j0233070"/>
          <p:cNvPicPr/>
          <p:nvPr/>
        </p:nvPicPr>
        <p:blipFill>
          <a:blip r:embed="rId2"/>
          <a:stretch/>
        </p:blipFill>
        <p:spPr>
          <a:xfrm>
            <a:off x="4932360" y="4653000"/>
            <a:ext cx="29624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Object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679640" cy="29988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5003640" y="2997360"/>
            <a:ext cx="3745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У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і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надцать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мгновений весни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 розповідається про розвідника, який боровся з фашистами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Фільм знято на основі реальних  подій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-811080" y="333360"/>
            <a:ext cx="108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ff33"/>
                </a:solidFill>
                <a:uFillTx/>
                <a:latin typeface="Garamond"/>
              </a:rPr>
              <a:t>Ф</a:t>
            </a:r>
            <a:r>
              <a:rPr b="1" i="1" lang="uk-UA" sz="3600" spc="-1" strike="noStrike" u="sng">
                <a:solidFill>
                  <a:srgbClr val="66ff33"/>
                </a:solidFill>
                <a:uFillTx/>
                <a:latin typeface="Garamond"/>
              </a:rPr>
              <a:t>і</a:t>
            </a:r>
            <a:r>
              <a:rPr b="1" i="1" lang="ru-RU" sz="3600" spc="-1" strike="noStrike" u="sng">
                <a:solidFill>
                  <a:srgbClr val="66ff33"/>
                </a:solidFill>
                <a:uFillTx/>
                <a:latin typeface="Garamond"/>
              </a:rPr>
              <a:t>льми про в</a:t>
            </a:r>
            <a:r>
              <a:rPr b="1" i="1" lang="uk-UA" sz="3600" spc="-1" strike="noStrike" u="sng">
                <a:solidFill>
                  <a:srgbClr val="66ff33"/>
                </a:solidFill>
                <a:uFillTx/>
                <a:latin typeface="Garamond"/>
              </a:rPr>
              <a:t>і</a:t>
            </a:r>
            <a:r>
              <a:rPr b="1" i="1" lang="ru-RU" sz="3600" spc="-1" strike="noStrike" u="sng">
                <a:solidFill>
                  <a:srgbClr val="66ff33"/>
                </a:solidFill>
                <a:uFillTx/>
                <a:latin typeface="Garamond"/>
              </a:rPr>
              <a:t>йну, знят</a:t>
            </a:r>
            <a:r>
              <a:rPr b="1" i="1" lang="uk-UA" sz="3600" spc="-1" strike="noStrike" u="sng">
                <a:solidFill>
                  <a:srgbClr val="66ff33"/>
                </a:solidFill>
                <a:uFillTx/>
                <a:latin typeface="Garamond"/>
              </a:rPr>
              <a:t>і</a:t>
            </a:r>
            <a:r>
              <a:rPr b="1" i="1" lang="ru-RU" sz="3600" spc="-1" strike="noStrike" u="sng">
                <a:solidFill>
                  <a:srgbClr val="66ff33"/>
                </a:solidFill>
                <a:uFillTx/>
                <a:latin typeface="Garamond"/>
              </a:rPr>
              <a:t> у 1946 – 1980 роках.</a:t>
            </a:r>
            <a:endParaRPr b="0" lang="en-US" sz="36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Object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30416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148360" y="1773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В бой идут одни старики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– один 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з найкращих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 про Велику Вітчизняну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у.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372" name="stariki.avi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551040" cy="2664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539640" y="407664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У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розпо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д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ється про льотчик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в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 Геро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ї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у є реальн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ими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прототипами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Object 4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891240" cy="53294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6"/>
          <p:cNvSpPr/>
          <p:nvPr/>
        </p:nvSpPr>
        <p:spPr>
          <a:xfrm>
            <a:off x="5003640" y="765000"/>
            <a:ext cx="360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500720" y="2060640"/>
            <a:ext cx="43560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«Жи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та мерт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» – ще один  з найкращих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 про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у. Це, д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йсно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,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 «про сорок перший р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к, який був жахливим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»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ject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5113080" cy="32706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5786280" y="404640"/>
            <a:ext cx="335772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Garamond"/>
              </a:rPr>
              <a:t>Т</a:t>
            </a:r>
            <a:r>
              <a:rPr b="1" lang="uk-UA" sz="2400" spc="-1" strike="noStrike">
                <a:solidFill>
                  <a:srgbClr val="00ff99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00ff99"/>
                </a:solidFill>
                <a:latin typeface="Garamond"/>
              </a:rPr>
              <a:t>льки Бондарчук зм</a:t>
            </a:r>
            <a:r>
              <a:rPr b="1" lang="uk-UA" sz="2400" spc="-1" strike="noStrike">
                <a:solidFill>
                  <a:srgbClr val="00ff99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00ff99"/>
                </a:solidFill>
                <a:latin typeface="Garamond"/>
              </a:rPr>
              <a:t>г дозволити соб</a:t>
            </a:r>
            <a:r>
              <a:rPr b="1" lang="uk-UA" sz="2400" spc="-1" strike="noStrike">
                <a:solidFill>
                  <a:srgbClr val="00ff99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00ff99"/>
                </a:solidFill>
                <a:latin typeface="Garamond"/>
              </a:rPr>
              <a:t> у той час так в</a:t>
            </a:r>
            <a:r>
              <a:rPr b="1" lang="uk-UA" sz="2400" spc="-1" strike="noStrike">
                <a:solidFill>
                  <a:srgbClr val="00ff99"/>
                </a:solidFill>
                <a:latin typeface="Garamond"/>
              </a:rPr>
              <a:t>ідверто</a:t>
            </a:r>
            <a:r>
              <a:rPr b="1" lang="ru-RU" sz="2400" spc="-1" strike="noStrike">
                <a:solidFill>
                  <a:srgbClr val="00ff99"/>
                </a:solidFill>
                <a:latin typeface="Garamond"/>
              </a:rPr>
              <a:t> та жорстоко показати бруд та кров…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39640" y="48690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Кадр з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у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Вони билися за Батьк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вщ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ину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, режисер Серг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 Бондарчук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Object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6553080" cy="42548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1332000" y="5445000"/>
            <a:ext cx="662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Доля людини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”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показав велику силу чоло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ка, який ст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ко проходив через ус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жахи в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йни. Ф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льму   була дана прем</a:t>
            </a:r>
            <a:r>
              <a:rPr b="1" lang="uk-UA" sz="2400" spc="-1" strike="noStrike">
                <a:solidFill>
                  <a:srgbClr val="ffcc00"/>
                </a:solidFill>
                <a:latin typeface="Garamond"/>
              </a:rPr>
              <a:t>і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я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6:28:35Z</dcterms:created>
  <dc:creator>11111</dc:creator>
  <dc:description/>
  <dc:language>en-US</dc:language>
  <cp:lastModifiedBy>BLACK</cp:lastModifiedBy>
  <dcterms:modified xsi:type="dcterms:W3CDTF">2011-11-25T15:48:15Z</dcterms:modified>
  <cp:revision>59</cp:revision>
  <dc:subject/>
  <dc:title>Взгляд на Великую Отечественную Войну из кино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1c000000000001024140</vt:lpwstr>
  </property>
</Properties>
</file>