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820-5D8D-4C21-AAF1-33AF894A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F5F-3A1C-4659-B691-26547890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893-E762-428B-8B77-7847673A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CE6-BA60-42A5-806A-623B60EF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1CF-90C7-48FE-A7B8-144C791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AED-6E75-44D3-98DE-17D2802A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210-8437-4FE9-B677-93BA8CB7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59C-2A53-4C5E-8C00-8C613036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077-D94A-453F-A82F-92B41F17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E4F-C8E0-42AE-B522-8505DCD8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224-7208-47F0-B938-C739329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B2A-8366-490C-93E4-D792DB03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32C7-A331-49C2-A36C-E239A72CF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Мемор</a:t>
            </a:r>
            <a:r>
              <a:rPr b="1" i="1" lang="uk-UA" sz="4400" spc="-1" strike="noStrike">
                <a:solidFill>
                  <a:srgbClr val="ffff00"/>
                </a:solidFill>
                <a:latin typeface="Arial"/>
              </a:rPr>
              <a:t>і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альный комплекс Великої Вітчизняної вій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Савур- Моги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611280" y="260280"/>
            <a:ext cx="7775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0"/>
                </a:gradFill>
                <a:latin typeface="Calisto MT"/>
              </a:rPr>
              <a:t>Вічна слава воїнам- визволителям!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0"/>
              </a:gra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6-ти метровий обеліск меморіального комплексу «Савур- Мог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74" descr="http://www.photoukraine.com/i/articles/donetsk/014A.jpg"/>
          <p:cNvPicPr/>
          <p:nvPr/>
        </p:nvPicPr>
        <p:blipFill>
          <a:blip r:embed="rId1"/>
          <a:stretch/>
        </p:blipFill>
        <p:spPr>
          <a:xfrm>
            <a:off x="324000" y="404640"/>
            <a:ext cx="66974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4723920"/>
            <a:ext cx="8424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12-ти км до півдня від м. Сніжне розташований величний меморіальный комплекс Великої Вітчизняної війни "Савур-Могила". Він знаходиться на кургані (вишиною 277 м), де у 1943 р. розташовувався важливий  пункт Міус-фронт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0" descr="http://www.photoukraine.com/i/articles/donetsk/014.jpg"/>
          <p:cNvPicPr/>
          <p:nvPr/>
        </p:nvPicPr>
        <p:blipFill>
          <a:blip r:embed="rId1"/>
          <a:stretch/>
        </p:blipFill>
        <p:spPr>
          <a:xfrm>
            <a:off x="468360" y="333360"/>
            <a:ext cx="62643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8480" y="0"/>
            <a:ext cx="80755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Його героїчний штурм вітчизняними військами став своєрідним символом битви за увесь Донбас. На вершині холма зведений грандіозний 36-метровий обеліск та переконлива чугунна статуя воїна, салютуючого про перемо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87" descr="http://www.saur.dn.ua/photo/13.jpg"/>
          <p:cNvPicPr/>
          <p:nvPr/>
        </p:nvPicPr>
        <p:blipFill>
          <a:blip r:embed="rId1"/>
          <a:stretch/>
        </p:blipFill>
        <p:spPr>
          <a:xfrm>
            <a:off x="250920" y="1628640"/>
            <a:ext cx="7416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2184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сним сонячним ранком з верхівки Савур-Могили мерехтить вдалині срібляста смужка біля південного схилу небокраю- то Азовське море, яке знаходиться у 96-ти км від хазяйнуючої над степами верхі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01" descr="http://www.saur.dn.ua/photo/14.jpg"/>
          <p:cNvPicPr/>
          <p:nvPr/>
        </p:nvPicPr>
        <p:blipFill>
          <a:blip r:embed="rId1"/>
          <a:stretch/>
        </p:blipFill>
        <p:spPr>
          <a:xfrm>
            <a:off x="468360" y="1628640"/>
            <a:ext cx="777564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4220640"/>
            <a:ext cx="8146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у навколишній панорамі з глядацького майданчика ,біля підніжжя грандіозного монумента воїнам- рятівникам, відкриваються ліси, ділянки степу, околиці міст Шахтарська, Тореза та Сніжне, розкидані посеред полів ліси. Непомітною є лише смужка кордону, перетинаюча єдине у географічній та історичній перспективі Приаз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є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61" descr="http://www.saur.dn.ua/photo/04.jpg"/>
          <p:cNvPicPr/>
          <p:nvPr/>
        </p:nvPicPr>
        <p:blipFill>
          <a:blip r:embed="rId1"/>
          <a:stretch/>
        </p:blipFill>
        <p:spPr>
          <a:xfrm>
            <a:off x="684360" y="333360"/>
            <a:ext cx="604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859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аче вічну та справжню славу Саур-Могила набула значно пізніше – у роки Великої Вітчизняної війни, коли вона більше буда відома як «вишина 277,9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17" descr="http://www.saur.dn.ua/photo/08.jpg"/>
          <p:cNvPicPr/>
          <p:nvPr/>
        </p:nvPicPr>
        <p:blipFill>
          <a:blip r:embed="rId1"/>
          <a:stretch/>
        </p:blipFill>
        <p:spPr>
          <a:xfrm>
            <a:off x="468360" y="1268280"/>
            <a:ext cx="8424720" cy="53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0" y="476280"/>
            <a:ext cx="396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ітлер наказав військам вермахту та СС будь-якою ціною утримувати ріку Міус до кінця війни. Міус- фронт повинен був стати реваншем за програну Сталінградську бит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43" descr="http://www.saur.dn.ua/photo/17.jpg"/>
          <p:cNvPicPr/>
          <p:nvPr/>
        </p:nvPicPr>
        <p:blipFill>
          <a:blip r:embed="rId1"/>
          <a:stretch/>
        </p:blipFill>
        <p:spPr>
          <a:xfrm>
            <a:off x="179280" y="333360"/>
            <a:ext cx="4175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4437000"/>
            <a:ext cx="849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ут проходили найжорстокіші бої . Але у ніч на 31 серпня1943 року були остаточно поховані надії гітлеровців утриматися на східних кордонах Донбасу- героїчна радянська 5-та Ударна армія захопила вишину, прорвала Міус- фронт та поклала початок звільненню Донбасу та Радянської Украї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31" descr="http://www.saur.dn.ua/photo/09.jpg"/>
          <p:cNvPicPr/>
          <p:nvPr/>
        </p:nvPicPr>
        <p:blipFill>
          <a:blip r:embed="rId1"/>
          <a:stretch/>
        </p:blipFill>
        <p:spPr>
          <a:xfrm>
            <a:off x="611280" y="260280"/>
            <a:ext cx="640872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8:45:40Z</dcterms:created>
  <dc:creator>MegaS</dc:creator>
  <dc:description/>
  <dc:language>en-US</dc:language>
  <cp:lastModifiedBy>BLACK</cp:lastModifiedBy>
  <dcterms:modified xsi:type="dcterms:W3CDTF">2011-11-25T15:58:23Z</dcterms:modified>
  <cp:revision>6</cp:revision>
  <dc:subject/>
  <dc:title>Меморіальный комплекс Великої Вітчизняної вій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11000000000001024140</vt:lpwstr>
  </property>
</Properties>
</file>