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E61-5006-442C-B115-3AC7BAC6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6DE-53C2-49A1-A72D-9B1A7BA2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D52-DC68-4A0B-80CD-A49544F3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820-A23A-4365-AC36-921DE931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DD6-DBD0-4F5B-AF37-5C624381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E0B-CD0E-4575-BC88-5B96A263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3E1-4507-4F0A-BCED-FA0421E7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94F-2370-4F8A-AC7E-2D466083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246-934D-49C3-ADC1-7FB016D3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59D-7FA5-4E2F-B7D2-E95939A8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851-5045-4F25-83EC-25089F8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981-6E49-43A5-A112-358F96C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1FA-8D34-4341-8E1C-4D1A82AB0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783400" cy="5229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838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553000" cy="5373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395280" y="260280"/>
            <a:ext cx="835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івчина з легенди – Маруся Чур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52284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324000" y="189000"/>
            <a:ext cx="8667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руся - дочка замученого Гордія Чур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54944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На городі верба рясна,</a:t>
            </a:r>
            <a:br>
              <a:rPr sz="2800"/>
            </a:b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Там стояла дівка красна</a:t>
            </a:r>
            <a:br>
              <a:rPr sz="2800"/>
            </a:b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Хорошая та вродлива,</a:t>
            </a:r>
            <a:br>
              <a:rPr sz="2800"/>
            </a:b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Її доля нещас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714920" y="189000"/>
            <a:ext cx="43149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843280" cy="422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2808360" cy="56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0" y="2565360"/>
            <a:ext cx="3024360" cy="429264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39528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країнська Саф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76544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Дарую Вам, люди,</a:t>
            </a: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На свята і будні</a:t>
            </a: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Ту пісню, що в серце</a:t>
            </a: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З дитинства взяла.</a:t>
            </a: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Раїса Киричен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798-00034616"/>
          <p:cNvPicPr/>
          <p:nvPr/>
        </p:nvPicPr>
        <p:blipFill>
          <a:blip r:embed="rId1"/>
          <a:stretch/>
        </p:blipFill>
        <p:spPr>
          <a:xfrm>
            <a:off x="2268360" y="1413000"/>
            <a:ext cx="4896000" cy="5445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50920" y="189000"/>
            <a:ext cx="871380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’ятник Марусі Чурай у Полтав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22cae"/>
                </a:solidFill>
                <a:latin typeface="Calibri"/>
              </a:rPr>
              <a:t>Епіграф уроку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Людей такого рідкісного да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Хоч трохи треба, люди, берегт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Ця дівчина не просто так Мару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Це – голос наш, це – пісня, це – ду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22cae"/>
                </a:solidFill>
                <a:latin typeface="Calibri"/>
              </a:rPr>
              <a:t>Ліна Костен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Полтаващино, моя Полтавщино!</a:t>
            </a:r>
            <a:br>
              <a:rPr sz="2200"/>
            </a:b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Запашна, наче квітка в саду</a:t>
            </a:r>
            <a:br>
              <a:rPr sz="2200"/>
            </a:b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Мальовничий куток України!</a:t>
            </a:r>
            <a:br>
              <a:rPr sz="2200"/>
            </a:b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Де у світі таку я знайд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954520" cy="522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284720" y="3059280"/>
            <a:ext cx="4443480" cy="3798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42920" y="765000"/>
            <a:ext cx="741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41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еличальна Полт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Моя Полтаво, ти синів навчала</a:t>
            </a:r>
            <a:br>
              <a:rPr sz="1800"/>
            </a:b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Сміливості, звитяги у бою!</a:t>
            </a:r>
            <a:br>
              <a:rPr sz="1800"/>
            </a:b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До тебе із походів повертались,</a:t>
            </a:r>
            <a:br>
              <a:rPr sz="1800"/>
            </a:b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Щоб милуватись на красу тв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481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33200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Будеш, батьку, панувати,</a:t>
            </a:r>
            <a:br>
              <a:rPr sz="2400"/>
            </a:b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Поки живуть люде...</a:t>
            </a:r>
            <a:br>
              <a:rPr sz="2400"/>
            </a:b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Поки сонце з неба сяє</a:t>
            </a:r>
            <a:br>
              <a:rPr sz="2400"/>
            </a:b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Тебе не забуду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5292720" y="115920"/>
            <a:ext cx="327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І мене в сім</a:t>
            </a:r>
            <a:r>
              <a:rPr b="0" lang="en-US" sz="2200" spc="-1" strike="noStrike">
                <a:solidFill>
                  <a:srgbClr val="eeece1"/>
                </a:solidFill>
                <a:latin typeface="Calibri"/>
              </a:rPr>
              <a:t>’</a:t>
            </a: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ї великій,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В сім</a:t>
            </a:r>
            <a:r>
              <a:rPr b="0" lang="en-US" sz="2200" spc="-1" strike="noStrike">
                <a:solidFill>
                  <a:srgbClr val="eeece1"/>
                </a:solidFill>
                <a:latin typeface="Calibri"/>
              </a:rPr>
              <a:t>’</a:t>
            </a: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ї вольній, новій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Не забутьте пам</a:t>
            </a:r>
            <a:r>
              <a:rPr b="0" lang="en-US" sz="2200" spc="-1" strike="noStrike">
                <a:solidFill>
                  <a:srgbClr val="eeece1"/>
                </a:solidFill>
                <a:latin typeface="Calibri"/>
              </a:rPr>
              <a:t>’</a:t>
            </a: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янути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Незлим тихим словом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        Т. Шевченк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51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929120" cy="595008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324000" y="189000"/>
            <a:ext cx="864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2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“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І грянув бій – Полтавський бій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02264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7"/>
          <p:cNvSpPr txBox="1"/>
          <p:nvPr/>
        </p:nvSpPr>
        <p:spPr>
          <a:xfrm>
            <a:off x="179280" y="404640"/>
            <a:ext cx="8720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На території садиби – музею Панаса Мир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3:29:14Z</dcterms:created>
  <dc:creator>Grey Wolf</dc:creator>
  <dc:description/>
  <dc:language>en-US</dc:language>
  <cp:lastModifiedBy>Admin</cp:lastModifiedBy>
  <dcterms:modified xsi:type="dcterms:W3CDTF">2011-11-01T07:04:5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11000000000001024140</vt:lpwstr>
  </property>
</Properties>
</file>