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5D5-3C0D-4496-85FC-CB591CF4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C31-0910-40B3-B885-BBB26847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323-C572-42F9-A569-BF5DC5AC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CD7-DA43-4C2D-9DE5-36E4B4EE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D537-B541-40B7-BB03-41BBDBBD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F4A1-7A3D-448B-9753-20A9D9C5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3819-06B0-4837-8563-A0D02FEE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172B-C79D-4515-AAA7-577AC780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1876-C2AB-426C-8305-04BCC38F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A25B-ECC1-411D-9F68-2EA62989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F069-5FC1-4583-A028-E385078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322-7135-481D-876D-D29B7F2D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B98F-79D2-4D16-A19E-4C760C51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1AC7-6013-49EB-96A1-D9ACD9E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49C9-D412-4A25-97F5-BD10C267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4822-EC34-4B53-9F35-81D5CF06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06CC-1E90-4E55-BE7C-1FE78D4F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9DC-48DD-45FB-8B78-28D3316A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78B-72A9-4929-AEFC-A0B75A19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8E0-2E92-4231-8115-E4E5E879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E2F-7530-4AB5-9128-BF623166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DA4-0B1F-4023-A0E3-D24668C4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C2A-57F9-4855-8D60-7BA3140C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F408-43C5-4729-A2FF-1DFB164B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4ED4-10CF-4E01-9EAA-D5560ADDCF1A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60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66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b0707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3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8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5a0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e0e0e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11616"/>
                </a:gs>
                <a:gs pos="100000">
                  <a:srgbClr val="99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a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e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c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4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8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a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57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6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78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11616"/>
                  </a:gs>
                  <a:gs pos="100000">
                    <a:srgbClr val="9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1146-D20C-41FA-B33A-9E3940CF19B4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86d52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af9e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6b37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af9e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adc78"/>
                </a:solidFill>
                <a:latin typeface="Garamond"/>
              </a:rPr>
              <a:t>І.БАГРЯНИЙ</a:t>
            </a:r>
            <a:endParaRPr b="0" lang="en-US" sz="48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560" y="3068280"/>
            <a:ext cx="7705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d78d15"/>
                </a:solidFill>
                <a:latin typeface="Garamond"/>
              </a:rPr>
              <a:t>“</a:t>
            </a:r>
            <a:r>
              <a:rPr b="1" lang="uk-UA" sz="7200" spc="-1" strike="noStrike">
                <a:solidFill>
                  <a:srgbClr val="d78d15"/>
                </a:solidFill>
                <a:latin typeface="Garamond"/>
              </a:rPr>
              <a:t>ТИГРОЛОВИ”</a:t>
            </a:r>
            <a:endParaRPr b="0" lang="en-US" sz="7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dc78"/>
                </a:solidFill>
                <a:latin typeface="Bookman Old Style"/>
              </a:rPr>
              <a:t>Домашнє завдання</a:t>
            </a:r>
            <a:endParaRPr b="0" lang="en-US" sz="36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c6b37e"/>
                </a:solidFill>
                <a:latin typeface="Bookman Old Style"/>
              </a:rPr>
              <a:t>Дібрати цитати до теми “Життя українців-переселенців”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c6b37e"/>
                </a:solidFill>
                <a:latin typeface="Bookman Old Style"/>
              </a:rPr>
              <a:t>Дати письмову відповідь на питання “Чи завжди сміливі мають щастя?” </a:t>
            </a:r>
            <a:r>
              <a:rPr b="0" i="1" lang="uk-UA" sz="3000" spc="-1" strike="noStrike">
                <a:solidFill>
                  <a:srgbClr val="c6b37e"/>
                </a:solidFill>
                <a:latin typeface="Bookman Old Style"/>
              </a:rPr>
              <a:t> (на високий і достатній рівень)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dc78"/>
                </a:solidFill>
                <a:latin typeface="Garamond"/>
              </a:rPr>
              <a:t>Роман І.Багряного “Тигролови” – втілення думки про те, що в будь-яких обставинах кожний найперше має бути Людиною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11280" y="2781000"/>
            <a:ext cx="44751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af9e6"/>
                </a:solidFill>
                <a:latin typeface="Garamond"/>
              </a:rPr>
              <a:t>Ми є. Були. І будем Ми!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af9e6"/>
                </a:solidFill>
                <a:latin typeface="Garamond"/>
              </a:rPr>
              <a:t>Й Вітчизна наша з нами.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marL="2984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af9e6"/>
                </a:solidFill>
                <a:latin typeface="Garamond"/>
              </a:rPr>
              <a:t>І.Багряний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52" b="92"/>
          <a:stretch/>
        </p:blipFill>
        <p:spPr>
          <a:xfrm>
            <a:off x="971640" y="2565360"/>
            <a:ext cx="2290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eadc78"/>
                </a:solidFill>
                <a:latin typeface="Bookman Old Style"/>
              </a:rPr>
              <a:t>Ключові питання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6b37e"/>
                </a:solidFill>
                <a:latin typeface="Bookman Old Style"/>
              </a:rPr>
              <a:t>Хто такий Григорій Многогрішний?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c6b37e"/>
                </a:solidFill>
                <a:latin typeface="Bookman Old Style"/>
              </a:rPr>
              <a:t>Головний герой роману – ідеальний супергерой чи реальна людина?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6b37e"/>
                </a:solidFill>
                <a:latin typeface="Bookman Old Style"/>
              </a:rPr>
              <a:t>Гетьман України </a:t>
            </a:r>
            <a:br>
              <a:rPr sz="3200"/>
            </a:br>
            <a:r>
              <a:rPr b="1" i="1" lang="uk-UA" sz="3200" spc="-1" strike="noStrike">
                <a:solidFill>
                  <a:srgbClr val="c6b37e"/>
                </a:solidFill>
                <a:latin typeface="Bookman Old Style"/>
              </a:rPr>
              <a:t>Дем’ян Многогрішний</a:t>
            </a:r>
            <a:br>
              <a:rPr sz="3200"/>
            </a:br>
            <a:r>
              <a:rPr b="1" i="1" lang="uk-UA" sz="3200" spc="-1" strike="noStrike">
                <a:solidFill>
                  <a:srgbClr val="c6b37e"/>
                </a:solidFill>
                <a:latin typeface="Bookman Old Style"/>
              </a:rPr>
              <a:t>(1668-1672 рр.)</a:t>
            </a:r>
            <a:endParaRPr b="0" lang="en-US" sz="32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4924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-22" b="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-31" b="-32"/>
          <a:stretch/>
        </p:blipFill>
        <p:spPr>
          <a:xfrm>
            <a:off x="179280" y="189000"/>
            <a:ext cx="4303800" cy="6308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00720" y="476280"/>
            <a:ext cx="4319280" cy="50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eadc78"/>
                </a:solidFill>
                <a:uFillTx/>
                <a:latin typeface="Bookman Old Style"/>
              </a:rPr>
              <a:t>Випробування для козака-новачка: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dc78"/>
                </a:solidFill>
                <a:latin typeface="Bookman Old Style"/>
              </a:rPr>
              <a:t>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стрільба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орієнтація на  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місцевості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нічний пошук води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таємна розвідка;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участь у містичних 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   </a:t>
            </a:r>
            <a:r>
              <a:rPr b="1" i="1" lang="uk-UA" sz="2400" spc="-1" strike="noStrike">
                <a:solidFill>
                  <a:srgbClr val="c6b37e"/>
                </a:solidFill>
                <a:latin typeface="Bookman Old Style"/>
              </a:rPr>
              <a:t>ритуалах.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-8" b="0"/>
          <a:stretch/>
        </p:blipFill>
        <p:spPr>
          <a:xfrm>
            <a:off x="2556000" y="260280"/>
            <a:ext cx="42638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dc78"/>
                </a:solidFill>
                <a:latin typeface="Bookman Old Style"/>
              </a:rPr>
              <a:t>Риси характеру Григорія Многогрішного</a:t>
            </a:r>
            <a:endParaRPr b="0" lang="en-US" sz="2800" spc="-1" strike="noStrike">
              <a:solidFill>
                <a:srgbClr val="eadc78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363400" y="1181880"/>
            <a:ext cx="4420080" cy="5091840"/>
            <a:chOff x="2363400" y="1181880"/>
            <a:chExt cx="4420080" cy="5091840"/>
          </a:xfrm>
        </p:grpSpPr>
        <p:sp>
          <p:nvSpPr>
            <p:cNvPr id="177" name="_s12307"/>
            <p:cNvSpPr/>
            <p:nvPr/>
          </p:nvSpPr>
          <p:spPr>
            <a:xfrm flipH="1" flipV="1">
              <a:off x="3760200" y="2493000"/>
              <a:ext cx="540000" cy="8236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8" name="_s12306"/>
            <p:cNvSpPr/>
            <p:nvPr/>
          </p:nvSpPr>
          <p:spPr>
            <a:xfrm>
              <a:off x="3029400" y="157392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ГЛИБОКО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МОРАЛЬ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9" name="_s12315"/>
            <p:cNvSpPr/>
            <p:nvPr/>
          </p:nvSpPr>
          <p:spPr>
            <a:xfrm flipH="1" flipV="1">
              <a:off x="3260160" y="3256560"/>
              <a:ext cx="874080" cy="31500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0" name="_s12314"/>
            <p:cNvSpPr/>
            <p:nvPr/>
          </p:nvSpPr>
          <p:spPr>
            <a:xfrm>
              <a:off x="2363400" y="259272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СОРОМ</a:t>
              </a: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  <a:ea typeface="Arial"/>
                </a:rPr>
                <a:t>’ЯЗ-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  <a:ea typeface="Arial"/>
                </a:rPr>
                <a:t>ЛИВ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1" name="_s12305"/>
            <p:cNvSpPr/>
            <p:nvPr/>
          </p:nvSpPr>
          <p:spPr>
            <a:xfrm flipH="1">
              <a:off x="3259800" y="3887280"/>
              <a:ext cx="875880" cy="3128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2" name="_s12304"/>
            <p:cNvSpPr/>
            <p:nvPr/>
          </p:nvSpPr>
          <p:spPr>
            <a:xfrm>
              <a:off x="2365560" y="384984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ЛИЦАР ПО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ВІДНОШЕННЮ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ДО ЖІНОК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3" name="_s12311"/>
            <p:cNvSpPr/>
            <p:nvPr/>
          </p:nvSpPr>
          <p:spPr>
            <a:xfrm flipH="1">
              <a:off x="3761640" y="4140720"/>
              <a:ext cx="542160" cy="8236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4" name="_s12310"/>
            <p:cNvSpPr/>
            <p:nvPr/>
          </p:nvSpPr>
          <p:spPr>
            <a:xfrm>
              <a:off x="3034440" y="4864680"/>
              <a:ext cx="923760" cy="1022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МОЖНО-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ВЛАД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5" name="_s12303"/>
            <p:cNvSpPr/>
            <p:nvPr/>
          </p:nvSpPr>
          <p:spPr>
            <a:xfrm>
              <a:off x="4573440" y="4236120"/>
              <a:ext cx="1800" cy="10184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6" name="_s12302"/>
            <p:cNvSpPr/>
            <p:nvPr/>
          </p:nvSpPr>
          <p:spPr>
            <a:xfrm>
              <a:off x="4114080" y="5251320"/>
              <a:ext cx="92376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ЗДАТНИЙ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НА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САМОПО-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ЖЕРТВУ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7" name="_s12300"/>
            <p:cNvSpPr/>
            <p:nvPr/>
          </p:nvSpPr>
          <p:spPr>
            <a:xfrm>
              <a:off x="4844520" y="4138920"/>
              <a:ext cx="538560" cy="8236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8" name="_s12299"/>
            <p:cNvSpPr/>
            <p:nvPr/>
          </p:nvSpPr>
          <p:spPr>
            <a:xfrm>
              <a:off x="5193720" y="4860720"/>
              <a:ext cx="923760" cy="1022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СМІЛИВ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9" name="_s12309"/>
            <p:cNvSpPr/>
            <p:nvPr/>
          </p:nvSpPr>
          <p:spPr>
            <a:xfrm>
              <a:off x="5010840" y="3883680"/>
              <a:ext cx="872640" cy="31500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0" name="_s12308"/>
            <p:cNvSpPr/>
            <p:nvPr/>
          </p:nvSpPr>
          <p:spPr>
            <a:xfrm>
              <a:off x="5859720" y="3844080"/>
              <a:ext cx="923760" cy="1022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ХАПКИЙ 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ДО ГРОШЕ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1" name="_s12298"/>
            <p:cNvSpPr/>
            <p:nvPr/>
          </p:nvSpPr>
          <p:spPr>
            <a:xfrm flipV="1">
              <a:off x="5009040" y="3254760"/>
              <a:ext cx="874080" cy="3128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2" name="_s12297"/>
            <p:cNvSpPr/>
            <p:nvPr/>
          </p:nvSpPr>
          <p:spPr>
            <a:xfrm>
              <a:off x="5859720" y="2587320"/>
              <a:ext cx="92376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ЛИЦЕМІР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3" name="_s12317"/>
            <p:cNvSpPr/>
            <p:nvPr/>
          </p:nvSpPr>
          <p:spPr>
            <a:xfrm flipV="1">
              <a:off x="4841280" y="2492640"/>
              <a:ext cx="540720" cy="8218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4" name="_s12316"/>
            <p:cNvSpPr/>
            <p:nvPr/>
          </p:nvSpPr>
          <p:spPr>
            <a:xfrm>
              <a:off x="5191920" y="157032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ПОРЯДНИЙ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5" name="_s12296"/>
            <p:cNvSpPr/>
            <p:nvPr/>
          </p:nvSpPr>
          <p:spPr>
            <a:xfrm flipV="1">
              <a:off x="4571640" y="2202480"/>
              <a:ext cx="0" cy="10166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6" name="_s12295"/>
            <p:cNvSpPr/>
            <p:nvPr/>
          </p:nvSpPr>
          <p:spPr>
            <a:xfrm>
              <a:off x="4110840" y="118188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500" spc="-1" strike="noStrike">
                  <a:solidFill>
                    <a:srgbClr val="eadc78"/>
                  </a:solidFill>
                  <a:latin typeface="Bookman Old Style"/>
                </a:rPr>
                <a:t>ПАТРІОТ</a:t>
              </a:r>
              <a:endParaRPr b="0" lang="en-US" sz="15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7" name="_s12294"/>
            <p:cNvSpPr/>
            <p:nvPr/>
          </p:nvSpPr>
          <p:spPr>
            <a:xfrm>
              <a:off x="4110840" y="3219480"/>
              <a:ext cx="923400" cy="1022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300" spc="-1" strike="noStrike">
                  <a:solidFill>
                    <a:srgbClr val="c6b37e"/>
                  </a:solidFill>
                  <a:latin typeface="Bookman Old Style"/>
                </a:rPr>
                <a:t>ГРИГОРІЙ</a:t>
              </a:r>
              <a:endParaRPr b="0" lang="en-US" sz="23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57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eadc78"/>
                </a:solidFill>
                <a:latin typeface="Bookman Old Style"/>
              </a:rPr>
              <a:t>Риси характеру Григорія Многогрішного</a:t>
            </a:r>
            <a:endParaRPr b="0" lang="en-US" sz="2800" spc="-1" strike="noStrike">
              <a:solidFill>
                <a:srgbClr val="eadc78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25760" y="1600200"/>
            <a:ext cx="4091760" cy="5032440"/>
            <a:chOff x="2525760" y="1600200"/>
            <a:chExt cx="4091760" cy="5032440"/>
          </a:xfrm>
        </p:grpSpPr>
        <p:sp>
          <p:nvSpPr>
            <p:cNvPr id="200" name="_s14342"/>
            <p:cNvSpPr/>
            <p:nvPr/>
          </p:nvSpPr>
          <p:spPr>
            <a:xfrm flipH="1" flipV="1">
              <a:off x="3585600" y="3488400"/>
              <a:ext cx="493560" cy="3124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1" name="_s14343"/>
            <p:cNvSpPr/>
            <p:nvPr/>
          </p:nvSpPr>
          <p:spPr>
            <a:xfrm>
              <a:off x="2525760" y="2544120"/>
              <a:ext cx="113652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ГЛИБОКО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МОРАЛЬНИЙ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2" name="_s14346"/>
            <p:cNvSpPr/>
            <p:nvPr/>
          </p:nvSpPr>
          <p:spPr>
            <a:xfrm flipH="1">
              <a:off x="3587760" y="4430160"/>
              <a:ext cx="491760" cy="31680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3" name="_s14347"/>
            <p:cNvSpPr/>
            <p:nvPr/>
          </p:nvSpPr>
          <p:spPr>
            <a:xfrm>
              <a:off x="2527920" y="4432680"/>
              <a:ext cx="1136160" cy="1258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ЛИЦАР ПО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ВІДНОШЕННЮ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ДО ЖІНОК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4" name="_s14350"/>
            <p:cNvSpPr/>
            <p:nvPr/>
          </p:nvSpPr>
          <p:spPr>
            <a:xfrm>
              <a:off x="4571640" y="4745160"/>
              <a:ext cx="1440" cy="6314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5" name="_s14351"/>
            <p:cNvSpPr/>
            <p:nvPr/>
          </p:nvSpPr>
          <p:spPr>
            <a:xfrm>
              <a:off x="4005720" y="5374440"/>
              <a:ext cx="1136160" cy="1258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ЗДАТНИЙ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НА 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САМОПО-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ЖЕРТВУ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6" name="_s14352"/>
            <p:cNvSpPr/>
            <p:nvPr/>
          </p:nvSpPr>
          <p:spPr>
            <a:xfrm>
              <a:off x="5063760" y="4430160"/>
              <a:ext cx="493560" cy="3146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7" name="_s14353"/>
            <p:cNvSpPr/>
            <p:nvPr/>
          </p:nvSpPr>
          <p:spPr>
            <a:xfrm>
              <a:off x="5481000" y="4430160"/>
              <a:ext cx="113652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СМІЛИВИЙ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8" name="_s14358"/>
            <p:cNvSpPr/>
            <p:nvPr/>
          </p:nvSpPr>
          <p:spPr>
            <a:xfrm flipV="1">
              <a:off x="5063760" y="3486240"/>
              <a:ext cx="491760" cy="31464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9" name="_s14359"/>
            <p:cNvSpPr/>
            <p:nvPr/>
          </p:nvSpPr>
          <p:spPr>
            <a:xfrm>
              <a:off x="5479200" y="2541960"/>
              <a:ext cx="113616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ПОРЯДНИЙ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0" name="_s14360"/>
            <p:cNvSpPr/>
            <p:nvPr/>
          </p:nvSpPr>
          <p:spPr>
            <a:xfrm flipV="1">
              <a:off x="4571640" y="2859120"/>
              <a:ext cx="0" cy="629280"/>
            </a:xfrm>
            <a:prstGeom prst="line">
              <a:avLst/>
            </a:prstGeom>
            <a:ln w="2844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1" name="_s14361"/>
            <p:cNvSpPr/>
            <p:nvPr/>
          </p:nvSpPr>
          <p:spPr>
            <a:xfrm>
              <a:off x="4003560" y="1600200"/>
              <a:ext cx="1136520" cy="12589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eadc78"/>
                  </a:solidFill>
                  <a:latin typeface="Bookman Old Style"/>
                </a:rPr>
                <a:t>ПАТРІОТ</a:t>
              </a:r>
              <a:endParaRPr b="0" lang="en-US" sz="17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2" name="_s14362"/>
            <p:cNvSpPr/>
            <p:nvPr/>
          </p:nvSpPr>
          <p:spPr>
            <a:xfrm>
              <a:off x="4003560" y="3488400"/>
              <a:ext cx="1136520" cy="1258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af9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700" spc="-1" strike="noStrike">
                  <a:solidFill>
                    <a:srgbClr val="c6b37e"/>
                  </a:solidFill>
                  <a:latin typeface="Bookman Old Style"/>
                </a:rPr>
                <a:t>ГРИГОРІЙ</a:t>
              </a:r>
              <a:endParaRPr b="0" lang="en-US" sz="27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25:33Z</dcterms:created>
  <dc:creator>Vitali</dc:creator>
  <dc:description/>
  <dc:language>en-US</dc:language>
  <cp:lastModifiedBy>ноут</cp:lastModifiedBy>
  <dcterms:modified xsi:type="dcterms:W3CDTF">2011-03-10T20:56:33Z</dcterms:modified>
  <cp:revision>19</cp:revision>
  <dc:subject/>
  <dc:title>І.БАГРЯ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4000000000001024140</vt:lpwstr>
  </property>
</Properties>
</file>