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3B4-9733-45C7-AEF3-D2240493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B1B-8B3E-44BC-99A8-6155A9F4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738-5014-49FD-B2BE-C0C4F178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6DD-6EEE-4EEB-8DFF-2BF7CF99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24BD-DC26-4771-A76C-9899F212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0715-EB91-409B-89FE-1E03E607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D492-756C-4DB4-B531-25CA6940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520E-E7ED-4DC0-B0D3-9E6700F8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2258-808C-4491-BD01-24C6AE82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FED9-7400-4CA3-9BF2-41161806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047E-5AC2-4C2D-B109-93A631F6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4D4-E200-49BF-AE0C-174BD3AC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CC41-189E-496E-B2BA-3FC80758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43EE-3A5D-48FE-A6AE-5C63FBDD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0A85-FE19-45B1-9FFB-E5996297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79B3-6DA2-4575-8BD4-99CBDB8F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DCB8-5CD4-467E-BC6B-CC46004D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3FA-D98E-44C8-8841-4C8D93B4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D7AD-5A3F-449B-9162-9C6C6991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C982-F21D-4F6F-9675-AF696057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A36-5722-45E0-ACAC-DF15AA66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D8D-24CB-4B2A-8D00-DC3476CF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D11-66E2-497E-98FB-D858A4FC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0DD-4ECE-4095-B391-D805F284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60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661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b0707"/>
                </a:gs>
                <a:gs pos="100000">
                  <a:srgbClr val="99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3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a0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e0e0e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11616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a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e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7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8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6e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11616"/>
                  </a:gs>
                  <a:gs pos="100000">
                    <a:srgbClr val="9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1F96-0422-449A-AE1F-6B5C353921B6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60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661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b0707"/>
                </a:gs>
                <a:gs pos="100000">
                  <a:srgbClr val="99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3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a0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e0e0e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11616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a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e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7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8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6e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11616"/>
                  </a:gs>
                  <a:gs pos="100000">
                    <a:srgbClr val="9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A5EE-63F4-4984-BA8A-EE61979CCCA9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86d52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af9e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6b37e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af9e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af9e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adc78"/>
                </a:solidFill>
                <a:latin typeface="Garamond"/>
              </a:rPr>
              <a:t>І.БАГРЯНИЙ</a:t>
            </a:r>
            <a:endParaRPr b="0" lang="en-US" sz="48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26560" y="3068280"/>
            <a:ext cx="77058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d78d15"/>
                </a:solidFill>
                <a:latin typeface="Garamond"/>
              </a:rPr>
              <a:t>“</a:t>
            </a:r>
            <a:r>
              <a:rPr b="1" lang="uk-UA" sz="7200" spc="-1" strike="noStrike">
                <a:solidFill>
                  <a:srgbClr val="d78d15"/>
                </a:solidFill>
                <a:latin typeface="Garamond"/>
              </a:rPr>
              <a:t>ТИГРОЛОВИ”</a:t>
            </a:r>
            <a:endParaRPr b="0" lang="en-US" sz="7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eadc78"/>
                </a:solidFill>
                <a:latin typeface="Bookman Old Style"/>
              </a:rPr>
              <a:t>Домашнє завдання</a:t>
            </a:r>
            <a:endParaRPr b="0" lang="en-US" sz="36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c6b37e"/>
                </a:solidFill>
                <a:latin typeface="Bookman Old Style"/>
              </a:rPr>
              <a:t>Дібрати цитати до теми “Життя українців-переселенців”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c6b37e"/>
                </a:solidFill>
                <a:latin typeface="Bookman Old Style"/>
              </a:rPr>
              <a:t>Дати письмову відповідь на питання “Чи завжди сміливі мають щастя?” </a:t>
            </a:r>
            <a:r>
              <a:rPr b="0" i="1" lang="uk-UA" sz="3000" spc="-1" strike="noStrike">
                <a:solidFill>
                  <a:srgbClr val="c6b37e"/>
                </a:solidFill>
                <a:latin typeface="Bookman Old Style"/>
              </a:rPr>
              <a:t> (на високий і достатній рівень)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dc78"/>
                </a:solidFill>
                <a:latin typeface="Garamond"/>
              </a:rPr>
              <a:t>Роман І.Багряного “Тигролови” – втілення думки про те, що в будь-яких обставинах кожний найперше має бути Людиною</a:t>
            </a:r>
            <a:endParaRPr b="0" lang="en-US" sz="32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11280" y="2781000"/>
            <a:ext cx="44751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af9e6"/>
                </a:solidFill>
                <a:latin typeface="Garamond"/>
              </a:rPr>
              <a:t>Ми є. Були. І будем Ми!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af9e6"/>
                </a:solidFill>
                <a:latin typeface="Garamond"/>
              </a:rPr>
              <a:t>Й Вітчизна наша з нами.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2984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af9e6"/>
                </a:solidFill>
                <a:latin typeface="Garamond"/>
              </a:rPr>
              <a:t>І.Багряний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52" b="92"/>
          <a:stretch/>
        </p:blipFill>
        <p:spPr>
          <a:xfrm>
            <a:off x="971640" y="2565360"/>
            <a:ext cx="2290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eadc78"/>
                </a:solidFill>
                <a:latin typeface="Bookman Old Style"/>
              </a:rPr>
              <a:t>Ключові питання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6b37e"/>
                </a:solidFill>
                <a:latin typeface="Bookman Old Style"/>
              </a:rPr>
              <a:t>Хто такий Григорій Многогрішний?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6b37e"/>
                </a:solidFill>
                <a:latin typeface="Bookman Old Style"/>
              </a:rPr>
              <a:t>Головний герой роману – ідеальний супергерой чи реальна людина?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6b37e"/>
                </a:solidFill>
                <a:latin typeface="Bookman Old Style"/>
              </a:rPr>
              <a:t>Гетьман України </a:t>
            </a:r>
            <a:br>
              <a:rPr sz="3200"/>
            </a:br>
            <a:r>
              <a:rPr b="1" i="1" lang="uk-UA" sz="3200" spc="-1" strike="noStrike">
                <a:solidFill>
                  <a:srgbClr val="c6b37e"/>
                </a:solidFill>
                <a:latin typeface="Bookman Old Style"/>
              </a:rPr>
              <a:t>Дем’ян Многогрішний</a:t>
            </a:r>
            <a:br>
              <a:rPr sz="3200"/>
            </a:br>
            <a:r>
              <a:rPr b="1" i="1" lang="uk-UA" sz="3200" spc="-1" strike="noStrike">
                <a:solidFill>
                  <a:srgbClr val="c6b37e"/>
                </a:solidFill>
                <a:latin typeface="Bookman Old Style"/>
              </a:rPr>
              <a:t>(1668-1672 рр.)</a:t>
            </a:r>
            <a:endParaRPr b="0" lang="en-US" sz="32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4924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0" r="-22" b="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-31" b="-32"/>
          <a:stretch/>
        </p:blipFill>
        <p:spPr>
          <a:xfrm>
            <a:off x="179280" y="189000"/>
            <a:ext cx="4303800" cy="6308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00720" y="476280"/>
            <a:ext cx="431928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eadc78"/>
                </a:solidFill>
                <a:uFillTx/>
                <a:latin typeface="Bookman Old Style"/>
              </a:rPr>
              <a:t>Випробування для козака-новачка: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eadc78"/>
                </a:solidFill>
                <a:latin typeface="Bookman Old Style"/>
              </a:rPr>
              <a:t> 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стрільба;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орієнтація на  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  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місцевості;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нічний пошук води;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таємна розвідка;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участь у містичних 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 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ритуалах.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0" r="-8" b="0"/>
          <a:stretch/>
        </p:blipFill>
        <p:spPr>
          <a:xfrm>
            <a:off x="2556000" y="260280"/>
            <a:ext cx="42638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eadc78"/>
                </a:solidFill>
                <a:latin typeface="Bookman Old Style"/>
              </a:rPr>
              <a:t>Риси характеру Григорія Многогрішного</a:t>
            </a:r>
            <a:endParaRPr b="0" lang="en-US" sz="2800" spc="-1" strike="noStrike">
              <a:solidFill>
                <a:srgbClr val="eadc78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363400" y="1181880"/>
            <a:ext cx="4420080" cy="5091840"/>
            <a:chOff x="2363400" y="1181880"/>
            <a:chExt cx="4420080" cy="5091840"/>
          </a:xfrm>
        </p:grpSpPr>
        <p:sp>
          <p:nvSpPr>
            <p:cNvPr id="177" name="_s12307"/>
            <p:cNvSpPr/>
            <p:nvPr/>
          </p:nvSpPr>
          <p:spPr>
            <a:xfrm flipH="1" flipV="1">
              <a:off x="3760200" y="2493000"/>
              <a:ext cx="540000" cy="8236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8" name="_s12306"/>
            <p:cNvSpPr/>
            <p:nvPr/>
          </p:nvSpPr>
          <p:spPr>
            <a:xfrm>
              <a:off x="3029400" y="157392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ГЛИБОКО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МОРАЛЬН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9" name="_s12315"/>
            <p:cNvSpPr/>
            <p:nvPr/>
          </p:nvSpPr>
          <p:spPr>
            <a:xfrm flipH="1" flipV="1">
              <a:off x="3260160" y="3256560"/>
              <a:ext cx="874080" cy="31500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0" name="_s12314"/>
            <p:cNvSpPr/>
            <p:nvPr/>
          </p:nvSpPr>
          <p:spPr>
            <a:xfrm>
              <a:off x="2363400" y="259272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СОРОМ</a:t>
              </a: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  <a:ea typeface="Arial"/>
                </a:rPr>
                <a:t>’ЯЗ-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  <a:ea typeface="Arial"/>
                </a:rPr>
                <a:t>ЛИВ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1" name="_s12305"/>
            <p:cNvSpPr/>
            <p:nvPr/>
          </p:nvSpPr>
          <p:spPr>
            <a:xfrm flipH="1">
              <a:off x="3259800" y="3887280"/>
              <a:ext cx="875880" cy="3128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2" name="_s12304"/>
            <p:cNvSpPr/>
            <p:nvPr/>
          </p:nvSpPr>
          <p:spPr>
            <a:xfrm>
              <a:off x="2365560" y="384984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ЛИЦАР ПО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ВІДНОШЕННЮ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ДО ЖІНОК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3" name="_s12311"/>
            <p:cNvSpPr/>
            <p:nvPr/>
          </p:nvSpPr>
          <p:spPr>
            <a:xfrm flipH="1">
              <a:off x="3761640" y="4140720"/>
              <a:ext cx="542160" cy="8236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4" name="_s12310"/>
            <p:cNvSpPr/>
            <p:nvPr/>
          </p:nvSpPr>
          <p:spPr>
            <a:xfrm>
              <a:off x="3034440" y="4864680"/>
              <a:ext cx="923760" cy="1022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МОЖНО-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ВЛАДН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5" name="_s12303"/>
            <p:cNvSpPr/>
            <p:nvPr/>
          </p:nvSpPr>
          <p:spPr>
            <a:xfrm>
              <a:off x="4573440" y="4236120"/>
              <a:ext cx="1800" cy="10184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6" name="_s12302"/>
            <p:cNvSpPr/>
            <p:nvPr/>
          </p:nvSpPr>
          <p:spPr>
            <a:xfrm>
              <a:off x="4114080" y="5251320"/>
              <a:ext cx="92376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ЗДАТНИЙ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НА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САМОПО-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ЖЕРТВУ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7" name="_s12300"/>
            <p:cNvSpPr/>
            <p:nvPr/>
          </p:nvSpPr>
          <p:spPr>
            <a:xfrm>
              <a:off x="4844520" y="4138920"/>
              <a:ext cx="538560" cy="8236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8" name="_s12299"/>
            <p:cNvSpPr/>
            <p:nvPr/>
          </p:nvSpPr>
          <p:spPr>
            <a:xfrm>
              <a:off x="5193720" y="4860720"/>
              <a:ext cx="923760" cy="1022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СМІЛИВ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9" name="_s12309"/>
            <p:cNvSpPr/>
            <p:nvPr/>
          </p:nvSpPr>
          <p:spPr>
            <a:xfrm>
              <a:off x="5010840" y="3883680"/>
              <a:ext cx="872640" cy="31500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0" name="_s12308"/>
            <p:cNvSpPr/>
            <p:nvPr/>
          </p:nvSpPr>
          <p:spPr>
            <a:xfrm>
              <a:off x="5859720" y="3844080"/>
              <a:ext cx="923760" cy="1022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ХАПКИЙ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ДО ГРОШЕ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1" name="_s12298"/>
            <p:cNvSpPr/>
            <p:nvPr/>
          </p:nvSpPr>
          <p:spPr>
            <a:xfrm flipV="1">
              <a:off x="5009040" y="3254760"/>
              <a:ext cx="874080" cy="3128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2" name="_s12297"/>
            <p:cNvSpPr/>
            <p:nvPr/>
          </p:nvSpPr>
          <p:spPr>
            <a:xfrm>
              <a:off x="5859720" y="2587320"/>
              <a:ext cx="92376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ЛИЦЕМІРН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3" name="_s12317"/>
            <p:cNvSpPr/>
            <p:nvPr/>
          </p:nvSpPr>
          <p:spPr>
            <a:xfrm flipV="1">
              <a:off x="4841280" y="2492640"/>
              <a:ext cx="540720" cy="8218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4" name="_s12316"/>
            <p:cNvSpPr/>
            <p:nvPr/>
          </p:nvSpPr>
          <p:spPr>
            <a:xfrm>
              <a:off x="5191920" y="157032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ПОРЯДН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5" name="_s12296"/>
            <p:cNvSpPr/>
            <p:nvPr/>
          </p:nvSpPr>
          <p:spPr>
            <a:xfrm flipV="1">
              <a:off x="4571640" y="2202480"/>
              <a:ext cx="0" cy="10166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6" name="_s12295"/>
            <p:cNvSpPr/>
            <p:nvPr/>
          </p:nvSpPr>
          <p:spPr>
            <a:xfrm>
              <a:off x="4110840" y="118188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ПАТРІОТ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7" name="_s12294"/>
            <p:cNvSpPr/>
            <p:nvPr/>
          </p:nvSpPr>
          <p:spPr>
            <a:xfrm>
              <a:off x="4110840" y="321948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300" spc="-1" strike="noStrike">
                  <a:solidFill>
                    <a:srgbClr val="c6b37e"/>
                  </a:solidFill>
                  <a:latin typeface="Bookman Old Style"/>
                </a:rPr>
                <a:t>ГРИГОРІЙ</a:t>
              </a:r>
              <a:endParaRPr b="0" lang="en-US" sz="2300" spc="-1" strike="noStrike">
                <a:solidFill>
                  <a:srgbClr val="faf9e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eadc78"/>
                </a:solidFill>
                <a:latin typeface="Bookman Old Style"/>
              </a:rPr>
              <a:t>Риси характеру Григорія Многогрішного</a:t>
            </a:r>
            <a:endParaRPr b="0" lang="en-US" sz="2800" spc="-1" strike="noStrike">
              <a:solidFill>
                <a:srgbClr val="eadc78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525760" y="1600200"/>
            <a:ext cx="4091760" cy="5032440"/>
            <a:chOff x="2525760" y="1600200"/>
            <a:chExt cx="4091760" cy="5032440"/>
          </a:xfrm>
        </p:grpSpPr>
        <p:sp>
          <p:nvSpPr>
            <p:cNvPr id="200" name="_s14342"/>
            <p:cNvSpPr/>
            <p:nvPr/>
          </p:nvSpPr>
          <p:spPr>
            <a:xfrm flipH="1" flipV="1">
              <a:off x="3585600" y="3488400"/>
              <a:ext cx="493560" cy="3124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1" name="_s14343"/>
            <p:cNvSpPr/>
            <p:nvPr/>
          </p:nvSpPr>
          <p:spPr>
            <a:xfrm>
              <a:off x="2525760" y="2544120"/>
              <a:ext cx="1136520" cy="1258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ГЛИБОКО 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МОРАЛЬНИЙ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2" name="_s14346"/>
            <p:cNvSpPr/>
            <p:nvPr/>
          </p:nvSpPr>
          <p:spPr>
            <a:xfrm flipH="1">
              <a:off x="3587760" y="4430160"/>
              <a:ext cx="491760" cy="31680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3" name="_s14347"/>
            <p:cNvSpPr/>
            <p:nvPr/>
          </p:nvSpPr>
          <p:spPr>
            <a:xfrm>
              <a:off x="2527920" y="4432680"/>
              <a:ext cx="1136160" cy="1258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ЛИЦАР ПО 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ВІДНОШЕННЮ 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ДО ЖІНОК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4" name="_s14350"/>
            <p:cNvSpPr/>
            <p:nvPr/>
          </p:nvSpPr>
          <p:spPr>
            <a:xfrm>
              <a:off x="4571640" y="4745160"/>
              <a:ext cx="1440" cy="6314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5" name="_s14351"/>
            <p:cNvSpPr/>
            <p:nvPr/>
          </p:nvSpPr>
          <p:spPr>
            <a:xfrm>
              <a:off x="4005720" y="5374440"/>
              <a:ext cx="1136160" cy="1258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ЗДАТНИЙ 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НА 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САМОПО-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ЖЕРТВУ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6" name="_s14352"/>
            <p:cNvSpPr/>
            <p:nvPr/>
          </p:nvSpPr>
          <p:spPr>
            <a:xfrm>
              <a:off x="5063760" y="4430160"/>
              <a:ext cx="493560" cy="3146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7" name="_s14353"/>
            <p:cNvSpPr/>
            <p:nvPr/>
          </p:nvSpPr>
          <p:spPr>
            <a:xfrm>
              <a:off x="5481000" y="4430160"/>
              <a:ext cx="1136520" cy="1258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СМІЛИВИЙ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8" name="_s14358"/>
            <p:cNvSpPr/>
            <p:nvPr/>
          </p:nvSpPr>
          <p:spPr>
            <a:xfrm flipV="1">
              <a:off x="5063760" y="3486240"/>
              <a:ext cx="491760" cy="3146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9" name="_s14359"/>
            <p:cNvSpPr/>
            <p:nvPr/>
          </p:nvSpPr>
          <p:spPr>
            <a:xfrm>
              <a:off x="5479200" y="2541960"/>
              <a:ext cx="1136160" cy="1258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ПОРЯДНИЙ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0" name="_s14360"/>
            <p:cNvSpPr/>
            <p:nvPr/>
          </p:nvSpPr>
          <p:spPr>
            <a:xfrm flipV="1">
              <a:off x="4571640" y="2859120"/>
              <a:ext cx="0" cy="6292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1" name="_s14361"/>
            <p:cNvSpPr/>
            <p:nvPr/>
          </p:nvSpPr>
          <p:spPr>
            <a:xfrm>
              <a:off x="4003560" y="1600200"/>
              <a:ext cx="1136520" cy="1258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ПАТРІОТ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2" name="_s14362"/>
            <p:cNvSpPr/>
            <p:nvPr/>
          </p:nvSpPr>
          <p:spPr>
            <a:xfrm>
              <a:off x="4003560" y="3488400"/>
              <a:ext cx="1136520" cy="1258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700" spc="-1" strike="noStrike">
                  <a:solidFill>
                    <a:srgbClr val="c6b37e"/>
                  </a:solidFill>
                  <a:latin typeface="Bookman Old Style"/>
                </a:rPr>
                <a:t>ГРИГОРІЙ</a:t>
              </a:r>
              <a:endParaRPr b="0" lang="en-US" sz="2700" spc="-1" strike="noStrike">
                <a:solidFill>
                  <a:srgbClr val="faf9e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5:25:33Z</dcterms:created>
  <dc:creator>Vitali</dc:creator>
  <dc:description/>
  <dc:language>en-US</dc:language>
  <cp:lastModifiedBy>ноут</cp:lastModifiedBy>
  <dcterms:modified xsi:type="dcterms:W3CDTF">2011-03-10T20:56:33Z</dcterms:modified>
  <cp:revision>19</cp:revision>
  <dc:subject/>
  <dc:title>І.БАГРЯН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4000000000001024140</vt:lpwstr>
  </property>
</Properties>
</file>