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BF56-CDD8-416D-8BB6-3229074C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6550-31EE-453D-9B02-1D575A85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3C7-C41C-4EAA-9BB3-B4093DA9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74B-C29B-4C12-A7E7-ADD66360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159E-81E7-4703-B0A1-5A6E3776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62BA-A232-4DBC-9A41-45BF4F4B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1561-FD81-45E5-A443-69909E7C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33CB-4DDA-47A5-8173-9D3EB814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1704-D811-4333-AB65-C8C32546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F56C-2FAE-4356-A690-966CBC55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18CF-94D8-42AA-B0A8-54D40E29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783-CEE4-4E35-A22C-A82DC82A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1662-4A25-420A-ACFD-7F229BD1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6664-F981-4F53-900B-BE1FED59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E58A-853D-44BB-8B02-3CB227D4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98E7-5958-4CDF-ACFC-51DDA360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FB48-E2B0-4FFC-87DE-6BF30AA1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2085-D125-484E-8D10-0E965B41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69D-B0F5-417A-8C7A-7606B0E1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BE1-7718-4B59-B266-4D6679DE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9E3-E538-4938-B30F-73E77D8F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B2C-2320-4DDB-9974-7986E764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3A06-DFA8-4352-9F6C-ADD44587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192A-043A-4BBF-AF96-C3ACCCB9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560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661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8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7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e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b0707"/>
                </a:gs>
                <a:gs pos="100000">
                  <a:srgbClr val="99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3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8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5a0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a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e0e0e"/>
                </a:gs>
                <a:gs pos="100000">
                  <a:srgbClr val="99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11616"/>
                </a:gs>
                <a:gs pos="100000">
                  <a:srgbClr val="99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a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5e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a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1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6a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7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78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6e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11616"/>
                  </a:gs>
                  <a:gs pos="100000">
                    <a:srgbClr val="9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6499-B161-484B-880C-F806D4EEE421}" type="slidenum"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560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661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8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7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e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b0707"/>
                </a:gs>
                <a:gs pos="100000">
                  <a:srgbClr val="99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3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8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5a0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a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e0e0e"/>
                </a:gs>
                <a:gs pos="100000">
                  <a:srgbClr val="99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11616"/>
                </a:gs>
                <a:gs pos="100000">
                  <a:srgbClr val="99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a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5e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a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1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6a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7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78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6e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11616"/>
                  </a:gs>
                  <a:gs pos="100000">
                    <a:srgbClr val="9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A6AD-DA9D-4261-844F-38644BC26AD4}" type="slidenum"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86d52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af9e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6b37e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af9e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af9e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adc78"/>
                </a:solidFill>
                <a:latin typeface="Garamond"/>
              </a:rPr>
              <a:t>І.БАГРЯНИЙ</a:t>
            </a:r>
            <a:endParaRPr b="0" lang="en-US" sz="48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26560" y="3068280"/>
            <a:ext cx="77058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d78d15"/>
                </a:solidFill>
                <a:latin typeface="Garamond"/>
              </a:rPr>
              <a:t>“</a:t>
            </a:r>
            <a:r>
              <a:rPr b="1" lang="uk-UA" sz="7200" spc="-1" strike="noStrike">
                <a:solidFill>
                  <a:srgbClr val="d78d15"/>
                </a:solidFill>
                <a:latin typeface="Garamond"/>
              </a:rPr>
              <a:t>ТИГРОЛОВИ”</a:t>
            </a:r>
            <a:endParaRPr b="0" lang="en-US" sz="7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eadc78"/>
                </a:solidFill>
                <a:latin typeface="Bookman Old Style"/>
              </a:rPr>
              <a:t>Домашнє завдання</a:t>
            </a:r>
            <a:endParaRPr b="0" lang="en-US" sz="36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c6b37e"/>
                </a:solidFill>
                <a:latin typeface="Bookman Old Style"/>
              </a:rPr>
              <a:t>Дібрати цитати до теми “Життя українців-переселенців”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c6b37e"/>
                </a:solidFill>
                <a:latin typeface="Bookman Old Style"/>
              </a:rPr>
              <a:t>Дати письмову відповідь на питання “Чи завжди сміливі мають щастя?” </a:t>
            </a:r>
            <a:r>
              <a:rPr b="0" i="1" lang="uk-UA" sz="3000" spc="-1" strike="noStrike">
                <a:solidFill>
                  <a:srgbClr val="c6b37e"/>
                </a:solidFill>
                <a:latin typeface="Bookman Old Style"/>
              </a:rPr>
              <a:t> (на високий і достатній рівень)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dc78"/>
                </a:solidFill>
                <a:latin typeface="Garamond"/>
              </a:rPr>
              <a:t>Роман І.Багряного “Тигролови” – втілення думки про те, що в будь-яких обставинах кожний найперше має бути Людиною</a:t>
            </a:r>
            <a:endParaRPr b="0" lang="en-US" sz="32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11280" y="2781000"/>
            <a:ext cx="44751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af9e6"/>
                </a:solidFill>
                <a:latin typeface="Garamond"/>
              </a:rPr>
              <a:t>Ми є. Були. І будем Ми!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af9e6"/>
                </a:solidFill>
                <a:latin typeface="Garamond"/>
              </a:rPr>
              <a:t>Й Вітчизна наша з нами.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2984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af9e6"/>
                </a:solidFill>
                <a:latin typeface="Garamond"/>
              </a:rPr>
              <a:t>І.Багряний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52" b="92"/>
          <a:stretch/>
        </p:blipFill>
        <p:spPr>
          <a:xfrm>
            <a:off x="971640" y="2565360"/>
            <a:ext cx="2290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eadc78"/>
                </a:solidFill>
                <a:latin typeface="Bookman Old Style"/>
              </a:rPr>
              <a:t>Ключові питання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c6b37e"/>
                </a:solidFill>
                <a:latin typeface="Bookman Old Style"/>
              </a:rPr>
              <a:t>Хто такий Григорій Многогрішний?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c6b37e"/>
                </a:solidFill>
                <a:latin typeface="Bookman Old Style"/>
              </a:rPr>
              <a:t>Головний герой роману – ідеальний супергерой чи реальна людина?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6b37e"/>
                </a:solidFill>
                <a:latin typeface="Bookman Old Style"/>
              </a:rPr>
              <a:t>Гетьман України </a:t>
            </a:r>
            <a:br>
              <a:rPr sz="3200"/>
            </a:br>
            <a:r>
              <a:rPr b="1" i="1" lang="uk-UA" sz="3200" spc="-1" strike="noStrike">
                <a:solidFill>
                  <a:srgbClr val="c6b37e"/>
                </a:solidFill>
                <a:latin typeface="Bookman Old Style"/>
              </a:rPr>
              <a:t>Дем’ян Многогрішний</a:t>
            </a:r>
            <a:br>
              <a:rPr sz="3200"/>
            </a:br>
            <a:r>
              <a:rPr b="1" i="1" lang="uk-UA" sz="3200" spc="-1" strike="noStrike">
                <a:solidFill>
                  <a:srgbClr val="c6b37e"/>
                </a:solidFill>
                <a:latin typeface="Bookman Old Style"/>
              </a:rPr>
              <a:t>(1668-1672 рр.)</a:t>
            </a:r>
            <a:endParaRPr b="0" lang="en-US" sz="32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4924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0" t="0" r="-22" b="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0" r="-31" b="-32"/>
          <a:stretch/>
        </p:blipFill>
        <p:spPr>
          <a:xfrm>
            <a:off x="179280" y="189000"/>
            <a:ext cx="4303800" cy="6308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00720" y="476280"/>
            <a:ext cx="431928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eadc78"/>
                </a:solidFill>
                <a:uFillTx/>
                <a:latin typeface="Bookman Old Style"/>
              </a:rPr>
              <a:t>Випробування для козака-новачка: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eadc78"/>
                </a:solidFill>
                <a:latin typeface="Bookman Old Style"/>
              </a:rPr>
              <a:t>  </a:t>
            </a: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стрільба;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  </a:t>
            </a: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орієнтація на  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    </a:t>
            </a: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місцевості;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  </a:t>
            </a: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нічний пошук води;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 </a:t>
            </a: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таємна розвідка;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 </a:t>
            </a: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участь у містичних 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   </a:t>
            </a: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ритуалах.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0" t="0" r="-8" b="0"/>
          <a:stretch/>
        </p:blipFill>
        <p:spPr>
          <a:xfrm>
            <a:off x="2556000" y="260280"/>
            <a:ext cx="42638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eadc78"/>
                </a:solidFill>
                <a:latin typeface="Bookman Old Style"/>
              </a:rPr>
              <a:t>Риси характеру Григорія Многогрішного</a:t>
            </a:r>
            <a:endParaRPr b="0" lang="en-US" sz="2800" spc="-1" strike="noStrike">
              <a:solidFill>
                <a:srgbClr val="eadc78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363400" y="1181880"/>
            <a:ext cx="4420080" cy="5091840"/>
            <a:chOff x="2363400" y="1181880"/>
            <a:chExt cx="4420080" cy="5091840"/>
          </a:xfrm>
        </p:grpSpPr>
        <p:sp>
          <p:nvSpPr>
            <p:cNvPr id="177" name="_s12307"/>
            <p:cNvSpPr/>
            <p:nvPr/>
          </p:nvSpPr>
          <p:spPr>
            <a:xfrm flipH="1" flipV="1">
              <a:off x="3760200" y="2493000"/>
              <a:ext cx="540000" cy="82368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78" name="_s12306"/>
            <p:cNvSpPr/>
            <p:nvPr/>
          </p:nvSpPr>
          <p:spPr>
            <a:xfrm>
              <a:off x="3029400" y="1573920"/>
              <a:ext cx="92340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ГЛИБОКО 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МОРАЛЬНИЙ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79" name="_s12315"/>
            <p:cNvSpPr/>
            <p:nvPr/>
          </p:nvSpPr>
          <p:spPr>
            <a:xfrm flipH="1" flipV="1">
              <a:off x="3260160" y="3256560"/>
              <a:ext cx="874080" cy="31500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0" name="_s12314"/>
            <p:cNvSpPr/>
            <p:nvPr/>
          </p:nvSpPr>
          <p:spPr>
            <a:xfrm>
              <a:off x="2363400" y="2592720"/>
              <a:ext cx="92340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СОРОМ</a:t>
              </a: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  <a:ea typeface="Arial"/>
                </a:rPr>
                <a:t>’ЯЗ-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  <a:ea typeface="Arial"/>
                </a:rPr>
                <a:t>ЛИВИЙ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1" name="_s12305"/>
            <p:cNvSpPr/>
            <p:nvPr/>
          </p:nvSpPr>
          <p:spPr>
            <a:xfrm flipH="1">
              <a:off x="3259800" y="3887280"/>
              <a:ext cx="875880" cy="31284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2" name="_s12304"/>
            <p:cNvSpPr/>
            <p:nvPr/>
          </p:nvSpPr>
          <p:spPr>
            <a:xfrm>
              <a:off x="2365560" y="3849840"/>
              <a:ext cx="92340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ЛИЦАР ПО 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ВІДНОШЕННЮ 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ДО ЖІНОК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3" name="_s12311"/>
            <p:cNvSpPr/>
            <p:nvPr/>
          </p:nvSpPr>
          <p:spPr>
            <a:xfrm flipH="1">
              <a:off x="3761640" y="4140720"/>
              <a:ext cx="542160" cy="82368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4" name="_s12310"/>
            <p:cNvSpPr/>
            <p:nvPr/>
          </p:nvSpPr>
          <p:spPr>
            <a:xfrm>
              <a:off x="3034440" y="4864680"/>
              <a:ext cx="923760" cy="1022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МОЖНО-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ВЛАДНИЙ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5" name="_s12303"/>
            <p:cNvSpPr/>
            <p:nvPr/>
          </p:nvSpPr>
          <p:spPr>
            <a:xfrm>
              <a:off x="4573440" y="4236120"/>
              <a:ext cx="1800" cy="101844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6" name="_s12302"/>
            <p:cNvSpPr/>
            <p:nvPr/>
          </p:nvSpPr>
          <p:spPr>
            <a:xfrm>
              <a:off x="4114080" y="5251320"/>
              <a:ext cx="92376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ЗДАТНИЙ 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НА 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САМОПО-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ЖЕРТВУ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7" name="_s12300"/>
            <p:cNvSpPr/>
            <p:nvPr/>
          </p:nvSpPr>
          <p:spPr>
            <a:xfrm>
              <a:off x="4844520" y="4138920"/>
              <a:ext cx="538560" cy="82368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8" name="_s12299"/>
            <p:cNvSpPr/>
            <p:nvPr/>
          </p:nvSpPr>
          <p:spPr>
            <a:xfrm>
              <a:off x="5193720" y="4860720"/>
              <a:ext cx="923760" cy="1022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СМІЛИВИЙ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9" name="_s12309"/>
            <p:cNvSpPr/>
            <p:nvPr/>
          </p:nvSpPr>
          <p:spPr>
            <a:xfrm>
              <a:off x="5010840" y="3883680"/>
              <a:ext cx="872640" cy="31500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0" name="_s12308"/>
            <p:cNvSpPr/>
            <p:nvPr/>
          </p:nvSpPr>
          <p:spPr>
            <a:xfrm>
              <a:off x="5859720" y="3844080"/>
              <a:ext cx="923760" cy="1022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ХАПКИЙ 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ДО ГРОШЕЙ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1" name="_s12298"/>
            <p:cNvSpPr/>
            <p:nvPr/>
          </p:nvSpPr>
          <p:spPr>
            <a:xfrm flipV="1">
              <a:off x="5009040" y="3254760"/>
              <a:ext cx="874080" cy="31284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2" name="_s12297"/>
            <p:cNvSpPr/>
            <p:nvPr/>
          </p:nvSpPr>
          <p:spPr>
            <a:xfrm>
              <a:off x="5859720" y="2587320"/>
              <a:ext cx="92376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ЛИЦЕМІРНИЙ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3" name="_s12317"/>
            <p:cNvSpPr/>
            <p:nvPr/>
          </p:nvSpPr>
          <p:spPr>
            <a:xfrm flipV="1">
              <a:off x="4841280" y="2492640"/>
              <a:ext cx="540720" cy="82188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4" name="_s12316"/>
            <p:cNvSpPr/>
            <p:nvPr/>
          </p:nvSpPr>
          <p:spPr>
            <a:xfrm>
              <a:off x="5191920" y="1570320"/>
              <a:ext cx="92340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ПОРЯДНИЙ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5" name="_s12296"/>
            <p:cNvSpPr/>
            <p:nvPr/>
          </p:nvSpPr>
          <p:spPr>
            <a:xfrm flipV="1">
              <a:off x="4571640" y="2202480"/>
              <a:ext cx="0" cy="101664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6" name="_s12295"/>
            <p:cNvSpPr/>
            <p:nvPr/>
          </p:nvSpPr>
          <p:spPr>
            <a:xfrm>
              <a:off x="4110840" y="1181880"/>
              <a:ext cx="92340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ПАТРІОТ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7" name="_s12294"/>
            <p:cNvSpPr/>
            <p:nvPr/>
          </p:nvSpPr>
          <p:spPr>
            <a:xfrm>
              <a:off x="4110840" y="3219480"/>
              <a:ext cx="92340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300" spc="-1" strike="noStrike">
                  <a:solidFill>
                    <a:srgbClr val="c6b37e"/>
                  </a:solidFill>
                  <a:latin typeface="Bookman Old Style"/>
                </a:rPr>
                <a:t>ГРИГОРІЙ</a:t>
              </a:r>
              <a:endParaRPr b="0" lang="en-US" sz="2300" spc="-1" strike="noStrike">
                <a:solidFill>
                  <a:srgbClr val="faf9e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eadc78"/>
                </a:solidFill>
                <a:latin typeface="Bookman Old Style"/>
              </a:rPr>
              <a:t>Риси характеру Григорія Многогрішного</a:t>
            </a:r>
            <a:endParaRPr b="0" lang="en-US" sz="2800" spc="-1" strike="noStrike">
              <a:solidFill>
                <a:srgbClr val="eadc78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525760" y="1600200"/>
            <a:ext cx="4091760" cy="5032440"/>
            <a:chOff x="2525760" y="1600200"/>
            <a:chExt cx="4091760" cy="5032440"/>
          </a:xfrm>
        </p:grpSpPr>
        <p:sp>
          <p:nvSpPr>
            <p:cNvPr id="200" name="_s14342"/>
            <p:cNvSpPr/>
            <p:nvPr/>
          </p:nvSpPr>
          <p:spPr>
            <a:xfrm flipH="1" flipV="1">
              <a:off x="3585600" y="3488400"/>
              <a:ext cx="493560" cy="31248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1" name="_s14343"/>
            <p:cNvSpPr/>
            <p:nvPr/>
          </p:nvSpPr>
          <p:spPr>
            <a:xfrm>
              <a:off x="2525760" y="2544120"/>
              <a:ext cx="1136520" cy="1258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ГЛИБОКО 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МОРАЛЬНИЙ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2" name="_s14346"/>
            <p:cNvSpPr/>
            <p:nvPr/>
          </p:nvSpPr>
          <p:spPr>
            <a:xfrm flipH="1">
              <a:off x="3587760" y="4430160"/>
              <a:ext cx="491760" cy="31680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3" name="_s14347"/>
            <p:cNvSpPr/>
            <p:nvPr/>
          </p:nvSpPr>
          <p:spPr>
            <a:xfrm>
              <a:off x="2527920" y="4432680"/>
              <a:ext cx="1136160" cy="1258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ЛИЦАР ПО 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ВІДНОШЕННЮ 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ДО ЖІНОК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4" name="_s14350"/>
            <p:cNvSpPr/>
            <p:nvPr/>
          </p:nvSpPr>
          <p:spPr>
            <a:xfrm>
              <a:off x="4571640" y="4745160"/>
              <a:ext cx="1440" cy="63144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5" name="_s14351"/>
            <p:cNvSpPr/>
            <p:nvPr/>
          </p:nvSpPr>
          <p:spPr>
            <a:xfrm>
              <a:off x="4005720" y="5374440"/>
              <a:ext cx="1136160" cy="1258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ЗДАТНИЙ 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НА 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САМОПО-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ЖЕРТВУ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6" name="_s14352"/>
            <p:cNvSpPr/>
            <p:nvPr/>
          </p:nvSpPr>
          <p:spPr>
            <a:xfrm>
              <a:off x="5063760" y="4430160"/>
              <a:ext cx="493560" cy="31464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7" name="_s14353"/>
            <p:cNvSpPr/>
            <p:nvPr/>
          </p:nvSpPr>
          <p:spPr>
            <a:xfrm>
              <a:off x="5481000" y="4430160"/>
              <a:ext cx="1136520" cy="1258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СМІЛИВИЙ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8" name="_s14358"/>
            <p:cNvSpPr/>
            <p:nvPr/>
          </p:nvSpPr>
          <p:spPr>
            <a:xfrm flipV="1">
              <a:off x="5063760" y="3486240"/>
              <a:ext cx="491760" cy="31464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9" name="_s14359"/>
            <p:cNvSpPr/>
            <p:nvPr/>
          </p:nvSpPr>
          <p:spPr>
            <a:xfrm>
              <a:off x="5479200" y="2541960"/>
              <a:ext cx="1136160" cy="1258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ПОРЯДНИЙ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0" name="_s14360"/>
            <p:cNvSpPr/>
            <p:nvPr/>
          </p:nvSpPr>
          <p:spPr>
            <a:xfrm flipV="1">
              <a:off x="4571640" y="2859120"/>
              <a:ext cx="0" cy="62928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1" name="_s14361"/>
            <p:cNvSpPr/>
            <p:nvPr/>
          </p:nvSpPr>
          <p:spPr>
            <a:xfrm>
              <a:off x="4003560" y="1600200"/>
              <a:ext cx="1136520" cy="1258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ПАТРІОТ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2" name="_s14362"/>
            <p:cNvSpPr/>
            <p:nvPr/>
          </p:nvSpPr>
          <p:spPr>
            <a:xfrm>
              <a:off x="4003560" y="3488400"/>
              <a:ext cx="1136520" cy="1258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700" spc="-1" strike="noStrike">
                  <a:solidFill>
                    <a:srgbClr val="c6b37e"/>
                  </a:solidFill>
                  <a:latin typeface="Bookman Old Style"/>
                </a:rPr>
                <a:t>ГРИГОРІЙ</a:t>
              </a:r>
              <a:endParaRPr b="0" lang="en-US" sz="2700" spc="-1" strike="noStrike">
                <a:solidFill>
                  <a:srgbClr val="faf9e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5:25:33Z</dcterms:created>
  <dc:creator>Vitali</dc:creator>
  <dc:description/>
  <dc:language>en-US</dc:language>
  <cp:lastModifiedBy>ноут</cp:lastModifiedBy>
  <dcterms:modified xsi:type="dcterms:W3CDTF">2011-03-10T20:56:33Z</dcterms:modified>
  <cp:revision>19</cp:revision>
  <dc:subject/>
  <dc:title>І.БАГРЯН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4000000000001024140</vt:lpwstr>
  </property>
</Properties>
</file>