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705-E00F-4A78-A6BA-5B3628C6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014-29EC-4785-86EE-B8F20A59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302-D3CB-4662-8F68-87BA2356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8D7-D8C8-4323-80E8-D27ACDF9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64BC-177A-4419-B494-15EAE123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C417-A369-4B10-892A-87C1E754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A8FC-EB8D-4211-8DF7-8AF08B51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63CC-B8F6-409A-9199-3E15BC3B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DE4E-7896-4856-B870-0AF8F828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3C61-523B-4E2E-97A5-C440FE75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08F0-5E5A-4492-BC02-28A12988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510-0865-4FE4-9378-0BF9317F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8FA0-01A8-45A5-88E2-2AF638F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FC5A-F317-4E26-8740-B98217BD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2E27-7829-4551-8F86-4F4DE1AC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62D3-1E2D-47A1-A7A8-FAC35D55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6984-EE20-4D51-8545-0722B8B8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A6B6B-FC5D-423D-9950-18478BB8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0381E-C00C-4B96-9A7F-A8F47706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D2989-84F1-4982-B575-AF88B813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0D68F-F5DB-4122-BED9-666DEB8C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16014-7D0A-4E55-B196-780F091B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E10-1AA7-4E05-98F3-7922C351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F14EB-15E1-4A37-9A0D-F555B695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609C2-9216-4DF0-B343-379FB459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ED1C1-0373-47F7-A045-6697778F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71CF6-9493-4F69-8B4D-F9ECC44E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197D3-213B-4697-A514-8F628EC4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B3592-D93A-4ED7-A345-F3B3D2FC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53D23-7CD6-4FAC-A0BC-92570EE6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14761-4938-4B07-8599-B67CD9DE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0937-98DC-4DAD-B1B2-EFF4E313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FAADE-946F-4254-92CD-E558CCC0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F4F-53BE-4AB0-9DC9-BA65E04C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C353-D610-4375-ADC6-2DCDA237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6623-B277-453B-9617-BCA29198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15F2-F066-4906-9268-CF8DA5E0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F4D4-1F87-4ACC-95DD-D51C8F5F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45740-9344-4B85-90E1-01E37E0F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C23F3-8C20-4625-AC0B-E79B295F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04DFC-4B46-4E3A-9B6B-CA318925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08D3E-8512-43CF-89B1-7F19E5C3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8D9B5-A1A7-4F6B-AD60-DB803004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BED47-E0E7-4A0F-A0A0-B27445D5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1F3-83E6-4AC2-AD7B-6FD683EC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4218F-806C-482B-B5E6-542D9B88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6BECA-F644-4F2F-9809-E9766381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38AE0-0E2A-4555-BD95-C861F8F1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7A1FE-A7C3-4853-974E-337154A0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3E7CF-ED88-4330-BB45-77578224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DCCB6-4978-47E2-AE41-D4DC67C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E0E1D-1433-47FE-B475-2351E153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706D6-D773-4361-B54D-C3A11463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72C67-8537-4EE9-8F64-ECF8D313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A59A0-C8C3-4111-808D-3E7041EE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26E-1FBC-459B-B576-1B73BF5B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E273F-81F1-40C1-A739-3456C06E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14F20-45D8-4F65-A372-30E523D0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456AB-DC64-4ECC-9A11-8DF0ED93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EDD767-627C-4DEE-B01F-7212148C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61275-554A-4C39-864C-773DED90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2B58B-94E5-47FA-9810-E4546368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C115D-CF82-4A72-9A11-674B3280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D2B66-48BA-4CBC-AB29-EDC7533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96435-5350-44A1-9351-0742A4AF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6CAE2-DEBE-4A5D-AF70-F72F9B81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1FF-8656-440E-9BF8-5026110D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95BC0-42EF-4063-8EB2-A7FDC52A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07C226-15C9-4477-A020-942F07A2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1D38B-8216-4D80-A81A-44B52D77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5363F-6B00-44B0-A1DA-D0AE0816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B4BEBB-EAF8-47D7-958B-92B6FE11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0B81B-3D6A-496D-A78F-64593929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14C43-600C-4DA2-8C73-282E5A48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E1A34-69A2-46AD-A144-38E2AC38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09C4A-95FE-4BBA-BFA6-F320475A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F6C05-9E8E-4780-B321-7D0DBA31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B7D-EFE7-46DA-9037-1795338A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B6D58-51ED-4788-8E0D-CE9C67B4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40711-5292-436E-9163-9FD8D4CB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D47E4-E85B-4723-8CE8-E5D228C4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11C3E-C378-4AB9-87A7-6ADC90AA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1231E-2428-4365-8AB5-04776A83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D17-B06C-4A78-98ED-48145D7A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8675-BE63-4D34-B5DC-03B70B80F9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8202-EB75-45B0-AFFC-BD6BDA487E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B816-8C20-4B43-9CD3-90A946C892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DA36-B41A-41DE-90C4-CAE0E7F634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D613-9B10-4191-82CF-23AAD6F8D0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4EDC-7543-4301-9451-C0EB20EDCA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00DE-ED5D-4F17-929F-4DF072AAC0B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-214560" y="1356840"/>
            <a:ext cx="935820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Лиш власне ймення, прізвище й дві дат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На камені – це все, що будеш мат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В своєму розпорядженні колись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Щоб зрячому про себе нагада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Д. Павличк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85840" y="356760"/>
            <a:ext cx="8215200" cy="61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шня політик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ив боротьбу з Польщею за Червенські міст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ширив кордони на північному заході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Юріїв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ини з Візантією і Німеччиною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льший розвито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юбної дипломаті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28760" y="713880"/>
            <a:ext cx="81151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6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чення діяльності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ївська Русь сягнула зеніту розвитку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в посиленню єдності та централізації Київської держави, її європеїзац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74674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d0d0d"/>
                </a:solidFill>
                <a:latin typeface="Century Schoolbook"/>
              </a:rPr>
              <a:t>СЛОВНИК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56760" y="1600200"/>
            <a:ext cx="82155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закон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– дотримання норм і правил, які регулюють відносини у суспільстві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благодать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– мирна творча діяльність (будівництво храмів, бібліотек, переписування книг, виховання дітей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6840" y="1600200"/>
            <a:ext cx="78296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Той, хто хоче звинувачувати, не повинен поспішат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Ж. Б. Мольєр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Documents and Settings\Admin\Рабочий стол\ярослав мудрий\fin_118.jpg"/>
          <p:cNvPicPr/>
          <p:nvPr/>
        </p:nvPicPr>
        <p:blipFill>
          <a:blip r:embed="rId1"/>
          <a:stretch/>
        </p:blipFill>
        <p:spPr>
          <a:xfrm>
            <a:off x="0" y="0"/>
            <a:ext cx="512136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Box 2"/>
          <p:cNvSpPr/>
          <p:nvPr/>
        </p:nvSpPr>
        <p:spPr>
          <a:xfrm>
            <a:off x="5089320" y="1928880"/>
            <a:ext cx="38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гігерда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ин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а Мудрог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d0d0d"/>
                </a:solidFill>
                <a:latin typeface="Century Schoolbook"/>
              </a:rPr>
              <a:t>ЯРОСЛАВ МУДРИЙ – </a:t>
            </a:r>
            <a:r>
              <a:rPr b="1" lang="en-US" sz="4800" spc="-1" strike="noStrike">
                <a:solidFill>
                  <a:srgbClr val="0d0d0d"/>
                </a:solidFill>
                <a:latin typeface="Century Schoolbook"/>
              </a:rPr>
              <a:t>“</a:t>
            </a:r>
            <a:r>
              <a:rPr b="1" lang="uk-UA" sz="4800" spc="-1" strike="noStrike">
                <a:solidFill>
                  <a:srgbClr val="0d0d0d"/>
                </a:solidFill>
                <a:latin typeface="Century Schoolbook"/>
              </a:rPr>
              <a:t>ТЕСТЬ ЄВРОПИ</a:t>
            </a:r>
            <a:r>
              <a:rPr b="1" lang="en-US" sz="4800" spc="-1" strike="noStrike">
                <a:solidFill>
                  <a:srgbClr val="0d0d0d"/>
                </a:solidFill>
                <a:latin typeface="Century Schoolbook"/>
              </a:rPr>
              <a:t>”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Н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85840" y="1600200"/>
            <a:ext cx="82152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1800" indent="-514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яслав – Гертруда ( Польща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слав – Ода ( Нижня Саксонія 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димир – Ода ( Штаде біля Бремену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гор – Кунігунда ( Германія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волод – Марія ( Візантія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2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20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ЧК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857240"/>
            <a:ext cx="83296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Анастасія – Андраш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( Угорщина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Анна – Генріх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 Франція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Єлизавета – Гаральд Суров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Норвегія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2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ИСНОВ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785960"/>
            <a:ext cx="81867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династичних шлюбів була, насамперед, політичною, ними скріплювали мирні договори й гарантували міцність союзі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був досить мудрий і далекоглядний крок з боку Ярослава Мудрого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2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cdb00d1beff3839721627fdf9b3c2675_full.jpg"/>
          <p:cNvPicPr/>
          <p:nvPr/>
        </p:nvPicPr>
        <p:blipFill>
          <a:blip r:embed="rId1"/>
          <a:stretch/>
        </p:blipFill>
        <p:spPr>
          <a:xfrm>
            <a:off x="135720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14200" y="1600200"/>
            <a:ext cx="7710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entury Schoolbook"/>
              </a:rPr>
              <a:t>Ярослав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uk-UA" sz="4400" spc="-1" strike="noStrike">
                <a:solidFill>
                  <a:srgbClr val="000000"/>
                </a:solidFill>
                <a:latin typeface="Century Schoolbook"/>
              </a:rPr>
              <a:t>Мудрий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978 – 1054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C:\Documents and Settings\Admin\Рабочий стол\ярослав мудрий\yar_mudr..jpg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44583"/>
                </a:solidFill>
                <a:latin typeface="Century Schoolbook"/>
              </a:rPr>
              <a:t>ПСИХОЛОГІЧНИЙ ПОРТРЕТ ЯРОСЛАВА МУДРОГО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85480" y="164304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димир взяв Рогнеду силоміць, вбивши її батька та братів. Від цього шлюбу й народився Яросла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есятому році життя був відірваний від матері і поставлений намісником у Ростово - Суздальській землі, у Поволжі. Після смерті старшого сина Вишеслава Володимир, несподівано для всіх, переводить до Новгорода Ярослав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 Мудрий був кволий тілом (сучасники відзначали його непоказну структуру й кульгавість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Овал 1"/>
          <p:cNvSpPr/>
          <p:nvPr/>
        </p:nvSpPr>
        <p:spPr>
          <a:xfrm>
            <a:off x="0" y="0"/>
            <a:ext cx="6215040" cy="685800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іотизм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 д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ьківщи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цікавленіст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лагополуччі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ння законів і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х дотрима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Не прагну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слави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не любив велича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Дбав пр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поширення освіти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культур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6.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Витрачав власні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кошти на будівництв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храмів і нові книг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7.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Справедливі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Овал 3"/>
          <p:cNvSpPr/>
          <p:nvPr/>
        </p:nvSpPr>
        <p:spPr>
          <a:xfrm>
            <a:off x="3429000" y="0"/>
            <a:ext cx="5715000" cy="685800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Полилиния 11"/>
          <p:cNvSpPr/>
          <p:nvPr/>
        </p:nvSpPr>
        <p:spPr>
          <a:xfrm>
            <a:off x="4357800" y="428760"/>
            <a:ext cx="1854000" cy="6215040"/>
          </a:xfrm>
          <a:custGeom>
            <a:avLst/>
            <a:gdLst/>
            <a:ahLst/>
            <a:rect l="l" t="t" r="r" b="b"/>
            <a:pathLst>
              <a:path w="1854199" h="5608782">
                <a:moveTo>
                  <a:pt x="302490" y="0"/>
                </a:moveTo>
                <a:cubicBezTo>
                  <a:pt x="540326" y="151246"/>
                  <a:pt x="778162" y="302492"/>
                  <a:pt x="967508" y="484910"/>
                </a:cubicBezTo>
                <a:cubicBezTo>
                  <a:pt x="1156854" y="667328"/>
                  <a:pt x="1304636" y="877455"/>
                  <a:pt x="1438563" y="1094510"/>
                </a:cubicBezTo>
                <a:cubicBezTo>
                  <a:pt x="1572490" y="1311565"/>
                  <a:pt x="1701799" y="1537855"/>
                  <a:pt x="1771072" y="1787237"/>
                </a:cubicBezTo>
                <a:cubicBezTo>
                  <a:pt x="1840345" y="2036619"/>
                  <a:pt x="1854199" y="2311400"/>
                  <a:pt x="1854199" y="2590800"/>
                </a:cubicBezTo>
                <a:cubicBezTo>
                  <a:pt x="1854199" y="2870200"/>
                  <a:pt x="1851890" y="3158837"/>
                  <a:pt x="1771072" y="3463637"/>
                </a:cubicBezTo>
                <a:cubicBezTo>
                  <a:pt x="1690254" y="3768437"/>
                  <a:pt x="1632526" y="4089400"/>
                  <a:pt x="1369290" y="4419600"/>
                </a:cubicBezTo>
                <a:cubicBezTo>
                  <a:pt x="1106054" y="4749800"/>
                  <a:pt x="383308" y="5280892"/>
                  <a:pt x="191654" y="5444837"/>
                </a:cubicBezTo>
                <a:cubicBezTo>
                  <a:pt x="0" y="5608782"/>
                  <a:pt x="221672" y="5407891"/>
                  <a:pt x="219363" y="5403273"/>
                </a:cubicBezTo>
                <a:cubicBezTo>
                  <a:pt x="217054" y="5398655"/>
                  <a:pt x="197426" y="5407891"/>
                  <a:pt x="177799" y="5417128"/>
                </a:cubicBezTo>
              </a:path>
            </a:pathLst>
          </a:custGeom>
          <a:noFill/>
          <a:ln w="25560">
            <a:solidFill>
              <a:srgbClr val="e75c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3714840" y="1714680"/>
            <a:ext cx="228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гне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дноосібног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ува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гнення посісти гідне   місце серед європейських держа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TextBox 14"/>
          <p:cNvSpPr/>
          <p:nvPr/>
        </p:nvSpPr>
        <p:spPr>
          <a:xfrm>
            <a:off x="5786280" y="642960"/>
            <a:ext cx="3503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ікавленіст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ласних інтерес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гнення д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 не з метою      зміцнити   державу,    підняти її 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вропейський рівень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 метою власног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агаче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б'єктивн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ува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ії Украї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йнування пам'яток культур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рачання кошті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ласні потреб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Овал 1"/>
          <p:cNvSpPr/>
          <p:nvPr/>
        </p:nvSpPr>
        <p:spPr>
          <a:xfrm>
            <a:off x="2714760" y="2071800"/>
            <a:ext cx="2928960" cy="2286000"/>
          </a:xfrm>
          <a:prstGeom prst="ellipse">
            <a:avLst/>
          </a:prstGeom>
          <a:solidFill>
            <a:srgbClr val="862110"/>
          </a:solidFill>
          <a:ln w="25560">
            <a:solidFill>
              <a:srgbClr val="feb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entury Schoolbook"/>
              </a:rPr>
              <a:t>Ярослав Мудри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Овал 2"/>
          <p:cNvSpPr/>
          <p:nvPr/>
        </p:nvSpPr>
        <p:spPr>
          <a:xfrm>
            <a:off x="3214800" y="214200"/>
            <a:ext cx="207144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Овал 3"/>
          <p:cNvSpPr/>
          <p:nvPr/>
        </p:nvSpPr>
        <p:spPr>
          <a:xfrm>
            <a:off x="6000840" y="785880"/>
            <a:ext cx="2000160" cy="142884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Вої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Овал 4"/>
          <p:cNvSpPr/>
          <p:nvPr/>
        </p:nvSpPr>
        <p:spPr>
          <a:xfrm>
            <a:off x="4357800" y="4857840"/>
            <a:ext cx="3571920" cy="164304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Будівнич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Овал 5"/>
          <p:cNvSpPr/>
          <p:nvPr/>
        </p:nvSpPr>
        <p:spPr>
          <a:xfrm>
            <a:off x="6286680" y="2786040"/>
            <a:ext cx="257148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Політи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Овал 6"/>
          <p:cNvSpPr/>
          <p:nvPr/>
        </p:nvSpPr>
        <p:spPr>
          <a:xfrm>
            <a:off x="1357200" y="4714920"/>
            <a:ext cx="2500560" cy="17859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Чолові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214200" y="2928960"/>
            <a:ext cx="2214720" cy="171432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Батьк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Овал 8"/>
          <p:cNvSpPr/>
          <p:nvPr/>
        </p:nvSpPr>
        <p:spPr>
          <a:xfrm>
            <a:off x="785880" y="714240"/>
            <a:ext cx="185724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и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17" name="Прямая со стрелкой 9"/>
          <p:cNvCxnSpPr>
            <a:stCxn id="410" idx="4"/>
            <a:endCxn id="409" idx="0"/>
          </p:cNvCxnSpPr>
          <p:nvPr/>
        </p:nvCxnSpPr>
        <p:spPr>
          <a:xfrm flipH="1">
            <a:off x="4177440" y="1785960"/>
            <a:ext cx="72360" cy="2865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18" name="Прямая со стрелкой 10"/>
          <p:cNvCxnSpPr>
            <a:stCxn id="416" idx="5"/>
            <a:endCxn id="409" idx="1"/>
          </p:cNvCxnSpPr>
          <p:nvPr/>
        </p:nvCxnSpPr>
        <p:spPr>
          <a:xfrm>
            <a:off x="2370600" y="2055960"/>
            <a:ext cx="772200" cy="3513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19" name="Прямая со стрелкой 11"/>
          <p:cNvCxnSpPr>
            <a:stCxn id="415" idx="6"/>
          </p:cNvCxnSpPr>
          <p:nvPr/>
        </p:nvCxnSpPr>
        <p:spPr>
          <a:xfrm flipV="1">
            <a:off x="2428920" y="3642480"/>
            <a:ext cx="357840" cy="143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20" name="Прямая со стрелкой 12"/>
          <p:cNvCxnSpPr>
            <a:stCxn id="414" idx="7"/>
            <a:endCxn id="409" idx="4"/>
          </p:cNvCxnSpPr>
          <p:nvPr/>
        </p:nvCxnSpPr>
        <p:spPr>
          <a:xfrm flipV="1">
            <a:off x="3489840" y="4357080"/>
            <a:ext cx="687960" cy="6195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21" name="Прямая со стрелкой 13"/>
          <p:cNvCxnSpPr>
            <a:stCxn id="412" idx="0"/>
            <a:endCxn id="409" idx="5"/>
          </p:cNvCxnSpPr>
          <p:nvPr/>
        </p:nvCxnSpPr>
        <p:spPr>
          <a:xfrm flipH="1" flipV="1">
            <a:off x="5214600" y="4022280"/>
            <a:ext cx="929520" cy="835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22" name="Прямая со стрелкой 14"/>
          <p:cNvCxnSpPr>
            <a:stCxn id="413" idx="2"/>
            <a:endCxn id="409" idx="6"/>
          </p:cNvCxnSpPr>
          <p:nvPr/>
        </p:nvCxnSpPr>
        <p:spPr>
          <a:xfrm flipH="1" flipV="1">
            <a:off x="5643720" y="3214440"/>
            <a:ext cx="643320" cy="3578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23" name="Прямая со стрелкой 15"/>
          <p:cNvCxnSpPr>
            <a:stCxn id="411" idx="3"/>
            <a:endCxn id="409" idx="7"/>
          </p:cNvCxnSpPr>
          <p:nvPr/>
        </p:nvCxnSpPr>
        <p:spPr>
          <a:xfrm flipH="1">
            <a:off x="5214240" y="2004840"/>
            <a:ext cx="1080360" cy="40248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ТЕМА УРОКУ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І. Кочерга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Ярослав Мудрий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Складність характеру Ярослав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МЕТА УРОКУ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1320" y="1714320"/>
            <a:ext cx="850428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на основі твору І. Кочерги, історичних джерел намалювати літературний, історичний, політичний, психологічний портрети Ярослава Мудрого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пояснити складність його характер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3"/>
          <p:cNvSpPr/>
          <p:nvPr/>
        </p:nvSpPr>
        <p:spPr>
          <a:xfrm>
            <a:off x="2714760" y="2071800"/>
            <a:ext cx="2928960" cy="2286000"/>
          </a:xfrm>
          <a:prstGeom prst="ellipse">
            <a:avLst/>
          </a:prstGeom>
          <a:solidFill>
            <a:srgbClr val="862110"/>
          </a:solidFill>
          <a:ln w="25560">
            <a:solidFill>
              <a:srgbClr val="feb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entury Schoolbook"/>
              </a:rPr>
              <a:t>Ярослав Мудри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Овал 4"/>
          <p:cNvSpPr/>
          <p:nvPr/>
        </p:nvSpPr>
        <p:spPr>
          <a:xfrm>
            <a:off x="3214800" y="214200"/>
            <a:ext cx="207144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Овал 5"/>
          <p:cNvSpPr/>
          <p:nvPr/>
        </p:nvSpPr>
        <p:spPr>
          <a:xfrm>
            <a:off x="6000840" y="785880"/>
            <a:ext cx="2000160" cy="142884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Вої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Овал 6"/>
          <p:cNvSpPr/>
          <p:nvPr/>
        </p:nvSpPr>
        <p:spPr>
          <a:xfrm>
            <a:off x="4357800" y="4857840"/>
            <a:ext cx="3571920" cy="164304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Будівнич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Овал 7"/>
          <p:cNvSpPr/>
          <p:nvPr/>
        </p:nvSpPr>
        <p:spPr>
          <a:xfrm>
            <a:off x="6286680" y="2786040"/>
            <a:ext cx="257148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Політи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8"/>
          <p:cNvSpPr/>
          <p:nvPr/>
        </p:nvSpPr>
        <p:spPr>
          <a:xfrm>
            <a:off x="1357200" y="4714920"/>
            <a:ext cx="2500560" cy="17859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Чолові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9"/>
          <p:cNvSpPr/>
          <p:nvPr/>
        </p:nvSpPr>
        <p:spPr>
          <a:xfrm>
            <a:off x="214200" y="2928960"/>
            <a:ext cx="2214720" cy="171432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Батьк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Овал 10"/>
          <p:cNvSpPr/>
          <p:nvPr/>
        </p:nvSpPr>
        <p:spPr>
          <a:xfrm>
            <a:off x="785880" y="714240"/>
            <a:ext cx="185724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и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6" name="Прямая со стрелкой 12"/>
          <p:cNvCxnSpPr>
            <a:stCxn id="359" idx="4"/>
            <a:endCxn id="358" idx="0"/>
          </p:cNvCxnSpPr>
          <p:nvPr/>
        </p:nvCxnSpPr>
        <p:spPr>
          <a:xfrm flipH="1">
            <a:off x="4177440" y="1785960"/>
            <a:ext cx="72360" cy="2865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7" name="Прямая со стрелкой 14"/>
          <p:cNvCxnSpPr>
            <a:stCxn id="365" idx="5"/>
            <a:endCxn id="358" idx="1"/>
          </p:cNvCxnSpPr>
          <p:nvPr/>
        </p:nvCxnSpPr>
        <p:spPr>
          <a:xfrm>
            <a:off x="2370600" y="2055960"/>
            <a:ext cx="772200" cy="3513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8" name="Прямая со стрелкой 16"/>
          <p:cNvCxnSpPr>
            <a:stCxn id="364" idx="6"/>
          </p:cNvCxnSpPr>
          <p:nvPr/>
        </p:nvCxnSpPr>
        <p:spPr>
          <a:xfrm flipV="1">
            <a:off x="2428920" y="3642480"/>
            <a:ext cx="357840" cy="143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9" name="Прямая со стрелкой 18"/>
          <p:cNvCxnSpPr>
            <a:stCxn id="363" idx="7"/>
            <a:endCxn id="358" idx="4"/>
          </p:cNvCxnSpPr>
          <p:nvPr/>
        </p:nvCxnSpPr>
        <p:spPr>
          <a:xfrm flipV="1">
            <a:off x="3489840" y="4357080"/>
            <a:ext cx="687960" cy="6195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0" name="Прямая со стрелкой 20"/>
          <p:cNvCxnSpPr>
            <a:stCxn id="361" idx="0"/>
            <a:endCxn id="358" idx="5"/>
          </p:cNvCxnSpPr>
          <p:nvPr/>
        </p:nvCxnSpPr>
        <p:spPr>
          <a:xfrm flipH="1" flipV="1">
            <a:off x="5214600" y="4022280"/>
            <a:ext cx="929520" cy="835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1" name="Прямая со стрелкой 22"/>
          <p:cNvCxnSpPr>
            <a:stCxn id="362" idx="2"/>
            <a:endCxn id="358" idx="6"/>
          </p:cNvCxnSpPr>
          <p:nvPr/>
        </p:nvCxnSpPr>
        <p:spPr>
          <a:xfrm flipH="1" flipV="1">
            <a:off x="5643720" y="3214440"/>
            <a:ext cx="643320" cy="3578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2" name="Прямая со стрелкой 24"/>
          <p:cNvCxnSpPr>
            <a:stCxn id="360" idx="3"/>
            <a:endCxn id="358" idx="7"/>
          </p:cNvCxnSpPr>
          <p:nvPr/>
        </p:nvCxnSpPr>
        <p:spPr>
          <a:xfrm flipH="1">
            <a:off x="5214240" y="2004840"/>
            <a:ext cx="1080360" cy="40248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a3d01"/>
                </a:solidFill>
                <a:latin typeface="Arial Black"/>
              </a:rPr>
              <a:t>ІСТОРИЧНИЙ ПОРТРЕТ ЯРОСЛАВА МУДРОГО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85480" y="642600"/>
            <a:ext cx="825804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дження - династія Рюриковичів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C:\Documents and Settings\Admin\Рабочий стол\ярослав мудрий\wolodymyr.gif"/>
          <p:cNvPicPr/>
          <p:nvPr/>
        </p:nvPicPr>
        <p:blipFill>
          <a:blip r:embed="rId1"/>
          <a:stretch/>
        </p:blipFill>
        <p:spPr>
          <a:xfrm>
            <a:off x="214200" y="1285920"/>
            <a:ext cx="4071960" cy="5572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Documents and Settings\Admin\Рабочий стол\ярослав мудрий\1254471447_kemakovskijj15.jpg"/>
          <p:cNvPicPr/>
          <p:nvPr/>
        </p:nvPicPr>
        <p:blipFill>
          <a:blip r:embed="rId2"/>
          <a:stretch/>
        </p:blipFill>
        <p:spPr>
          <a:xfrm>
            <a:off x="4429080" y="1357200"/>
            <a:ext cx="4214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14200" y="285480"/>
            <a:ext cx="871560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2. Раннє правління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намісник у Ростово  - Суздальській землі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чверть століття у Новгороді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C:\Documents and Settings\Admin\Рабочий стол\ярослав мудрий\index-feod7.jpg"/>
          <p:cNvPicPr/>
          <p:nvPr/>
        </p:nvPicPr>
        <p:blipFill>
          <a:blip r:embed="rId1"/>
          <a:stretch/>
        </p:blipFill>
        <p:spPr>
          <a:xfrm>
            <a:off x="1214280" y="2068560"/>
            <a:ext cx="657252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0" y="285480"/>
            <a:ext cx="914400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3. Утвердження на Київському престолі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0" name="Прямая со стрелкой 4"/>
          <p:cNvCxnSpPr/>
          <p:nvPr/>
        </p:nvCxnSpPr>
        <p:spPr>
          <a:xfrm flipH="1">
            <a:off x="1356480" y="857160"/>
            <a:ext cx="2520" cy="164376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1" name="Прямая со стрелкой 6"/>
          <p:cNvCxnSpPr/>
          <p:nvPr/>
        </p:nvCxnSpPr>
        <p:spPr>
          <a:xfrm flipH="1">
            <a:off x="4285440" y="1357200"/>
            <a:ext cx="2520" cy="285840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2" name="Прямая со стрелкой 8"/>
          <p:cNvCxnSpPr/>
          <p:nvPr/>
        </p:nvCxnSpPr>
        <p:spPr>
          <a:xfrm flipH="1">
            <a:off x="7071480" y="1000080"/>
            <a:ext cx="2520" cy="164376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83" name="TextBox 9"/>
          <p:cNvSpPr/>
          <p:nvPr/>
        </p:nvSpPr>
        <p:spPr>
          <a:xfrm>
            <a:off x="214200" y="2571840"/>
            <a:ext cx="235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Міжусобні війни братів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1015 - 1019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2786040" y="4357800"/>
            <a:ext cx="32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Співправління з братом Мстиславом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1024 - 1036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000840" y="2786040"/>
            <a:ext cx="2428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Одноосібне правлінн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1036 - 1054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28400" y="213840"/>
            <a:ext cx="800100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4. Внутрішня політик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в централізацію держав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бив печенігів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будовував міст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ив перше писане зведення законі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ька прав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 Яросла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ійснив спробу позбутися залежності руської церкви від константинопольського патріарха, 1051 р. – призначив Іларіона митрополитом Київським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ікувався освітою та культурою (скрипторій, бібліотека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2:57:02Z</dcterms:created>
  <dc:creator>User</dc:creator>
  <dc:description/>
  <dc:language>en-US</dc:language>
  <cp:lastModifiedBy>Admin</cp:lastModifiedBy>
  <dcterms:modified xsi:type="dcterms:W3CDTF">2011-02-14T09:19:46Z</dcterms:modified>
  <cp:revision>36</cp:revision>
  <dc:subject/>
  <dc:title>Слайд 1</dc:title>
</cp:coreProperties>
</file>