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D65-81FA-432F-9B27-DFDB5D9C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FDB-9310-4C83-BAF4-1270AEB5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CBD-1D7F-4785-B5B6-329B2547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D77-2E22-45A1-8E62-7004273E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8E7B-672B-4274-A5D3-90C2C5FB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2E9-7F3F-438B-8307-0B4810D2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1D01-5B50-408F-8823-317A5E3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CA7F-DF0F-4C18-8699-A46CDA0F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5605-33C0-4D76-AA0A-C3E0F27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BA9B-1A0D-4ECC-8512-7486FE3F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F13A-DAC1-43D3-B447-0F3E842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A92-8B7F-4F9D-B189-6A06750B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AA90-3A63-40F6-BE80-EB10276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C6FE-88BC-478E-9E8E-2195F546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5526-BEBF-4CB2-9A84-8EE9AB94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6B61-0C4A-4759-BA89-226920C0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D75D-A70A-4ABC-AE52-4DEB2523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0C9F3-2D69-411A-97D2-1B6544E9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39B23-428B-4DEF-839D-7F893AE7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D2134-0CF6-453E-8AA6-B4F2D2F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5160D-37E0-411D-860B-C561B852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B1838-C2E2-4095-80F5-EFC9AF7C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863-E5DE-48FB-8585-D177BB9B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3BFD7-AE80-4149-AB04-C10F36CC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CAF31-A3F1-4715-BF74-95895EC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47D84-D84D-4C6B-899D-7E37CF1F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62A75-D4B4-442D-8EC4-6EB5C6E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73DD9-2E48-4B1D-B2C9-D6CE1E6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74B82-5C9E-40ED-A3B9-B6754FB5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7ABE2-8F63-4538-9D34-9914DF41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4652-6AE3-496C-8788-596DD380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2410-0744-4A1C-986B-4F7A6C4D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A3612-8EC4-4DD9-AF6C-5F9FFC4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EE1-F13A-4548-9C99-5FDA0064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227A-2C6B-4CAD-8381-73E0920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4635-1BED-46E0-A964-261F7BF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01B4D-9479-4E8D-A826-EF394F5D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7B218-B527-4642-A07A-A2463EB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72E8-E573-4648-B8C6-749B8A2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B030-FCC7-456E-A85C-8D55314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65FA-9C6A-4B79-913F-52C47218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3815A-0402-4B1F-87A7-7C3C1AAC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73F2-A938-4447-85DA-6A04A9F0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EDE41A-1DC1-4EC2-A6FE-C85CDC53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5AE-2CF4-44E2-94F2-C41A84F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AAE2C-5D99-4C4D-AC85-A15AA290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274C9-5592-4747-A7C2-E36D6662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956A9-026D-4472-AA84-86E9D99D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2EB21-F454-4B46-AE13-CC6CF968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105F7-ECF9-44BE-B97E-504919C4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2B42F-35BE-47E6-9DBD-FEC3C815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A05EC-0D3E-4A93-BC72-5D1BFBDB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4969F-A87A-46AC-B609-7C01410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A364B-CEE8-491F-80AE-2667F4A2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9B643-684A-462B-859F-2DAC7C0A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40E-9EB2-43FF-BAB7-F011069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E0EC65-4551-4A06-87A8-D904EB30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D1CBD-AB31-4924-AB06-2BE9C3CE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AE7AE-81D1-431F-9F0E-AB228496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85B44-13A8-4E07-8458-F3A994E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4FA2F-AB45-42B8-A6BC-219567CA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34D72-081F-4FA4-89DA-9B8ED333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A2091-11DD-4CE3-8094-39BA3DC2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79638-3CA2-4C62-9E0C-A4E8B24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8DF4B-2C38-4388-8183-D1C494B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2F924-8E59-4B1B-9141-3F7233F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BA8-2AA7-40CC-A56F-8A35662A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9E043-2A58-4C36-B887-051DBFC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DF5DD-C99D-4666-95AE-998E51ED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2C50F-79A2-4E46-8661-9CBC5160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02C41-45E9-493D-92F3-BD288CC2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A2F0E-6531-4BBD-BF1E-C6BB1420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9454C-AFA1-4E47-A465-EFBD2A51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1D3DE-833D-455F-9696-1D4D1CE5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A7F77-07E6-4658-A58A-92B5435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4B44F-B2BC-4452-8D4C-CF3E308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743DA-982A-4BB1-98CC-A898894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3DB-63DD-494D-A1F0-367DE8D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49593-EA28-4B4F-83D2-B0ABE06B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DEABB-B492-4009-AFD1-88407CA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D73ED-0526-4891-A196-8A9B68B3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81D4E-2148-458C-8E48-86447383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F56BF-CF7C-4166-B8DB-D1204A33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D18-8C80-46CD-A413-7B0FAD2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943-6EB0-4E47-8831-91D0B92AFA9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E49-8983-4F30-A87A-A1BE96CF4C6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6D5E-58A2-4264-8715-1A1CD43807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C1D5-764A-4F9C-A773-4B6F0AE9999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20C7-75A0-49EC-9748-8AAEEEA7A7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CA62-FB2C-4BEC-8711-D278956155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65DE-5E3E-46A1-AFE5-FCA8062155D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-214560" y="1356840"/>
            <a:ext cx="93582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Лиш власне ймення, прізвище й дві да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На камені – це все, що будеш мат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В своєму розпорядженні колись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Щоб зрячому про себе нагада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entury Schoolbook"/>
              </a:rPr>
              <a:t>Д. Павличк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85840" y="356760"/>
            <a:ext cx="821520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нішня політик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ив боротьбу з Польщею за Червенські міс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ширив кордони на північному заході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Юріїв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ини з Візантією і Німеччиною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льший розвито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юбної дипломаті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28760" y="713880"/>
            <a:ext cx="81151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ення діяльності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ївська Русь сягнула зеніту розвитку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яв посиленню єдності та централізації Київської держави, її європеїзації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74674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d0d0d"/>
                </a:solidFill>
                <a:latin typeface="Century Schoolbook"/>
              </a:rPr>
              <a:t>СЛОВНИ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56760" y="1600200"/>
            <a:ext cx="82155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закон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 дотримання норм і правил, які регулюють відносини у суспільстві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благодать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– мирна творча діяльність (будівництво храмів, бібліотек, переписування книг, виховання дітей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6840" y="1600200"/>
            <a:ext cx="78296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Той, хто хоче звинувачувати, не повинен поспіша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entury Schoolbook"/>
              </a:rPr>
              <a:t>Ж. Б. Мольєр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Admin\Рабочий стол\ярослав мудрий\fin_118.jpg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2"/>
          <p:cNvSpPr/>
          <p:nvPr/>
        </p:nvSpPr>
        <p:spPr>
          <a:xfrm>
            <a:off x="5089320" y="1928880"/>
            <a:ext cx="38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гігерда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ин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а Мудрог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d0d0d"/>
                </a:solidFill>
                <a:latin typeface="Century Schoolbook"/>
              </a:rPr>
              <a:t>ЯРОСЛАВ МУДРИЙ – </a:t>
            </a:r>
            <a:r>
              <a:rPr b="1" lang="en-US" sz="4800" spc="-1" strike="noStrike">
                <a:solidFill>
                  <a:srgbClr val="0d0d0d"/>
                </a:solidFill>
                <a:latin typeface="Century Schoolbook"/>
              </a:rPr>
              <a:t>“</a:t>
            </a:r>
            <a:r>
              <a:rPr b="1" lang="uk-UA" sz="4800" spc="-1" strike="noStrike">
                <a:solidFill>
                  <a:srgbClr val="0d0d0d"/>
                </a:solidFill>
                <a:latin typeface="Century Schoolbook"/>
              </a:rPr>
              <a:t>ТЕСТЬ ЄВРОПИ</a:t>
            </a:r>
            <a:r>
              <a:rPr b="1" lang="en-US" sz="4800" spc="-1" strike="noStrike">
                <a:solidFill>
                  <a:srgbClr val="0d0d0d"/>
                </a:solidFill>
                <a:latin typeface="Century Schoolbook"/>
              </a:rPr>
              <a:t>”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1600200"/>
            <a:ext cx="8215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1800" indent="-514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зяслав – Гертруда ( Польща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ослав – Ода ( Нижня Саксонія )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имир – Ода ( Штаде біля Бремену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гор – Кунігунда ( Герман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волод – Марія ( Візант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3180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2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20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20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ЧК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857240"/>
            <a:ext cx="83296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настасія – Андраш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( Угорщина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Анна – Генріх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 Франц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Єлизавета – Гаральд Сурови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(Норвегія 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ИСНОВ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785960"/>
            <a:ext cx="8186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династичних шлюбів була, насамперед, політичною, ними скріплювали мирні договори й гарантували міцність союзі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був досить мудрий і далекоглядний крок з боку Ярослава Мудрого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cdb00d1beff3839721627fdf9b3c2675_full.jpg"/>
          <p:cNvPicPr/>
          <p:nvPr/>
        </p:nvPicPr>
        <p:blipFill>
          <a:blip r:embed="rId1"/>
          <a:stretch/>
        </p:blipFill>
        <p:spPr>
          <a:xfrm>
            <a:off x="135720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4200" y="1600200"/>
            <a:ext cx="7710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entury Schoolbook"/>
              </a:rPr>
              <a:t>Ярослав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uk-UA" sz="4400" spc="-1" strike="noStrike">
                <a:solidFill>
                  <a:srgbClr val="000000"/>
                </a:solidFill>
                <a:latin typeface="Century Schoolbook"/>
              </a:rPr>
              <a:t>Мудрий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978 – 105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Documents and Settings\Admin\Рабочий стол\ярослав мудрий\yar_mudr..jpg"/>
          <p:cNvPicPr/>
          <p:nvPr/>
        </p:nvPicPr>
        <p:blipFill>
          <a:blip r:embed="rId1"/>
          <a:stretch/>
        </p:blipFill>
        <p:spPr>
          <a:xfrm>
            <a:off x="36432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244583"/>
                </a:solidFill>
                <a:latin typeface="Century Schoolbook"/>
              </a:rPr>
              <a:t>ПСИХОЛОГІЧНИЙ ПОРТРЕТ ЯРОСЛАВА МУДРОГО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85480" y="1643040"/>
            <a:ext cx="8429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имир взяв Рогнеду силоміць, вбивши її батька та братів. Від цього шлюбу й народився Яросла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сятому році життя був відірваний від матері і поставлений намісником у Ростово - Суздальській землі, у Поволжі. Після смерті старшого сина Вишеслава Володимир, несподівано для всіх, переводить до Новгорода Ярослава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 Мудрий був кволий тілом (сучасники відзначали його непоказну структуру й кульгавість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Овал 1"/>
          <p:cNvSpPr/>
          <p:nvPr/>
        </p:nvSpPr>
        <p:spPr>
          <a:xfrm>
            <a:off x="0" y="0"/>
            <a:ext cx="6215040" cy="685800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іотизм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 д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івщи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цікавленіс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лагополуччі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ння законів і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х дотрим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Не прагну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слав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не любив велич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Дбав пр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поширення освіти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ультур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Витрачав власні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кошти на будівництв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храмів і нові книг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7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Справедливіст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Овал 3"/>
          <p:cNvSpPr/>
          <p:nvPr/>
        </p:nvSpPr>
        <p:spPr>
          <a:xfrm>
            <a:off x="3429000" y="0"/>
            <a:ext cx="5715000" cy="685800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Полилиния 11"/>
          <p:cNvSpPr/>
          <p:nvPr/>
        </p:nvSpPr>
        <p:spPr>
          <a:xfrm>
            <a:off x="4357800" y="428760"/>
            <a:ext cx="1854000" cy="6215040"/>
          </a:xfrm>
          <a:custGeom>
            <a:avLst/>
            <a:gdLst/>
            <a:ahLst/>
            <a:rect l="l" t="t" r="r" b="b"/>
            <a:pathLst>
              <a:path w="1854199" h="5608782">
                <a:moveTo>
                  <a:pt x="302490" y="0"/>
                </a:moveTo>
                <a:cubicBezTo>
                  <a:pt x="540326" y="151246"/>
                  <a:pt x="778162" y="302492"/>
                  <a:pt x="967508" y="484910"/>
                </a:cubicBezTo>
                <a:cubicBezTo>
                  <a:pt x="1156854" y="667328"/>
                  <a:pt x="1304636" y="877455"/>
                  <a:pt x="1438563" y="1094510"/>
                </a:cubicBezTo>
                <a:cubicBezTo>
                  <a:pt x="1572490" y="1311565"/>
                  <a:pt x="1701799" y="1537855"/>
                  <a:pt x="1771072" y="1787237"/>
                </a:cubicBezTo>
                <a:cubicBezTo>
                  <a:pt x="1840345" y="2036619"/>
                  <a:pt x="1854199" y="2311400"/>
                  <a:pt x="1854199" y="2590800"/>
                </a:cubicBezTo>
                <a:cubicBezTo>
                  <a:pt x="1854199" y="2870200"/>
                  <a:pt x="1851890" y="3158837"/>
                  <a:pt x="1771072" y="3463637"/>
                </a:cubicBezTo>
                <a:cubicBezTo>
                  <a:pt x="1690254" y="3768437"/>
                  <a:pt x="1632526" y="4089400"/>
                  <a:pt x="1369290" y="4419600"/>
                </a:cubicBezTo>
                <a:cubicBezTo>
                  <a:pt x="1106054" y="4749800"/>
                  <a:pt x="383308" y="5280892"/>
                  <a:pt x="191654" y="5444837"/>
                </a:cubicBezTo>
                <a:cubicBezTo>
                  <a:pt x="0" y="5608782"/>
                  <a:pt x="221672" y="5407891"/>
                  <a:pt x="219363" y="5403273"/>
                </a:cubicBezTo>
                <a:cubicBezTo>
                  <a:pt x="217054" y="5398655"/>
                  <a:pt x="197426" y="5407891"/>
                  <a:pt x="177799" y="5417128"/>
                </a:cubicBezTo>
              </a:path>
            </a:pathLst>
          </a:custGeom>
          <a:noFill/>
          <a:ln w="25560">
            <a:solidFill>
              <a:srgbClr val="e75c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Box 13"/>
          <p:cNvSpPr/>
          <p:nvPr/>
        </p:nvSpPr>
        <p:spPr>
          <a:xfrm>
            <a:off x="3714840" y="1714680"/>
            <a:ext cx="228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не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дноосібног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рув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нення посісти гідне   місце серед європейських держа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TextBox 14"/>
          <p:cNvSpPr/>
          <p:nvPr/>
        </p:nvSpPr>
        <p:spPr>
          <a:xfrm>
            <a:off x="5786280" y="642960"/>
            <a:ext cx="3503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uk-U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ікавленіс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ласних інтереса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нення д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 не з метою      зміцнити   державу,    підняти її 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вропейський рівень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 метою власног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агаче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б'єктивн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уванн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ії Украї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йнування пам'яток культур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рачання кошті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ласні потреб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Овал 1"/>
          <p:cNvSpPr/>
          <p:nvPr/>
        </p:nvSpPr>
        <p:spPr>
          <a:xfrm>
            <a:off x="2714760" y="2071800"/>
            <a:ext cx="2928960" cy="2286000"/>
          </a:xfrm>
          <a:prstGeom prst="ellipse">
            <a:avLst/>
          </a:prstGeom>
          <a:solidFill>
            <a:srgbClr val="862110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entury Schoolbook"/>
              </a:rPr>
              <a:t>Ярослав Мудр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Овал 2"/>
          <p:cNvSpPr/>
          <p:nvPr/>
        </p:nvSpPr>
        <p:spPr>
          <a:xfrm>
            <a:off x="3214800" y="214200"/>
            <a:ext cx="20714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Овал 3"/>
          <p:cNvSpPr/>
          <p:nvPr/>
        </p:nvSpPr>
        <p:spPr>
          <a:xfrm>
            <a:off x="6000840" y="785880"/>
            <a:ext cx="2000160" cy="1428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ої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Овал 4"/>
          <p:cNvSpPr/>
          <p:nvPr/>
        </p:nvSpPr>
        <p:spPr>
          <a:xfrm>
            <a:off x="4357800" y="4857840"/>
            <a:ext cx="3571920" cy="16430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удівнич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Овал 5"/>
          <p:cNvSpPr/>
          <p:nvPr/>
        </p:nvSpPr>
        <p:spPr>
          <a:xfrm>
            <a:off x="6286680" y="2786040"/>
            <a:ext cx="257148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оліт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Овал 6"/>
          <p:cNvSpPr/>
          <p:nvPr/>
        </p:nvSpPr>
        <p:spPr>
          <a:xfrm>
            <a:off x="1357200" y="4714920"/>
            <a:ext cx="2500560" cy="17859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Чолові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214200" y="2928960"/>
            <a:ext cx="2214720" cy="171432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атьк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Овал 8"/>
          <p:cNvSpPr/>
          <p:nvPr/>
        </p:nvSpPr>
        <p:spPr>
          <a:xfrm>
            <a:off x="785880" y="714240"/>
            <a:ext cx="18572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7" name="Прямая со стрелкой 9"/>
          <p:cNvCxnSpPr>
            <a:stCxn id="410" idx="4"/>
            <a:endCxn id="409" idx="0"/>
          </p:cNvCxnSpPr>
          <p:nvPr/>
        </p:nvCxnSpPr>
        <p:spPr>
          <a:xfrm flipH="1">
            <a:off x="4177440" y="1785960"/>
            <a:ext cx="72360" cy="286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18" name="Прямая со стрелкой 10"/>
          <p:cNvCxnSpPr>
            <a:stCxn id="416" idx="5"/>
            <a:endCxn id="409" idx="1"/>
          </p:cNvCxnSpPr>
          <p:nvPr/>
        </p:nvCxnSpPr>
        <p:spPr>
          <a:xfrm>
            <a:off x="2370600" y="2055960"/>
            <a:ext cx="772200" cy="3513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19" name="Прямая со стрелкой 11"/>
          <p:cNvCxnSpPr>
            <a:stCxn id="415" idx="6"/>
          </p:cNvCxnSpPr>
          <p:nvPr/>
        </p:nvCxnSpPr>
        <p:spPr>
          <a:xfrm flipV="1">
            <a:off x="2428920" y="3642480"/>
            <a:ext cx="357840" cy="143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0" name="Прямая со стрелкой 12"/>
          <p:cNvCxnSpPr>
            <a:stCxn id="414" idx="7"/>
            <a:endCxn id="409" idx="4"/>
          </p:cNvCxnSpPr>
          <p:nvPr/>
        </p:nvCxnSpPr>
        <p:spPr>
          <a:xfrm flipV="1">
            <a:off x="3489840" y="4357080"/>
            <a:ext cx="687960" cy="619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1" name="Прямая со стрелкой 13"/>
          <p:cNvCxnSpPr>
            <a:stCxn id="412" idx="0"/>
            <a:endCxn id="409" idx="5"/>
          </p:cNvCxnSpPr>
          <p:nvPr/>
        </p:nvCxnSpPr>
        <p:spPr>
          <a:xfrm flipH="1" flipV="1">
            <a:off x="5214600" y="4022280"/>
            <a:ext cx="929520" cy="835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2" name="Прямая со стрелкой 14"/>
          <p:cNvCxnSpPr>
            <a:stCxn id="413" idx="2"/>
            <a:endCxn id="409" idx="6"/>
          </p:cNvCxnSpPr>
          <p:nvPr/>
        </p:nvCxnSpPr>
        <p:spPr>
          <a:xfrm flipH="1" flipV="1">
            <a:off x="5643720" y="3214440"/>
            <a:ext cx="643320" cy="3578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23" name="Прямая со стрелкой 15"/>
          <p:cNvCxnSpPr>
            <a:stCxn id="411" idx="3"/>
            <a:endCxn id="409" idx="7"/>
          </p:cNvCxnSpPr>
          <p:nvPr/>
        </p:nvCxnSpPr>
        <p:spPr>
          <a:xfrm flipH="1">
            <a:off x="5214240" y="2004840"/>
            <a:ext cx="1080360" cy="4024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ТЕМА УРОКУ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І. Кочерга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Ярослав Мудрий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entury Schoolbook"/>
              </a:rPr>
              <a:t>Складність характеру Ярослава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e75c01"/>
                </a:solidFill>
                <a:latin typeface="Times New Roman"/>
                <a:ea typeface="Times New Roman"/>
              </a:rPr>
              <a:t>МЕТА УРОКУ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1320" y="1714320"/>
            <a:ext cx="850428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на основі твору І. Кочерги, історичних джерел намалювати літературний, історичний, політичний, психологічний портрети Ярослава Мудрого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пояснити складність його характер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3"/>
          <p:cNvSpPr/>
          <p:nvPr/>
        </p:nvSpPr>
        <p:spPr>
          <a:xfrm>
            <a:off x="2714760" y="2071800"/>
            <a:ext cx="2928960" cy="2286000"/>
          </a:xfrm>
          <a:prstGeom prst="ellipse">
            <a:avLst/>
          </a:prstGeom>
          <a:solidFill>
            <a:srgbClr val="862110"/>
          </a:solidFill>
          <a:ln w="255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entury Schoolbook"/>
              </a:rPr>
              <a:t>Ярослав Мудри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Овал 4"/>
          <p:cNvSpPr/>
          <p:nvPr/>
        </p:nvSpPr>
        <p:spPr>
          <a:xfrm>
            <a:off x="3214800" y="214200"/>
            <a:ext cx="20714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Овал 5"/>
          <p:cNvSpPr/>
          <p:nvPr/>
        </p:nvSpPr>
        <p:spPr>
          <a:xfrm>
            <a:off x="6000840" y="785880"/>
            <a:ext cx="2000160" cy="14288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Вої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Овал 6"/>
          <p:cNvSpPr/>
          <p:nvPr/>
        </p:nvSpPr>
        <p:spPr>
          <a:xfrm>
            <a:off x="4357800" y="4857840"/>
            <a:ext cx="3571920" cy="164304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удівнич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Овал 7"/>
          <p:cNvSpPr/>
          <p:nvPr/>
        </p:nvSpPr>
        <p:spPr>
          <a:xfrm>
            <a:off x="6286680" y="2786040"/>
            <a:ext cx="257148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Політи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8"/>
          <p:cNvSpPr/>
          <p:nvPr/>
        </p:nvSpPr>
        <p:spPr>
          <a:xfrm>
            <a:off x="1357200" y="4714920"/>
            <a:ext cx="2500560" cy="17859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Чолові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9"/>
          <p:cNvSpPr/>
          <p:nvPr/>
        </p:nvSpPr>
        <p:spPr>
          <a:xfrm>
            <a:off x="214200" y="2928960"/>
            <a:ext cx="2214720" cy="171432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Батьк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Овал 10"/>
          <p:cNvSpPr/>
          <p:nvPr/>
        </p:nvSpPr>
        <p:spPr>
          <a:xfrm>
            <a:off x="785880" y="714240"/>
            <a:ext cx="1857240" cy="157176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Schoolbook"/>
              </a:rPr>
              <a:t>Си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6" name="Прямая со стрелкой 12"/>
          <p:cNvCxnSpPr>
            <a:stCxn id="359" idx="4"/>
            <a:endCxn id="358" idx="0"/>
          </p:cNvCxnSpPr>
          <p:nvPr/>
        </p:nvCxnSpPr>
        <p:spPr>
          <a:xfrm flipH="1">
            <a:off x="4177440" y="1785960"/>
            <a:ext cx="72360" cy="286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7" name="Прямая со стрелкой 14"/>
          <p:cNvCxnSpPr>
            <a:stCxn id="365" idx="5"/>
            <a:endCxn id="358" idx="1"/>
          </p:cNvCxnSpPr>
          <p:nvPr/>
        </p:nvCxnSpPr>
        <p:spPr>
          <a:xfrm>
            <a:off x="2370600" y="2055960"/>
            <a:ext cx="772200" cy="3513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16"/>
          <p:cNvCxnSpPr>
            <a:stCxn id="364" idx="6"/>
          </p:cNvCxnSpPr>
          <p:nvPr/>
        </p:nvCxnSpPr>
        <p:spPr>
          <a:xfrm flipV="1">
            <a:off x="2428920" y="3642480"/>
            <a:ext cx="357840" cy="143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18"/>
          <p:cNvCxnSpPr>
            <a:stCxn id="363" idx="7"/>
            <a:endCxn id="358" idx="4"/>
          </p:cNvCxnSpPr>
          <p:nvPr/>
        </p:nvCxnSpPr>
        <p:spPr>
          <a:xfrm flipV="1">
            <a:off x="3489840" y="4357080"/>
            <a:ext cx="687960" cy="6195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0"/>
          <p:cNvCxnSpPr>
            <a:stCxn id="361" idx="0"/>
            <a:endCxn id="358" idx="5"/>
          </p:cNvCxnSpPr>
          <p:nvPr/>
        </p:nvCxnSpPr>
        <p:spPr>
          <a:xfrm flipH="1" flipV="1">
            <a:off x="5214600" y="4022280"/>
            <a:ext cx="929520" cy="835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2"/>
          <p:cNvCxnSpPr>
            <a:stCxn id="362" idx="2"/>
            <a:endCxn id="358" idx="6"/>
          </p:cNvCxnSpPr>
          <p:nvPr/>
        </p:nvCxnSpPr>
        <p:spPr>
          <a:xfrm flipH="1" flipV="1">
            <a:off x="5643720" y="3214440"/>
            <a:ext cx="643320" cy="3578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4"/>
          <p:cNvCxnSpPr>
            <a:stCxn id="360" idx="3"/>
            <a:endCxn id="358" idx="7"/>
          </p:cNvCxnSpPr>
          <p:nvPr/>
        </p:nvCxnSpPr>
        <p:spPr>
          <a:xfrm flipH="1">
            <a:off x="5214240" y="2004840"/>
            <a:ext cx="1080360" cy="4024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a3d01"/>
                </a:solidFill>
                <a:latin typeface="Arial Black"/>
              </a:rPr>
              <a:t>ІСТОРИЧНИЙ ПОРТРЕТ ЯРОСЛАВА МУДРОГО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480" y="642600"/>
            <a:ext cx="825804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дження - династія Рюриковичі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C:\Documents and Settings\Admin\Рабочий стол\ярослав мудрий\wolodymyr.gif"/>
          <p:cNvPicPr/>
          <p:nvPr/>
        </p:nvPicPr>
        <p:blipFill>
          <a:blip r:embed="rId1"/>
          <a:stretch/>
        </p:blipFill>
        <p:spPr>
          <a:xfrm>
            <a:off x="214200" y="1285920"/>
            <a:ext cx="4071960" cy="5572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Admin\Рабочий стол\ярослав мудрий\1254471447_kemakovskijj15.jpg"/>
          <p:cNvPicPr/>
          <p:nvPr/>
        </p:nvPicPr>
        <p:blipFill>
          <a:blip r:embed="rId2"/>
          <a:stretch/>
        </p:blipFill>
        <p:spPr>
          <a:xfrm>
            <a:off x="4429080" y="1357200"/>
            <a:ext cx="4214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14200" y="285480"/>
            <a:ext cx="8715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2. Раннє правління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намісник у Ростово  - Суздальській землі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чверть століття у Новгороді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2" descr="C:\Documents and Settings\Admin\Рабочий стол\ярослав мудрий\index-feod7.jpg"/>
          <p:cNvPicPr/>
          <p:nvPr/>
        </p:nvPicPr>
        <p:blipFill>
          <a:blip r:embed="rId1"/>
          <a:stretch/>
        </p:blipFill>
        <p:spPr>
          <a:xfrm>
            <a:off x="1214280" y="2068560"/>
            <a:ext cx="65725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0" y="285480"/>
            <a:ext cx="91440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3. Утвердження на Київському престолі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0" name="Прямая со стрелкой 4"/>
          <p:cNvCxnSpPr/>
          <p:nvPr/>
        </p:nvCxnSpPr>
        <p:spPr>
          <a:xfrm flipH="1">
            <a:off x="1356480" y="857160"/>
            <a:ext cx="2520" cy="164376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1" name="Прямая со стрелкой 6"/>
          <p:cNvCxnSpPr/>
          <p:nvPr/>
        </p:nvCxnSpPr>
        <p:spPr>
          <a:xfrm flipH="1">
            <a:off x="4285440" y="1357200"/>
            <a:ext cx="2520" cy="285840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82" name="Прямая со стрелкой 8"/>
          <p:cNvCxnSpPr/>
          <p:nvPr/>
        </p:nvCxnSpPr>
        <p:spPr>
          <a:xfrm flipH="1">
            <a:off x="7071480" y="1000080"/>
            <a:ext cx="2520" cy="164376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83" name="TextBox 9"/>
          <p:cNvSpPr/>
          <p:nvPr/>
        </p:nvSpPr>
        <p:spPr>
          <a:xfrm>
            <a:off x="214200" y="2571840"/>
            <a:ext cx="235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Міжусобні війни братів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1015 - 1019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2786040" y="4357800"/>
            <a:ext cx="32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Співправління з братом Мстиславо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1024 - 1036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000840" y="2786040"/>
            <a:ext cx="242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Одноосібне правлінн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 Schoolbook"/>
              </a:rPr>
              <a:t>1036 - 1054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28400" y="213840"/>
            <a:ext cx="8001000" cy="66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4. Внутрішня політика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вив централізацію держав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бив печенігів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будовував міс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ив перше писане зведення законі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ька прав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 Яросла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ійснив спробу позбутися залежності руської церкви від константинопольського патріарха, 1051 р. – призначив Іларіона митрополитом Київським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ікувався освітою та культурою (скрипторій, бібліотека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2:57:02Z</dcterms:created>
  <dc:creator>User</dc:creator>
  <dc:description/>
  <dc:language>en-US</dc:language>
  <cp:lastModifiedBy>Admin</cp:lastModifiedBy>
  <dcterms:modified xsi:type="dcterms:W3CDTF">2011-02-14T09:19:46Z</dcterms:modified>
  <cp:revision>36</cp:revision>
  <dc:subject/>
  <dc:title>Слайд 1</dc:title>
</cp:coreProperties>
</file>