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733-13E6-45E0-A733-84939CFC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7EE-3969-4574-889A-CC233DF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3F0-98D9-4C83-9AC7-20FB9093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76B-F3BC-44E2-A990-3A112D47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1B7C-FBCD-4A34-ABFC-B8D0637C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3082-3F18-412E-9BC9-38A2048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886-CCCA-489B-A86C-8AF4D6A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1569-CACB-46FD-9EF9-42D73A3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17D3-C34A-4586-B420-37B57C2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4631-224B-4B53-BE70-FA1878E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4CA-89D1-475E-B254-4352867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C37-3311-478A-9FDF-8438204D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9C8-7CA5-4FD8-A285-727FD7E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83AF-F47B-4787-9EB0-F4730E8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756-DF99-4D3E-A9C8-EE25670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04D5-E5F1-4F1F-87CD-008A6CB9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1855-5667-4DC6-B2CD-86DD2DF8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F3E-FDCF-4B2A-87AB-B6DC7A83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5EA-7501-4F65-B03E-FA2160C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90C-DCE4-4BA1-A1EB-FBC07A6F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97B-AC0F-4C5E-9254-18E78DA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C5D-237E-4BAE-BE96-506D325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C49-F2D4-4714-802A-342B086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CBA-658E-4098-95A1-26B0695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C5D-DD5E-459B-AA7E-40D2E6CDC5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C57F-2582-4C1B-84AD-BD5D9D112753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9966"/>
                </a:solidFill>
                <a:latin typeface="Times New Roman"/>
              </a:rPr>
              <a:t>Іван Багряний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195640" y="2285640"/>
            <a:ext cx="6186240" cy="33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Іван Павлович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Лозов'ягін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99"/>
                </a:solidFill>
                <a:latin typeface="Arial Narrow"/>
              </a:rPr>
              <a:t>(1906 – 1963)</a:t>
            </a:r>
            <a:endParaRPr b="0" lang="en-US" sz="4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175120" cy="3303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2195640" y="5516640"/>
            <a:ext cx="3011400" cy="8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З дружиною і дітьм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9" name="Picture 6" descr="з дружиною і дітьми"/>
          <p:cNvPicPr/>
          <p:nvPr/>
        </p:nvPicPr>
        <p:blipFill>
          <a:blip r:embed="rId1"/>
          <a:stretch/>
        </p:blipFill>
        <p:spPr>
          <a:xfrm>
            <a:off x="3780000" y="1844640"/>
            <a:ext cx="3279600" cy="48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Син письменника </a:t>
            </a:r>
            <a:br>
              <a:rPr sz="3600"/>
            </a:br>
            <a:r>
              <a:rPr b="0" lang="uk-UA" sz="3600" spc="-1" strike="noStrike">
                <a:solidFill>
                  <a:srgbClr val="ff9966"/>
                </a:solidFill>
                <a:latin typeface="Times New Roman"/>
              </a:rPr>
              <a:t>Нестор Багряний у Києві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1" name="Picture 6" descr="син письменника нестор багряний у києві"/>
          <p:cNvPicPr/>
          <p:nvPr/>
        </p:nvPicPr>
        <p:blipFill>
          <a:blip r:embed="rId1"/>
          <a:stretch/>
        </p:blipFill>
        <p:spPr>
          <a:xfrm>
            <a:off x="2916360" y="2708280"/>
            <a:ext cx="4600440" cy="34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9966"/>
                </a:solidFill>
                <a:latin typeface="Times New Roman"/>
              </a:rPr>
              <a:t>Видання 2006 року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3" name="Picture 7" descr="видання 2006"/>
          <p:cNvPicPr/>
          <p:nvPr/>
        </p:nvPicPr>
        <p:blipFill>
          <a:blip r:embed="rId1"/>
          <a:stretch/>
        </p:blipFill>
        <p:spPr>
          <a:xfrm>
            <a:off x="2556000" y="1989000"/>
            <a:ext cx="1987560" cy="304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публіцистика видання 2006 року"/>
          <p:cNvPicPr/>
          <p:nvPr/>
        </p:nvPicPr>
        <p:blipFill>
          <a:blip r:embed="rId2"/>
          <a:stretch/>
        </p:blipFill>
        <p:spPr>
          <a:xfrm>
            <a:off x="6516720" y="3860640"/>
            <a:ext cx="1860480" cy="26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1625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25 вересня 2007 </a:t>
            </a:r>
            <a:br>
              <a:rPr sz="4000"/>
            </a:br>
            <a:r>
              <a:rPr b="0" lang="uk-UA" sz="4000" spc="-1" strike="noStrike">
                <a:solidFill>
                  <a:srgbClr val="ff9966"/>
                </a:solidFill>
                <a:latin typeface="Times New Roman"/>
              </a:rPr>
              <a:t>НБУ вводить нову монету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2208240" y="2997360"/>
            <a:ext cx="6478560" cy="31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Про монету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 аверсі монети стилізовано зображено орнаментальну смугу та обріз книги, на тлі якого напис – 2/ГРИВНІ; угорі на дзеркальному тлі розміщено малий Державний Герб України, під яким напис – НАЦІОНАЛЬНИЙ/ БАНК/УКРАЇНИ, унизу ліворуч рік карбування монети – 2007 і логотип Монетного двору Національного банку України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На реверсі зображено портрет Івана Багряного, праворуч вертикально розміщено напис ІВАН БАГРЯНИЙ та роки життя – 1906 (угорі) 1963 (унизу)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cc99"/>
                </a:solidFill>
                <a:latin typeface="Arial Narrow"/>
              </a:rPr>
              <a:t>Автор ескізів і моделей - Володимир Атаманчук.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огила письменника у м.Новий Ульм (Німеччина)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0" name="Содержимое 3" descr="могила багряного.jpg"/>
          <p:cNvPicPr/>
          <p:nvPr/>
        </p:nvPicPr>
        <p:blipFill>
          <a:blip r:embed="rId1"/>
          <a:stretch/>
        </p:blipFill>
        <p:spPr>
          <a:xfrm>
            <a:off x="2714760" y="2928960"/>
            <a:ext cx="3181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14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«Ми є. Були. І будем Ми!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Й Вітчизна наша з нами.»</a:t>
            </a:r>
            <a:br>
              <a:rPr sz="3200"/>
            </a:b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dddddd"/>
                </a:solidFill>
                <a:latin typeface="Times New Roman"/>
              </a:rPr>
              <a:t>Іван Багряний «Мечоносці»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3952800" y="2533680"/>
            <a:ext cx="2987640" cy="33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35280" y="12600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1260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40000" y="2133360"/>
            <a:ext cx="633240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 жовтня 1906 року - народився  у містечку Охтирка на Полтавщині (теперішня Сумщина) у бідній сім</a:t>
            </a:r>
            <a:r>
              <a:rPr b="1" i="1" lang="uk-UA" sz="2800" spc="-1" strike="noStrike">
                <a:solidFill>
                  <a:srgbClr val="ffcc99"/>
                </a:solidFill>
                <a:latin typeface="Arial Narrow"/>
              </a:rPr>
              <a:t>’</a:t>
            </a: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ї муляра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З 1912 – церковно-приходська і вища початкова школ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0 р. - навчався у Краснопільській художньо-керамічній  школі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2 – 1926 рр. - викладав малювання, працював на шахтах Донбас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478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вперше підписується Іваном Багряним під добіркою віршів у київському журналі «Глобус»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26 – 1930 рр. - учився в Київському художньому інституті, але диплома не отримав, бо виявив себе  «політично неблагонадійним»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2 р. - заарештований (звинувачено у тому, що хотів працювати для української культури, критикував політику СРСР) і засуджений на 5 років концтаборів Баклагу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-5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1989000"/>
            <a:ext cx="64785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36 р. – тікає з табору. Переховувався на Далекому Сході. Там одружився. Після повернення  додому - новий арешт. Сидів у Харківській в’язниці 2 роки 7 місяці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0 р. - з відбитими легенями і нирками був звільнений. Під час війни долучається до руху Опору, співпрацює з ОУН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4 р. - після війни емігрує до Словаччини, потім переїжджає до Німеччини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77040"/>
            <a:ext cx="7162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133360"/>
            <a:ext cx="64785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1946 р. - живе у таборі для переміщених осіб, потім наймає приватне житло у м. Новий Ульм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Arial Narrow"/>
              </a:rPr>
              <a:t>25 січня 1963 р. - серцевий напад перервав життя письменника.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мати, Євдокія Іванівна Кривуша, з донькою Лізою;</a:t>
            </a:r>
            <a:br>
              <a:rPr sz="2800"/>
            </a:br>
            <a:r>
              <a:rPr b="0" lang="uk-UA" sz="2800" spc="-1" strike="noStrike">
                <a:solidFill>
                  <a:srgbClr val="ff9966"/>
                </a:solidFill>
                <a:latin typeface="Times New Roman"/>
              </a:rPr>
              <a:t>- Іван Багряний під час ув'язнення.</a:t>
            </a: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6" name="Picture 11" descr="picture"/>
          <p:cNvPicPr/>
          <p:nvPr/>
        </p:nvPicPr>
        <p:blipFill>
          <a:blip r:embed="rId1"/>
          <a:stretch/>
        </p:blipFill>
        <p:spPr>
          <a:xfrm>
            <a:off x="6372360" y="3716280"/>
            <a:ext cx="1969920" cy="302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7" name="Picture 12" descr="picture"/>
          <p:cNvPicPr/>
          <p:nvPr/>
        </p:nvPicPr>
        <p:blipFill>
          <a:blip r:embed="rId2"/>
          <a:stretch/>
        </p:blipFill>
        <p:spPr>
          <a:xfrm>
            <a:off x="2050920" y="2060640"/>
            <a:ext cx="309744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200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хата, в якій жив письменник;</a:t>
            </a:r>
            <a:br>
              <a:rPr sz="2400"/>
            </a:br>
            <a:r>
              <a:rPr b="0" lang="uk-UA" sz="2400" spc="-1" strike="noStrike">
                <a:solidFill>
                  <a:srgbClr val="ff9966"/>
                </a:solidFill>
                <a:latin typeface="Times New Roman"/>
              </a:rPr>
              <a:t>- через довгих 48 років побачила Єлизавета Павлівна в журналі “Україна” образ рідного брата</a:t>
            </a:r>
            <a:endParaRPr b="0" lang="en-US" sz="2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9" name="Picture 6" descr="picture"/>
          <p:cNvPicPr/>
          <p:nvPr/>
        </p:nvPicPr>
        <p:blipFill>
          <a:blip r:embed="rId1"/>
          <a:stretch/>
        </p:blipFill>
        <p:spPr>
          <a:xfrm>
            <a:off x="2124000" y="2205000"/>
            <a:ext cx="2952720" cy="201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50" name="Picture 9" descr="picture"/>
          <p:cNvPicPr/>
          <p:nvPr/>
        </p:nvPicPr>
        <p:blipFill>
          <a:blip r:embed="rId2"/>
          <a:stretch/>
        </p:blipFill>
        <p:spPr>
          <a:xfrm>
            <a:off x="5292720" y="4149720"/>
            <a:ext cx="323208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53556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5891040" y="2400480"/>
            <a:ext cx="26877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36:50Z</dcterms:created>
  <dc:creator>Люба</dc:creator>
  <dc:description/>
  <dc:language>en-US</dc:language>
  <cp:lastModifiedBy>Дмитрий</cp:lastModifiedBy>
  <dcterms:modified xsi:type="dcterms:W3CDTF">2011-02-02T21:23:51Z</dcterms:modified>
  <cp:revision>17</cp:revision>
  <dc:subject/>
  <dc:title>Іван Багряний</dc:title>
</cp:coreProperties>
</file>