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DD9-6552-4135-A111-4155EDA8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2BB-587E-4AF3-9B39-D0C93DE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C49-3747-4EB6-AAB3-C93CF15F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BB7-A1B5-4B41-B4A8-B33063EF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A658-A7F8-49DA-BB54-15D7A75E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6F87-61DE-40DB-87A4-97F7B418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6230-9049-42C6-902D-ED06DD8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493-FD01-4F86-BFF9-3CA0DDFA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7C67-FB1A-41DD-A9E8-5E6D930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0EDB-201D-41F2-8376-6BDDDF8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3B55-AA6F-4256-A7E5-D351861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CC2-DD70-4B35-B7F4-7AD02D50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18BB-0604-4E4A-A7C1-46D102F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61CB-97F5-4E37-9E16-25580B9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435-60DB-4D81-9E52-9904C89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94B3-72DA-4D8A-ADA5-B65184E9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CEE-2A77-4C6B-8BC0-F4970003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23D-6D76-40AF-BA6B-74A145B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876-E89F-4B91-970A-29F7AC3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051-BACF-405E-91E0-37CF743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546-FCE3-4EFB-A0E0-95D17CDE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C2C-54A8-46DF-91F5-4D78BBF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B13-C87F-4B1F-9EE6-E58342F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7E5-6875-45DD-907A-0AFDECC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46A-31C0-4DE5-8150-15DC4DD2C7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C13-B91B-444A-8C96-35928BA610EB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9966"/>
                </a:solidFill>
                <a:latin typeface="Times New Roman"/>
              </a:rPr>
              <a:t>Іван Багряний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195640" y="2285640"/>
            <a:ext cx="6186240" cy="33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Іван Павлович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Лозов'ягін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(1906 – 1963)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175120" cy="3303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2195640" y="5516640"/>
            <a:ext cx="3011400" cy="8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З дружиною і дітьм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9" name="Picture 6" descr="з дружиною і дітьми"/>
          <p:cNvPicPr/>
          <p:nvPr/>
        </p:nvPicPr>
        <p:blipFill>
          <a:blip r:embed="rId1"/>
          <a:stretch/>
        </p:blipFill>
        <p:spPr>
          <a:xfrm>
            <a:off x="3780000" y="1844640"/>
            <a:ext cx="3279600" cy="48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Син письменника </a:t>
            </a:r>
            <a:br>
              <a:rPr sz="3600"/>
            </a:b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Нестор Багряний у Києві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1" name="Picture 6" descr="син письменника нестор багряний у києві"/>
          <p:cNvPicPr/>
          <p:nvPr/>
        </p:nvPicPr>
        <p:blipFill>
          <a:blip r:embed="rId1"/>
          <a:stretch/>
        </p:blipFill>
        <p:spPr>
          <a:xfrm>
            <a:off x="2916360" y="2708280"/>
            <a:ext cx="4600440" cy="34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Видання 2006 року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3" name="Picture 7" descr="видання 2006"/>
          <p:cNvPicPr/>
          <p:nvPr/>
        </p:nvPicPr>
        <p:blipFill>
          <a:blip r:embed="rId1"/>
          <a:stretch/>
        </p:blipFill>
        <p:spPr>
          <a:xfrm>
            <a:off x="2556000" y="1989000"/>
            <a:ext cx="1987560" cy="304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публіцистика видання 2006 року"/>
          <p:cNvPicPr/>
          <p:nvPr/>
        </p:nvPicPr>
        <p:blipFill>
          <a:blip r:embed="rId2"/>
          <a:stretch/>
        </p:blipFill>
        <p:spPr>
          <a:xfrm>
            <a:off x="6516720" y="3860640"/>
            <a:ext cx="1860480" cy="26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162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25 вересня 2007 </a:t>
            </a:r>
            <a:br>
              <a:rPr sz="4000"/>
            </a:b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НБУ вводить нову монету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2208240" y="2997360"/>
            <a:ext cx="6478560" cy="31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Про монету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 аверсі монети стилізовано зображено орнаментальну смугу та обріз книги, на тлі якого напис – 2/ГРИВНІ; угорі на дзеркальному тлі розміщено малий Державний Герб України, під яким напис – НАЦІОНАЛЬНИЙ/ БАНК/УКРАЇНИ, унизу ліворуч рік карбування монети – 2007 і логотип Монетного двору Національного банку України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реверсі зображено портрет Івана Багряного, праворуч вертикально розміщено напис ІВАН БАГРЯНИЙ та роки життя – 1906 (угорі) 1963 (унизу)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Автор ескізів і моделей - Володимир Атаманчук.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огила письменника у м.Новий Ульм (Німеччина)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0" name="Содержимое 3" descr="могила багряного.jpg"/>
          <p:cNvPicPr/>
          <p:nvPr/>
        </p:nvPicPr>
        <p:blipFill>
          <a:blip r:embed="rId1"/>
          <a:stretch/>
        </p:blipFill>
        <p:spPr>
          <a:xfrm>
            <a:off x="2714760" y="292896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14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«Ми є. Були. І будем Ми!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Й Вітчизна наша з нами.»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Іван Багряний «Мечоносці»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3952800" y="2533680"/>
            <a:ext cx="2987640" cy="33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35280" y="12600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1260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40000" y="2133360"/>
            <a:ext cx="633240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 жовтня 1906 року - народився  у містечку Охтирка на Полтавщині (теперішня Сумщина) у бідній сім</a:t>
            </a:r>
            <a:r>
              <a:rPr b="1" i="1" lang="uk-UA" sz="2800" spc="-1" strike="noStrike">
                <a:solidFill>
                  <a:srgbClr val="ffcc99"/>
                </a:solidFill>
                <a:latin typeface="Arial Narrow"/>
              </a:rPr>
              <a:t>’</a:t>
            </a: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ї муляра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З 1912 – церковно-приходська і вища початкова школ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0 р. - навчався у Краснопільській художньо-керамічній  школі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2 – 1926 рр. - викладав малювання, працював на шахтах Донбас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478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вперше підписується Іваном Багряним під добіркою віршів у київському журналі «Глобус»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1930 рр. - учився в Київському художньому інституті, але диплома не отримав, бо виявив себе  «політично неблагонадійним»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2 р. - заарештований (звинувачено у тому, що хотів працювати для української культури, критикував політику СРСР) і засуджений на 5 років концтаборів Баклаг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1989000"/>
            <a:ext cx="64785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6 р. – тікає з табору. Переховувався на Далекому Сході. Там одружився. Після повернення  додому - новий арешт. Сидів у Харківській в’язниці 2 роки 7 місяці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0 р. - з відбитими легенями і нирками був звільнений. Під час війни долучається до руху Опору, співпрацює з ОУН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4 р. - після війни емігрує до Словаччини, потім переїжджає до Німеччин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77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133360"/>
            <a:ext cx="64785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6 р. - живе у таборі для переміщених осіб, потім наймає приватне житло у м. Новий Ульм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5 січня 1963 р. - серцевий напад перервав життя письменника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ати, Євдокія Іванівна Кривуша, з донькою Лізою;</a:t>
            </a:r>
            <a:br>
              <a:rPr sz="2800"/>
            </a:b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- Іван Багряний під час ув'язнення.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6" name="Picture 11" descr="picture"/>
          <p:cNvPicPr/>
          <p:nvPr/>
        </p:nvPicPr>
        <p:blipFill>
          <a:blip r:embed="rId1"/>
          <a:stretch/>
        </p:blipFill>
        <p:spPr>
          <a:xfrm>
            <a:off x="6372360" y="3716280"/>
            <a:ext cx="1969920" cy="302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7" name="Picture 12" descr="picture"/>
          <p:cNvPicPr/>
          <p:nvPr/>
        </p:nvPicPr>
        <p:blipFill>
          <a:blip r:embed="rId2"/>
          <a:stretch/>
        </p:blipFill>
        <p:spPr>
          <a:xfrm>
            <a:off x="2050920" y="2060640"/>
            <a:ext cx="309744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хата, в якій жив письменник;</a:t>
            </a:r>
            <a:br>
              <a:rPr sz="2400"/>
            </a:b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- через довгих 48 років побачила Єлизавета Павлівна в журналі “Україна” образ рідного брата</a:t>
            </a:r>
            <a:endParaRPr b="0" lang="en-US" sz="2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9" name="Picture 6" descr="picture"/>
          <p:cNvPicPr/>
          <p:nvPr/>
        </p:nvPicPr>
        <p:blipFill>
          <a:blip r:embed="rId1"/>
          <a:stretch/>
        </p:blipFill>
        <p:spPr>
          <a:xfrm>
            <a:off x="2124000" y="2205000"/>
            <a:ext cx="2952720" cy="201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50" name="Picture 9" descr="picture"/>
          <p:cNvPicPr/>
          <p:nvPr/>
        </p:nvPicPr>
        <p:blipFill>
          <a:blip r:embed="rId2"/>
          <a:stretch/>
        </p:blipFill>
        <p:spPr>
          <a:xfrm>
            <a:off x="5292720" y="4149720"/>
            <a:ext cx="323208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53556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5891040" y="2400480"/>
            <a:ext cx="26877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36:50Z</dcterms:created>
  <dc:creator>Люба</dc:creator>
  <dc:description/>
  <dc:language>en-US</dc:language>
  <cp:lastModifiedBy>Дмитрий</cp:lastModifiedBy>
  <dcterms:modified xsi:type="dcterms:W3CDTF">2011-02-02T21:23:51Z</dcterms:modified>
  <cp:revision>17</cp:revision>
  <dc:subject/>
  <dc:title>Іван Багряний</dc:title>
</cp:coreProperties>
</file>