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375A-C657-4320-9063-2B50C5F0C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11A9-552D-47E9-A4D3-D4BFB127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CD58-BA5F-4C21-9852-E278185F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C062-342E-40B9-8180-693ECD949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E00F-C725-4953-9E09-E5DD2FE0A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2DDC-543D-4A0D-A749-20D3A3DF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9DA1-A77E-438F-8654-73A7C040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79D4-162D-43D2-A0C1-EB163904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4324-64E8-47AE-9801-E071ED04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78DD-9845-413F-B2B8-534A4458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83CD-B72E-4B8C-8512-5E31C07F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D398-A595-4614-B16E-9AE738E4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8804-4AAC-407C-BBAD-BB32BF48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7D93-D8E8-42D8-92AC-C24DE385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AE83-3882-4648-A97B-CB6FFB75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17EE-5608-4295-9A14-24972BB6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6936-493E-49B2-AB1B-18A29006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CC5E-7774-4D36-B5D6-91E15794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ED77-BF46-481B-A226-3BF395C0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E9F1-882D-4754-A024-8B28428F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6721-B825-47F6-8F58-72D87916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DAB8-B3EA-4BDF-920E-91677A77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C02B-21F1-4EC0-A973-154B08A5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E294-4A2D-4310-B047-849B7DA2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5" name="Rectangle 7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51" name="Group 53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2" name="Oval 54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3" name="Oval 55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4" name="Oval 56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5" name="Oval 57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6" name="Oval 58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7" name="Oval 59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8" name="Oval 60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9" name="Oval 61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0" name="Oval 62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1" name="Oval 63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2" name="Oval 64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3" name="Oval 65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4" name="Oval 66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5" name="Oval 67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6" name="Oval 68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7" name="Oval 69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8" name="Oval 70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69" name="Rectangle 71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0" name="Rectangle 72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1" name="Rectangle 73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4" name="Rectangle 76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5788-8F5B-46B4-B393-D214DB182C2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19" name="Rectangle 5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0" name="Rectangle 6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1" name="Oval 7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2" name="Oval 8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3" name="Oval 9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4" name="Oval 10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5" name="Oval 11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6" name="Oval 12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7" name="Oval 13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8" name="Oval 14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9" name="Oval 15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0" name="Oval 16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1" name="Oval 17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2" name="Oval 18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3" name="Oval 19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4" name="Oval 20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5" name="Oval 21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6" name="Oval 22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7" name="Oval 23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8" name="Oval 24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9" name="Oval 25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0" name="Oval 26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1" name="Oval 27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2" name="Oval 28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3" name="Oval 29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4" name="Oval 30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5" name="Oval 31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6" name="Oval 32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7" name="Oval 33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8" name="Oval 34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9" name="Oval 35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0" name="Oval 36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1" name="Oval 37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2" name="Oval 38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3" name="Oval 39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4" name="Oval 40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5" name="Oval 41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6" name="Oval 42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7" name="Oval 43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8" name="Oval 44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9" name="Oval 45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0" name="Oval 46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1" name="Oval 47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2" name="Oval 48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3" name="Oval 49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4" name="Oval 50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165" name="Group 51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66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7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8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9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0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1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2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3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4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5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6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7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8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9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0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1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2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183" name="Rectangle 69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4" name="Rectangle 70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5" name="Rectangle 71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6" name="Rectangle 72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7" name="Rectangle 73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8" name="Rectangle 74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9" name="Oval 75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190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73DF-6AD5-4A56-B9A0-B10C1DB3B77B}" type="slidenum">
              <a:rPr b="0" lang="ru-RU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9966"/>
                </a:solidFill>
                <a:latin typeface="Times New Roman"/>
              </a:rPr>
              <a:t>Іван Багряний</a:t>
            </a:r>
            <a:endParaRPr b="0" lang="en-US" sz="8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195640" y="2285640"/>
            <a:ext cx="6186240" cy="330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cc99"/>
                </a:solidFill>
                <a:latin typeface="Arial Narrow"/>
              </a:rPr>
              <a:t>Іван Павлович</a:t>
            </a:r>
            <a:endParaRPr b="0" lang="en-US" sz="48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cc99"/>
                </a:solidFill>
                <a:latin typeface="Arial Narrow"/>
              </a:rPr>
              <a:t>Лозов'ягін</a:t>
            </a:r>
            <a:endParaRPr b="0" lang="en-US" sz="48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cc99"/>
                </a:solidFill>
                <a:latin typeface="Arial Narrow"/>
              </a:rPr>
              <a:t>(1906 – 1963)</a:t>
            </a:r>
            <a:endParaRPr b="0" lang="en-US" sz="48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05120" y="-5040"/>
            <a:ext cx="71625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2743200" cy="38862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5867280" y="2852640"/>
            <a:ext cx="2175120" cy="3303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" descr=""/>
          <p:cNvPicPr/>
          <p:nvPr/>
        </p:nvPicPr>
        <p:blipFill>
          <a:blip r:embed="rId3"/>
          <a:stretch/>
        </p:blipFill>
        <p:spPr>
          <a:xfrm>
            <a:off x="2195640" y="5516640"/>
            <a:ext cx="3011400" cy="80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9966"/>
                </a:solidFill>
                <a:latin typeface="Times New Roman"/>
              </a:rPr>
              <a:t>З дружиною і дітьми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59" name="Picture 6" descr="з дружиною і дітьми"/>
          <p:cNvPicPr/>
          <p:nvPr/>
        </p:nvPicPr>
        <p:blipFill>
          <a:blip r:embed="rId1"/>
          <a:stretch/>
        </p:blipFill>
        <p:spPr>
          <a:xfrm>
            <a:off x="3780000" y="1844640"/>
            <a:ext cx="3279600" cy="485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1625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9966"/>
                </a:solidFill>
                <a:latin typeface="Times New Roman"/>
              </a:rPr>
              <a:t>Син письменника </a:t>
            </a:r>
            <a:br>
              <a:rPr sz="3600"/>
            </a:br>
            <a:r>
              <a:rPr b="0" lang="uk-UA" sz="3600" spc="-1" strike="noStrike">
                <a:solidFill>
                  <a:srgbClr val="ff9966"/>
                </a:solidFill>
                <a:latin typeface="Times New Roman"/>
              </a:rPr>
              <a:t>Нестор Багряний у Києві</a:t>
            </a:r>
            <a:endParaRPr b="0" lang="en-US" sz="36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61" name="Picture 6" descr="син письменника нестор багряний у києві"/>
          <p:cNvPicPr/>
          <p:nvPr/>
        </p:nvPicPr>
        <p:blipFill>
          <a:blip r:embed="rId1"/>
          <a:stretch/>
        </p:blipFill>
        <p:spPr>
          <a:xfrm>
            <a:off x="2916360" y="2708280"/>
            <a:ext cx="4600440" cy="3405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9966"/>
                </a:solidFill>
                <a:latin typeface="Times New Roman"/>
              </a:rPr>
              <a:t>Видання 2006 року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63" name="Picture 7" descr="видання 2006"/>
          <p:cNvPicPr/>
          <p:nvPr/>
        </p:nvPicPr>
        <p:blipFill>
          <a:blip r:embed="rId1"/>
          <a:stretch/>
        </p:blipFill>
        <p:spPr>
          <a:xfrm>
            <a:off x="2556000" y="1989000"/>
            <a:ext cx="1987560" cy="30416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публіцистика видання 2006 року"/>
          <p:cNvPicPr/>
          <p:nvPr/>
        </p:nvPicPr>
        <p:blipFill>
          <a:blip r:embed="rId2"/>
          <a:stretch/>
        </p:blipFill>
        <p:spPr>
          <a:xfrm>
            <a:off x="6516720" y="3860640"/>
            <a:ext cx="1860480" cy="2624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162560" cy="13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9966"/>
                </a:solidFill>
                <a:latin typeface="Times New Roman"/>
              </a:rPr>
              <a:t>25 вересня 2007 </a:t>
            </a:r>
            <a:br>
              <a:rPr sz="4000"/>
            </a:br>
            <a:r>
              <a:rPr b="0" lang="uk-UA" sz="4000" spc="-1" strike="noStrike">
                <a:solidFill>
                  <a:srgbClr val="ff9966"/>
                </a:solidFill>
                <a:latin typeface="Times New Roman"/>
              </a:rPr>
              <a:t>НБУ вводить нову монету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1"/>
          <a:stretch/>
        </p:blipFill>
        <p:spPr>
          <a:xfrm>
            <a:off x="2208240" y="2997360"/>
            <a:ext cx="6478560" cy="3174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9966"/>
                </a:solidFill>
                <a:latin typeface="Times New Roman"/>
              </a:rPr>
              <a:t>Про монету</a:t>
            </a:r>
            <a:endParaRPr b="0" lang="en-US" sz="28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cc99"/>
                </a:solidFill>
                <a:latin typeface="Arial Narrow"/>
              </a:rPr>
              <a:t>На  аверсі монети стилізовано зображено орнаментальну смугу та обріз книги, на тлі якого напис – 2/ГРИВНІ; угорі на дзеркальному тлі розміщено малий Державний Герб України, під яким напис – НАЦІОНАЛЬНИЙ/ БАНК/УКРАЇНИ, унизу ліворуч рік карбування монети – 2007 і логотип Монетного двору Національного банку України. 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cc99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cc99"/>
                </a:solidFill>
                <a:latin typeface="Arial Narrow"/>
              </a:rPr>
              <a:t>На реверсі зображено портрет Івана Багряного, праворуч вертикально розміщено напис ІВАН БАГРЯНИЙ та роки життя – 1906 (угорі) 1963 (унизу). 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cc99"/>
                </a:solidFill>
                <a:latin typeface="Arial Narrow"/>
              </a:rPr>
              <a:t>Автор ескізів і моделей - Володимир Атаманчук.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ransition>
    <p:wipe dir="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98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98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98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98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98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9966"/>
                </a:solidFill>
                <a:latin typeface="Times New Roman"/>
              </a:rPr>
              <a:t>Могила письменника у м.Новий Ульм (Німеччина)</a:t>
            </a:r>
            <a:endParaRPr b="0" lang="en-US" sz="28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70" name="Содержимое 3" descr="могила багряного.jpg"/>
          <p:cNvPicPr/>
          <p:nvPr/>
        </p:nvPicPr>
        <p:blipFill>
          <a:blip r:embed="rId1"/>
          <a:stretch/>
        </p:blipFill>
        <p:spPr>
          <a:xfrm>
            <a:off x="2714760" y="2928960"/>
            <a:ext cx="318132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7238880" cy="146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dddddd"/>
                </a:solidFill>
                <a:latin typeface="Times New Roman"/>
              </a:rPr>
              <a:t>«Ми є. Були. І будем Ми!</a:t>
            </a:r>
            <a:br>
              <a:rPr sz="3200"/>
            </a:br>
            <a:r>
              <a:rPr b="0" lang="uk-UA" sz="3200" spc="-1" strike="noStrike">
                <a:solidFill>
                  <a:srgbClr val="dddddd"/>
                </a:solidFill>
                <a:latin typeface="Times New Roman"/>
              </a:rPr>
              <a:t>Й Вітчизна наша з нами.»</a:t>
            </a:r>
            <a:br>
              <a:rPr sz="3200"/>
            </a:br>
            <a:r>
              <a:rPr b="0" lang="uk-UA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dddddd"/>
                </a:solidFill>
                <a:latin typeface="Times New Roman"/>
              </a:rPr>
              <a:t>Іван Багряний «Мечоносці»</a:t>
            </a:r>
            <a:endParaRPr b="0" lang="en-US" sz="32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35" name="Picture 6" descr=""/>
          <p:cNvPicPr/>
          <p:nvPr/>
        </p:nvPicPr>
        <p:blipFill>
          <a:blip r:embed="rId1"/>
          <a:stretch/>
        </p:blipFill>
        <p:spPr>
          <a:xfrm>
            <a:off x="3952800" y="2533680"/>
            <a:ext cx="2987640" cy="338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835280" y="126000"/>
            <a:ext cx="71625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812600" cy="25210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340000" y="2133360"/>
            <a:ext cx="6332400" cy="43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Arial Narrow"/>
              </a:rPr>
              <a:t>2 жовтня 1906 року - народився  у містечку Охтирка на Полтавщині (теперішня Сумщина) у бідній сім</a:t>
            </a:r>
            <a:r>
              <a:rPr b="1" i="1" lang="uk-UA" sz="2800" spc="-1" strike="noStrike">
                <a:solidFill>
                  <a:srgbClr val="ffcc99"/>
                </a:solidFill>
                <a:latin typeface="Arial Narrow"/>
              </a:rPr>
              <a:t>’</a:t>
            </a:r>
            <a:r>
              <a:rPr b="0" lang="uk-UA" sz="2800" spc="-1" strike="noStrike">
                <a:solidFill>
                  <a:srgbClr val="ffcc99"/>
                </a:solidFill>
                <a:latin typeface="Arial Narrow"/>
              </a:rPr>
              <a:t>ї муляра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Arial Narrow"/>
              </a:rPr>
              <a:t>З 1912 – церковно-приходська і вища початкова школи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Arial Narrow"/>
              </a:rPr>
              <a:t>1920 р. - навчався у Краснопільській художньо-керамічній  школі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Arial Narrow"/>
              </a:rPr>
              <a:t>1922 – 1926 рр. - викладав малювання, працював на шахтах Донбасу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05120" y="-5040"/>
            <a:ext cx="71625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68000" y="1557000"/>
            <a:ext cx="647892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Arial Narrow"/>
              </a:rPr>
              <a:t>1926 – вперше підписується Іваном Багряним під добіркою віршів у київському журналі «Глобус».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Arial Narrow"/>
              </a:rPr>
              <a:t>1926 – 1930 рр. - учився в Київському художньому інституті, але диплома не отримав, бо виявив себе  «політично неблагонадійним»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Arial Narrow"/>
              </a:rPr>
              <a:t>1932 р. - заарештований (звинувачено у тому, що хотів працювати для української культури, критикував політику СРСР) і засуджений на 5 років концтаборів Баклагу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5120" y="-5040"/>
            <a:ext cx="71625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08240" y="1989000"/>
            <a:ext cx="647856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Arial Narrow"/>
              </a:rPr>
              <a:t>1936 р. – тікає з табору. Переховувався на Далекому Сході. Там одружився. Після повернення  додому - новий арешт. Сидів у Харківській в’язниці 2 роки 7 місяців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Arial Narrow"/>
              </a:rPr>
              <a:t>1940 р. - з відбитими легенями і нирками був звільнений. Під час війни долучається до руху Опору, співпрацює з ОУН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Arial Narrow"/>
              </a:rPr>
              <a:t>1944 р. - після війни емігрує до Словаччини, потім переїжджає до Німеччини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05120" y="77040"/>
            <a:ext cx="71625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08240" y="2133360"/>
            <a:ext cx="647856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Arial Narrow"/>
              </a:rPr>
              <a:t>1946 р. - живе у таборі для переміщених осіб, потім наймає приватне житло у м. Новий Ульм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Arial Narrow"/>
              </a:rPr>
              <a:t>25 січня 1963 р. - серцевий напад перервав життя письменника.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20040" cy="12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99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9966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ff9966"/>
                </a:solidFill>
                <a:latin typeface="Times New Roman"/>
              </a:rPr>
              <a:t>мати, Євдокія Іванівна Кривуша, з донькою Лізою;</a:t>
            </a:r>
            <a:br>
              <a:rPr sz="2800"/>
            </a:br>
            <a:r>
              <a:rPr b="0" lang="uk-UA" sz="2800" spc="-1" strike="noStrike">
                <a:solidFill>
                  <a:srgbClr val="ff9966"/>
                </a:solidFill>
                <a:latin typeface="Times New Roman"/>
              </a:rPr>
              <a:t>- Іван Багряний під час ув'язнення.</a:t>
            </a:r>
            <a:endParaRPr b="0" lang="en-US" sz="28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46" name="Picture 11" descr="picture"/>
          <p:cNvPicPr/>
          <p:nvPr/>
        </p:nvPicPr>
        <p:blipFill>
          <a:blip r:embed="rId1"/>
          <a:stretch/>
        </p:blipFill>
        <p:spPr>
          <a:xfrm>
            <a:off x="6372360" y="3716280"/>
            <a:ext cx="1969920" cy="30258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247" name="Picture 12" descr="picture"/>
          <p:cNvPicPr/>
          <p:nvPr/>
        </p:nvPicPr>
        <p:blipFill>
          <a:blip r:embed="rId2"/>
          <a:stretch/>
        </p:blipFill>
        <p:spPr>
          <a:xfrm>
            <a:off x="2050920" y="2060640"/>
            <a:ext cx="3097440" cy="2232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20040" cy="12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99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9966"/>
                </a:solidFill>
                <a:latin typeface="Times New Roman"/>
              </a:rPr>
              <a:t>хата, в якій жив письменник;</a:t>
            </a:r>
            <a:br>
              <a:rPr sz="2400"/>
            </a:br>
            <a:r>
              <a:rPr b="0" lang="uk-UA" sz="2400" spc="-1" strike="noStrike">
                <a:solidFill>
                  <a:srgbClr val="ff9966"/>
                </a:solidFill>
                <a:latin typeface="Times New Roman"/>
              </a:rPr>
              <a:t>- через довгих 48 років побачила Єлизавета Павлівна в журналі “Україна” образ рідного брата</a:t>
            </a:r>
            <a:endParaRPr b="0" lang="en-US" sz="24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49" name="Picture 6" descr="picture"/>
          <p:cNvPicPr/>
          <p:nvPr/>
        </p:nvPicPr>
        <p:blipFill>
          <a:blip r:embed="rId1"/>
          <a:stretch/>
        </p:blipFill>
        <p:spPr>
          <a:xfrm>
            <a:off x="2124000" y="2205000"/>
            <a:ext cx="2952720" cy="2016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250" name="Picture 9" descr="picture"/>
          <p:cNvPicPr/>
          <p:nvPr/>
        </p:nvPicPr>
        <p:blipFill>
          <a:blip r:embed="rId2"/>
          <a:stretch/>
        </p:blipFill>
        <p:spPr>
          <a:xfrm>
            <a:off x="5292720" y="4149720"/>
            <a:ext cx="3232080" cy="2232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52" name="Picture 7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3535560" cy="2448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"/>
          <p:cNvPicPr/>
          <p:nvPr/>
        </p:nvPicPr>
        <p:blipFill>
          <a:blip r:embed="rId2"/>
          <a:stretch/>
        </p:blipFill>
        <p:spPr>
          <a:xfrm>
            <a:off x="5891040" y="2400480"/>
            <a:ext cx="268776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5:36:50Z</dcterms:created>
  <dc:creator>Люба</dc:creator>
  <dc:description/>
  <dc:language>en-US</dc:language>
  <cp:lastModifiedBy>Дмитрий</cp:lastModifiedBy>
  <dcterms:modified xsi:type="dcterms:W3CDTF">2011-02-02T21:23:51Z</dcterms:modified>
  <cp:revision>17</cp:revision>
  <dc:subject/>
  <dc:title>Іван Багряний</dc:title>
</cp:coreProperties>
</file>