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662-05C2-4B11-849C-C5C661FD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76E-482E-4F6D-A78B-05039C76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B3C-1FD9-4853-84B1-AE349077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42E-9A06-4BF1-89FC-87A4F319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1BDB-6CD2-4AC8-9DE0-C4891780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8DF9-EF7D-4B47-96F1-7BEF2E9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F106-9592-49BA-903B-B8D987D6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4CDE-C534-49B9-9B8A-2FB4CCBC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2DF7-313C-4F02-A29D-83E70516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5D38-E606-405D-A04E-8D06AB4C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E501-1975-4E2C-84B9-5E6D8DA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14A7-DCAE-44EB-852A-714A99C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D0D6-2183-437E-8091-0149ADDD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AB2D-8619-4235-9D4C-A7C15808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E181-1AC9-4B44-A9CE-E4051E97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CDB4-432B-43F4-B423-3C9F0C04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C03E-2AB1-49E6-826F-043A0AED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34B4-1139-448C-B4A5-CFE69081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0C6-A966-4CCA-8762-9AF71741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294E-259F-4D16-9A6E-BA459E39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E1F6-27BF-4176-AD23-100570F7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7DF-C89E-4D9E-9D24-3D22900C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B80-2194-47A9-AE86-89950E2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3D81-CFF3-498D-8E1A-225ACB1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EB75-486A-42E4-BB73-DBD86A9218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1364-4772-4BAC-81D9-146012043E1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6"/>
          <p:cNvSpPr/>
          <p:nvPr/>
        </p:nvSpPr>
        <p:spPr>
          <a:xfrm>
            <a:off x="838080" y="-16416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Летючі «Вершники» Юрія Яновсь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Ідеологія громадянської війни очима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i="1" lang="uk-UA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письмен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5" descr="0509ku1"/>
          <p:cNvPicPr/>
          <p:nvPr/>
        </p:nvPicPr>
        <p:blipFill>
          <a:blip r:embed="rId1"/>
          <a:stretch/>
        </p:blipFill>
        <p:spPr>
          <a:xfrm>
            <a:off x="685800" y="2209680"/>
            <a:ext cx="2546280" cy="34768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7"/>
          <p:cNvSpPr/>
          <p:nvPr/>
        </p:nvSpPr>
        <p:spPr>
          <a:xfrm>
            <a:off x="3276720" y="2028960"/>
            <a:ext cx="55623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   </a:t>
            </a:r>
            <a:r>
              <a:rPr b="1" i="1" lang="uk-UA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Я вклав у цей твір всі свої с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cc"/>
                </a:solidFill>
                <a:latin typeface="Arial"/>
              </a:rPr>
              <a:t>                          </a:t>
            </a:r>
            <a:r>
              <a:rPr b="1" i="1" lang="uk-UA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Ю. Яновс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uk-UA" sz="4000" spc="-1" strike="noStrike">
                <a:solidFill>
                  <a:srgbClr val="ff0000"/>
                </a:solidFill>
                <a:latin typeface="Times New Roman"/>
              </a:rPr>
              <a:t>Впізнати історичного лідера: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.                  2.                   3.                   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26400"/>
          <p:cNvPicPr/>
          <p:nvPr/>
        </p:nvPicPr>
        <p:blipFill>
          <a:blip r:embed="rId1"/>
          <a:stretch/>
        </p:blipFill>
        <p:spPr>
          <a:xfrm>
            <a:off x="520560" y="1676520"/>
            <a:ext cx="164016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23026937_1208533605_A_Kitaev_Portret_VILenina"/>
          <p:cNvPicPr/>
          <p:nvPr/>
        </p:nvPicPr>
        <p:blipFill>
          <a:blip r:embed="rId2"/>
          <a:stretch/>
        </p:blipFill>
        <p:spPr>
          <a:xfrm>
            <a:off x="2649600" y="1752480"/>
            <a:ext cx="1808280" cy="2438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denikin"/>
          <p:cNvPicPr/>
          <p:nvPr/>
        </p:nvPicPr>
        <p:blipFill>
          <a:blip r:embed="rId3"/>
          <a:stretch/>
        </p:blipFill>
        <p:spPr>
          <a:xfrm>
            <a:off x="4883040" y="17524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petl2"/>
          <p:cNvPicPr/>
          <p:nvPr/>
        </p:nvPicPr>
        <p:blipFill>
          <a:blip r:embed="rId4"/>
          <a:stretch/>
        </p:blipFill>
        <p:spPr>
          <a:xfrm>
            <a:off x="707076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2263680" y="4754160"/>
            <a:ext cx="461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.Ленін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. Денікін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 Петлюра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. Махно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53080" y="4572000"/>
          <a:ext cx="1752840" cy="1982880"/>
        </p:xfrm>
        <a:graphic>
          <a:graphicData uri="http://schemas.openxmlformats.org/drawingml/2006/table">
            <a:tbl>
              <a:tblPr/>
              <a:tblGrid>
                <a:gridCol w="916200"/>
                <a:gridCol w="836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uk-UA" sz="3800" spc="-1" strike="noStrike" u="sng">
                <a:solidFill>
                  <a:srgbClr val="ff0000"/>
                </a:solidFill>
                <a:uFillTx/>
                <a:latin typeface="Times New Roman"/>
              </a:rPr>
              <a:t>.«</a:t>
            </a:r>
            <a:r>
              <a:rPr b="0" i="1" lang="uk-UA" sz="3800" spc="-1" strike="noStrike" u="sng">
                <a:solidFill>
                  <a:srgbClr val="ff0000"/>
                </a:solidFill>
                <a:uFillTx/>
                <a:latin typeface="Times New Roman"/>
              </a:rPr>
              <a:t>Хвилинка міцних знань»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uk-UA" sz="3200" spc="-1" strike="noStrike" u="sng">
                <a:solidFill>
                  <a:srgbClr val="3333cc"/>
                </a:solidFill>
                <a:uFillTx/>
                <a:latin typeface="Arial"/>
              </a:rPr>
              <a:t> етап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8000"/>
                </a:solidFill>
                <a:latin typeface="Arial"/>
              </a:rPr>
              <a:t>Назвіть події з життя Яновського, що відповідають цим да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0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віт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19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25 – 1927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4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94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часть у літературних угрупуваннях, організаці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8000"/>
                </a:solidFill>
                <a:uFillTx/>
                <a:latin typeface="Times New Roman"/>
              </a:rPr>
              <a:t>II</a:t>
            </a:r>
            <a:r>
              <a:rPr b="0" i="1" lang="ru-RU" sz="2800" spc="-1" strike="noStrike" u="sng">
                <a:solidFill>
                  <a:srgbClr val="008000"/>
                </a:solidFill>
                <a:uFillTx/>
                <a:latin typeface="Times New Roman"/>
              </a:rPr>
              <a:t> етап:</a:t>
            </a:r>
            <a:r>
              <a:rPr b="0" i="1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i="1" lang="uk-UA" sz="2800" spc="-1" strike="noStrike">
                <a:solidFill>
                  <a:srgbClr val="008000"/>
                </a:solidFill>
                <a:latin typeface="Times New Roman"/>
              </a:rPr>
              <a:t> згадайте, кому належать дані слова (встановити відповідність):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1.Яновський у прозі був по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2. Хай зі сталі буде рим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3. Поет людської чист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4. Усе життя прагнув до максимальної стрункості, граничної економності й виняткової точност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5. В сім’ї європейських літератур Яновський – письменник першого пла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3333cc"/>
                </a:solidFill>
                <a:latin typeface="Arial"/>
              </a:rPr>
              <a:t>6. Він одразу спромігся бути самим собою…, відрізнявся своїм романтизмом високим.</a:t>
            </a:r>
            <a:r>
              <a:rPr b="0" i="1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. Яновський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. Смол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. Семенчу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.  Гонч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. Баж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. Луї Араг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            </a:t>
            </a:r>
            <a:r>
              <a:rPr b="0" lang="uk-UA" sz="4200" spc="-1" strike="noStrike">
                <a:solidFill>
                  <a:srgbClr val="ff0000"/>
                </a:solidFill>
                <a:latin typeface="Times New Roman"/>
              </a:rPr>
              <a:t>Ключ  відповідей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886200" y="1905120"/>
          <a:ext cx="1981080" cy="4225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Відновлення візитної картки твору</a:t>
            </a:r>
            <a:br>
              <a:rPr sz="3200"/>
            </a:br>
            <a:r>
              <a:rPr b="1" i="1" lang="uk-UA" sz="3200" spc="-1" strike="noStrike" u="sng">
                <a:solidFill>
                  <a:srgbClr val="008000"/>
                </a:solidFill>
                <a:uFillTx/>
                <a:latin typeface="Times New Roman"/>
              </a:rPr>
              <a:t>     Попарне опитування (за варіантами):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к написання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анр –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оман у новелах  </a:t>
            </a:r>
            <a:r>
              <a:rPr b="0" i="1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м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оваторство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ки народної думи  в романі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знаки новел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Times New Roman"/>
              </a:rPr>
              <a:t>Проблемно – ситуативне завданн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uk-UA" sz="2800" spc="-1" strike="noStrike">
                <a:solidFill>
                  <a:srgbClr val="0099ff"/>
                </a:solidFill>
                <a:latin typeface="Arial"/>
              </a:rPr>
              <a:t>Групи конфлікт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cc6600"/>
                </a:solidFill>
                <a:uFillTx/>
                <a:latin typeface="Arial"/>
              </a:rPr>
              <a:t>Соціальн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Національно – держав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Класов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Моральн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cc6600"/>
                </a:solidFill>
                <a:uFillTx/>
                <a:latin typeface="Arial"/>
              </a:rPr>
              <a:t>Загальнолюдські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оротьба добра і з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тистояння любові та ненави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облема вибору тощ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uk-UA" sz="3800" spc="-1" strike="noStrike">
                <a:solidFill>
                  <a:srgbClr val="0099ff"/>
                </a:solidFill>
                <a:latin typeface="Times New Roman"/>
              </a:rPr>
              <a:t>Аналіз образів родини Половців.    </a:t>
            </a:r>
            <a:br>
              <a:rPr sz="3800"/>
            </a:br>
            <a:r>
              <a:rPr b="0" i="1" lang="uk-UA" sz="3800" spc="-1" strike="noStrike">
                <a:solidFill>
                  <a:srgbClr val="0099ff"/>
                </a:solidFill>
                <a:latin typeface="Times New Roman"/>
              </a:rPr>
              <a:t>          (робота за групами):</a:t>
            </a:r>
            <a:br>
              <a:rPr sz="3800"/>
            </a:br>
            <a:r>
              <a:rPr b="0" lang="uk-UA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 група – образ Половчи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 група – образ Мусія Половц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 група – образ Андр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 група – образ 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 група – образ Пан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 група – образ Івана та Са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cc6600"/>
                </a:solidFill>
                <a:latin typeface="Times New Roman"/>
              </a:rPr>
              <a:t>Самостійна робота. Створення міні  </a:t>
            </a:r>
            <a:br>
              <a:rPr sz="3200"/>
            </a:br>
            <a:r>
              <a:rPr b="1" i="1" lang="uk-UA" sz="3200" spc="-1" strike="noStrike">
                <a:solidFill>
                  <a:srgbClr val="cc6600"/>
                </a:solidFill>
                <a:latin typeface="Times New Roman"/>
              </a:rPr>
              <a:t>                         проектів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«Представлення політичної платформи різних політичних сил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enikin"/>
          <p:cNvPicPr/>
          <p:nvPr/>
        </p:nvPicPr>
        <p:blipFill>
          <a:blip r:embed="rId1"/>
          <a:stretch/>
        </p:blipFill>
        <p:spPr>
          <a:xfrm>
            <a:off x="662040" y="2971800"/>
            <a:ext cx="160632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26400"/>
          <p:cNvPicPr/>
          <p:nvPr/>
        </p:nvPicPr>
        <p:blipFill>
          <a:blip r:embed="rId2"/>
          <a:stretch/>
        </p:blipFill>
        <p:spPr>
          <a:xfrm>
            <a:off x="2830680" y="2971800"/>
            <a:ext cx="1398600" cy="2209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etl2"/>
          <p:cNvPicPr/>
          <p:nvPr/>
        </p:nvPicPr>
        <p:blipFill>
          <a:blip r:embed="rId3"/>
          <a:stretch/>
        </p:blipFill>
        <p:spPr>
          <a:xfrm>
            <a:off x="4602240" y="2971800"/>
            <a:ext cx="1620720" cy="2209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23026937_1208533605_A_Kitaev_Portret_VILenina"/>
          <p:cNvPicPr/>
          <p:nvPr/>
        </p:nvPicPr>
        <p:blipFill>
          <a:blip r:embed="rId4"/>
          <a:stretch/>
        </p:blipFill>
        <p:spPr>
          <a:xfrm>
            <a:off x="6578640" y="2971800"/>
            <a:ext cx="1638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uk-UA" sz="3800" spc="-1" strike="noStrike">
                <a:solidFill>
                  <a:srgbClr val="3333cc"/>
                </a:solidFill>
                <a:latin typeface="Times New Roman"/>
              </a:rPr>
              <a:t>Встановіть відповідність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4197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1.Сповідування монархічної системи управлін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2. Політика Директорії і Анта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3. Анархі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0033"/>
                </a:solidFill>
                <a:latin typeface="Arial"/>
              </a:rPr>
              <a:t>4.  Ануляція Брестського мир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А.Більшов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Б. Денікін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В. Мах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6600"/>
                </a:solidFill>
                <a:latin typeface="Arial"/>
              </a:rPr>
              <a:t>Г.Петлюрівц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172200" y="3886200"/>
          <a:ext cx="1523880" cy="22096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09-12-02T07:46:5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