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082-C829-4C0B-8EA8-4B2F2BD0E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FBA-B0A1-4D0E-BC62-170A79C87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8A8-5EC4-4DBC-A11D-AB4E4B15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C54-6524-4D00-80F3-D05A929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0D2-E8C3-46FB-91B9-801E7D0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EF8-69D8-458F-A41E-3135C033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79D-D7E3-46B4-964D-0EC7C3F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305-4B13-4F87-B564-43575859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382-CFDD-4F89-B9B3-5953E8A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1CE-F794-4469-98D6-1812DCA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605-6FA2-419A-874F-8B40C27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215-B54C-4D62-9822-3920049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2BE-4DF0-4349-80A7-FD02393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445-F4FC-4A4B-BCC9-35A3022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9FE2-5519-4704-BD42-FA44BF0DA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itera.ru/" TargetMode="External"/><Relationship Id="rId2" Type="http://schemas.openxmlformats.org/officeDocument/2006/relationships/hyperlink" Target="http://www.litera.ru/" TargetMode="External"/><Relationship Id="rId3" Type="http://schemas.openxmlformats.org/officeDocument/2006/relationships/hyperlink" Target="http://www.litera.ru/" TargetMode="External"/><Relationship Id="rId4" Type="http://schemas.openxmlformats.org/officeDocument/2006/relationships/hyperlink" Target="http://www.litera.ru/" TargetMode="External"/><Relationship Id="rId5" Type="http://schemas.openxmlformats.org/officeDocument/2006/relationships/hyperlink" Target="http://www.litera.ru/" TargetMode="External"/><Relationship Id="rId6" Type="http://schemas.openxmlformats.org/officeDocument/2006/relationships/hyperlink" Target="http://www.litera.ru/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Box 1"/>
          <p:cNvGrpSpPr/>
          <p:nvPr/>
        </p:nvGrpSpPr>
        <p:grpSpPr>
          <a:xfrm>
            <a:off x="-36360" y="-36360"/>
            <a:ext cx="9223200" cy="7095960"/>
            <a:chOff x="-36360" y="-36360"/>
            <a:chExt cx="9223200" cy="7095960"/>
          </a:xfrm>
        </p:grpSpPr>
        <p:pic>
          <p:nvPicPr>
            <p:cNvPr id="49" name="TextBox 1" descr=""/>
            <p:cNvPicPr/>
            <p:nvPr/>
          </p:nvPicPr>
          <p:blipFill>
            <a:blip r:embed="rId1"/>
            <a:stretch/>
          </p:blipFill>
          <p:spPr>
            <a:xfrm>
              <a:off x="-36360" y="-36360"/>
              <a:ext cx="9223200" cy="70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69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Рисунок 2" descr="pisateli_19_10.jpg"/>
          <p:cNvPicPr/>
          <p:nvPr/>
        </p:nvPicPr>
        <p:blipFill>
          <a:blip r:embed="rId2"/>
          <a:stretch/>
        </p:blipFill>
        <p:spPr>
          <a:xfrm>
            <a:off x="0" y="139680"/>
            <a:ext cx="5230800" cy="6357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svitolk11.jpg"/>
          <p:cNvPicPr/>
          <p:nvPr/>
        </p:nvPicPr>
        <p:blipFill>
          <a:blip r:embed="rId3"/>
          <a:stretch/>
        </p:blipFill>
        <p:spPr>
          <a:xfrm>
            <a:off x="5718240" y="2309760"/>
            <a:ext cx="3425760" cy="4548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285840"/>
            <a:ext cx="4572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лександр Сергеевич Пушкин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1799 г. – 1837 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20"/>
          <p:cNvGrpSpPr/>
          <p:nvPr/>
        </p:nvGrpSpPr>
        <p:grpSpPr>
          <a:xfrm>
            <a:off x="285840" y="4394160"/>
            <a:ext cx="3571920" cy="2463840"/>
            <a:chOff x="285840" y="4394160"/>
            <a:chExt cx="3571920" cy="2463840"/>
          </a:xfrm>
        </p:grpSpPr>
        <p:sp>
          <p:nvSpPr>
            <p:cNvPr id="107" name="Прямая соединительная линия 21"/>
            <p:cNvSpPr/>
            <p:nvPr/>
          </p:nvSpPr>
          <p:spPr>
            <a:xfrm flipV="1">
              <a:off x="1065240" y="5063400"/>
              <a:ext cx="0" cy="179460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8"/>
            <p:cNvSpPr/>
            <p:nvPr/>
          </p:nvSpPr>
          <p:spPr>
            <a:xfrm>
              <a:off x="296640" y="6320160"/>
              <a:ext cx="356112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9"/>
            <p:cNvSpPr/>
            <p:nvPr/>
          </p:nvSpPr>
          <p:spPr>
            <a:xfrm>
              <a:off x="285840" y="6440400"/>
              <a:ext cx="295308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10"/>
            <p:cNvSpPr/>
            <p:nvPr/>
          </p:nvSpPr>
          <p:spPr>
            <a:xfrm>
              <a:off x="285840" y="6503760"/>
              <a:ext cx="261000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11"/>
            <p:cNvSpPr/>
            <p:nvPr/>
          </p:nvSpPr>
          <p:spPr>
            <a:xfrm>
              <a:off x="293760" y="6373800"/>
              <a:ext cx="324504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12"/>
            <p:cNvSpPr/>
            <p:nvPr/>
          </p:nvSpPr>
          <p:spPr>
            <a:xfrm>
              <a:off x="296640" y="6305760"/>
              <a:ext cx="356112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13"/>
            <p:cNvSpPr/>
            <p:nvPr/>
          </p:nvSpPr>
          <p:spPr>
            <a:xfrm>
              <a:off x="293760" y="6356520"/>
              <a:ext cx="324504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14"/>
            <p:cNvSpPr/>
            <p:nvPr/>
          </p:nvSpPr>
          <p:spPr>
            <a:xfrm>
              <a:off x="285840" y="6419880"/>
              <a:ext cx="295308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15"/>
            <p:cNvSpPr/>
            <p:nvPr/>
          </p:nvSpPr>
          <p:spPr>
            <a:xfrm>
              <a:off x="285840" y="6487920"/>
              <a:ext cx="261000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16"/>
            <p:cNvSpPr/>
            <p:nvPr/>
          </p:nvSpPr>
          <p:spPr>
            <a:xfrm flipV="1">
              <a:off x="824040" y="4394160"/>
              <a:ext cx="0" cy="244836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17"/>
            <p:cNvSpPr/>
            <p:nvPr/>
          </p:nvSpPr>
          <p:spPr>
            <a:xfrm flipV="1">
              <a:off x="996840" y="4820040"/>
              <a:ext cx="0" cy="203040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8"/>
            <p:cNvSpPr/>
            <p:nvPr/>
          </p:nvSpPr>
          <p:spPr>
            <a:xfrm flipV="1">
              <a:off x="1089000" y="5063400"/>
              <a:ext cx="0" cy="179460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19"/>
            <p:cNvSpPr/>
            <p:nvPr/>
          </p:nvSpPr>
          <p:spPr>
            <a:xfrm flipV="1">
              <a:off x="900000" y="4614120"/>
              <a:ext cx="0" cy="222984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20"/>
            <p:cNvSpPr/>
            <p:nvPr/>
          </p:nvSpPr>
          <p:spPr>
            <a:xfrm flipV="1">
              <a:off x="876240" y="4614120"/>
              <a:ext cx="0" cy="222984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32"/>
            <p:cNvGrpSpPr/>
            <p:nvPr/>
          </p:nvGrpSpPr>
          <p:grpSpPr>
            <a:xfrm>
              <a:off x="285840" y="6758640"/>
              <a:ext cx="809640" cy="19080"/>
              <a:chOff x="285840" y="6758640"/>
              <a:chExt cx="809640" cy="19080"/>
            </a:xfrm>
          </p:grpSpPr>
          <p:sp>
            <p:nvSpPr>
              <p:cNvPr id="122" name="Прямая соединительная линия 34"/>
              <p:cNvSpPr/>
              <p:nvPr/>
            </p:nvSpPr>
            <p:spPr>
              <a:xfrm>
                <a:off x="285840" y="6777720"/>
                <a:ext cx="80964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35"/>
              <p:cNvSpPr/>
              <p:nvPr/>
            </p:nvSpPr>
            <p:spPr>
              <a:xfrm>
                <a:off x="285840" y="6758640"/>
                <a:ext cx="80964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Прямая соединительная линия 23"/>
            <p:cNvSpPr/>
            <p:nvPr/>
          </p:nvSpPr>
          <p:spPr>
            <a:xfrm flipV="1">
              <a:off x="968400" y="4820040"/>
              <a:ext cx="0" cy="203040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ая соединительная линия 24"/>
            <p:cNvSpPr/>
            <p:nvPr/>
          </p:nvSpPr>
          <p:spPr>
            <a:xfrm flipV="1">
              <a:off x="801720" y="4394160"/>
              <a:ext cx="0" cy="244836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Группа 38"/>
            <p:cNvGrpSpPr/>
            <p:nvPr/>
          </p:nvGrpSpPr>
          <p:grpSpPr>
            <a:xfrm>
              <a:off x="299160" y="6288480"/>
              <a:ext cx="27720" cy="556560"/>
              <a:chOff x="299160" y="6288480"/>
              <a:chExt cx="27720" cy="556560"/>
            </a:xfrm>
          </p:grpSpPr>
          <p:sp>
            <p:nvSpPr>
              <p:cNvPr id="127" name="Прямая соединительная линия 32"/>
              <p:cNvSpPr/>
              <p:nvPr/>
            </p:nvSpPr>
            <p:spPr>
              <a:xfrm flipV="1">
                <a:off x="326880" y="6288480"/>
                <a:ext cx="0" cy="55656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Прямая соединительная линия 33"/>
              <p:cNvSpPr/>
              <p:nvPr/>
            </p:nvSpPr>
            <p:spPr>
              <a:xfrm flipV="1">
                <a:off x="299160" y="6288480"/>
                <a:ext cx="0" cy="55656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Группа 35"/>
            <p:cNvGrpSpPr/>
            <p:nvPr/>
          </p:nvGrpSpPr>
          <p:grpSpPr>
            <a:xfrm>
              <a:off x="376200" y="6283440"/>
              <a:ext cx="27720" cy="556560"/>
              <a:chOff x="376200" y="6283440"/>
              <a:chExt cx="27720" cy="556560"/>
            </a:xfrm>
          </p:grpSpPr>
          <p:sp>
            <p:nvSpPr>
              <p:cNvPr id="130" name="Прямая соединительная линия 30"/>
              <p:cNvSpPr/>
              <p:nvPr/>
            </p:nvSpPr>
            <p:spPr>
              <a:xfrm flipV="1">
                <a:off x="403920" y="6283440"/>
                <a:ext cx="0" cy="55656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ая соединительная линия 31"/>
              <p:cNvSpPr/>
              <p:nvPr/>
            </p:nvSpPr>
            <p:spPr>
              <a:xfrm flipV="1">
                <a:off x="376200" y="6283440"/>
                <a:ext cx="0" cy="55656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Группа 31"/>
            <p:cNvGrpSpPr/>
            <p:nvPr/>
          </p:nvGrpSpPr>
          <p:grpSpPr>
            <a:xfrm>
              <a:off x="285840" y="6835320"/>
              <a:ext cx="809640" cy="19080"/>
              <a:chOff x="285840" y="6835320"/>
              <a:chExt cx="809640" cy="19080"/>
            </a:xfrm>
          </p:grpSpPr>
          <p:sp>
            <p:nvSpPr>
              <p:cNvPr id="133" name="Прямая соединительная линия 28"/>
              <p:cNvSpPr/>
              <p:nvPr/>
            </p:nvSpPr>
            <p:spPr>
              <a:xfrm>
                <a:off x="285840" y="6854400"/>
                <a:ext cx="80964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Прямая соединительная линия 28"/>
              <p:cNvSpPr/>
              <p:nvPr/>
            </p:nvSpPr>
            <p:spPr>
              <a:xfrm>
                <a:off x="285840" y="6835320"/>
                <a:ext cx="80964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86240" cy="4786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0" r="0" b="-82"/>
          <a:stretch/>
        </p:blipFill>
        <p:spPr>
          <a:xfrm>
            <a:off x="4214880" y="2000160"/>
            <a:ext cx="4643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4" descr=""/>
          <p:cNvPicPr/>
          <p:nvPr/>
        </p:nvPicPr>
        <p:blipFill>
          <a:blip r:embed="rId3"/>
          <a:stretch/>
        </p:blipFill>
        <p:spPr>
          <a:xfrm>
            <a:off x="1487520" y="225360"/>
            <a:ext cx="60832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2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357200"/>
            <a:ext cx="3386160" cy="521496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500280" y="1357200"/>
            <a:ext cx="2953080" cy="5214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214200"/>
            <a:ext cx="3313080" cy="990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а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500280" y="214200"/>
            <a:ext cx="2953080" cy="990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ар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85840" y="1500120"/>
            <a:ext cx="300024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ТР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ОМ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ЕН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ВН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500280" y="1643040"/>
            <a:ext cx="287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О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Б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РАВУ   КРОТ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500880" y="314316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928960" y="357120"/>
            <a:ext cx="596412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Нрав</a:t>
            </a:r>
            <a:r>
              <a:rPr b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– характер, душевные каче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Кроткий</a:t>
            </a:r>
            <a:r>
              <a:rPr b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– незлобливый, покорный, смирны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Гордый</a:t>
            </a:r>
            <a:r>
              <a:rPr b="1" i="1" lang="ru-RU" sz="3800" spc="-1" strike="noStrike">
                <a:solidFill>
                  <a:srgbClr val="002060"/>
                </a:solidFill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– сознающий своё превосходство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Ломлива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 </a:t>
            </a:r>
            <a:r>
              <a:rPr b="1" lang="en-US" sz="3800" spc="-1" strike="noStrike">
                <a:solidFill>
                  <a:srgbClr val="002060"/>
                </a:solidFill>
                <a:latin typeface="Castellar"/>
              </a:rPr>
              <a:t>(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от глагола «ломаться) – упряма, капризн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Своенравный</a:t>
            </a:r>
            <a:r>
              <a:rPr b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– упрямый, поступающий так, как вздумаетс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Ревнива</a:t>
            </a:r>
            <a:r>
              <a:rPr b="1" lang="ru-RU" sz="3800" spc="-1" strike="noStrike" u="sng">
                <a:solidFill>
                  <a:srgbClr val="c00000"/>
                </a:solidFill>
                <a:uFillTx/>
                <a:latin typeface="Castellar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– </a:t>
            </a:r>
            <a:r>
              <a:rPr b="1" lang="ru-RU" sz="3800" spc="-1" strike="noStrike" u="sng">
                <a:solidFill>
                  <a:srgbClr val="002060"/>
                </a:solidFill>
                <a:uFillTx/>
                <a:latin typeface="Castellar"/>
              </a:rPr>
              <a:t>здесь:</a:t>
            </a:r>
            <a:r>
              <a:rPr b="1" lang="ru-RU" sz="3800" spc="-1" strike="noStrike">
                <a:solidFill>
                  <a:srgbClr val="002060"/>
                </a:solidFill>
                <a:latin typeface="Castellar"/>
              </a:rPr>
              <a:t> мучительно  желающая быть лучш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24512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2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5929200"/>
            <a:ext cx="6429240" cy="928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арского происхождения, умны, крас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214200"/>
            <a:ext cx="3313080" cy="990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а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500280" y="214200"/>
            <a:ext cx="2953080" cy="990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ар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500880" y="3143160"/>
            <a:ext cx="264312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1357200"/>
            <a:ext cx="3386160" cy="457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500280" y="1357200"/>
            <a:ext cx="2953080" cy="457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85840" y="1500120"/>
            <a:ext cx="300024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ТР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ОМ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ЕН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ВН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500280" y="1643040"/>
            <a:ext cx="287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О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Б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РАВУ   КРОТ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принимал участие в судьбе царев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чех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ркальц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а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олк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аты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с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л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ст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остлив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т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щ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ь                Мачех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т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гк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м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рк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е «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37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4720" y="107136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642760" y="214308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учить наизусть фрагмент сказки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слов «За невестою своей…» до слов «Или след её заметил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слов «Тёмной ночки Елисей…» до слов «Не печалься же, проща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слов «Елисей, не унывая…» до слов «В том гробу твоя невес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Группа 50"/>
          <p:cNvGrpSpPr/>
          <p:nvPr/>
        </p:nvGrpSpPr>
        <p:grpSpPr>
          <a:xfrm>
            <a:off x="571680" y="2000160"/>
            <a:ext cx="2038320" cy="2009880"/>
            <a:chOff x="571680" y="2000160"/>
            <a:chExt cx="2038320" cy="2009880"/>
          </a:xfrm>
        </p:grpSpPr>
        <p:sp>
          <p:nvSpPr>
            <p:cNvPr id="175" name="Полилиния 11"/>
            <p:cNvSpPr/>
            <p:nvPr/>
          </p:nvSpPr>
          <p:spPr>
            <a:xfrm flipH="1">
              <a:off x="2136960" y="2377800"/>
              <a:ext cx="473040" cy="1022400"/>
            </a:xfrm>
            <a:custGeom>
              <a:avLst/>
              <a:gdLst/>
              <a:ahLst/>
              <a:rect l="l" t="t" r="r" b="b"/>
              <a:pathLst>
                <a:path w="1356645" h="2930187">
                  <a:moveTo>
                    <a:pt x="722280" y="2914650"/>
                  </a:moveTo>
                  <a:cubicBezTo>
                    <a:pt x="625383" y="2930187"/>
                    <a:pt x="417008" y="2901505"/>
                    <a:pt x="289337" y="2855880"/>
                  </a:cubicBezTo>
                  <a:cubicBezTo>
                    <a:pt x="346282" y="2772845"/>
                    <a:pt x="351217" y="2631164"/>
                    <a:pt x="273430" y="2578801"/>
                  </a:cubicBezTo>
                  <a:cubicBezTo>
                    <a:pt x="240781" y="2528127"/>
                    <a:pt x="144954" y="2543276"/>
                    <a:pt x="99382" y="2528083"/>
                  </a:cubicBezTo>
                  <a:cubicBezTo>
                    <a:pt x="53810" y="2512890"/>
                    <a:pt x="1491" y="2558439"/>
                    <a:pt x="0" y="2487645"/>
                  </a:cubicBezTo>
                  <a:cubicBezTo>
                    <a:pt x="73571" y="2355436"/>
                    <a:pt x="525795" y="1879894"/>
                    <a:pt x="540807" y="1734829"/>
                  </a:cubicBezTo>
                  <a:cubicBezTo>
                    <a:pt x="712769" y="1548822"/>
                    <a:pt x="779404" y="1469068"/>
                    <a:pt x="827055" y="1371600"/>
                  </a:cubicBezTo>
                  <a:cubicBezTo>
                    <a:pt x="797940" y="1246188"/>
                    <a:pt x="821319" y="1236777"/>
                    <a:pt x="854010" y="1163670"/>
                  </a:cubicBezTo>
                  <a:cubicBezTo>
                    <a:pt x="785190" y="1104201"/>
                    <a:pt x="1035017" y="819690"/>
                    <a:pt x="1069942" y="695325"/>
                  </a:cubicBezTo>
                  <a:cubicBezTo>
                    <a:pt x="1104867" y="570960"/>
                    <a:pt x="1089990" y="495999"/>
                    <a:pt x="1063560" y="417480"/>
                  </a:cubicBezTo>
                  <a:cubicBezTo>
                    <a:pt x="1126119" y="363422"/>
                    <a:pt x="1179792" y="0"/>
                    <a:pt x="1356645" y="9144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12"/>
            <p:cNvSpPr/>
            <p:nvPr/>
          </p:nvSpPr>
          <p:spPr>
            <a:xfrm flipH="1">
              <a:off x="1957680" y="3403800"/>
              <a:ext cx="541080" cy="320400"/>
            </a:xfrm>
            <a:custGeom>
              <a:avLst/>
              <a:gdLst/>
              <a:ahLst/>
              <a:rect l="l" t="t" r="r" b="b"/>
              <a:pathLst>
                <a:path w="1549433" h="919323">
                  <a:moveTo>
                    <a:pt x="1549433" y="919323"/>
                  </a:moveTo>
                  <a:cubicBezTo>
                    <a:pt x="1383859" y="887289"/>
                    <a:pt x="1266052" y="848431"/>
                    <a:pt x="1052711" y="823220"/>
                  </a:cubicBezTo>
                  <a:cubicBezTo>
                    <a:pt x="916710" y="812378"/>
                    <a:pt x="951126" y="846876"/>
                    <a:pt x="733425" y="854268"/>
                  </a:cubicBezTo>
                  <a:cubicBezTo>
                    <a:pt x="174849" y="911658"/>
                    <a:pt x="153877" y="603951"/>
                    <a:pt x="196882" y="424023"/>
                  </a:cubicBezTo>
                  <a:cubicBezTo>
                    <a:pt x="173070" y="272670"/>
                    <a:pt x="26430" y="177072"/>
                    <a:pt x="0" y="98553"/>
                  </a:cubicBezTo>
                  <a:cubicBezTo>
                    <a:pt x="62559" y="44495"/>
                    <a:pt x="163733" y="51312"/>
                    <a:pt x="312011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лилиния 13"/>
            <p:cNvSpPr/>
            <p:nvPr/>
          </p:nvSpPr>
          <p:spPr>
            <a:xfrm flipH="1">
              <a:off x="1501920" y="3187800"/>
              <a:ext cx="772920" cy="512640"/>
            </a:xfrm>
            <a:custGeom>
              <a:avLst/>
              <a:gdLst/>
              <a:ahLst/>
              <a:rect l="l" t="t" r="r" b="b"/>
              <a:pathLst>
                <a:path w="2214251" h="1468438">
                  <a:moveTo>
                    <a:pt x="628338" y="1135063"/>
                  </a:moveTo>
                  <a:cubicBezTo>
                    <a:pt x="649769" y="1139825"/>
                    <a:pt x="168758" y="855663"/>
                    <a:pt x="166377" y="811213"/>
                  </a:cubicBezTo>
                  <a:cubicBezTo>
                    <a:pt x="163996" y="766763"/>
                    <a:pt x="579127" y="906463"/>
                    <a:pt x="614052" y="868363"/>
                  </a:cubicBezTo>
                  <a:cubicBezTo>
                    <a:pt x="687871" y="842963"/>
                    <a:pt x="477527" y="674688"/>
                    <a:pt x="461652" y="611188"/>
                  </a:cubicBezTo>
                  <a:cubicBezTo>
                    <a:pt x="617227" y="604838"/>
                    <a:pt x="566427" y="654051"/>
                    <a:pt x="518802" y="487363"/>
                  </a:cubicBezTo>
                  <a:cubicBezTo>
                    <a:pt x="918852" y="677863"/>
                    <a:pt x="1461777" y="371476"/>
                    <a:pt x="1652277" y="173038"/>
                  </a:cubicBezTo>
                  <a:cubicBezTo>
                    <a:pt x="2016608" y="0"/>
                    <a:pt x="2150751" y="188912"/>
                    <a:pt x="2214251" y="192087"/>
                  </a:cubicBezTo>
                  <a:cubicBezTo>
                    <a:pt x="2188057" y="160337"/>
                    <a:pt x="2075614" y="139970"/>
                    <a:pt x="2014225" y="115888"/>
                  </a:cubicBezTo>
                  <a:cubicBezTo>
                    <a:pt x="1447488" y="412210"/>
                    <a:pt x="948423" y="1097662"/>
                    <a:pt x="588618" y="1095343"/>
                  </a:cubicBezTo>
                  <a:cubicBezTo>
                    <a:pt x="432102" y="1174635"/>
                    <a:pt x="0" y="1468438"/>
                    <a:pt x="148278" y="1464628"/>
                  </a:cubicBezTo>
                </a:path>
              </a:pathLst>
            </a:custGeom>
            <a:solidFill>
              <a:srgbClr val="462300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олилиния 14"/>
            <p:cNvSpPr/>
            <p:nvPr/>
          </p:nvSpPr>
          <p:spPr>
            <a:xfrm flipH="1">
              <a:off x="1622160" y="3056040"/>
              <a:ext cx="530280" cy="363600"/>
            </a:xfrm>
            <a:custGeom>
              <a:avLst/>
              <a:gdLst/>
              <a:ahLst/>
              <a:rect l="l" t="t" r="r" b="b"/>
              <a:pathLst>
                <a:path w="1520826" h="1039813">
                  <a:moveTo>
                    <a:pt x="995361" y="657225"/>
                  </a:moveTo>
                  <a:cubicBezTo>
                    <a:pt x="986630" y="658813"/>
                    <a:pt x="1146969" y="654050"/>
                    <a:pt x="1000126" y="666750"/>
                  </a:cubicBezTo>
                  <a:cubicBezTo>
                    <a:pt x="691358" y="860425"/>
                    <a:pt x="461963" y="1039813"/>
                    <a:pt x="66675" y="647700"/>
                  </a:cubicBezTo>
                  <a:cubicBezTo>
                    <a:pt x="4762" y="627062"/>
                    <a:pt x="544513" y="708024"/>
                    <a:pt x="628650" y="542924"/>
                  </a:cubicBezTo>
                  <a:cubicBezTo>
                    <a:pt x="617538" y="492124"/>
                    <a:pt x="192088" y="566737"/>
                    <a:pt x="0" y="342900"/>
                  </a:cubicBezTo>
                  <a:lnTo>
                    <a:pt x="704850" y="323850"/>
                  </a:lnTo>
                  <a:cubicBezTo>
                    <a:pt x="778669" y="298450"/>
                    <a:pt x="387350" y="111125"/>
                    <a:pt x="371475" y="47625"/>
                  </a:cubicBezTo>
                  <a:cubicBezTo>
                    <a:pt x="527050" y="41275"/>
                    <a:pt x="1038225" y="328613"/>
                    <a:pt x="990600" y="161925"/>
                  </a:cubicBezTo>
                  <a:cubicBezTo>
                    <a:pt x="990600" y="28575"/>
                    <a:pt x="952500" y="36513"/>
                    <a:pt x="847725" y="0"/>
                  </a:cubicBezTo>
                  <a:cubicBezTo>
                    <a:pt x="1173956" y="55562"/>
                    <a:pt x="1184274" y="139699"/>
                    <a:pt x="1343024" y="38099"/>
                  </a:cubicBezTo>
                  <a:cubicBezTo>
                    <a:pt x="1406524" y="80962"/>
                    <a:pt x="1520826" y="173037"/>
                    <a:pt x="1466852" y="247650"/>
                  </a:cubicBezTo>
                  <a:cubicBezTo>
                    <a:pt x="1412878" y="322263"/>
                    <a:pt x="1095378" y="427038"/>
                    <a:pt x="1019177" y="485775"/>
                  </a:cubicBezTo>
                  <a:cubicBezTo>
                    <a:pt x="942976" y="544512"/>
                    <a:pt x="1028699" y="569913"/>
                    <a:pt x="1009648" y="600075"/>
                  </a:cubicBezTo>
                </a:path>
              </a:pathLst>
            </a:custGeom>
            <a:solidFill>
              <a:srgbClr val="462300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олилиния 15"/>
            <p:cNvSpPr/>
            <p:nvPr/>
          </p:nvSpPr>
          <p:spPr>
            <a:xfrm flipH="1">
              <a:off x="1902240" y="3805560"/>
              <a:ext cx="79200" cy="204480"/>
            </a:xfrm>
            <a:custGeom>
              <a:avLst/>
              <a:gdLst/>
              <a:ahLst/>
              <a:rect l="l" t="t" r="r" b="b"/>
              <a:pathLst>
                <a:path w="225457" h="584835">
                  <a:moveTo>
                    <a:pt x="0" y="584835"/>
                  </a:moveTo>
                  <a:cubicBezTo>
                    <a:pt x="84138" y="353600"/>
                    <a:pt x="141877" y="365061"/>
                    <a:pt x="225457" y="176880"/>
                  </a:cubicBezTo>
                  <a:cubicBezTo>
                    <a:pt x="217678" y="68295"/>
                    <a:pt x="192980" y="117019"/>
                    <a:pt x="11525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олилиния 16"/>
            <p:cNvSpPr/>
            <p:nvPr/>
          </p:nvSpPr>
          <p:spPr>
            <a:xfrm flipH="1">
              <a:off x="2402280" y="3171960"/>
              <a:ext cx="139680" cy="115560"/>
            </a:xfrm>
            <a:custGeom>
              <a:avLst/>
              <a:gdLst/>
              <a:ahLst/>
              <a:rect l="l" t="t" r="r" b="b"/>
              <a:pathLst>
                <a:path w="399098" h="328950">
                  <a:moveTo>
                    <a:pt x="399098" y="0"/>
                  </a:moveTo>
                  <a:cubicBezTo>
                    <a:pt x="333356" y="328950"/>
                    <a:pt x="227521" y="210217"/>
                    <a:pt x="205455" y="134970"/>
                  </a:cubicBezTo>
                  <a:cubicBezTo>
                    <a:pt x="7176" y="112110"/>
                    <a:pt x="172978" y="208459"/>
                    <a:pt x="0" y="196215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олилиния 17"/>
            <p:cNvSpPr/>
            <p:nvPr/>
          </p:nvSpPr>
          <p:spPr>
            <a:xfrm flipH="1">
              <a:off x="2041920" y="2833560"/>
              <a:ext cx="203040" cy="50760"/>
            </a:xfrm>
            <a:custGeom>
              <a:avLst/>
              <a:gdLst/>
              <a:ahLst/>
              <a:rect l="l" t="t" r="r" b="b"/>
              <a:pathLst>
                <a:path w="584047" h="145586">
                  <a:moveTo>
                    <a:pt x="584047" y="145586"/>
                  </a:moveTo>
                  <a:lnTo>
                    <a:pt x="549094" y="124914"/>
                  </a:lnTo>
                  <a:cubicBezTo>
                    <a:pt x="347668" y="65576"/>
                    <a:pt x="315853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олилиния 18"/>
            <p:cNvSpPr/>
            <p:nvPr/>
          </p:nvSpPr>
          <p:spPr>
            <a:xfrm flipH="1">
              <a:off x="2076480" y="2870280"/>
              <a:ext cx="160200" cy="106200"/>
            </a:xfrm>
            <a:custGeom>
              <a:avLst/>
              <a:gdLst/>
              <a:ahLst/>
              <a:rect l="l" t="t" r="r" b="b"/>
              <a:pathLst>
                <a:path w="456252" h="307511">
                  <a:moveTo>
                    <a:pt x="62580" y="307511"/>
                  </a:moveTo>
                  <a:lnTo>
                    <a:pt x="456252" y="96339"/>
                  </a:lnTo>
                  <a:cubicBezTo>
                    <a:pt x="254826" y="37001"/>
                    <a:pt x="230128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олилиния 19"/>
            <p:cNvSpPr/>
            <p:nvPr/>
          </p:nvSpPr>
          <p:spPr>
            <a:xfrm flipH="1">
              <a:off x="2157840" y="2878200"/>
              <a:ext cx="48960" cy="79200"/>
            </a:xfrm>
            <a:custGeom>
              <a:avLst/>
              <a:gdLst/>
              <a:ahLst/>
              <a:rect l="l" t="t" r="r" b="b"/>
              <a:pathLst>
                <a:path w="141927" h="226287">
                  <a:moveTo>
                    <a:pt x="62580" y="226287"/>
                  </a:moveTo>
                  <a:cubicBezTo>
                    <a:pt x="131664" y="166223"/>
                    <a:pt x="87706" y="226008"/>
                    <a:pt x="141927" y="167515"/>
                  </a:cubicBezTo>
                  <a:cubicBezTo>
                    <a:pt x="40985" y="98129"/>
                    <a:pt x="74378" y="0"/>
                    <a:pt x="0" y="1782"/>
                  </a:cubicBezTo>
                  <a:cubicBezTo>
                    <a:pt x="20860" y="76617"/>
                    <a:pt x="46744" y="101210"/>
                    <a:pt x="62580" y="226287"/>
                  </a:cubicBezTo>
                  <a:close/>
                </a:path>
              </a:pathLst>
            </a:custGeom>
            <a:solidFill>
              <a:srgbClr val="8f4507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олилиния 20"/>
            <p:cNvSpPr/>
            <p:nvPr/>
          </p:nvSpPr>
          <p:spPr>
            <a:xfrm flipH="1">
              <a:off x="2180160" y="2705040"/>
              <a:ext cx="117360" cy="52200"/>
            </a:xfrm>
            <a:custGeom>
              <a:avLst/>
              <a:gdLst/>
              <a:ahLst/>
              <a:rect l="l" t="t" r="r" b="b"/>
              <a:pathLst>
                <a:path w="339021" h="152507">
                  <a:moveTo>
                    <a:pt x="317982" y="39503"/>
                  </a:moveTo>
                  <a:lnTo>
                    <a:pt x="339021" y="36259"/>
                  </a:lnTo>
                  <a:cubicBezTo>
                    <a:pt x="126604" y="55528"/>
                    <a:pt x="165128" y="0"/>
                    <a:pt x="0" y="152507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олилиния 21"/>
            <p:cNvSpPr/>
            <p:nvPr/>
          </p:nvSpPr>
          <p:spPr>
            <a:xfrm flipH="1">
              <a:off x="2014920" y="2600280"/>
              <a:ext cx="147600" cy="37800"/>
            </a:xfrm>
            <a:custGeom>
              <a:avLst/>
              <a:gdLst/>
              <a:ahLst/>
              <a:rect l="l" t="t" r="r" b="b"/>
              <a:pathLst>
                <a:path w="424432" h="109842">
                  <a:moveTo>
                    <a:pt x="403393" y="109842"/>
                  </a:moveTo>
                  <a:lnTo>
                    <a:pt x="424432" y="106598"/>
                  </a:lnTo>
                  <a:cubicBezTo>
                    <a:pt x="232112" y="30408"/>
                    <a:pt x="240491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олилиния 22"/>
            <p:cNvSpPr/>
            <p:nvPr/>
          </p:nvSpPr>
          <p:spPr>
            <a:xfrm flipH="1">
              <a:off x="1997280" y="2709720"/>
              <a:ext cx="47520" cy="15840"/>
            </a:xfrm>
            <a:custGeom>
              <a:avLst/>
              <a:gdLst/>
              <a:ahLst/>
              <a:rect l="l" t="t" r="r" b="b"/>
              <a:pathLst>
                <a:path w="424432" h="109842">
                  <a:moveTo>
                    <a:pt x="403393" y="109842"/>
                  </a:moveTo>
                  <a:lnTo>
                    <a:pt x="424432" y="106598"/>
                  </a:lnTo>
                  <a:cubicBezTo>
                    <a:pt x="232112" y="30408"/>
                    <a:pt x="240491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олилиния 23"/>
            <p:cNvSpPr/>
            <p:nvPr/>
          </p:nvSpPr>
          <p:spPr>
            <a:xfrm flipH="1">
              <a:off x="2124000" y="2720880"/>
              <a:ext cx="34920" cy="1440"/>
            </a:xfrm>
            <a:custGeom>
              <a:avLst/>
              <a:gdLst/>
              <a:ahLst/>
              <a:rect l="l" t="t" r="r" b="b"/>
              <a:pathLst>
                <a:path w="310717" h="6470">
                  <a:moveTo>
                    <a:pt x="310717" y="647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24"/>
            <p:cNvSpPr/>
            <p:nvPr/>
          </p:nvSpPr>
          <p:spPr>
            <a:xfrm flipH="1">
              <a:off x="2184480" y="2641320"/>
              <a:ext cx="60120" cy="21960"/>
            </a:xfrm>
            <a:custGeom>
              <a:avLst/>
              <a:gdLst/>
              <a:ahLst/>
              <a:rect l="l" t="t" r="r" b="b"/>
              <a:pathLst>
                <a:path w="542410" h="154768">
                  <a:moveTo>
                    <a:pt x="542410" y="16388"/>
                  </a:moveTo>
                  <a:cubicBezTo>
                    <a:pt x="361607" y="62515"/>
                    <a:pt x="134467" y="0"/>
                    <a:pt x="0" y="15476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олилиния 25"/>
            <p:cNvSpPr/>
            <p:nvPr/>
          </p:nvSpPr>
          <p:spPr>
            <a:xfrm flipH="1">
              <a:off x="2197440" y="2608200"/>
              <a:ext cx="31680" cy="10800"/>
            </a:xfrm>
            <a:custGeom>
              <a:avLst/>
              <a:gdLst/>
              <a:ahLst/>
              <a:rect l="l" t="t" r="r" b="b"/>
              <a:pathLst>
                <a:path w="10584" h="147022">
                  <a:moveTo>
                    <a:pt x="10584" y="29253"/>
                  </a:moveTo>
                  <a:cubicBezTo>
                    <a:pt x="7056" y="68509"/>
                    <a:pt x="607" y="0"/>
                    <a:pt x="0" y="14702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олилиния 26"/>
            <p:cNvSpPr/>
            <p:nvPr/>
          </p:nvSpPr>
          <p:spPr>
            <a:xfrm flipH="1">
              <a:off x="1586160" y="3019320"/>
              <a:ext cx="101520" cy="50760"/>
            </a:xfrm>
            <a:custGeom>
              <a:avLst/>
              <a:gdLst/>
              <a:ahLst/>
              <a:rect l="l" t="t" r="r" b="b"/>
              <a:pathLst>
                <a:path w="897669" h="356230">
                  <a:moveTo>
                    <a:pt x="897669" y="277915"/>
                  </a:moveTo>
                  <a:cubicBezTo>
                    <a:pt x="485175" y="356230"/>
                    <a:pt x="613296" y="0"/>
                    <a:pt x="0" y="35594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олилиния 27"/>
            <p:cNvSpPr/>
            <p:nvPr/>
          </p:nvSpPr>
          <p:spPr>
            <a:xfrm flipH="1">
              <a:off x="2053080" y="2489040"/>
              <a:ext cx="48960" cy="15840"/>
            </a:xfrm>
            <a:custGeom>
              <a:avLst/>
              <a:gdLst/>
              <a:ahLst/>
              <a:rect l="l" t="t" r="r" b="b"/>
              <a:pathLst>
                <a:path w="424432" h="109842">
                  <a:moveTo>
                    <a:pt x="403393" y="109842"/>
                  </a:moveTo>
                  <a:lnTo>
                    <a:pt x="424432" y="106598"/>
                  </a:lnTo>
                  <a:cubicBezTo>
                    <a:pt x="232112" y="30408"/>
                    <a:pt x="240491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олилиния 28"/>
            <p:cNvSpPr/>
            <p:nvPr/>
          </p:nvSpPr>
          <p:spPr>
            <a:xfrm flipH="1">
              <a:off x="1931040" y="2244600"/>
              <a:ext cx="366480" cy="255600"/>
            </a:xfrm>
            <a:custGeom>
              <a:avLst/>
              <a:gdLst/>
              <a:ahLst/>
              <a:rect l="l" t="t" r="r" b="b"/>
              <a:pathLst>
                <a:path w="3226832" h="1759735">
                  <a:moveTo>
                    <a:pt x="1398598" y="0"/>
                  </a:moveTo>
                  <a:cubicBezTo>
                    <a:pt x="1399530" y="2248"/>
                    <a:pt x="666987" y="363303"/>
                    <a:pt x="1234279" y="930869"/>
                  </a:cubicBezTo>
                  <a:cubicBezTo>
                    <a:pt x="1538985" y="1196663"/>
                    <a:pt x="2634730" y="1508263"/>
                    <a:pt x="3226832" y="1594767"/>
                  </a:cubicBezTo>
                  <a:cubicBezTo>
                    <a:pt x="2485414" y="1759735"/>
                    <a:pt x="1960248" y="1393588"/>
                    <a:pt x="1326956" y="1292998"/>
                  </a:cubicBezTo>
                  <a:cubicBezTo>
                    <a:pt x="1023181" y="1122452"/>
                    <a:pt x="534052" y="1289892"/>
                    <a:pt x="461970" y="793432"/>
                  </a:cubicBezTo>
                  <a:cubicBezTo>
                    <a:pt x="300541" y="644818"/>
                    <a:pt x="0" y="372994"/>
                    <a:pt x="130215" y="5603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олилиния 29"/>
            <p:cNvSpPr/>
            <p:nvPr/>
          </p:nvSpPr>
          <p:spPr>
            <a:xfrm flipH="1">
              <a:off x="1923840" y="2306520"/>
              <a:ext cx="336600" cy="182520"/>
            </a:xfrm>
            <a:custGeom>
              <a:avLst/>
              <a:gdLst/>
              <a:ahLst/>
              <a:rect l="l" t="t" r="r" b="b"/>
              <a:pathLst>
                <a:path w="2973049" h="1251347">
                  <a:moveTo>
                    <a:pt x="2447879" y="0"/>
                  </a:moveTo>
                  <a:cubicBezTo>
                    <a:pt x="2495149" y="169228"/>
                    <a:pt x="2252227" y="223312"/>
                    <a:pt x="2540556" y="506978"/>
                  </a:cubicBezTo>
                  <a:cubicBezTo>
                    <a:pt x="2721691" y="905551"/>
                    <a:pt x="2380947" y="999874"/>
                    <a:pt x="2973049" y="1086378"/>
                  </a:cubicBezTo>
                  <a:cubicBezTo>
                    <a:pt x="2231631" y="1251346"/>
                    <a:pt x="2911264" y="1174898"/>
                    <a:pt x="2277972" y="1074308"/>
                  </a:cubicBezTo>
                  <a:cubicBezTo>
                    <a:pt x="1974197" y="903762"/>
                    <a:pt x="851776" y="1216051"/>
                    <a:pt x="779694" y="719591"/>
                  </a:cubicBezTo>
                  <a:cubicBezTo>
                    <a:pt x="618265" y="570977"/>
                    <a:pt x="379509" y="347435"/>
                    <a:pt x="0" y="414595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олилиния 30"/>
            <p:cNvSpPr/>
            <p:nvPr/>
          </p:nvSpPr>
          <p:spPr>
            <a:xfrm flipH="1">
              <a:off x="1877040" y="2058840"/>
              <a:ext cx="320400" cy="417600"/>
            </a:xfrm>
            <a:custGeom>
              <a:avLst/>
              <a:gdLst/>
              <a:ahLst/>
              <a:rect l="l" t="t" r="r" b="b"/>
              <a:pathLst>
                <a:path w="2820581" h="2871451">
                  <a:moveTo>
                    <a:pt x="2819647" y="1003080"/>
                  </a:moveTo>
                  <a:cubicBezTo>
                    <a:pt x="2820580" y="1005328"/>
                    <a:pt x="2793417" y="306168"/>
                    <a:pt x="2485426" y="316463"/>
                  </a:cubicBezTo>
                  <a:cubicBezTo>
                    <a:pt x="2355066" y="236227"/>
                    <a:pt x="2580679" y="744977"/>
                    <a:pt x="2531763" y="582019"/>
                  </a:cubicBezTo>
                  <a:cubicBezTo>
                    <a:pt x="2454532" y="650420"/>
                    <a:pt x="2421066" y="477404"/>
                    <a:pt x="2161056" y="557876"/>
                  </a:cubicBezTo>
                  <a:cubicBezTo>
                    <a:pt x="2040061" y="567935"/>
                    <a:pt x="1988574" y="690658"/>
                    <a:pt x="1790348" y="775153"/>
                  </a:cubicBezTo>
                  <a:cubicBezTo>
                    <a:pt x="1653907" y="829472"/>
                    <a:pt x="1417065" y="642372"/>
                    <a:pt x="1280624" y="690655"/>
                  </a:cubicBezTo>
                  <a:cubicBezTo>
                    <a:pt x="1144183" y="738938"/>
                    <a:pt x="1064378" y="823433"/>
                    <a:pt x="971700" y="1064849"/>
                  </a:cubicBezTo>
                  <a:cubicBezTo>
                    <a:pt x="879022" y="1306265"/>
                    <a:pt x="809513" y="1803181"/>
                    <a:pt x="724558" y="2139153"/>
                  </a:cubicBezTo>
                  <a:cubicBezTo>
                    <a:pt x="534989" y="2598077"/>
                    <a:pt x="1012884" y="2619979"/>
                    <a:pt x="1604986" y="2706483"/>
                  </a:cubicBezTo>
                  <a:cubicBezTo>
                    <a:pt x="863568" y="2871451"/>
                    <a:pt x="1527761" y="2215609"/>
                    <a:pt x="678221" y="2296080"/>
                  </a:cubicBezTo>
                  <a:cubicBezTo>
                    <a:pt x="374446" y="2125534"/>
                    <a:pt x="626732" y="2063626"/>
                    <a:pt x="554650" y="1567166"/>
                  </a:cubicBezTo>
                  <a:cubicBezTo>
                    <a:pt x="393221" y="1418552"/>
                    <a:pt x="0" y="0"/>
                    <a:pt x="1643941" y="30857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лилиния 31"/>
            <p:cNvSpPr/>
            <p:nvPr/>
          </p:nvSpPr>
          <p:spPr>
            <a:xfrm flipH="1">
              <a:off x="1738800" y="2217600"/>
              <a:ext cx="204480" cy="231480"/>
            </a:xfrm>
            <a:custGeom>
              <a:avLst/>
              <a:gdLst/>
              <a:ahLst/>
              <a:rect l="l" t="t" r="r" b="b"/>
              <a:pathLst>
                <a:path w="588995" h="663191">
                  <a:moveTo>
                    <a:pt x="588995" y="500636"/>
                  </a:moveTo>
                  <a:cubicBezTo>
                    <a:pt x="532369" y="589990"/>
                    <a:pt x="455647" y="609006"/>
                    <a:pt x="388973" y="663191"/>
                  </a:cubicBezTo>
                  <a:cubicBezTo>
                    <a:pt x="308585" y="604575"/>
                    <a:pt x="137763" y="651466"/>
                    <a:pt x="147810" y="487343"/>
                  </a:cubicBezTo>
                  <a:cubicBezTo>
                    <a:pt x="76634" y="411143"/>
                    <a:pt x="0" y="55989"/>
                    <a:pt x="343756" y="0"/>
                  </a:cubicBezTo>
                  <a:cubicBezTo>
                    <a:pt x="426255" y="4301"/>
                    <a:pt x="398694" y="90172"/>
                    <a:pt x="391594" y="91124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олилиния 32"/>
            <p:cNvSpPr/>
            <p:nvPr/>
          </p:nvSpPr>
          <p:spPr>
            <a:xfrm flipH="1">
              <a:off x="1797480" y="2295360"/>
              <a:ext cx="102960" cy="102960"/>
            </a:xfrm>
            <a:custGeom>
              <a:avLst/>
              <a:gdLst/>
              <a:ahLst/>
              <a:rect l="l" t="t" r="r" b="b"/>
              <a:pathLst>
                <a:path w="912697" h="716362">
                  <a:moveTo>
                    <a:pt x="912696" y="215859"/>
                  </a:moveTo>
                  <a:lnTo>
                    <a:pt x="516688" y="0"/>
                  </a:lnTo>
                  <a:lnTo>
                    <a:pt x="192320" y="140191"/>
                  </a:lnTo>
                  <a:cubicBezTo>
                    <a:pt x="0" y="64001"/>
                    <a:pt x="286410" y="709556"/>
                    <a:pt x="45919" y="71636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олилиния 33"/>
            <p:cNvSpPr/>
            <p:nvPr/>
          </p:nvSpPr>
          <p:spPr>
            <a:xfrm flipH="1">
              <a:off x="1769040" y="2435040"/>
              <a:ext cx="172800" cy="215640"/>
            </a:xfrm>
            <a:custGeom>
              <a:avLst/>
              <a:gdLst/>
              <a:ahLst/>
              <a:rect l="l" t="t" r="r" b="b"/>
              <a:pathLst>
                <a:path w="496156" h="618234">
                  <a:moveTo>
                    <a:pt x="156916" y="274812"/>
                  </a:moveTo>
                  <a:cubicBezTo>
                    <a:pt x="157911" y="275947"/>
                    <a:pt x="99926" y="353335"/>
                    <a:pt x="127717" y="397175"/>
                  </a:cubicBezTo>
                  <a:cubicBezTo>
                    <a:pt x="155508" y="441015"/>
                    <a:pt x="292677" y="564647"/>
                    <a:pt x="323659" y="537852"/>
                  </a:cubicBezTo>
                  <a:cubicBezTo>
                    <a:pt x="229036" y="506032"/>
                    <a:pt x="110969" y="248963"/>
                    <a:pt x="313611" y="236402"/>
                  </a:cubicBezTo>
                  <a:cubicBezTo>
                    <a:pt x="333708" y="222167"/>
                    <a:pt x="331196" y="401362"/>
                    <a:pt x="353805" y="447417"/>
                  </a:cubicBezTo>
                  <a:cubicBezTo>
                    <a:pt x="376414" y="493472"/>
                    <a:pt x="496156" y="485097"/>
                    <a:pt x="449263" y="512729"/>
                  </a:cubicBezTo>
                  <a:cubicBezTo>
                    <a:pt x="414092" y="489283"/>
                    <a:pt x="378924" y="616560"/>
                    <a:pt x="162883" y="618234"/>
                  </a:cubicBezTo>
                  <a:cubicBezTo>
                    <a:pt x="41465" y="531986"/>
                    <a:pt x="0" y="428042"/>
                    <a:pt x="102596" y="251472"/>
                  </a:cubicBezTo>
                  <a:cubicBezTo>
                    <a:pt x="185095" y="255773"/>
                    <a:pt x="458985" y="0"/>
                    <a:pt x="451885" y="95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олилиния 34"/>
            <p:cNvSpPr/>
            <p:nvPr/>
          </p:nvSpPr>
          <p:spPr>
            <a:xfrm flipH="1">
              <a:off x="1749240" y="2493720"/>
              <a:ext cx="82440" cy="98280"/>
            </a:xfrm>
            <a:custGeom>
              <a:avLst/>
              <a:gdLst/>
              <a:ahLst/>
              <a:rect l="l" t="t" r="r" b="b"/>
              <a:pathLst>
                <a:path w="725551" h="672724">
                  <a:moveTo>
                    <a:pt x="418422" y="0"/>
                  </a:moveTo>
                  <a:lnTo>
                    <a:pt x="99643" y="146268"/>
                  </a:lnTo>
                  <a:lnTo>
                    <a:pt x="192320" y="672724"/>
                  </a:lnTo>
                  <a:cubicBezTo>
                    <a:pt x="0" y="596534"/>
                    <a:pt x="456319" y="397132"/>
                    <a:pt x="725551" y="4160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олилиния 35"/>
            <p:cNvSpPr/>
            <p:nvPr/>
          </p:nvSpPr>
          <p:spPr>
            <a:xfrm flipH="1">
              <a:off x="1692360" y="2493720"/>
              <a:ext cx="45720" cy="36360"/>
            </a:xfrm>
            <a:custGeom>
              <a:avLst/>
              <a:gdLst/>
              <a:ahLst/>
              <a:rect l="l" t="t" r="r" b="b"/>
              <a:pathLst>
                <a:path w="403394" h="247309">
                  <a:moveTo>
                    <a:pt x="403394" y="0"/>
                  </a:moveTo>
                  <a:cubicBezTo>
                    <a:pt x="268930" y="247309"/>
                    <a:pt x="134465" y="60065"/>
                    <a:pt x="0" y="9009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олилиния 36"/>
            <p:cNvSpPr/>
            <p:nvPr/>
          </p:nvSpPr>
          <p:spPr>
            <a:xfrm flipH="1">
              <a:off x="1698480" y="2384280"/>
              <a:ext cx="58680" cy="48960"/>
            </a:xfrm>
            <a:custGeom>
              <a:avLst/>
              <a:gdLst/>
              <a:ahLst/>
              <a:rect l="l" t="t" r="r" b="b"/>
              <a:pathLst>
                <a:path w="517109" h="342460">
                  <a:moveTo>
                    <a:pt x="403394" y="119291"/>
                  </a:moveTo>
                  <a:lnTo>
                    <a:pt x="517109" y="0"/>
                  </a:lnTo>
                  <a:cubicBezTo>
                    <a:pt x="361610" y="342460"/>
                    <a:pt x="134465" y="179356"/>
                    <a:pt x="0" y="209389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олилиния 37"/>
            <p:cNvSpPr/>
            <p:nvPr/>
          </p:nvSpPr>
          <p:spPr>
            <a:xfrm flipH="1">
              <a:off x="1734120" y="2043000"/>
              <a:ext cx="204480" cy="250560"/>
            </a:xfrm>
            <a:custGeom>
              <a:avLst/>
              <a:gdLst/>
              <a:ahLst/>
              <a:rect l="l" t="t" r="r" b="b"/>
              <a:pathLst>
                <a:path w="1800859" h="1731258">
                  <a:moveTo>
                    <a:pt x="0" y="361651"/>
                  </a:moveTo>
                  <a:cubicBezTo>
                    <a:pt x="475547" y="0"/>
                    <a:pt x="781182" y="374666"/>
                    <a:pt x="1194946" y="363066"/>
                  </a:cubicBezTo>
                  <a:cubicBezTo>
                    <a:pt x="1471941" y="621031"/>
                    <a:pt x="1800859" y="614849"/>
                    <a:pt x="1295684" y="1731257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олилиния 38"/>
            <p:cNvSpPr/>
            <p:nvPr/>
          </p:nvSpPr>
          <p:spPr>
            <a:xfrm flipH="1">
              <a:off x="1443240" y="2000160"/>
              <a:ext cx="395280" cy="156960"/>
            </a:xfrm>
            <a:custGeom>
              <a:avLst/>
              <a:gdLst/>
              <a:ahLst/>
              <a:rect l="l" t="t" r="r" b="b"/>
              <a:pathLst>
                <a:path w="3489039" h="1080198">
                  <a:moveTo>
                    <a:pt x="0" y="833182"/>
                  </a:moveTo>
                  <a:cubicBezTo>
                    <a:pt x="248947" y="833477"/>
                    <a:pt x="314813" y="473551"/>
                    <a:pt x="1009590" y="303479"/>
                  </a:cubicBezTo>
                  <a:cubicBezTo>
                    <a:pt x="1657292" y="187245"/>
                    <a:pt x="3237350" y="0"/>
                    <a:pt x="3489039" y="108019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олилиния 39"/>
            <p:cNvSpPr/>
            <p:nvPr/>
          </p:nvSpPr>
          <p:spPr>
            <a:xfrm flipH="1">
              <a:off x="1495080" y="2053800"/>
              <a:ext cx="290520" cy="56880"/>
            </a:xfrm>
            <a:custGeom>
              <a:avLst/>
              <a:gdLst/>
              <a:ahLst/>
              <a:rect l="l" t="t" r="r" b="b"/>
              <a:pathLst>
                <a:path w="2562266" h="393586">
                  <a:moveTo>
                    <a:pt x="-1" y="110356"/>
                  </a:moveTo>
                  <a:cubicBezTo>
                    <a:pt x="210330" y="1"/>
                    <a:pt x="520758" y="58531"/>
                    <a:pt x="994140" y="75560"/>
                  </a:cubicBezTo>
                  <a:cubicBezTo>
                    <a:pt x="1688180" y="128320"/>
                    <a:pt x="2372359" y="182491"/>
                    <a:pt x="2562266" y="39358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олилиния 40"/>
            <p:cNvSpPr/>
            <p:nvPr/>
          </p:nvSpPr>
          <p:spPr>
            <a:xfrm flipH="1">
              <a:off x="885960" y="3112920"/>
              <a:ext cx="355320" cy="528480"/>
            </a:xfrm>
            <a:custGeom>
              <a:avLst/>
              <a:gdLst/>
              <a:ahLst/>
              <a:rect l="l" t="t" r="r" b="b"/>
              <a:pathLst>
                <a:path w="3139073" h="3640482">
                  <a:moveTo>
                    <a:pt x="1325348" y="110356"/>
                  </a:moveTo>
                  <a:cubicBezTo>
                    <a:pt x="1535679" y="1"/>
                    <a:pt x="1737984" y="251665"/>
                    <a:pt x="2211366" y="268694"/>
                  </a:cubicBezTo>
                  <a:cubicBezTo>
                    <a:pt x="3139073" y="528453"/>
                    <a:pt x="2876790" y="941952"/>
                    <a:pt x="2983682" y="1451636"/>
                  </a:cubicBezTo>
                  <a:cubicBezTo>
                    <a:pt x="2849814" y="1624653"/>
                    <a:pt x="2477766" y="1724549"/>
                    <a:pt x="2612974" y="2296596"/>
                  </a:cubicBezTo>
                  <a:cubicBezTo>
                    <a:pt x="2551190" y="2491741"/>
                    <a:pt x="2002853" y="1864054"/>
                    <a:pt x="2165038" y="2139671"/>
                  </a:cubicBezTo>
                  <a:cubicBezTo>
                    <a:pt x="2139295" y="2187954"/>
                    <a:pt x="2188209" y="2487715"/>
                    <a:pt x="2134147" y="2586294"/>
                  </a:cubicBezTo>
                  <a:cubicBezTo>
                    <a:pt x="2080085" y="2684873"/>
                    <a:pt x="1379855" y="2471625"/>
                    <a:pt x="1840665" y="2731148"/>
                  </a:cubicBezTo>
                  <a:cubicBezTo>
                    <a:pt x="1415897" y="2940377"/>
                    <a:pt x="1239499" y="3028202"/>
                    <a:pt x="991124" y="3189839"/>
                  </a:cubicBezTo>
                  <a:cubicBezTo>
                    <a:pt x="759432" y="3203921"/>
                    <a:pt x="314072" y="2974573"/>
                    <a:pt x="157036" y="2839782"/>
                  </a:cubicBezTo>
                  <a:cubicBezTo>
                    <a:pt x="0" y="2704991"/>
                    <a:pt x="20592" y="2590319"/>
                    <a:pt x="48910" y="2381091"/>
                  </a:cubicBezTo>
                  <a:cubicBezTo>
                    <a:pt x="77228" y="2171863"/>
                    <a:pt x="200800" y="1572344"/>
                    <a:pt x="326944" y="1584415"/>
                  </a:cubicBezTo>
                  <a:cubicBezTo>
                    <a:pt x="453088" y="1596486"/>
                    <a:pt x="630718" y="2137663"/>
                    <a:pt x="805774" y="2453517"/>
                  </a:cubicBezTo>
                  <a:cubicBezTo>
                    <a:pt x="980830" y="2769371"/>
                    <a:pt x="1459661" y="3318594"/>
                    <a:pt x="1377281" y="3479538"/>
                  </a:cubicBezTo>
                  <a:cubicBezTo>
                    <a:pt x="1294901" y="3640482"/>
                    <a:pt x="498083" y="3583454"/>
                    <a:pt x="311495" y="3419183"/>
                  </a:cubicBezTo>
                  <a:cubicBezTo>
                    <a:pt x="124907" y="3254912"/>
                    <a:pt x="271860" y="2450966"/>
                    <a:pt x="257755" y="2493911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олилиния 41"/>
            <p:cNvSpPr/>
            <p:nvPr/>
          </p:nvSpPr>
          <p:spPr>
            <a:xfrm flipH="1">
              <a:off x="1486080" y="2485800"/>
              <a:ext cx="185760" cy="203040"/>
            </a:xfrm>
            <a:custGeom>
              <a:avLst/>
              <a:gdLst/>
              <a:ahLst/>
              <a:rect l="l" t="t" r="r" b="b"/>
              <a:pathLst>
                <a:path w="534964" h="583649">
                  <a:moveTo>
                    <a:pt x="272765" y="583649"/>
                  </a:moveTo>
                  <a:cubicBezTo>
                    <a:pt x="370213" y="421794"/>
                    <a:pt x="532975" y="320230"/>
                    <a:pt x="534964" y="103109"/>
                  </a:cubicBezTo>
                  <a:cubicBezTo>
                    <a:pt x="483205" y="23857"/>
                    <a:pt x="372917" y="0"/>
                    <a:pt x="283756" y="12675"/>
                  </a:cubicBezTo>
                  <a:cubicBezTo>
                    <a:pt x="194595" y="25351"/>
                    <a:pt x="25521" y="107034"/>
                    <a:pt x="0" y="17916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олилиния 42"/>
            <p:cNvSpPr/>
            <p:nvPr/>
          </p:nvSpPr>
          <p:spPr>
            <a:xfrm flipH="1">
              <a:off x="1228680" y="2427120"/>
              <a:ext cx="169560" cy="187200"/>
            </a:xfrm>
            <a:custGeom>
              <a:avLst/>
              <a:gdLst/>
              <a:ahLst/>
              <a:rect l="l" t="t" r="r" b="b"/>
              <a:pathLst>
                <a:path w="487393" h="535039">
                  <a:moveTo>
                    <a:pt x="272765" y="416325"/>
                  </a:moveTo>
                  <a:cubicBezTo>
                    <a:pt x="272085" y="415784"/>
                    <a:pt x="266015" y="535039"/>
                    <a:pt x="253612" y="468347"/>
                  </a:cubicBezTo>
                  <a:cubicBezTo>
                    <a:pt x="487393" y="130349"/>
                    <a:pt x="290856" y="92258"/>
                    <a:pt x="198345" y="16173"/>
                  </a:cubicBezTo>
                  <a:cubicBezTo>
                    <a:pt x="79039" y="3729"/>
                    <a:pt x="65714" y="0"/>
                    <a:pt x="0" y="1183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олилиния 43"/>
            <p:cNvSpPr/>
            <p:nvPr/>
          </p:nvSpPr>
          <p:spPr>
            <a:xfrm flipH="1">
              <a:off x="1254600" y="2511360"/>
              <a:ext cx="134640" cy="193680"/>
            </a:xfrm>
            <a:custGeom>
              <a:avLst/>
              <a:gdLst/>
              <a:ahLst/>
              <a:rect l="l" t="t" r="r" b="b"/>
              <a:pathLst>
                <a:path w="388047" h="554024">
                  <a:moveTo>
                    <a:pt x="0" y="501736"/>
                  </a:moveTo>
                  <a:cubicBezTo>
                    <a:pt x="341213" y="554024"/>
                    <a:pt x="388047" y="179048"/>
                    <a:pt x="332538" y="81488"/>
                  </a:cubicBezTo>
                  <a:cubicBezTo>
                    <a:pt x="268498" y="33875"/>
                    <a:pt x="240101" y="0"/>
                    <a:pt x="174387" y="1183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лилиния 44"/>
            <p:cNvSpPr/>
            <p:nvPr/>
          </p:nvSpPr>
          <p:spPr>
            <a:xfrm flipH="1">
              <a:off x="1308240" y="2714400"/>
              <a:ext cx="161640" cy="183960"/>
            </a:xfrm>
            <a:custGeom>
              <a:avLst/>
              <a:gdLst/>
              <a:ahLst/>
              <a:rect l="l" t="t" r="r" b="b"/>
              <a:pathLst>
                <a:path w="461282" h="527113">
                  <a:moveTo>
                    <a:pt x="461282" y="515019"/>
                  </a:moveTo>
                  <a:cubicBezTo>
                    <a:pt x="209642" y="527113"/>
                    <a:pt x="55509" y="302862"/>
                    <a:pt x="0" y="205302"/>
                  </a:cubicBezTo>
                  <a:cubicBezTo>
                    <a:pt x="11323" y="132569"/>
                    <a:pt x="63312" y="8259"/>
                    <a:pt x="103106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олилиния 45"/>
            <p:cNvSpPr/>
            <p:nvPr/>
          </p:nvSpPr>
          <p:spPr>
            <a:xfrm flipH="1">
              <a:off x="1317600" y="2678040"/>
              <a:ext cx="222120" cy="179280"/>
            </a:xfrm>
            <a:custGeom>
              <a:avLst/>
              <a:gdLst/>
              <a:ahLst/>
              <a:rect l="l" t="t" r="r" b="b"/>
              <a:pathLst>
                <a:path w="639131" h="517065">
                  <a:moveTo>
                    <a:pt x="639131" y="504971"/>
                  </a:moveTo>
                  <a:cubicBezTo>
                    <a:pt x="387491" y="517065"/>
                    <a:pt x="243406" y="398322"/>
                    <a:pt x="187897" y="300762"/>
                  </a:cubicBezTo>
                  <a:cubicBezTo>
                    <a:pt x="58543" y="233053"/>
                    <a:pt x="0" y="179081"/>
                    <a:pt x="19698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олилиния 46"/>
            <p:cNvSpPr/>
            <p:nvPr/>
          </p:nvSpPr>
          <p:spPr>
            <a:xfrm flipH="1">
              <a:off x="1339560" y="3170160"/>
              <a:ext cx="96840" cy="169560"/>
            </a:xfrm>
            <a:custGeom>
              <a:avLst/>
              <a:gdLst/>
              <a:ahLst/>
              <a:rect l="l" t="t" r="r" b="b"/>
              <a:pathLst>
                <a:path w="857340" h="1176478">
                  <a:moveTo>
                    <a:pt x="850327" y="0"/>
                  </a:moveTo>
                  <a:cubicBezTo>
                    <a:pt x="857340" y="237865"/>
                    <a:pt x="632659" y="427447"/>
                    <a:pt x="454315" y="641171"/>
                  </a:cubicBezTo>
                  <a:cubicBezTo>
                    <a:pt x="372867" y="782234"/>
                    <a:pt x="12758" y="600237"/>
                    <a:pt x="6379" y="689455"/>
                  </a:cubicBezTo>
                  <a:cubicBezTo>
                    <a:pt x="0" y="778673"/>
                    <a:pt x="394106" y="976611"/>
                    <a:pt x="416042" y="117647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олилиния 47"/>
            <p:cNvSpPr/>
            <p:nvPr/>
          </p:nvSpPr>
          <p:spPr>
            <a:xfrm flipH="1">
              <a:off x="1400400" y="2746440"/>
              <a:ext cx="285480" cy="338040"/>
            </a:xfrm>
            <a:custGeom>
              <a:avLst/>
              <a:gdLst/>
              <a:ahLst/>
              <a:rect l="l" t="t" r="r" b="b"/>
              <a:pathLst>
                <a:path w="2523778" h="2330345">
                  <a:moveTo>
                    <a:pt x="2523778" y="2191295"/>
                  </a:moveTo>
                  <a:cubicBezTo>
                    <a:pt x="1971225" y="2330345"/>
                    <a:pt x="1192343" y="2240755"/>
                    <a:pt x="876628" y="1963361"/>
                  </a:cubicBezTo>
                  <a:cubicBezTo>
                    <a:pt x="560913" y="1685967"/>
                    <a:pt x="0" y="1248472"/>
                    <a:pt x="629489" y="526931"/>
                  </a:cubicBezTo>
                  <a:cubicBezTo>
                    <a:pt x="715978" y="543476"/>
                    <a:pt x="962520" y="163102"/>
                    <a:pt x="1131831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олилиния 48"/>
            <p:cNvSpPr/>
            <p:nvPr/>
          </p:nvSpPr>
          <p:spPr>
            <a:xfrm flipH="1">
              <a:off x="1371600" y="2930400"/>
              <a:ext cx="307800" cy="120600"/>
            </a:xfrm>
            <a:custGeom>
              <a:avLst/>
              <a:gdLst/>
              <a:ahLst/>
              <a:rect l="l" t="t" r="r" b="b"/>
              <a:pathLst>
                <a:path w="2710368" h="830641">
                  <a:moveTo>
                    <a:pt x="2710368" y="451243"/>
                  </a:moveTo>
                  <a:cubicBezTo>
                    <a:pt x="2327723" y="723073"/>
                    <a:pt x="1664688" y="830641"/>
                    <a:pt x="1217680" y="766499"/>
                  </a:cubicBezTo>
                  <a:cubicBezTo>
                    <a:pt x="835032" y="756676"/>
                    <a:pt x="473691" y="605558"/>
                    <a:pt x="275464" y="488873"/>
                  </a:cubicBezTo>
                  <a:cubicBezTo>
                    <a:pt x="77237" y="372188"/>
                    <a:pt x="-1" y="132779"/>
                    <a:pt x="28318" y="66389"/>
                  </a:cubicBezTo>
                  <a:cubicBezTo>
                    <a:pt x="56637" y="-1"/>
                    <a:pt x="296058" y="374197"/>
                    <a:pt x="445375" y="90535"/>
                  </a:cubicBezTo>
                  <a:cubicBezTo>
                    <a:pt x="641028" y="193138"/>
                    <a:pt x="922860" y="578706"/>
                    <a:pt x="1202234" y="682006"/>
                  </a:cubicBezTo>
                  <a:cubicBezTo>
                    <a:pt x="1481608" y="785306"/>
                    <a:pt x="2001857" y="659341"/>
                    <a:pt x="2121621" y="710334"/>
                  </a:cubicBezTo>
                </a:path>
              </a:pathLst>
            </a:custGeom>
            <a:solidFill>
              <a:srgbClr val="8f4507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олилиния 49"/>
            <p:cNvSpPr/>
            <p:nvPr/>
          </p:nvSpPr>
          <p:spPr>
            <a:xfrm flipH="1">
              <a:off x="1430280" y="2846160"/>
              <a:ext cx="158760" cy="110880"/>
            </a:xfrm>
            <a:custGeom>
              <a:avLst/>
              <a:gdLst/>
              <a:ahLst/>
              <a:rect l="l" t="t" r="r" b="b"/>
              <a:pathLst>
                <a:path w="1401651" h="768279">
                  <a:moveTo>
                    <a:pt x="1401651" y="753715"/>
                  </a:moveTo>
                  <a:cubicBezTo>
                    <a:pt x="1097110" y="726348"/>
                    <a:pt x="516816" y="768279"/>
                    <a:pt x="140658" y="453360"/>
                  </a:cubicBezTo>
                  <a:cubicBezTo>
                    <a:pt x="0" y="340934"/>
                    <a:pt x="391597" y="0"/>
                    <a:pt x="634930" y="115371"/>
                  </a:cubicBezTo>
                  <a:cubicBezTo>
                    <a:pt x="1001834" y="122106"/>
                    <a:pt x="1050977" y="533302"/>
                    <a:pt x="488538" y="49376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олилиния 50"/>
            <p:cNvSpPr/>
            <p:nvPr/>
          </p:nvSpPr>
          <p:spPr>
            <a:xfrm flipH="1">
              <a:off x="1549800" y="2824200"/>
              <a:ext cx="102960" cy="168120"/>
            </a:xfrm>
            <a:custGeom>
              <a:avLst/>
              <a:gdLst/>
              <a:ahLst/>
              <a:rect l="l" t="t" r="r" b="b"/>
              <a:pathLst>
                <a:path w="912972" h="1165217">
                  <a:moveTo>
                    <a:pt x="484892" y="510898"/>
                  </a:moveTo>
                  <a:cubicBezTo>
                    <a:pt x="180351" y="483531"/>
                    <a:pt x="912972" y="1165217"/>
                    <a:pt x="475032" y="910652"/>
                  </a:cubicBezTo>
                  <a:cubicBezTo>
                    <a:pt x="179918" y="701659"/>
                    <a:pt x="0" y="155522"/>
                    <a:pt x="243333" y="270893"/>
                  </a:cubicBezTo>
                  <a:cubicBezTo>
                    <a:pt x="455774" y="0"/>
                    <a:pt x="257782" y="97351"/>
                    <a:pt x="421314" y="94029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олилиния 51"/>
            <p:cNvSpPr/>
            <p:nvPr/>
          </p:nvSpPr>
          <p:spPr>
            <a:xfrm flipH="1">
              <a:off x="1511280" y="2946240"/>
              <a:ext cx="75960" cy="66600"/>
            </a:xfrm>
            <a:custGeom>
              <a:avLst/>
              <a:gdLst/>
              <a:ahLst/>
              <a:rect l="l" t="t" r="r" b="b"/>
              <a:pathLst>
                <a:path w="665598" h="456652">
                  <a:moveTo>
                    <a:pt x="488684" y="109842"/>
                  </a:moveTo>
                  <a:lnTo>
                    <a:pt x="0" y="123328"/>
                  </a:lnTo>
                  <a:lnTo>
                    <a:pt x="308923" y="456652"/>
                  </a:lnTo>
                  <a:cubicBezTo>
                    <a:pt x="116603" y="380462"/>
                    <a:pt x="665597" y="0"/>
                    <a:pt x="425106" y="6806"/>
                  </a:cubicBezTo>
                </a:path>
              </a:pathLst>
            </a:custGeom>
            <a:solidFill>
              <a:srgbClr val="8f4507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олилиния 52"/>
            <p:cNvSpPr/>
            <p:nvPr/>
          </p:nvSpPr>
          <p:spPr>
            <a:xfrm flipH="1">
              <a:off x="1637280" y="2165040"/>
              <a:ext cx="102960" cy="134640"/>
            </a:xfrm>
            <a:custGeom>
              <a:avLst/>
              <a:gdLst/>
              <a:ahLst/>
              <a:rect l="l" t="t" r="r" b="b"/>
              <a:pathLst>
                <a:path w="297834" h="384391">
                  <a:moveTo>
                    <a:pt x="111592" y="384391"/>
                  </a:moveTo>
                  <a:cubicBezTo>
                    <a:pt x="203898" y="293699"/>
                    <a:pt x="297834" y="165533"/>
                    <a:pt x="238138" y="79697"/>
                  </a:cubicBezTo>
                  <a:cubicBezTo>
                    <a:pt x="249461" y="6964"/>
                    <a:pt x="0" y="8259"/>
                    <a:pt x="3979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олилиния 53"/>
            <p:cNvSpPr/>
            <p:nvPr/>
          </p:nvSpPr>
          <p:spPr>
            <a:xfrm flipH="1">
              <a:off x="1473480" y="2204640"/>
              <a:ext cx="209520" cy="102960"/>
            </a:xfrm>
            <a:custGeom>
              <a:avLst/>
              <a:gdLst/>
              <a:ahLst/>
              <a:rect l="l" t="t" r="r" b="b"/>
              <a:pathLst>
                <a:path w="599336" h="293872">
                  <a:moveTo>
                    <a:pt x="599336" y="0"/>
                  </a:moveTo>
                  <a:cubicBezTo>
                    <a:pt x="418035" y="32191"/>
                    <a:pt x="304096" y="29003"/>
                    <a:pt x="203369" y="127386"/>
                  </a:cubicBezTo>
                  <a:cubicBezTo>
                    <a:pt x="99136" y="170209"/>
                    <a:pt x="75761" y="277010"/>
                    <a:pt x="0" y="29387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54"/>
            <p:cNvSpPr/>
            <p:nvPr/>
          </p:nvSpPr>
          <p:spPr>
            <a:xfrm flipH="1">
              <a:off x="1609560" y="2215800"/>
              <a:ext cx="36360" cy="23760"/>
            </a:xfrm>
            <a:custGeom>
              <a:avLst/>
              <a:gdLst/>
              <a:ahLst/>
              <a:rect l="l" t="t" r="r" b="b"/>
              <a:pathLst>
                <a:path w="310717" h="163102">
                  <a:moveTo>
                    <a:pt x="310717" y="108924"/>
                  </a:moveTo>
                  <a:cubicBezTo>
                    <a:pt x="176253" y="163102"/>
                    <a:pt x="134465" y="-1"/>
                    <a:pt x="0" y="30032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олилиния 55"/>
            <p:cNvSpPr/>
            <p:nvPr/>
          </p:nvSpPr>
          <p:spPr>
            <a:xfrm flipH="1">
              <a:off x="1926000" y="2097000"/>
              <a:ext cx="149040" cy="299880"/>
            </a:xfrm>
            <a:custGeom>
              <a:avLst/>
              <a:gdLst/>
              <a:ahLst/>
              <a:rect l="l" t="t" r="r" b="b"/>
              <a:pathLst>
                <a:path w="426255" h="862187">
                  <a:moveTo>
                    <a:pt x="377980" y="797062"/>
                  </a:moveTo>
                  <a:cubicBezTo>
                    <a:pt x="265932" y="855974"/>
                    <a:pt x="109973" y="862187"/>
                    <a:pt x="92546" y="758651"/>
                  </a:cubicBezTo>
                  <a:cubicBezTo>
                    <a:pt x="39950" y="589801"/>
                    <a:pt x="244946" y="246184"/>
                    <a:pt x="273416" y="175846"/>
                  </a:cubicBezTo>
                  <a:cubicBezTo>
                    <a:pt x="301886" y="105508"/>
                    <a:pt x="339569" y="368440"/>
                    <a:pt x="263369" y="336620"/>
                  </a:cubicBezTo>
                  <a:cubicBezTo>
                    <a:pt x="238247" y="378487"/>
                    <a:pt x="117667" y="470595"/>
                    <a:pt x="127714" y="306472"/>
                  </a:cubicBezTo>
                  <a:cubicBezTo>
                    <a:pt x="56538" y="230272"/>
                    <a:pt x="0" y="55989"/>
                    <a:pt x="343756" y="0"/>
                  </a:cubicBezTo>
                  <a:cubicBezTo>
                    <a:pt x="426255" y="4301"/>
                    <a:pt x="398694" y="90172"/>
                    <a:pt x="391594" y="91124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олилиния 56"/>
            <p:cNvSpPr/>
            <p:nvPr/>
          </p:nvSpPr>
          <p:spPr>
            <a:xfrm flipH="1">
              <a:off x="1930320" y="2195280"/>
              <a:ext cx="206280" cy="231480"/>
            </a:xfrm>
            <a:custGeom>
              <a:avLst/>
              <a:gdLst/>
              <a:ahLst/>
              <a:rect l="l" t="t" r="r" b="b"/>
              <a:pathLst>
                <a:path w="588995" h="663191">
                  <a:moveTo>
                    <a:pt x="588995" y="500636"/>
                  </a:moveTo>
                  <a:cubicBezTo>
                    <a:pt x="532369" y="589990"/>
                    <a:pt x="455647" y="609006"/>
                    <a:pt x="388973" y="663191"/>
                  </a:cubicBezTo>
                  <a:cubicBezTo>
                    <a:pt x="308585" y="604575"/>
                    <a:pt x="137763" y="651466"/>
                    <a:pt x="147810" y="487343"/>
                  </a:cubicBezTo>
                  <a:cubicBezTo>
                    <a:pt x="76634" y="411143"/>
                    <a:pt x="0" y="55989"/>
                    <a:pt x="343756" y="0"/>
                  </a:cubicBezTo>
                  <a:cubicBezTo>
                    <a:pt x="426255" y="4301"/>
                    <a:pt x="398694" y="90172"/>
                    <a:pt x="391594" y="91124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лилиния 57"/>
            <p:cNvSpPr/>
            <p:nvPr/>
          </p:nvSpPr>
          <p:spPr>
            <a:xfrm flipH="1">
              <a:off x="1954800" y="2219040"/>
              <a:ext cx="102960" cy="134640"/>
            </a:xfrm>
            <a:custGeom>
              <a:avLst/>
              <a:gdLst/>
              <a:ahLst/>
              <a:rect l="l" t="t" r="r" b="b"/>
              <a:pathLst>
                <a:path w="297834" h="384391">
                  <a:moveTo>
                    <a:pt x="111592" y="384391"/>
                  </a:moveTo>
                  <a:cubicBezTo>
                    <a:pt x="203898" y="293699"/>
                    <a:pt x="297834" y="165533"/>
                    <a:pt x="238138" y="79697"/>
                  </a:cubicBezTo>
                  <a:cubicBezTo>
                    <a:pt x="249461" y="6964"/>
                    <a:pt x="0" y="8259"/>
                    <a:pt x="3979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олилиния 58"/>
            <p:cNvSpPr/>
            <p:nvPr/>
          </p:nvSpPr>
          <p:spPr>
            <a:xfrm flipH="1">
              <a:off x="993960" y="2184120"/>
              <a:ext cx="595080" cy="109440"/>
            </a:xfrm>
            <a:custGeom>
              <a:avLst/>
              <a:gdLst/>
              <a:ahLst/>
              <a:rect l="l" t="t" r="r" b="b"/>
              <a:pathLst>
                <a:path w="1709679" h="315285">
                  <a:moveTo>
                    <a:pt x="1709679" y="315285"/>
                  </a:moveTo>
                  <a:cubicBezTo>
                    <a:pt x="1520749" y="222093"/>
                    <a:pt x="1467473" y="108805"/>
                    <a:pt x="1142890" y="35710"/>
                  </a:cubicBezTo>
                  <a:cubicBezTo>
                    <a:pt x="950454" y="0"/>
                    <a:pt x="663918" y="65856"/>
                    <a:pt x="524916" y="80929"/>
                  </a:cubicBezTo>
                  <a:cubicBezTo>
                    <a:pt x="385914" y="96002"/>
                    <a:pt x="401387" y="100075"/>
                    <a:pt x="308877" y="126148"/>
                  </a:cubicBezTo>
                  <a:cubicBezTo>
                    <a:pt x="204644" y="219213"/>
                    <a:pt x="75761" y="240603"/>
                    <a:pt x="0" y="257465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олилиния 59"/>
            <p:cNvSpPr/>
            <p:nvPr/>
          </p:nvSpPr>
          <p:spPr>
            <a:xfrm flipH="1">
              <a:off x="1454040" y="2309760"/>
              <a:ext cx="129960" cy="136440"/>
            </a:xfrm>
            <a:custGeom>
              <a:avLst/>
              <a:gdLst/>
              <a:ahLst/>
              <a:rect l="l" t="t" r="r" b="b"/>
              <a:pathLst>
                <a:path w="371087" h="394439">
                  <a:moveTo>
                    <a:pt x="371087" y="394439"/>
                  </a:moveTo>
                  <a:lnTo>
                    <a:pt x="55507" y="205299"/>
                  </a:lnTo>
                  <a:cubicBezTo>
                    <a:pt x="87572" y="273008"/>
                    <a:pt x="0" y="141529"/>
                    <a:pt x="93298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олилиния 60"/>
            <p:cNvSpPr/>
            <p:nvPr/>
          </p:nvSpPr>
          <p:spPr>
            <a:xfrm flipH="1">
              <a:off x="1557360" y="2292120"/>
              <a:ext cx="153720" cy="80640"/>
            </a:xfrm>
            <a:custGeom>
              <a:avLst/>
              <a:gdLst/>
              <a:ahLst/>
              <a:rect l="l" t="t" r="r" b="b"/>
              <a:pathLst>
                <a:path w="438231" h="231794">
                  <a:moveTo>
                    <a:pt x="433539" y="0"/>
                  </a:moveTo>
                  <a:cubicBezTo>
                    <a:pt x="380105" y="18719"/>
                    <a:pt x="226659" y="122062"/>
                    <a:pt x="218442" y="157528"/>
                  </a:cubicBezTo>
                  <a:cubicBezTo>
                    <a:pt x="210225" y="192994"/>
                    <a:pt x="438231" y="209332"/>
                    <a:pt x="384239" y="212797"/>
                  </a:cubicBezTo>
                  <a:cubicBezTo>
                    <a:pt x="254885" y="145088"/>
                    <a:pt x="55665" y="231794"/>
                    <a:pt x="0" y="133099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олилиния 61"/>
            <p:cNvSpPr/>
            <p:nvPr/>
          </p:nvSpPr>
          <p:spPr>
            <a:xfrm flipH="1">
              <a:off x="1908360" y="2498400"/>
              <a:ext cx="45720" cy="34920"/>
            </a:xfrm>
            <a:custGeom>
              <a:avLst/>
              <a:gdLst/>
              <a:ahLst/>
              <a:rect l="l" t="t" r="r" b="b"/>
              <a:pathLst>
                <a:path w="403394" h="247309">
                  <a:moveTo>
                    <a:pt x="403394" y="0"/>
                  </a:moveTo>
                  <a:cubicBezTo>
                    <a:pt x="268930" y="247309"/>
                    <a:pt x="134465" y="60065"/>
                    <a:pt x="0" y="9009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олилиния 62"/>
            <p:cNvSpPr/>
            <p:nvPr/>
          </p:nvSpPr>
          <p:spPr>
            <a:xfrm flipH="1">
              <a:off x="1789200" y="2376360"/>
              <a:ext cx="115560" cy="69840"/>
            </a:xfrm>
            <a:custGeom>
              <a:avLst/>
              <a:gdLst/>
              <a:ahLst/>
              <a:rect l="l" t="t" r="r" b="b"/>
              <a:pathLst>
                <a:path w="1021240" h="470478">
                  <a:moveTo>
                    <a:pt x="1021240" y="0"/>
                  </a:moveTo>
                  <a:lnTo>
                    <a:pt x="455320" y="230765"/>
                  </a:lnTo>
                  <a:cubicBezTo>
                    <a:pt x="541809" y="247310"/>
                    <a:pt x="216843" y="470477"/>
                    <a:pt x="0" y="379801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олилиния 63"/>
            <p:cNvSpPr/>
            <p:nvPr/>
          </p:nvSpPr>
          <p:spPr>
            <a:xfrm flipH="1">
              <a:off x="860760" y="2239920"/>
              <a:ext cx="630000" cy="1127160"/>
            </a:xfrm>
            <a:custGeom>
              <a:avLst/>
              <a:gdLst/>
              <a:ahLst/>
              <a:rect l="l" t="t" r="r" b="b"/>
              <a:pathLst>
                <a:path w="5545177" h="7755980">
                  <a:moveTo>
                    <a:pt x="1397428" y="366507"/>
                  </a:moveTo>
                  <a:cubicBezTo>
                    <a:pt x="1607759" y="256152"/>
                    <a:pt x="2227111" y="85337"/>
                    <a:pt x="2700493" y="102366"/>
                  </a:cubicBezTo>
                  <a:cubicBezTo>
                    <a:pt x="4215153" y="1"/>
                    <a:pt x="4277243" y="920476"/>
                    <a:pt x="4384135" y="1430160"/>
                  </a:cubicBezTo>
                  <a:cubicBezTo>
                    <a:pt x="4723953" y="1752049"/>
                    <a:pt x="4502562" y="2377721"/>
                    <a:pt x="4646726" y="2721740"/>
                  </a:cubicBezTo>
                  <a:cubicBezTo>
                    <a:pt x="4723958" y="2941027"/>
                    <a:pt x="4577218" y="2182575"/>
                    <a:pt x="4677617" y="2311331"/>
                  </a:cubicBezTo>
                  <a:cubicBezTo>
                    <a:pt x="4749699" y="2333461"/>
                    <a:pt x="5354677" y="2428017"/>
                    <a:pt x="5449927" y="2625174"/>
                  </a:cubicBezTo>
                  <a:cubicBezTo>
                    <a:pt x="5545177" y="2822331"/>
                    <a:pt x="5437047" y="3331320"/>
                    <a:pt x="5249118" y="3494276"/>
                  </a:cubicBezTo>
                  <a:cubicBezTo>
                    <a:pt x="5166738" y="3880543"/>
                    <a:pt x="4539830" y="3238078"/>
                    <a:pt x="5001982" y="3409778"/>
                  </a:cubicBezTo>
                  <a:cubicBezTo>
                    <a:pt x="4530875" y="2822330"/>
                    <a:pt x="4339028" y="2668742"/>
                    <a:pt x="4399578" y="3252858"/>
                  </a:cubicBezTo>
                  <a:cubicBezTo>
                    <a:pt x="4129271" y="3425874"/>
                    <a:pt x="3941352" y="4095806"/>
                    <a:pt x="3611835" y="4472014"/>
                  </a:cubicBezTo>
                  <a:cubicBezTo>
                    <a:pt x="3282318" y="4848222"/>
                    <a:pt x="2736551" y="5290820"/>
                    <a:pt x="2422478" y="5510106"/>
                  </a:cubicBezTo>
                  <a:cubicBezTo>
                    <a:pt x="2108405" y="5729392"/>
                    <a:pt x="2013150" y="5691167"/>
                    <a:pt x="1727396" y="5787733"/>
                  </a:cubicBezTo>
                  <a:cubicBezTo>
                    <a:pt x="1240844" y="5715305"/>
                    <a:pt x="983408" y="5930570"/>
                    <a:pt x="707951" y="6089503"/>
                  </a:cubicBezTo>
                  <a:cubicBezTo>
                    <a:pt x="316647" y="6284648"/>
                    <a:pt x="1" y="6509970"/>
                    <a:pt x="28318" y="6777541"/>
                  </a:cubicBezTo>
                  <a:cubicBezTo>
                    <a:pt x="56636" y="7045112"/>
                    <a:pt x="153122" y="7742516"/>
                    <a:pt x="877856" y="7694929"/>
                  </a:cubicBezTo>
                  <a:cubicBezTo>
                    <a:pt x="1170100" y="7755980"/>
                    <a:pt x="1865395" y="6937949"/>
                    <a:pt x="1828120" y="7047283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олилиния 64"/>
            <p:cNvSpPr/>
            <p:nvPr/>
          </p:nvSpPr>
          <p:spPr>
            <a:xfrm flipH="1">
              <a:off x="987840" y="2385720"/>
              <a:ext cx="366480" cy="442800"/>
            </a:xfrm>
            <a:custGeom>
              <a:avLst/>
              <a:gdLst/>
              <a:ahLst/>
              <a:rect l="l" t="t" r="r" b="b"/>
              <a:pathLst>
                <a:path w="3236422" h="3046034">
                  <a:moveTo>
                    <a:pt x="0" y="795257"/>
                  </a:moveTo>
                  <a:cubicBezTo>
                    <a:pt x="210331" y="684902"/>
                    <a:pt x="876020" y="188176"/>
                    <a:pt x="1349402" y="205205"/>
                  </a:cubicBezTo>
                  <a:cubicBezTo>
                    <a:pt x="1811146" y="193371"/>
                    <a:pt x="2613423" y="1"/>
                    <a:pt x="2832245" y="193134"/>
                  </a:cubicBezTo>
                  <a:cubicBezTo>
                    <a:pt x="3051068" y="386268"/>
                    <a:pt x="3236423" y="913364"/>
                    <a:pt x="2662337" y="1364006"/>
                  </a:cubicBezTo>
                  <a:cubicBezTo>
                    <a:pt x="2787248" y="2274040"/>
                    <a:pt x="1505740" y="2611115"/>
                    <a:pt x="940416" y="3046034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олилиния 65"/>
            <p:cNvSpPr/>
            <p:nvPr/>
          </p:nvSpPr>
          <p:spPr>
            <a:xfrm flipH="1">
              <a:off x="1322280" y="2331720"/>
              <a:ext cx="128520" cy="244440"/>
            </a:xfrm>
            <a:custGeom>
              <a:avLst/>
              <a:gdLst/>
              <a:ahLst/>
              <a:rect l="l" t="t" r="r" b="b"/>
              <a:pathLst>
                <a:path w="369323" h="702703">
                  <a:moveTo>
                    <a:pt x="197403" y="702703"/>
                  </a:moveTo>
                  <a:cubicBezTo>
                    <a:pt x="200072" y="626800"/>
                    <a:pt x="369009" y="266245"/>
                    <a:pt x="369166" y="151823"/>
                  </a:cubicBezTo>
                  <a:cubicBezTo>
                    <a:pt x="369323" y="37401"/>
                    <a:pt x="233914" y="55414"/>
                    <a:pt x="198345" y="16173"/>
                  </a:cubicBezTo>
                  <a:cubicBezTo>
                    <a:pt x="79039" y="3729"/>
                    <a:pt x="65714" y="0"/>
                    <a:pt x="0" y="1183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олилиния 66"/>
            <p:cNvSpPr/>
            <p:nvPr/>
          </p:nvSpPr>
          <p:spPr>
            <a:xfrm flipH="1">
              <a:off x="1200240" y="2288880"/>
              <a:ext cx="168120" cy="334800"/>
            </a:xfrm>
            <a:custGeom>
              <a:avLst/>
              <a:gdLst/>
              <a:ahLst/>
              <a:rect l="l" t="t" r="r" b="b"/>
              <a:pathLst>
                <a:path w="483401" h="957839">
                  <a:moveTo>
                    <a:pt x="286674" y="957839"/>
                  </a:moveTo>
                  <a:cubicBezTo>
                    <a:pt x="289343" y="881936"/>
                    <a:pt x="483401" y="526405"/>
                    <a:pt x="408195" y="411983"/>
                  </a:cubicBezTo>
                  <a:cubicBezTo>
                    <a:pt x="408352" y="297561"/>
                    <a:pt x="323185" y="310550"/>
                    <a:pt x="287616" y="271309"/>
                  </a:cubicBezTo>
                  <a:cubicBezTo>
                    <a:pt x="253284" y="232791"/>
                    <a:pt x="159500" y="290568"/>
                    <a:pt x="136891" y="246187"/>
                  </a:cubicBezTo>
                  <a:cubicBezTo>
                    <a:pt x="114282" y="201806"/>
                    <a:pt x="172060" y="10048"/>
                    <a:pt x="151963" y="5024"/>
                  </a:cubicBezTo>
                  <a:cubicBezTo>
                    <a:pt x="131866" y="0"/>
                    <a:pt x="32620" y="152288"/>
                    <a:pt x="16310" y="216043"/>
                  </a:cubicBezTo>
                  <a:cubicBezTo>
                    <a:pt x="0" y="279798"/>
                    <a:pt x="61201" y="364831"/>
                    <a:pt x="54102" y="387555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олилиния 67"/>
            <p:cNvSpPr/>
            <p:nvPr/>
          </p:nvSpPr>
          <p:spPr>
            <a:xfrm flipH="1">
              <a:off x="1329120" y="2303280"/>
              <a:ext cx="72720" cy="122040"/>
            </a:xfrm>
            <a:custGeom>
              <a:avLst/>
              <a:gdLst/>
              <a:ahLst/>
              <a:rect l="l" t="t" r="r" b="b"/>
              <a:pathLst>
                <a:path w="210042" h="349221">
                  <a:moveTo>
                    <a:pt x="166284" y="349221"/>
                  </a:moveTo>
                  <a:lnTo>
                    <a:pt x="11477" y="245492"/>
                  </a:lnTo>
                  <a:cubicBezTo>
                    <a:pt x="0" y="278032"/>
                    <a:pt x="125118" y="111383"/>
                    <a:pt x="21004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илиния 68"/>
            <p:cNvSpPr/>
            <p:nvPr/>
          </p:nvSpPr>
          <p:spPr>
            <a:xfrm flipH="1">
              <a:off x="1019520" y="2161800"/>
              <a:ext cx="374400" cy="341280"/>
            </a:xfrm>
            <a:custGeom>
              <a:avLst/>
              <a:gdLst/>
              <a:ahLst/>
              <a:rect l="l" t="t" r="r" b="b"/>
              <a:pathLst>
                <a:path w="1070320" h="977243">
                  <a:moveTo>
                    <a:pt x="995846" y="977243"/>
                  </a:moveTo>
                  <a:cubicBezTo>
                    <a:pt x="965021" y="957443"/>
                    <a:pt x="1070320" y="802041"/>
                    <a:pt x="1001813" y="687619"/>
                  </a:cubicBezTo>
                  <a:cubicBezTo>
                    <a:pt x="958427" y="357158"/>
                    <a:pt x="854001" y="298133"/>
                    <a:pt x="584807" y="290713"/>
                  </a:cubicBezTo>
                  <a:cubicBezTo>
                    <a:pt x="596130" y="217980"/>
                    <a:pt x="0" y="8259"/>
                    <a:pt x="3979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илиния 69"/>
            <p:cNvSpPr/>
            <p:nvPr/>
          </p:nvSpPr>
          <p:spPr>
            <a:xfrm flipH="1">
              <a:off x="1042920" y="2253960"/>
              <a:ext cx="153720" cy="139680"/>
            </a:xfrm>
            <a:custGeom>
              <a:avLst/>
              <a:gdLst/>
              <a:ahLst/>
              <a:rect l="l" t="t" r="r" b="b"/>
              <a:pathLst>
                <a:path w="440380" h="399463">
                  <a:moveTo>
                    <a:pt x="418066" y="399463"/>
                  </a:moveTo>
                  <a:lnTo>
                    <a:pt x="424033" y="391197"/>
                  </a:lnTo>
                  <a:cubicBezTo>
                    <a:pt x="440380" y="157690"/>
                    <a:pt x="0" y="8259"/>
                    <a:pt x="3979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олилиния 70"/>
            <p:cNvSpPr/>
            <p:nvPr/>
          </p:nvSpPr>
          <p:spPr>
            <a:xfrm flipH="1">
              <a:off x="1041480" y="2296800"/>
              <a:ext cx="153720" cy="139680"/>
            </a:xfrm>
            <a:custGeom>
              <a:avLst/>
              <a:gdLst/>
              <a:ahLst/>
              <a:rect l="l" t="t" r="r" b="b"/>
              <a:pathLst>
                <a:path w="440380" h="399463">
                  <a:moveTo>
                    <a:pt x="418066" y="399463"/>
                  </a:moveTo>
                  <a:lnTo>
                    <a:pt x="424033" y="391197"/>
                  </a:lnTo>
                  <a:cubicBezTo>
                    <a:pt x="440380" y="157690"/>
                    <a:pt x="0" y="8259"/>
                    <a:pt x="3979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олилиния 71"/>
            <p:cNvSpPr/>
            <p:nvPr/>
          </p:nvSpPr>
          <p:spPr>
            <a:xfrm flipH="1">
              <a:off x="1020600" y="2349360"/>
              <a:ext cx="174600" cy="257040"/>
            </a:xfrm>
            <a:custGeom>
              <a:avLst/>
              <a:gdLst/>
              <a:ahLst/>
              <a:rect l="l" t="t" r="r" b="b"/>
              <a:pathLst>
                <a:path w="499795" h="737865">
                  <a:moveTo>
                    <a:pt x="378272" y="399463"/>
                  </a:moveTo>
                  <a:lnTo>
                    <a:pt x="499795" y="737865"/>
                  </a:lnTo>
                  <a:cubicBezTo>
                    <a:pt x="488229" y="733137"/>
                    <a:pt x="402223" y="398612"/>
                    <a:pt x="318924" y="275634"/>
                  </a:cubicBezTo>
                  <a:cubicBezTo>
                    <a:pt x="235625" y="152656"/>
                    <a:pt x="51479" y="61849"/>
                    <a:pt x="0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олилиния 72"/>
            <p:cNvSpPr/>
            <p:nvPr/>
          </p:nvSpPr>
          <p:spPr>
            <a:xfrm flipH="1">
              <a:off x="762120" y="2585880"/>
              <a:ext cx="301320" cy="576360"/>
            </a:xfrm>
            <a:custGeom>
              <a:avLst/>
              <a:gdLst/>
              <a:ahLst/>
              <a:rect l="l" t="t" r="r" b="b"/>
              <a:pathLst>
                <a:path w="862374" h="1652260">
                  <a:moveTo>
                    <a:pt x="227547" y="329125"/>
                  </a:moveTo>
                  <a:cubicBezTo>
                    <a:pt x="378586" y="391682"/>
                    <a:pt x="439191" y="514528"/>
                    <a:pt x="545013" y="607230"/>
                  </a:cubicBezTo>
                  <a:cubicBezTo>
                    <a:pt x="573484" y="675894"/>
                    <a:pt x="491422" y="744558"/>
                    <a:pt x="464627" y="813222"/>
                  </a:cubicBezTo>
                  <a:lnTo>
                    <a:pt x="158152" y="1074479"/>
                  </a:lnTo>
                  <a:lnTo>
                    <a:pt x="158152" y="1335736"/>
                  </a:lnTo>
                  <a:cubicBezTo>
                    <a:pt x="251936" y="1360859"/>
                    <a:pt x="315576" y="1506562"/>
                    <a:pt x="439505" y="1411105"/>
                  </a:cubicBezTo>
                  <a:cubicBezTo>
                    <a:pt x="383402" y="1489817"/>
                    <a:pt x="458765" y="1652260"/>
                    <a:pt x="509844" y="1642211"/>
                  </a:cubicBezTo>
                  <a:cubicBezTo>
                    <a:pt x="560923" y="1632162"/>
                    <a:pt x="699925" y="1460504"/>
                    <a:pt x="745980" y="1350809"/>
                  </a:cubicBezTo>
                  <a:cubicBezTo>
                    <a:pt x="694064" y="1213480"/>
                    <a:pt x="862374" y="1027587"/>
                    <a:pt x="791198" y="848391"/>
                  </a:cubicBezTo>
                  <a:cubicBezTo>
                    <a:pt x="720022" y="669195"/>
                    <a:pt x="450790" y="417033"/>
                    <a:pt x="318924" y="275634"/>
                  </a:cubicBezTo>
                  <a:cubicBezTo>
                    <a:pt x="187058" y="134235"/>
                    <a:pt x="51479" y="61849"/>
                    <a:pt x="0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олилиния 73"/>
            <p:cNvSpPr/>
            <p:nvPr/>
          </p:nvSpPr>
          <p:spPr>
            <a:xfrm flipH="1">
              <a:off x="807840" y="2992320"/>
              <a:ext cx="83880" cy="68040"/>
            </a:xfrm>
            <a:custGeom>
              <a:avLst/>
              <a:gdLst/>
              <a:ahLst/>
              <a:rect l="l" t="t" r="r" b="b"/>
              <a:pathLst>
                <a:path w="742608" h="478649">
                  <a:moveTo>
                    <a:pt x="742608" y="272027"/>
                  </a:moveTo>
                  <a:lnTo>
                    <a:pt x="392935" y="430365"/>
                  </a:lnTo>
                  <a:cubicBezTo>
                    <a:pt x="269367" y="478649"/>
                    <a:pt x="145797" y="382082"/>
                    <a:pt x="22228" y="357940"/>
                  </a:cubicBezTo>
                  <a:cubicBezTo>
                    <a:pt x="108717" y="374485"/>
                    <a:pt x="0" y="114821"/>
                    <a:pt x="92078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олилиния 74"/>
            <p:cNvSpPr/>
            <p:nvPr/>
          </p:nvSpPr>
          <p:spPr>
            <a:xfrm flipH="1">
              <a:off x="1020960" y="2609640"/>
              <a:ext cx="350640" cy="1035000"/>
            </a:xfrm>
            <a:custGeom>
              <a:avLst/>
              <a:gdLst/>
              <a:ahLst/>
              <a:rect l="l" t="t" r="r" b="b"/>
              <a:pathLst>
                <a:path w="1004539" h="2966817">
                  <a:moveTo>
                    <a:pt x="0" y="2966817"/>
                  </a:moveTo>
                  <a:cubicBezTo>
                    <a:pt x="6019" y="2925246"/>
                    <a:pt x="168260" y="2899636"/>
                    <a:pt x="201912" y="2652073"/>
                  </a:cubicBezTo>
                  <a:cubicBezTo>
                    <a:pt x="235564" y="2552724"/>
                    <a:pt x="287323" y="2565825"/>
                    <a:pt x="287323" y="2370720"/>
                  </a:cubicBezTo>
                  <a:cubicBezTo>
                    <a:pt x="293185" y="2264375"/>
                    <a:pt x="96405" y="2114487"/>
                    <a:pt x="86356" y="1968786"/>
                  </a:cubicBezTo>
                  <a:cubicBezTo>
                    <a:pt x="76307" y="1823085"/>
                    <a:pt x="137434" y="1579413"/>
                    <a:pt x="227031" y="1496514"/>
                  </a:cubicBezTo>
                  <a:cubicBezTo>
                    <a:pt x="311604" y="1488978"/>
                    <a:pt x="232058" y="1512424"/>
                    <a:pt x="322493" y="1471393"/>
                  </a:cubicBezTo>
                  <a:cubicBezTo>
                    <a:pt x="355988" y="1463857"/>
                    <a:pt x="353476" y="1513261"/>
                    <a:pt x="428000" y="1476417"/>
                  </a:cubicBezTo>
                  <a:cubicBezTo>
                    <a:pt x="502524" y="1439573"/>
                    <a:pt x="674180" y="1427013"/>
                    <a:pt x="769639" y="1250330"/>
                  </a:cubicBezTo>
                  <a:cubicBezTo>
                    <a:pt x="933919" y="1010305"/>
                    <a:pt x="996965" y="599584"/>
                    <a:pt x="1000752" y="391196"/>
                  </a:cubicBezTo>
                  <a:cubicBezTo>
                    <a:pt x="1004539" y="182808"/>
                    <a:pt x="978654" y="128839"/>
                    <a:pt x="792359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олилиния 75"/>
            <p:cNvSpPr/>
            <p:nvPr/>
          </p:nvSpPr>
          <p:spPr>
            <a:xfrm flipH="1">
              <a:off x="1441440" y="3152880"/>
              <a:ext cx="45720" cy="183960"/>
            </a:xfrm>
            <a:custGeom>
              <a:avLst/>
              <a:gdLst/>
              <a:ahLst/>
              <a:rect l="l" t="t" r="r" b="b"/>
              <a:pathLst>
                <a:path w="401600" h="1268853">
                  <a:moveTo>
                    <a:pt x="287891" y="0"/>
                  </a:moveTo>
                  <a:lnTo>
                    <a:pt x="0" y="641170"/>
                  </a:lnTo>
                  <a:lnTo>
                    <a:pt x="401600" y="1268853"/>
                  </a:lnTo>
                  <a:lnTo>
                    <a:pt x="363330" y="5600"/>
                  </a:lnTo>
                </a:path>
              </a:pathLst>
            </a:custGeom>
            <a:solidFill>
              <a:srgbClr val="8f4507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олилиния 76"/>
            <p:cNvSpPr/>
            <p:nvPr/>
          </p:nvSpPr>
          <p:spPr>
            <a:xfrm flipH="1">
              <a:off x="1361880" y="3102120"/>
              <a:ext cx="34920" cy="50760"/>
            </a:xfrm>
            <a:custGeom>
              <a:avLst/>
              <a:gdLst/>
              <a:ahLst/>
              <a:rect l="l" t="t" r="r" b="b"/>
              <a:pathLst>
                <a:path w="309518" h="344454">
                  <a:moveTo>
                    <a:pt x="309518" y="344454"/>
                  </a:moveTo>
                  <a:cubicBezTo>
                    <a:pt x="0" y="289991"/>
                    <a:pt x="153861" y="114818"/>
                    <a:pt x="7603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олилиния 77"/>
            <p:cNvSpPr/>
            <p:nvPr/>
          </p:nvSpPr>
          <p:spPr>
            <a:xfrm flipH="1">
              <a:off x="1173600" y="3130560"/>
              <a:ext cx="64800" cy="147600"/>
            </a:xfrm>
            <a:custGeom>
              <a:avLst/>
              <a:gdLst/>
              <a:ahLst/>
              <a:rect l="l" t="t" r="r" b="b"/>
              <a:pathLst>
                <a:path w="188539" h="421349">
                  <a:moveTo>
                    <a:pt x="31604" y="421349"/>
                  </a:moveTo>
                  <a:cubicBezTo>
                    <a:pt x="176874" y="317888"/>
                    <a:pt x="188539" y="174024"/>
                    <a:pt x="133030" y="76464"/>
                  </a:cubicBezTo>
                  <a:cubicBezTo>
                    <a:pt x="68990" y="28851"/>
                    <a:pt x="65714" y="0"/>
                    <a:pt x="0" y="1183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олилиния 78"/>
            <p:cNvSpPr/>
            <p:nvPr/>
          </p:nvSpPr>
          <p:spPr>
            <a:xfrm flipH="1">
              <a:off x="1092240" y="3087720"/>
              <a:ext cx="23760" cy="126720"/>
            </a:xfrm>
            <a:custGeom>
              <a:avLst/>
              <a:gdLst/>
              <a:ahLst/>
              <a:rect l="l" t="t" r="r" b="b"/>
              <a:pathLst>
                <a:path w="69307" h="364294">
                  <a:moveTo>
                    <a:pt x="32953" y="364294"/>
                  </a:moveTo>
                  <a:cubicBezTo>
                    <a:pt x="21009" y="287000"/>
                    <a:pt x="69307" y="203217"/>
                    <a:pt x="64040" y="134965"/>
                  </a:cubicBezTo>
                  <a:cubicBezTo>
                    <a:pt x="0" y="87352"/>
                    <a:pt x="67063" y="58500"/>
                    <a:pt x="4154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олилиния 79"/>
            <p:cNvSpPr/>
            <p:nvPr/>
          </p:nvSpPr>
          <p:spPr>
            <a:xfrm flipH="1">
              <a:off x="867240" y="3070080"/>
              <a:ext cx="288720" cy="569880"/>
            </a:xfrm>
            <a:custGeom>
              <a:avLst/>
              <a:gdLst/>
              <a:ahLst/>
              <a:rect l="l" t="t" r="r" b="b"/>
              <a:pathLst>
                <a:path w="827312" h="1634970">
                  <a:moveTo>
                    <a:pt x="702440" y="1087776"/>
                  </a:moveTo>
                  <a:cubicBezTo>
                    <a:pt x="702598" y="1089747"/>
                    <a:pt x="529055" y="1468580"/>
                    <a:pt x="437103" y="1551775"/>
                  </a:cubicBezTo>
                  <a:cubicBezTo>
                    <a:pt x="345151" y="1634970"/>
                    <a:pt x="215202" y="1602016"/>
                    <a:pt x="150725" y="1586944"/>
                  </a:cubicBezTo>
                  <a:cubicBezTo>
                    <a:pt x="86248" y="1571872"/>
                    <a:pt x="72013" y="1531678"/>
                    <a:pt x="50242" y="1461340"/>
                  </a:cubicBezTo>
                  <a:cubicBezTo>
                    <a:pt x="28471" y="1391002"/>
                    <a:pt x="0" y="1204270"/>
                    <a:pt x="20097" y="1164914"/>
                  </a:cubicBezTo>
                  <a:cubicBezTo>
                    <a:pt x="40194" y="1125558"/>
                    <a:pt x="127279" y="1206781"/>
                    <a:pt x="170822" y="1225203"/>
                  </a:cubicBezTo>
                  <a:cubicBezTo>
                    <a:pt x="214365" y="1243625"/>
                    <a:pt x="252884" y="1272096"/>
                    <a:pt x="281354" y="1275445"/>
                  </a:cubicBezTo>
                  <a:cubicBezTo>
                    <a:pt x="309824" y="1278795"/>
                    <a:pt x="355879" y="1268746"/>
                    <a:pt x="341644" y="1245300"/>
                  </a:cubicBezTo>
                  <a:cubicBezTo>
                    <a:pt x="327409" y="1221854"/>
                    <a:pt x="210178" y="1142304"/>
                    <a:pt x="195943" y="1134768"/>
                  </a:cubicBezTo>
                  <a:cubicBezTo>
                    <a:pt x="181708" y="1127232"/>
                    <a:pt x="253721" y="1221017"/>
                    <a:pt x="256233" y="1200083"/>
                  </a:cubicBezTo>
                  <a:cubicBezTo>
                    <a:pt x="258745" y="1179149"/>
                    <a:pt x="251208" y="1023399"/>
                    <a:pt x="211015" y="1009164"/>
                  </a:cubicBezTo>
                  <a:cubicBezTo>
                    <a:pt x="170822" y="994929"/>
                    <a:pt x="25121" y="1097087"/>
                    <a:pt x="15073" y="1114672"/>
                  </a:cubicBezTo>
                  <a:cubicBezTo>
                    <a:pt x="5025" y="1132257"/>
                    <a:pt x="128116" y="1138118"/>
                    <a:pt x="150725" y="1114672"/>
                  </a:cubicBezTo>
                  <a:cubicBezTo>
                    <a:pt x="173334" y="1091226"/>
                    <a:pt x="145700" y="1018374"/>
                    <a:pt x="150724" y="973994"/>
                  </a:cubicBezTo>
                  <a:cubicBezTo>
                    <a:pt x="180189" y="926560"/>
                    <a:pt x="118905" y="823270"/>
                    <a:pt x="140677" y="788101"/>
                  </a:cubicBezTo>
                  <a:cubicBezTo>
                    <a:pt x="162449" y="752932"/>
                    <a:pt x="269631" y="747069"/>
                    <a:pt x="281354" y="762979"/>
                  </a:cubicBezTo>
                  <a:cubicBezTo>
                    <a:pt x="298101" y="750419"/>
                    <a:pt x="311498" y="876862"/>
                    <a:pt x="296426" y="913706"/>
                  </a:cubicBezTo>
                  <a:cubicBezTo>
                    <a:pt x="281354" y="950550"/>
                    <a:pt x="179196" y="940500"/>
                    <a:pt x="190919" y="984043"/>
                  </a:cubicBezTo>
                  <a:cubicBezTo>
                    <a:pt x="202642" y="1027586"/>
                    <a:pt x="307312" y="1169101"/>
                    <a:pt x="366764" y="1174962"/>
                  </a:cubicBezTo>
                  <a:cubicBezTo>
                    <a:pt x="426216" y="1180823"/>
                    <a:pt x="533399" y="1090388"/>
                    <a:pt x="547634" y="1019212"/>
                  </a:cubicBezTo>
                  <a:cubicBezTo>
                    <a:pt x="561869" y="948036"/>
                    <a:pt x="481483" y="788939"/>
                    <a:pt x="452175" y="747908"/>
                  </a:cubicBezTo>
                  <a:cubicBezTo>
                    <a:pt x="422867" y="706877"/>
                    <a:pt x="347505" y="721948"/>
                    <a:pt x="371788" y="773027"/>
                  </a:cubicBezTo>
                  <a:cubicBezTo>
                    <a:pt x="396071" y="824106"/>
                    <a:pt x="582803" y="1060245"/>
                    <a:pt x="597875" y="1054383"/>
                  </a:cubicBezTo>
                  <a:cubicBezTo>
                    <a:pt x="613942" y="1043793"/>
                    <a:pt x="676587" y="1013351"/>
                    <a:pt x="708407" y="958922"/>
                  </a:cubicBezTo>
                  <a:cubicBezTo>
                    <a:pt x="740227" y="904493"/>
                    <a:pt x="827312" y="814059"/>
                    <a:pt x="788794" y="727811"/>
                  </a:cubicBezTo>
                  <a:cubicBezTo>
                    <a:pt x="750276" y="641563"/>
                    <a:pt x="563545" y="497536"/>
                    <a:pt x="477296" y="441433"/>
                  </a:cubicBezTo>
                  <a:cubicBezTo>
                    <a:pt x="391047" y="385330"/>
                    <a:pt x="295987" y="478166"/>
                    <a:pt x="271303" y="391196"/>
                  </a:cubicBezTo>
                  <a:cubicBezTo>
                    <a:pt x="282626" y="318463"/>
                    <a:pt x="203986" y="8259"/>
                    <a:pt x="243780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олилиния 80"/>
            <p:cNvSpPr/>
            <p:nvPr/>
          </p:nvSpPr>
          <p:spPr>
            <a:xfrm flipH="1">
              <a:off x="1069920" y="3498840"/>
              <a:ext cx="106200" cy="136440"/>
            </a:xfrm>
            <a:custGeom>
              <a:avLst/>
              <a:gdLst/>
              <a:ahLst/>
              <a:rect l="l" t="t" r="r" b="b"/>
              <a:pathLst>
                <a:path w="305532" h="391460">
                  <a:moveTo>
                    <a:pt x="305532" y="379366"/>
                  </a:moveTo>
                  <a:cubicBezTo>
                    <a:pt x="53892" y="391460"/>
                    <a:pt x="55509" y="302862"/>
                    <a:pt x="0" y="205302"/>
                  </a:cubicBezTo>
                  <a:cubicBezTo>
                    <a:pt x="11323" y="132569"/>
                    <a:pt x="63312" y="8259"/>
                    <a:pt x="103106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олилиния 81"/>
            <p:cNvSpPr/>
            <p:nvPr/>
          </p:nvSpPr>
          <p:spPr>
            <a:xfrm flipH="1">
              <a:off x="1285920" y="3422880"/>
              <a:ext cx="83880" cy="156960"/>
            </a:xfrm>
            <a:custGeom>
              <a:avLst/>
              <a:gdLst/>
              <a:ahLst/>
              <a:rect l="l" t="t" r="r" b="b"/>
              <a:pathLst>
                <a:path w="240655" h="449705">
                  <a:moveTo>
                    <a:pt x="240655" y="449705"/>
                  </a:moveTo>
                  <a:cubicBezTo>
                    <a:pt x="175498" y="418182"/>
                    <a:pt x="99928" y="443650"/>
                    <a:pt x="60729" y="401241"/>
                  </a:cubicBezTo>
                  <a:cubicBezTo>
                    <a:pt x="21530" y="358832"/>
                    <a:pt x="0" y="249566"/>
                    <a:pt x="5461" y="195253"/>
                  </a:cubicBezTo>
                  <a:cubicBezTo>
                    <a:pt x="16784" y="122520"/>
                    <a:pt x="108967" y="8259"/>
                    <a:pt x="148761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олилиния 82"/>
            <p:cNvSpPr/>
            <p:nvPr/>
          </p:nvSpPr>
          <p:spPr>
            <a:xfrm flipH="1">
              <a:off x="1368720" y="3344760"/>
              <a:ext cx="255600" cy="614160"/>
            </a:xfrm>
            <a:custGeom>
              <a:avLst/>
              <a:gdLst/>
              <a:ahLst/>
              <a:rect l="l" t="t" r="r" b="b"/>
              <a:pathLst>
                <a:path w="733968" h="1759558">
                  <a:moveTo>
                    <a:pt x="215534" y="516810"/>
                  </a:moveTo>
                  <a:cubicBezTo>
                    <a:pt x="207318" y="516269"/>
                    <a:pt x="197061" y="695810"/>
                    <a:pt x="171260" y="689407"/>
                  </a:cubicBezTo>
                  <a:cubicBezTo>
                    <a:pt x="145459" y="683004"/>
                    <a:pt x="64077" y="466669"/>
                    <a:pt x="60728" y="478392"/>
                  </a:cubicBezTo>
                  <a:cubicBezTo>
                    <a:pt x="57379" y="490115"/>
                    <a:pt x="105946" y="664287"/>
                    <a:pt x="151164" y="759746"/>
                  </a:cubicBezTo>
                  <a:cubicBezTo>
                    <a:pt x="196382" y="855205"/>
                    <a:pt x="284304" y="914659"/>
                    <a:pt x="332034" y="1051149"/>
                  </a:cubicBezTo>
                  <a:cubicBezTo>
                    <a:pt x="379921" y="1163652"/>
                    <a:pt x="398185" y="1437173"/>
                    <a:pt x="437541" y="1538494"/>
                  </a:cubicBezTo>
                  <a:cubicBezTo>
                    <a:pt x="517090" y="1539331"/>
                    <a:pt x="559797" y="1759558"/>
                    <a:pt x="568170" y="1659074"/>
                  </a:cubicBezTo>
                  <a:lnTo>
                    <a:pt x="548073" y="975786"/>
                  </a:lnTo>
                  <a:lnTo>
                    <a:pt x="733968" y="975786"/>
                  </a:lnTo>
                  <a:lnTo>
                    <a:pt x="533000" y="940616"/>
                  </a:lnTo>
                  <a:cubicBezTo>
                    <a:pt x="483753" y="921653"/>
                    <a:pt x="463500" y="898750"/>
                    <a:pt x="452614" y="870280"/>
                  </a:cubicBezTo>
                  <a:cubicBezTo>
                    <a:pt x="441728" y="841810"/>
                    <a:pt x="514578" y="808315"/>
                    <a:pt x="467686" y="769796"/>
                  </a:cubicBezTo>
                  <a:cubicBezTo>
                    <a:pt x="379083" y="898208"/>
                    <a:pt x="252484" y="645866"/>
                    <a:pt x="236574" y="624095"/>
                  </a:cubicBezTo>
                  <a:cubicBezTo>
                    <a:pt x="220664" y="602324"/>
                    <a:pt x="354642" y="652565"/>
                    <a:pt x="372227" y="639167"/>
                  </a:cubicBezTo>
                  <a:cubicBezTo>
                    <a:pt x="389812" y="625769"/>
                    <a:pt x="368040" y="562130"/>
                    <a:pt x="342082" y="543708"/>
                  </a:cubicBezTo>
                  <a:cubicBezTo>
                    <a:pt x="316281" y="534793"/>
                    <a:pt x="229038" y="588088"/>
                    <a:pt x="221502" y="518587"/>
                  </a:cubicBezTo>
                  <a:cubicBezTo>
                    <a:pt x="208104" y="485092"/>
                    <a:pt x="198893" y="377908"/>
                    <a:pt x="211453" y="312594"/>
                  </a:cubicBezTo>
                  <a:cubicBezTo>
                    <a:pt x="224013" y="247280"/>
                    <a:pt x="310262" y="147635"/>
                    <a:pt x="296864" y="126701"/>
                  </a:cubicBezTo>
                  <a:cubicBezTo>
                    <a:pt x="283466" y="105767"/>
                    <a:pt x="170423" y="135073"/>
                    <a:pt x="131067" y="186990"/>
                  </a:cubicBezTo>
                  <a:cubicBezTo>
                    <a:pt x="91711" y="238907"/>
                    <a:pt x="81663" y="430663"/>
                    <a:pt x="60729" y="438200"/>
                  </a:cubicBezTo>
                  <a:cubicBezTo>
                    <a:pt x="39795" y="445737"/>
                    <a:pt x="0" y="286525"/>
                    <a:pt x="5461" y="232212"/>
                  </a:cubicBezTo>
                  <a:cubicBezTo>
                    <a:pt x="16784" y="159479"/>
                    <a:pt x="88870" y="0"/>
                    <a:pt x="359776" y="47007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олилиния 83"/>
            <p:cNvSpPr/>
            <p:nvPr/>
          </p:nvSpPr>
          <p:spPr>
            <a:xfrm flipH="1">
              <a:off x="1361880" y="3502080"/>
              <a:ext cx="236520" cy="458640"/>
            </a:xfrm>
            <a:custGeom>
              <a:avLst/>
              <a:gdLst/>
              <a:ahLst/>
              <a:rect l="l" t="t" r="r" b="b"/>
              <a:pathLst>
                <a:path w="676589" h="1314543">
                  <a:moveTo>
                    <a:pt x="158155" y="71795"/>
                  </a:moveTo>
                  <a:cubicBezTo>
                    <a:pt x="149939" y="71254"/>
                    <a:pt x="139682" y="250795"/>
                    <a:pt x="113881" y="244392"/>
                  </a:cubicBezTo>
                  <a:cubicBezTo>
                    <a:pt x="88080" y="237989"/>
                    <a:pt x="6698" y="21654"/>
                    <a:pt x="3349" y="33377"/>
                  </a:cubicBezTo>
                  <a:cubicBezTo>
                    <a:pt x="0" y="45100"/>
                    <a:pt x="48567" y="219272"/>
                    <a:pt x="93785" y="314731"/>
                  </a:cubicBezTo>
                  <a:cubicBezTo>
                    <a:pt x="139003" y="410190"/>
                    <a:pt x="226925" y="469644"/>
                    <a:pt x="274655" y="606134"/>
                  </a:cubicBezTo>
                  <a:cubicBezTo>
                    <a:pt x="322542" y="718637"/>
                    <a:pt x="340806" y="992158"/>
                    <a:pt x="380162" y="1093479"/>
                  </a:cubicBezTo>
                  <a:cubicBezTo>
                    <a:pt x="459711" y="1094316"/>
                    <a:pt x="502418" y="1314543"/>
                    <a:pt x="510791" y="1214059"/>
                  </a:cubicBezTo>
                  <a:lnTo>
                    <a:pt x="490694" y="530771"/>
                  </a:lnTo>
                  <a:lnTo>
                    <a:pt x="676589" y="530771"/>
                  </a:lnTo>
                  <a:lnTo>
                    <a:pt x="475621" y="495601"/>
                  </a:lnTo>
                  <a:cubicBezTo>
                    <a:pt x="426374" y="476638"/>
                    <a:pt x="406121" y="453735"/>
                    <a:pt x="395235" y="425265"/>
                  </a:cubicBezTo>
                  <a:cubicBezTo>
                    <a:pt x="384349" y="396795"/>
                    <a:pt x="457199" y="363300"/>
                    <a:pt x="410307" y="324781"/>
                  </a:cubicBezTo>
                  <a:cubicBezTo>
                    <a:pt x="321704" y="453193"/>
                    <a:pt x="195105" y="200851"/>
                    <a:pt x="179195" y="179080"/>
                  </a:cubicBezTo>
                  <a:cubicBezTo>
                    <a:pt x="163285" y="157309"/>
                    <a:pt x="297263" y="207550"/>
                    <a:pt x="314848" y="194152"/>
                  </a:cubicBezTo>
                  <a:cubicBezTo>
                    <a:pt x="332433" y="180754"/>
                    <a:pt x="310661" y="117115"/>
                    <a:pt x="284703" y="98693"/>
                  </a:cubicBezTo>
                  <a:cubicBezTo>
                    <a:pt x="282628" y="0"/>
                    <a:pt x="153010" y="172720"/>
                    <a:pt x="156696" y="69241"/>
                  </a:cubicBezTo>
                </a:path>
              </a:pathLst>
            </a:custGeom>
            <a:solidFill>
              <a:srgbClr val="462300"/>
            </a:solidFill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олилиния 84"/>
            <p:cNvSpPr/>
            <p:nvPr/>
          </p:nvSpPr>
          <p:spPr>
            <a:xfrm flipH="1">
              <a:off x="1227600" y="3530520"/>
              <a:ext cx="382320" cy="210960"/>
            </a:xfrm>
            <a:custGeom>
              <a:avLst/>
              <a:gdLst/>
              <a:ahLst/>
              <a:rect l="l" t="t" r="r" b="b"/>
              <a:pathLst>
                <a:path w="1093055" h="606651">
                  <a:moveTo>
                    <a:pt x="1093055" y="0"/>
                  </a:moveTo>
                  <a:cubicBezTo>
                    <a:pt x="1077302" y="32116"/>
                    <a:pt x="1007591" y="68472"/>
                    <a:pt x="948295" y="167577"/>
                  </a:cubicBezTo>
                  <a:cubicBezTo>
                    <a:pt x="944265" y="337020"/>
                    <a:pt x="882143" y="567835"/>
                    <a:pt x="737279" y="594631"/>
                  </a:cubicBezTo>
                  <a:cubicBezTo>
                    <a:pt x="506324" y="606651"/>
                    <a:pt x="216003" y="393552"/>
                    <a:pt x="129354" y="353474"/>
                  </a:cubicBezTo>
                  <a:cubicBezTo>
                    <a:pt x="0" y="285765"/>
                    <a:pt x="6771" y="216720"/>
                    <a:pt x="26469" y="37639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лилиния 85"/>
            <p:cNvSpPr/>
            <p:nvPr/>
          </p:nvSpPr>
          <p:spPr>
            <a:xfrm flipH="1">
              <a:off x="1284840" y="3272040"/>
              <a:ext cx="142560" cy="296640"/>
            </a:xfrm>
            <a:custGeom>
              <a:avLst/>
              <a:gdLst/>
              <a:ahLst/>
              <a:rect l="l" t="t" r="r" b="b"/>
              <a:pathLst>
                <a:path w="409324" h="853995">
                  <a:moveTo>
                    <a:pt x="383080" y="853995"/>
                  </a:moveTo>
                  <a:cubicBezTo>
                    <a:pt x="381599" y="808978"/>
                    <a:pt x="409324" y="662703"/>
                    <a:pt x="404336" y="563798"/>
                  </a:cubicBezTo>
                  <a:cubicBezTo>
                    <a:pt x="258671" y="454845"/>
                    <a:pt x="406305" y="354236"/>
                    <a:pt x="353151" y="260567"/>
                  </a:cubicBezTo>
                  <a:cubicBezTo>
                    <a:pt x="151725" y="201229"/>
                    <a:pt x="315853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олилиния 86"/>
            <p:cNvSpPr/>
            <p:nvPr/>
          </p:nvSpPr>
          <p:spPr>
            <a:xfrm flipH="1">
              <a:off x="1324080" y="3481560"/>
              <a:ext cx="114120" cy="142560"/>
            </a:xfrm>
            <a:custGeom>
              <a:avLst/>
              <a:gdLst/>
              <a:ahLst/>
              <a:rect l="l" t="t" r="r" b="b"/>
              <a:pathLst>
                <a:path w="329373" h="408216">
                  <a:moveTo>
                    <a:pt x="172281" y="281967"/>
                  </a:moveTo>
                  <a:cubicBezTo>
                    <a:pt x="133082" y="335854"/>
                    <a:pt x="204887" y="408216"/>
                    <a:pt x="223466" y="369157"/>
                  </a:cubicBezTo>
                  <a:cubicBezTo>
                    <a:pt x="240371" y="360242"/>
                    <a:pt x="298830" y="282070"/>
                    <a:pt x="308878" y="228479"/>
                  </a:cubicBezTo>
                  <a:cubicBezTo>
                    <a:pt x="318926" y="174888"/>
                    <a:pt x="329373" y="75968"/>
                    <a:pt x="283755" y="47613"/>
                  </a:cubicBezTo>
                  <a:cubicBezTo>
                    <a:pt x="219715" y="0"/>
                    <a:pt x="65714" y="46512"/>
                    <a:pt x="0" y="5835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олилиния 87"/>
            <p:cNvSpPr/>
            <p:nvPr/>
          </p:nvSpPr>
          <p:spPr>
            <a:xfrm flipH="1">
              <a:off x="939600" y="3147840"/>
              <a:ext cx="222120" cy="214200"/>
            </a:xfrm>
            <a:custGeom>
              <a:avLst/>
              <a:gdLst/>
              <a:ahLst/>
              <a:rect l="l" t="t" r="r" b="b"/>
              <a:pathLst>
                <a:path w="636504" h="610696">
                  <a:moveTo>
                    <a:pt x="0" y="371108"/>
                  </a:moveTo>
                  <a:cubicBezTo>
                    <a:pt x="30303" y="397362"/>
                    <a:pt x="87037" y="506568"/>
                    <a:pt x="146647" y="543708"/>
                  </a:cubicBezTo>
                  <a:cubicBezTo>
                    <a:pt x="206257" y="580848"/>
                    <a:pt x="282299" y="610696"/>
                    <a:pt x="357662" y="593949"/>
                  </a:cubicBezTo>
                  <a:cubicBezTo>
                    <a:pt x="433025" y="577202"/>
                    <a:pt x="561142" y="518586"/>
                    <a:pt x="598823" y="443224"/>
                  </a:cubicBezTo>
                  <a:cubicBezTo>
                    <a:pt x="636504" y="367862"/>
                    <a:pt x="587497" y="196928"/>
                    <a:pt x="583747" y="141778"/>
                  </a:cubicBezTo>
                  <a:cubicBezTo>
                    <a:pt x="519707" y="94165"/>
                    <a:pt x="541552" y="0"/>
                    <a:pt x="475838" y="11838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олилиния 88"/>
            <p:cNvSpPr/>
            <p:nvPr/>
          </p:nvSpPr>
          <p:spPr>
            <a:xfrm flipH="1">
              <a:off x="1067040" y="3340080"/>
              <a:ext cx="218880" cy="147600"/>
            </a:xfrm>
            <a:custGeom>
              <a:avLst/>
              <a:gdLst/>
              <a:ahLst/>
              <a:rect l="l" t="t" r="r" b="b"/>
              <a:pathLst>
                <a:path w="627730" h="423012">
                  <a:moveTo>
                    <a:pt x="0" y="183424"/>
                  </a:moveTo>
                  <a:cubicBezTo>
                    <a:pt x="30303" y="209678"/>
                    <a:pt x="87037" y="318884"/>
                    <a:pt x="146647" y="356024"/>
                  </a:cubicBezTo>
                  <a:cubicBezTo>
                    <a:pt x="206257" y="393164"/>
                    <a:pt x="282299" y="423012"/>
                    <a:pt x="357662" y="406265"/>
                  </a:cubicBezTo>
                  <a:cubicBezTo>
                    <a:pt x="433025" y="389518"/>
                    <a:pt x="569916" y="323251"/>
                    <a:pt x="598823" y="255540"/>
                  </a:cubicBezTo>
                  <a:cubicBezTo>
                    <a:pt x="627730" y="187829"/>
                    <a:pt x="556726" y="89872"/>
                    <a:pt x="53110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олилиния 89"/>
            <p:cNvSpPr/>
            <p:nvPr/>
          </p:nvSpPr>
          <p:spPr>
            <a:xfrm flipH="1">
              <a:off x="1185840" y="2035080"/>
              <a:ext cx="353880" cy="728640"/>
            </a:xfrm>
            <a:custGeom>
              <a:avLst/>
              <a:gdLst/>
              <a:ahLst/>
              <a:rect l="l" t="t" r="r" b="b"/>
              <a:pathLst>
                <a:path w="1015774" h="2087586">
                  <a:moveTo>
                    <a:pt x="642990" y="2087586"/>
                  </a:moveTo>
                  <a:cubicBezTo>
                    <a:pt x="1015774" y="1778896"/>
                    <a:pt x="723326" y="1570743"/>
                    <a:pt x="523353" y="1612071"/>
                  </a:cubicBezTo>
                  <a:cubicBezTo>
                    <a:pt x="279000" y="1691080"/>
                    <a:pt x="0" y="1486466"/>
                    <a:pt x="56103" y="1205112"/>
                  </a:cubicBezTo>
                  <a:cubicBezTo>
                    <a:pt x="152400" y="1064434"/>
                    <a:pt x="539262" y="845047"/>
                    <a:pt x="608763" y="672550"/>
                  </a:cubicBezTo>
                  <a:cubicBezTo>
                    <a:pt x="678264" y="500053"/>
                    <a:pt x="600389" y="335930"/>
                    <a:pt x="473110" y="170132"/>
                  </a:cubicBezTo>
                  <a:cubicBezTo>
                    <a:pt x="280117" y="58040"/>
                    <a:pt x="141079" y="35444"/>
                    <a:pt x="5370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олилиния 90"/>
            <p:cNvSpPr/>
            <p:nvPr/>
          </p:nvSpPr>
          <p:spPr>
            <a:xfrm flipH="1">
              <a:off x="571680" y="2892240"/>
              <a:ext cx="234720" cy="474480"/>
            </a:xfrm>
            <a:custGeom>
              <a:avLst/>
              <a:gdLst/>
              <a:ahLst/>
              <a:rect l="l" t="t" r="r" b="b"/>
              <a:pathLst>
                <a:path w="671755" h="1359081">
                  <a:moveTo>
                    <a:pt x="463683" y="1359081"/>
                  </a:moveTo>
                  <a:cubicBezTo>
                    <a:pt x="671755" y="957726"/>
                    <a:pt x="559093" y="923458"/>
                    <a:pt x="454580" y="848391"/>
                  </a:cubicBezTo>
                  <a:cubicBezTo>
                    <a:pt x="287107" y="780565"/>
                    <a:pt x="195833" y="783914"/>
                    <a:pt x="52643" y="793125"/>
                  </a:cubicBezTo>
                  <a:cubicBezTo>
                    <a:pt x="179085" y="739533"/>
                    <a:pt x="223466" y="777215"/>
                    <a:pt x="278732" y="697665"/>
                  </a:cubicBezTo>
                  <a:cubicBezTo>
                    <a:pt x="333998" y="618115"/>
                    <a:pt x="423158" y="410333"/>
                    <a:pt x="384239" y="315827"/>
                  </a:cubicBezTo>
                  <a:cubicBezTo>
                    <a:pt x="257397" y="160194"/>
                    <a:pt x="51479" y="61849"/>
                    <a:pt x="0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олилиния 91"/>
            <p:cNvSpPr/>
            <p:nvPr/>
          </p:nvSpPr>
          <p:spPr>
            <a:xfrm flipH="1">
              <a:off x="704880" y="3211560"/>
              <a:ext cx="153720" cy="193680"/>
            </a:xfrm>
            <a:custGeom>
              <a:avLst/>
              <a:gdLst/>
              <a:ahLst/>
              <a:rect l="l" t="t" r="r" b="b"/>
              <a:pathLst>
                <a:path w="441185" h="552234">
                  <a:moveTo>
                    <a:pt x="441185" y="344197"/>
                  </a:moveTo>
                  <a:cubicBezTo>
                    <a:pt x="259884" y="552234"/>
                    <a:pt x="55509" y="433490"/>
                    <a:pt x="0" y="335930"/>
                  </a:cubicBezTo>
                  <a:cubicBezTo>
                    <a:pt x="11323" y="263197"/>
                    <a:pt x="43215" y="8259"/>
                    <a:pt x="83009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олилиния 92"/>
            <p:cNvSpPr/>
            <p:nvPr/>
          </p:nvSpPr>
          <p:spPr>
            <a:xfrm flipH="1">
              <a:off x="746280" y="3317760"/>
              <a:ext cx="47520" cy="569880"/>
            </a:xfrm>
            <a:custGeom>
              <a:avLst/>
              <a:gdLst/>
              <a:ahLst/>
              <a:rect l="l" t="t" r="r" b="b"/>
              <a:pathLst>
                <a:path w="138032" h="1635410">
                  <a:moveTo>
                    <a:pt x="94274" y="1635410"/>
                  </a:moveTo>
                  <a:cubicBezTo>
                    <a:pt x="3408" y="1336005"/>
                    <a:pt x="0" y="604313"/>
                    <a:pt x="24878" y="340955"/>
                  </a:cubicBezTo>
                  <a:cubicBezTo>
                    <a:pt x="31178" y="223004"/>
                    <a:pt x="98238" y="8259"/>
                    <a:pt x="13803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Полилиния 93"/>
            <p:cNvSpPr/>
            <p:nvPr/>
          </p:nvSpPr>
          <p:spPr>
            <a:xfrm flipH="1">
              <a:off x="738000" y="3367080"/>
              <a:ext cx="29880" cy="125280"/>
            </a:xfrm>
            <a:custGeom>
              <a:avLst/>
              <a:gdLst/>
              <a:ahLst/>
              <a:rect l="l" t="t" r="r" b="b"/>
              <a:pathLst>
                <a:path w="86883" h="358747">
                  <a:moveTo>
                    <a:pt x="31921" y="358747"/>
                  </a:moveTo>
                  <a:cubicBezTo>
                    <a:pt x="0" y="193947"/>
                    <a:pt x="68562" y="119582"/>
                    <a:pt x="86883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олилиния 94"/>
            <p:cNvSpPr/>
            <p:nvPr/>
          </p:nvSpPr>
          <p:spPr>
            <a:xfrm flipH="1">
              <a:off x="807840" y="3321000"/>
              <a:ext cx="29880" cy="123840"/>
            </a:xfrm>
            <a:custGeom>
              <a:avLst/>
              <a:gdLst/>
              <a:ahLst/>
              <a:rect l="l" t="t" r="r" b="b"/>
              <a:pathLst>
                <a:path w="86883" h="358747">
                  <a:moveTo>
                    <a:pt x="31921" y="358747"/>
                  </a:moveTo>
                  <a:cubicBezTo>
                    <a:pt x="0" y="193947"/>
                    <a:pt x="68562" y="119582"/>
                    <a:pt x="86883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олилиния 95"/>
            <p:cNvSpPr/>
            <p:nvPr/>
          </p:nvSpPr>
          <p:spPr>
            <a:xfrm flipH="1">
              <a:off x="1068840" y="2678040"/>
              <a:ext cx="110880" cy="247680"/>
            </a:xfrm>
            <a:custGeom>
              <a:avLst/>
              <a:gdLst/>
              <a:ahLst/>
              <a:rect l="l" t="t" r="r" b="b"/>
              <a:pathLst>
                <a:path w="319770" h="710439">
                  <a:moveTo>
                    <a:pt x="0" y="710439"/>
                  </a:moveTo>
                  <a:cubicBezTo>
                    <a:pt x="91238" y="574577"/>
                    <a:pt x="182477" y="448763"/>
                    <a:pt x="273715" y="302852"/>
                  </a:cubicBezTo>
                  <a:cubicBezTo>
                    <a:pt x="319770" y="91789"/>
                    <a:pt x="197415" y="236813"/>
                    <a:pt x="296122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олилиния 96"/>
            <p:cNvSpPr/>
            <p:nvPr/>
          </p:nvSpPr>
          <p:spPr>
            <a:xfrm flipH="1">
              <a:off x="1597680" y="2739960"/>
              <a:ext cx="80640" cy="34920"/>
            </a:xfrm>
            <a:custGeom>
              <a:avLst/>
              <a:gdLst/>
              <a:ahLst/>
              <a:rect l="l" t="t" r="r" b="b"/>
              <a:pathLst>
                <a:path w="712316" h="239375">
                  <a:moveTo>
                    <a:pt x="712316" y="206407"/>
                  </a:moveTo>
                  <a:lnTo>
                    <a:pt x="347201" y="239375"/>
                  </a:lnTo>
                  <a:cubicBezTo>
                    <a:pt x="154881" y="163185"/>
                    <a:pt x="240491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олилиния 97"/>
            <p:cNvSpPr/>
            <p:nvPr/>
          </p:nvSpPr>
          <p:spPr>
            <a:xfrm flipH="1">
              <a:off x="1089000" y="2911320"/>
              <a:ext cx="131760" cy="90360"/>
            </a:xfrm>
            <a:custGeom>
              <a:avLst/>
              <a:gdLst/>
              <a:ahLst/>
              <a:rect l="l" t="t" r="r" b="b"/>
              <a:pathLst>
                <a:path w="1165847" h="616815">
                  <a:moveTo>
                    <a:pt x="1036687" y="616815"/>
                  </a:moveTo>
                  <a:cubicBezTo>
                    <a:pt x="1079740" y="440249"/>
                    <a:pt x="1107345" y="324036"/>
                    <a:pt x="1165847" y="87116"/>
                  </a:cubicBezTo>
                  <a:cubicBezTo>
                    <a:pt x="753952" y="101659"/>
                    <a:pt x="620083" y="188622"/>
                    <a:pt x="347201" y="239375"/>
                  </a:cubicBezTo>
                  <a:cubicBezTo>
                    <a:pt x="154881" y="163185"/>
                    <a:pt x="240491" y="0"/>
                    <a:pt x="0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98"/>
            <p:cNvSpPr/>
            <p:nvPr/>
          </p:nvSpPr>
          <p:spPr>
            <a:xfrm flipH="1">
              <a:off x="909720" y="2727360"/>
              <a:ext cx="117360" cy="415800"/>
            </a:xfrm>
            <a:custGeom>
              <a:avLst/>
              <a:gdLst/>
              <a:ahLst/>
              <a:rect l="l" t="t" r="r" b="b"/>
              <a:pathLst>
                <a:path w="1039109" h="2861984">
                  <a:moveTo>
                    <a:pt x="1007775" y="2861984"/>
                  </a:moveTo>
                  <a:cubicBezTo>
                    <a:pt x="954645" y="2755595"/>
                    <a:pt x="296762" y="2750502"/>
                    <a:pt x="148381" y="2477133"/>
                  </a:cubicBezTo>
                  <a:cubicBezTo>
                    <a:pt x="0" y="2203764"/>
                    <a:pt x="114913" y="1392773"/>
                    <a:pt x="117487" y="1221770"/>
                  </a:cubicBezTo>
                  <a:cubicBezTo>
                    <a:pt x="550915" y="819647"/>
                    <a:pt x="650377" y="1315092"/>
                    <a:pt x="704439" y="1197630"/>
                  </a:cubicBezTo>
                  <a:cubicBezTo>
                    <a:pt x="292544" y="1212173"/>
                    <a:pt x="1039109" y="659381"/>
                    <a:pt x="766227" y="710134"/>
                  </a:cubicBezTo>
                  <a:cubicBezTo>
                    <a:pt x="573907" y="633944"/>
                    <a:pt x="968439" y="0"/>
                    <a:pt x="727948" y="6806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99"/>
            <p:cNvSpPr/>
            <p:nvPr/>
          </p:nvSpPr>
          <p:spPr>
            <a:xfrm flipH="1">
              <a:off x="895680" y="2776320"/>
              <a:ext cx="71280" cy="56880"/>
            </a:xfrm>
            <a:custGeom>
              <a:avLst/>
              <a:gdLst/>
              <a:ahLst/>
              <a:rect l="l" t="t" r="r" b="b"/>
              <a:pathLst>
                <a:path w="635085" h="391869">
                  <a:moveTo>
                    <a:pt x="635085" y="0"/>
                  </a:moveTo>
                  <a:lnTo>
                    <a:pt x="0" y="391869"/>
                  </a:ln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олилиния 100"/>
            <p:cNvSpPr/>
            <p:nvPr/>
          </p:nvSpPr>
          <p:spPr>
            <a:xfrm flipH="1">
              <a:off x="952200" y="3457800"/>
              <a:ext cx="112680" cy="158760"/>
            </a:xfrm>
            <a:custGeom>
              <a:avLst/>
              <a:gdLst/>
              <a:ahLst/>
              <a:rect l="l" t="t" r="r" b="b"/>
              <a:pathLst>
                <a:path w="326221" h="453311">
                  <a:moveTo>
                    <a:pt x="0" y="453311"/>
                  </a:moveTo>
                  <a:cubicBezTo>
                    <a:pt x="40071" y="319550"/>
                    <a:pt x="188867" y="302862"/>
                    <a:pt x="223115" y="205302"/>
                  </a:cubicBezTo>
                  <a:cubicBezTo>
                    <a:pt x="234438" y="132569"/>
                    <a:pt x="286427" y="8259"/>
                    <a:pt x="326221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олилиния 101"/>
            <p:cNvSpPr/>
            <p:nvPr/>
          </p:nvSpPr>
          <p:spPr>
            <a:xfrm flipH="1">
              <a:off x="2473920" y="3386160"/>
              <a:ext cx="10800" cy="34920"/>
            </a:xfrm>
            <a:custGeom>
              <a:avLst/>
              <a:gdLst/>
              <a:ahLst/>
              <a:rect l="l" t="t" r="r" b="b"/>
              <a:pathLst>
                <a:path w="96757" h="231426">
                  <a:moveTo>
                    <a:pt x="0" y="231426"/>
                  </a:moveTo>
                  <a:cubicBezTo>
                    <a:pt x="96757" y="154285"/>
                    <a:pt x="47483" y="77142"/>
                    <a:pt x="71224" y="0"/>
                  </a:cubicBezTo>
                </a:path>
              </a:pathLst>
            </a:custGeom>
            <a:noFill/>
            <a:ln w="38160">
              <a:solidFill>
                <a:srgbClr val="5026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Группа 143"/>
          <p:cNvGrpSpPr/>
          <p:nvPr/>
        </p:nvGrpSpPr>
        <p:grpSpPr>
          <a:xfrm>
            <a:off x="0" y="0"/>
            <a:ext cx="3249720" cy="5786280"/>
            <a:chOff x="0" y="0"/>
            <a:chExt cx="3249720" cy="5786280"/>
          </a:xfrm>
        </p:grpSpPr>
        <p:sp>
          <p:nvSpPr>
            <p:cNvPr id="267" name="Прямая соединительная линия 109"/>
            <p:cNvSpPr/>
            <p:nvPr/>
          </p:nvSpPr>
          <p:spPr>
            <a:xfrm>
              <a:off x="711000" y="17280"/>
              <a:ext cx="0" cy="576900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10"/>
            <p:cNvSpPr/>
            <p:nvPr/>
          </p:nvSpPr>
          <p:spPr>
            <a:xfrm>
              <a:off x="552240" y="0"/>
              <a:ext cx="0" cy="478296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11"/>
            <p:cNvSpPr/>
            <p:nvPr/>
          </p:nvSpPr>
          <p:spPr>
            <a:xfrm>
              <a:off x="469800" y="0"/>
              <a:ext cx="0" cy="422892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12"/>
            <p:cNvSpPr/>
            <p:nvPr/>
          </p:nvSpPr>
          <p:spPr>
            <a:xfrm>
              <a:off x="641160" y="14040"/>
              <a:ext cx="0" cy="525456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13"/>
            <p:cNvSpPr/>
            <p:nvPr/>
          </p:nvSpPr>
          <p:spPr>
            <a:xfrm>
              <a:off x="730080" y="17280"/>
              <a:ext cx="0" cy="576900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ая соединительная линия 114"/>
            <p:cNvSpPr/>
            <p:nvPr/>
          </p:nvSpPr>
          <p:spPr>
            <a:xfrm>
              <a:off x="663480" y="14040"/>
              <a:ext cx="0" cy="525456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ая соединительная линия 115"/>
            <p:cNvSpPr/>
            <p:nvPr/>
          </p:nvSpPr>
          <p:spPr>
            <a:xfrm>
              <a:off x="579240" y="0"/>
              <a:ext cx="0" cy="478296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116"/>
            <p:cNvSpPr/>
            <p:nvPr/>
          </p:nvSpPr>
          <p:spPr>
            <a:xfrm>
              <a:off x="490320" y="0"/>
              <a:ext cx="0" cy="422892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17"/>
            <p:cNvSpPr/>
            <p:nvPr/>
          </p:nvSpPr>
          <p:spPr>
            <a:xfrm>
              <a:off x="9360" y="869760"/>
              <a:ext cx="324036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18"/>
            <p:cNvSpPr/>
            <p:nvPr/>
          </p:nvSpPr>
          <p:spPr>
            <a:xfrm>
              <a:off x="0" y="1153800"/>
              <a:ext cx="268632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19"/>
            <p:cNvSpPr/>
            <p:nvPr/>
          </p:nvSpPr>
          <p:spPr>
            <a:xfrm>
              <a:off x="0" y="1299960"/>
              <a:ext cx="237492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20"/>
            <p:cNvSpPr/>
            <p:nvPr/>
          </p:nvSpPr>
          <p:spPr>
            <a:xfrm>
              <a:off x="7920" y="995040"/>
              <a:ext cx="295128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21"/>
            <p:cNvSpPr/>
            <p:nvPr/>
          </p:nvSpPr>
          <p:spPr>
            <a:xfrm>
              <a:off x="7920" y="955440"/>
              <a:ext cx="295128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22"/>
            <p:cNvSpPr/>
            <p:nvPr/>
          </p:nvSpPr>
          <p:spPr>
            <a:xfrm>
              <a:off x="0" y="1263600"/>
              <a:ext cx="237492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Группа 32"/>
            <p:cNvGrpSpPr/>
            <p:nvPr/>
          </p:nvGrpSpPr>
          <p:grpSpPr>
            <a:xfrm>
              <a:off x="106200" y="0"/>
              <a:ext cx="25200" cy="1311480"/>
              <a:chOff x="106200" y="0"/>
              <a:chExt cx="25200" cy="1311480"/>
            </a:xfrm>
          </p:grpSpPr>
          <p:sp>
            <p:nvSpPr>
              <p:cNvPr id="282" name="Прямая соединительная линия 135"/>
              <p:cNvSpPr/>
              <p:nvPr/>
            </p:nvSpPr>
            <p:spPr>
              <a:xfrm>
                <a:off x="106200" y="0"/>
                <a:ext cx="0" cy="131148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рямая соединительная линия 136"/>
              <p:cNvSpPr/>
              <p:nvPr/>
            </p:nvSpPr>
            <p:spPr>
              <a:xfrm>
                <a:off x="131400" y="0"/>
                <a:ext cx="0" cy="131148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Прямая соединительная линия 124"/>
            <p:cNvSpPr/>
            <p:nvPr/>
          </p:nvSpPr>
          <p:spPr>
            <a:xfrm>
              <a:off x="0" y="1104840"/>
              <a:ext cx="268632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25"/>
            <p:cNvSpPr/>
            <p:nvPr/>
          </p:nvSpPr>
          <p:spPr>
            <a:xfrm>
              <a:off x="9360" y="836640"/>
              <a:ext cx="324036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Группа 38"/>
            <p:cNvGrpSpPr/>
            <p:nvPr/>
          </p:nvGrpSpPr>
          <p:grpSpPr>
            <a:xfrm>
              <a:off x="17280" y="21960"/>
              <a:ext cx="736560" cy="45000"/>
              <a:chOff x="17280" y="21960"/>
              <a:chExt cx="736560" cy="45000"/>
            </a:xfrm>
          </p:grpSpPr>
          <p:sp>
            <p:nvSpPr>
              <p:cNvPr id="287" name="Прямая соединительная линия 133"/>
              <p:cNvSpPr/>
              <p:nvPr/>
            </p:nvSpPr>
            <p:spPr>
              <a:xfrm>
                <a:off x="17280" y="66960"/>
                <a:ext cx="73656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Прямая соединительная линия 134"/>
              <p:cNvSpPr/>
              <p:nvPr/>
            </p:nvSpPr>
            <p:spPr>
              <a:xfrm>
                <a:off x="17280" y="21960"/>
                <a:ext cx="73656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Группа 35"/>
            <p:cNvGrpSpPr/>
            <p:nvPr/>
          </p:nvGrpSpPr>
          <p:grpSpPr>
            <a:xfrm>
              <a:off x="23760" y="146520"/>
              <a:ext cx="736560" cy="45000"/>
              <a:chOff x="23760" y="146520"/>
              <a:chExt cx="736560" cy="45000"/>
            </a:xfrm>
          </p:grpSpPr>
          <p:sp>
            <p:nvSpPr>
              <p:cNvPr id="290" name="Прямая соединительная линия 131"/>
              <p:cNvSpPr/>
              <p:nvPr/>
            </p:nvSpPr>
            <p:spPr>
              <a:xfrm>
                <a:off x="23760" y="191520"/>
                <a:ext cx="73656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Прямая соединительная линия 132"/>
              <p:cNvSpPr/>
              <p:nvPr/>
            </p:nvSpPr>
            <p:spPr>
              <a:xfrm>
                <a:off x="23760" y="146520"/>
                <a:ext cx="73656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Группа 31"/>
            <p:cNvGrpSpPr/>
            <p:nvPr/>
          </p:nvGrpSpPr>
          <p:grpSpPr>
            <a:xfrm>
              <a:off x="4680" y="0"/>
              <a:ext cx="25200" cy="1311480"/>
              <a:chOff x="4680" y="0"/>
              <a:chExt cx="25200" cy="1311480"/>
            </a:xfrm>
          </p:grpSpPr>
          <p:sp>
            <p:nvSpPr>
              <p:cNvPr id="293" name="Прямая соединительная линия 129"/>
              <p:cNvSpPr/>
              <p:nvPr/>
            </p:nvSpPr>
            <p:spPr>
              <a:xfrm>
                <a:off x="4680" y="0"/>
                <a:ext cx="0" cy="131148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Прямая соединительная линия 28"/>
              <p:cNvSpPr/>
              <p:nvPr/>
            </p:nvSpPr>
            <p:spPr>
              <a:xfrm>
                <a:off x="29880" y="0"/>
                <a:ext cx="0" cy="131148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Группа 38"/>
          <p:cNvGrpSpPr/>
          <p:nvPr/>
        </p:nvGrpSpPr>
        <p:grpSpPr>
          <a:xfrm>
            <a:off x="8214840" y="5127480"/>
            <a:ext cx="698400" cy="1394640"/>
            <a:chOff x="8214840" y="5127480"/>
            <a:chExt cx="698400" cy="1394640"/>
          </a:xfrm>
        </p:grpSpPr>
        <p:sp>
          <p:nvSpPr>
            <p:cNvPr id="296" name="Полилиния 139"/>
            <p:cNvSpPr/>
            <p:nvPr/>
          </p:nvSpPr>
          <p:spPr>
            <a:xfrm flipH="1" rot="308400">
              <a:off x="8232480" y="6114960"/>
              <a:ext cx="131760" cy="40212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олилиния 140"/>
            <p:cNvSpPr/>
            <p:nvPr/>
          </p:nvSpPr>
          <p:spPr>
            <a:xfrm flipH="1" rot="308400">
              <a:off x="8388720" y="5146560"/>
              <a:ext cx="477360" cy="1060200"/>
            </a:xfrm>
            <a:custGeom>
              <a:avLst/>
              <a:gdLst/>
              <a:ahLst/>
              <a:rect l="l" t="t" r="r" b="b"/>
              <a:pathLst>
                <a:path w="2925765" h="3049531">
                  <a:moveTo>
                    <a:pt x="0" y="154104"/>
                  </a:moveTo>
                  <a:cubicBezTo>
                    <a:pt x="0" y="39584"/>
                    <a:pt x="88113" y="0"/>
                    <a:pt x="362478" y="35569"/>
                  </a:cubicBezTo>
                  <a:cubicBezTo>
                    <a:pt x="818412" y="32653"/>
                    <a:pt x="1201915" y="473192"/>
                    <a:pt x="1519239" y="749417"/>
                  </a:cubicBezTo>
                  <a:cubicBezTo>
                    <a:pt x="1836564" y="1025642"/>
                    <a:pt x="2201016" y="1528078"/>
                    <a:pt x="2266425" y="1692919"/>
                  </a:cubicBezTo>
                  <a:cubicBezTo>
                    <a:pt x="2426490" y="1752600"/>
                    <a:pt x="2925765" y="2859381"/>
                    <a:pt x="2876552" y="2954456"/>
                  </a:cubicBezTo>
                  <a:cubicBezTo>
                    <a:pt x="2827340" y="3049531"/>
                    <a:pt x="2312463" y="2549911"/>
                    <a:pt x="1971150" y="2263367"/>
                  </a:cubicBezTo>
                  <a:cubicBezTo>
                    <a:pt x="1629837" y="1976823"/>
                    <a:pt x="958762" y="1425602"/>
                    <a:pt x="828674" y="1235189"/>
                  </a:cubicBezTo>
                  <a:cubicBezTo>
                    <a:pt x="993861" y="1130501"/>
                    <a:pt x="1296987" y="1152639"/>
                    <a:pt x="1190624" y="1120889"/>
                  </a:cubicBezTo>
                  <a:cubicBezTo>
                    <a:pt x="950999" y="1079701"/>
                    <a:pt x="841374" y="1171689"/>
                    <a:pt x="704849" y="1101839"/>
                  </a:cubicBezTo>
                  <a:cubicBezTo>
                    <a:pt x="654049" y="1031989"/>
                    <a:pt x="519112" y="878001"/>
                    <a:pt x="409574" y="739889"/>
                  </a:cubicBezTo>
                  <a:cubicBezTo>
                    <a:pt x="568411" y="714576"/>
                    <a:pt x="1308099" y="849426"/>
                    <a:pt x="1152524" y="797039"/>
                  </a:cubicBezTo>
                  <a:cubicBezTo>
                    <a:pt x="877974" y="641551"/>
                    <a:pt x="481011" y="692264"/>
                    <a:pt x="323849" y="644639"/>
                  </a:cubicBezTo>
                  <a:cubicBezTo>
                    <a:pt x="252412" y="587489"/>
                    <a:pt x="242798" y="539951"/>
                    <a:pt x="209549" y="511289"/>
                  </a:cubicBezTo>
                  <a:cubicBezTo>
                    <a:pt x="312912" y="465252"/>
                    <a:pt x="413278" y="405992"/>
                    <a:pt x="362478" y="386942"/>
                  </a:cubicBezTo>
                  <a:cubicBezTo>
                    <a:pt x="218103" y="367979"/>
                    <a:pt x="155662" y="454845"/>
                    <a:pt x="95249" y="416039"/>
                  </a:cubicBezTo>
                  <a:cubicBezTo>
                    <a:pt x="34836" y="377233"/>
                    <a:pt x="31751" y="181887"/>
                    <a:pt x="1" y="154106"/>
                  </a:cubicBezTo>
                  <a:cubicBezTo>
                    <a:pt x="1" y="154105"/>
                    <a:pt x="0" y="154105"/>
                    <a:pt x="0" y="154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162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олилиния 141"/>
            <p:cNvSpPr/>
            <p:nvPr/>
          </p:nvSpPr>
          <p:spPr>
            <a:xfrm flipH="1" rot="308400">
              <a:off x="8474040" y="5178600"/>
              <a:ext cx="389520" cy="794520"/>
            </a:xfrm>
            <a:custGeom>
              <a:avLst/>
              <a:gdLst/>
              <a:ahLst/>
              <a:rect l="l" t="t" r="r" b="b"/>
              <a:pathLst>
                <a:path w="2390775" h="2286000">
                  <a:moveTo>
                    <a:pt x="2390775" y="2286000"/>
                  </a:moveTo>
                  <a:cubicBezTo>
                    <a:pt x="2162175" y="1828800"/>
                    <a:pt x="1685925" y="1371600"/>
                    <a:pt x="1333500" y="914400"/>
                  </a:cubicBezTo>
                  <a:cubicBezTo>
                    <a:pt x="889000" y="609600"/>
                    <a:pt x="863600" y="30480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олилиния 142"/>
            <p:cNvSpPr/>
            <p:nvPr/>
          </p:nvSpPr>
          <p:spPr>
            <a:xfrm flipH="1" rot="308400">
              <a:off x="8241840" y="6102000"/>
              <a:ext cx="120960" cy="40176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Группа 43"/>
          <p:cNvGrpSpPr/>
          <p:nvPr/>
        </p:nvGrpSpPr>
        <p:grpSpPr>
          <a:xfrm>
            <a:off x="7851240" y="6389640"/>
            <a:ext cx="692280" cy="468360"/>
            <a:chOff x="7851240" y="6389640"/>
            <a:chExt cx="692280" cy="468360"/>
          </a:xfrm>
        </p:grpSpPr>
        <p:sp>
          <p:nvSpPr>
            <p:cNvPr id="301" name="Овал 144"/>
            <p:cNvSpPr/>
            <p:nvPr/>
          </p:nvSpPr>
          <p:spPr>
            <a:xfrm flipH="1">
              <a:off x="8042040" y="6453000"/>
              <a:ext cx="295200" cy="71280"/>
            </a:xfrm>
            <a:prstGeom prst="ellipse">
              <a:avLst/>
            </a:prstGeom>
            <a:solidFill>
              <a:srgbClr val="170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олилиния 145"/>
            <p:cNvSpPr/>
            <p:nvPr/>
          </p:nvSpPr>
          <p:spPr>
            <a:xfrm flipH="1">
              <a:off x="7850880" y="6503760"/>
              <a:ext cx="692280" cy="316080"/>
            </a:xfrm>
            <a:custGeom>
              <a:avLst/>
              <a:gdLst/>
              <a:ahLst/>
              <a:rect l="l" t="t" r="r" b="b"/>
              <a:pathLst>
                <a:path w="2143125" h="1181097">
                  <a:moveTo>
                    <a:pt x="0" y="652456"/>
                  </a:moveTo>
                  <a:cubicBezTo>
                    <a:pt x="1" y="453263"/>
                    <a:pt x="220913" y="270982"/>
                    <a:pt x="571459" y="180928"/>
                  </a:cubicBezTo>
                  <a:cubicBezTo>
                    <a:pt x="703221" y="99172"/>
                    <a:pt x="616737" y="38086"/>
                    <a:pt x="647700" y="9518"/>
                  </a:cubicBezTo>
                  <a:cubicBezTo>
                    <a:pt x="726288" y="0"/>
                    <a:pt x="944556" y="120651"/>
                    <a:pt x="1128713" y="104769"/>
                  </a:cubicBezTo>
                  <a:cubicBezTo>
                    <a:pt x="1304925" y="106357"/>
                    <a:pt x="1450174" y="7938"/>
                    <a:pt x="1514475" y="9519"/>
                  </a:cubicBezTo>
                  <a:cubicBezTo>
                    <a:pt x="1578776" y="11100"/>
                    <a:pt x="1403393" y="18209"/>
                    <a:pt x="1514518" y="114253"/>
                  </a:cubicBezTo>
                  <a:cubicBezTo>
                    <a:pt x="1712664" y="242408"/>
                    <a:pt x="2105026" y="386590"/>
                    <a:pt x="2085975" y="652459"/>
                  </a:cubicBezTo>
                  <a:cubicBezTo>
                    <a:pt x="2143125" y="946902"/>
                    <a:pt x="1865063" y="1033934"/>
                    <a:pt x="1514517" y="1123988"/>
                  </a:cubicBezTo>
                  <a:cubicBezTo>
                    <a:pt x="1368372" y="1161532"/>
                    <a:pt x="1206832" y="1181097"/>
                    <a:pt x="1042988" y="1181097"/>
                  </a:cubicBezTo>
                  <a:cubicBezTo>
                    <a:pt x="879143" y="1181097"/>
                    <a:pt x="717603" y="1161532"/>
                    <a:pt x="571459" y="1123988"/>
                  </a:cubicBezTo>
                  <a:cubicBezTo>
                    <a:pt x="220913" y="1033934"/>
                    <a:pt x="1" y="851651"/>
                    <a:pt x="2" y="652458"/>
                  </a:cubicBezTo>
                  <a:lnTo>
                    <a:pt x="0" y="652456"/>
                  </a:lnTo>
                  <a:close/>
                </a:path>
              </a:pathLst>
            </a:custGeom>
            <a:solidFill>
              <a:srgbClr val="301702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олилиния 146"/>
            <p:cNvSpPr/>
            <p:nvPr/>
          </p:nvSpPr>
          <p:spPr>
            <a:xfrm flipH="1">
              <a:off x="8021160" y="6793200"/>
              <a:ext cx="325440" cy="64800"/>
            </a:xfrm>
            <a:custGeom>
              <a:avLst/>
              <a:gdLst/>
              <a:ahLst/>
              <a:rect l="l" t="t" r="r" b="b"/>
              <a:pathLst>
                <a:path w="1010253" h="244036">
                  <a:moveTo>
                    <a:pt x="466725" y="90459"/>
                  </a:moveTo>
                  <a:cubicBezTo>
                    <a:pt x="621411" y="118145"/>
                    <a:pt x="916240" y="59664"/>
                    <a:pt x="960278" y="32801"/>
                  </a:cubicBezTo>
                  <a:cubicBezTo>
                    <a:pt x="1010253" y="0"/>
                    <a:pt x="870460" y="166599"/>
                    <a:pt x="695325" y="214286"/>
                  </a:cubicBezTo>
                  <a:cubicBezTo>
                    <a:pt x="548765" y="244036"/>
                    <a:pt x="275524" y="202965"/>
                    <a:pt x="233934" y="199427"/>
                  </a:cubicBezTo>
                  <a:cubicBezTo>
                    <a:pt x="38861" y="135207"/>
                    <a:pt x="47500" y="102102"/>
                    <a:pt x="0" y="42835"/>
                  </a:cubicBezTo>
                  <a:lnTo>
                    <a:pt x="466725" y="9045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олилиния 147"/>
            <p:cNvSpPr/>
            <p:nvPr/>
          </p:nvSpPr>
          <p:spPr>
            <a:xfrm flipH="1">
              <a:off x="8241480" y="6527520"/>
              <a:ext cx="250920" cy="222120"/>
            </a:xfrm>
            <a:custGeom>
              <a:avLst/>
              <a:gdLst/>
              <a:ahLst/>
              <a:rect l="l" t="t" r="r" b="b"/>
              <a:pathLst>
                <a:path w="773179" h="832028">
                  <a:moveTo>
                    <a:pt x="221682" y="269973"/>
                  </a:moveTo>
                  <a:cubicBezTo>
                    <a:pt x="336776" y="182660"/>
                    <a:pt x="539247" y="188150"/>
                    <a:pt x="592283" y="156546"/>
                  </a:cubicBezTo>
                  <a:cubicBezTo>
                    <a:pt x="645319" y="124942"/>
                    <a:pt x="495592" y="92900"/>
                    <a:pt x="539896" y="80346"/>
                  </a:cubicBezTo>
                  <a:cubicBezTo>
                    <a:pt x="599930" y="56533"/>
                    <a:pt x="724262" y="0"/>
                    <a:pt x="753335" y="100270"/>
                  </a:cubicBezTo>
                  <a:cubicBezTo>
                    <a:pt x="773179" y="120907"/>
                    <a:pt x="677862" y="132085"/>
                    <a:pt x="592283" y="175596"/>
                  </a:cubicBezTo>
                  <a:cubicBezTo>
                    <a:pt x="506704" y="219107"/>
                    <a:pt x="317646" y="297834"/>
                    <a:pt x="239859" y="361334"/>
                  </a:cubicBezTo>
                  <a:cubicBezTo>
                    <a:pt x="162072" y="424834"/>
                    <a:pt x="123179" y="484365"/>
                    <a:pt x="125560" y="556596"/>
                  </a:cubicBezTo>
                  <a:cubicBezTo>
                    <a:pt x="127941" y="628827"/>
                    <a:pt x="287484" y="780435"/>
                    <a:pt x="254146" y="794722"/>
                  </a:cubicBezTo>
                  <a:cubicBezTo>
                    <a:pt x="222396" y="832028"/>
                    <a:pt x="77140" y="702646"/>
                    <a:pt x="39834" y="651846"/>
                  </a:cubicBezTo>
                  <a:cubicBezTo>
                    <a:pt x="2528" y="601046"/>
                    <a:pt x="0" y="553567"/>
                    <a:pt x="30308" y="489921"/>
                  </a:cubicBezTo>
                  <a:cubicBezTo>
                    <a:pt x="60616" y="426276"/>
                    <a:pt x="56582" y="355698"/>
                    <a:pt x="221682" y="26997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48"/>
            <p:cNvSpPr/>
            <p:nvPr/>
          </p:nvSpPr>
          <p:spPr>
            <a:xfrm flipH="1" rot="20884800">
              <a:off x="8047800" y="6418080"/>
              <a:ext cx="903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Овал 149"/>
            <p:cNvSpPr/>
            <p:nvPr/>
          </p:nvSpPr>
          <p:spPr>
            <a:xfrm flipH="1">
              <a:off x="7985880" y="6389640"/>
              <a:ext cx="406440" cy="135000"/>
            </a:xfrm>
            <a:prstGeom prst="ellipse">
              <a:avLst/>
            </a:prstGeom>
            <a:solidFill>
              <a:srgbClr val="6f350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143"/>
          <p:cNvGrpSpPr/>
          <p:nvPr/>
        </p:nvGrpSpPr>
        <p:grpSpPr>
          <a:xfrm>
            <a:off x="0" y="0"/>
            <a:ext cx="3249720" cy="5786280"/>
            <a:chOff x="0" y="0"/>
            <a:chExt cx="3249720" cy="5786280"/>
          </a:xfrm>
        </p:grpSpPr>
        <p:sp>
          <p:nvSpPr>
            <p:cNvPr id="309" name="Прямая соединительная линия 5"/>
            <p:cNvSpPr/>
            <p:nvPr/>
          </p:nvSpPr>
          <p:spPr>
            <a:xfrm>
              <a:off x="711000" y="17280"/>
              <a:ext cx="0" cy="576900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рямая соединительная линия 6"/>
            <p:cNvSpPr/>
            <p:nvPr/>
          </p:nvSpPr>
          <p:spPr>
            <a:xfrm>
              <a:off x="552240" y="0"/>
              <a:ext cx="0" cy="478296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7"/>
            <p:cNvSpPr/>
            <p:nvPr/>
          </p:nvSpPr>
          <p:spPr>
            <a:xfrm>
              <a:off x="469800" y="0"/>
              <a:ext cx="0" cy="422892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8"/>
            <p:cNvSpPr/>
            <p:nvPr/>
          </p:nvSpPr>
          <p:spPr>
            <a:xfrm>
              <a:off x="641160" y="14040"/>
              <a:ext cx="0" cy="525456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9"/>
            <p:cNvSpPr/>
            <p:nvPr/>
          </p:nvSpPr>
          <p:spPr>
            <a:xfrm>
              <a:off x="730080" y="17280"/>
              <a:ext cx="0" cy="576900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0"/>
            <p:cNvSpPr/>
            <p:nvPr/>
          </p:nvSpPr>
          <p:spPr>
            <a:xfrm>
              <a:off x="663480" y="14040"/>
              <a:ext cx="0" cy="525456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1"/>
            <p:cNvSpPr/>
            <p:nvPr/>
          </p:nvSpPr>
          <p:spPr>
            <a:xfrm>
              <a:off x="579240" y="0"/>
              <a:ext cx="0" cy="478296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12"/>
            <p:cNvSpPr/>
            <p:nvPr/>
          </p:nvSpPr>
          <p:spPr>
            <a:xfrm>
              <a:off x="490320" y="0"/>
              <a:ext cx="0" cy="422892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13"/>
            <p:cNvSpPr/>
            <p:nvPr/>
          </p:nvSpPr>
          <p:spPr>
            <a:xfrm>
              <a:off x="9360" y="869760"/>
              <a:ext cx="324036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14"/>
            <p:cNvSpPr/>
            <p:nvPr/>
          </p:nvSpPr>
          <p:spPr>
            <a:xfrm>
              <a:off x="0" y="1153800"/>
              <a:ext cx="268632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ая соединительная линия 15"/>
            <p:cNvSpPr/>
            <p:nvPr/>
          </p:nvSpPr>
          <p:spPr>
            <a:xfrm>
              <a:off x="0" y="1299960"/>
              <a:ext cx="237492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16"/>
            <p:cNvSpPr/>
            <p:nvPr/>
          </p:nvSpPr>
          <p:spPr>
            <a:xfrm>
              <a:off x="7920" y="995040"/>
              <a:ext cx="2951280" cy="0"/>
            </a:xfrm>
            <a:prstGeom prst="line">
              <a:avLst/>
            </a:prstGeom>
            <a:ln w="38160">
              <a:solidFill>
                <a:srgbClr val="8f4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17"/>
            <p:cNvSpPr/>
            <p:nvPr/>
          </p:nvSpPr>
          <p:spPr>
            <a:xfrm>
              <a:off x="7920" y="955440"/>
              <a:ext cx="295128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18"/>
            <p:cNvSpPr/>
            <p:nvPr/>
          </p:nvSpPr>
          <p:spPr>
            <a:xfrm>
              <a:off x="0" y="1263600"/>
              <a:ext cx="237492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Группа 32"/>
            <p:cNvGrpSpPr/>
            <p:nvPr/>
          </p:nvGrpSpPr>
          <p:grpSpPr>
            <a:xfrm>
              <a:off x="106200" y="0"/>
              <a:ext cx="25200" cy="1311120"/>
              <a:chOff x="106200" y="0"/>
              <a:chExt cx="25200" cy="1311120"/>
            </a:xfrm>
          </p:grpSpPr>
          <p:sp>
            <p:nvSpPr>
              <p:cNvPr id="324" name="Прямая соединительная линия 31"/>
              <p:cNvSpPr/>
              <p:nvPr/>
            </p:nvSpPr>
            <p:spPr>
              <a:xfrm>
                <a:off x="106200" y="0"/>
                <a:ext cx="0" cy="131112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Прямая соединительная линия 32"/>
              <p:cNvSpPr/>
              <p:nvPr/>
            </p:nvSpPr>
            <p:spPr>
              <a:xfrm>
                <a:off x="131400" y="0"/>
                <a:ext cx="0" cy="131112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Прямая соединительная линия 20"/>
            <p:cNvSpPr/>
            <p:nvPr/>
          </p:nvSpPr>
          <p:spPr>
            <a:xfrm>
              <a:off x="0" y="1104840"/>
              <a:ext cx="268632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21"/>
            <p:cNvSpPr/>
            <p:nvPr/>
          </p:nvSpPr>
          <p:spPr>
            <a:xfrm>
              <a:off x="9360" y="836640"/>
              <a:ext cx="3240360" cy="0"/>
            </a:xfrm>
            <a:prstGeom prst="line">
              <a:avLst/>
            </a:prstGeom>
            <a:ln w="38160">
              <a:solidFill>
                <a:srgbClr val="502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38"/>
            <p:cNvGrpSpPr/>
            <p:nvPr/>
          </p:nvGrpSpPr>
          <p:grpSpPr>
            <a:xfrm>
              <a:off x="17280" y="28080"/>
              <a:ext cx="736560" cy="45720"/>
              <a:chOff x="17280" y="28080"/>
              <a:chExt cx="736560" cy="45720"/>
            </a:xfrm>
          </p:grpSpPr>
          <p:sp>
            <p:nvSpPr>
              <p:cNvPr id="329" name="Прямая соединительная линия 29"/>
              <p:cNvSpPr/>
              <p:nvPr/>
            </p:nvSpPr>
            <p:spPr>
              <a:xfrm>
                <a:off x="17280" y="73800"/>
                <a:ext cx="73656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Прямая соединительная линия 30"/>
              <p:cNvSpPr/>
              <p:nvPr/>
            </p:nvSpPr>
            <p:spPr>
              <a:xfrm>
                <a:off x="17280" y="28080"/>
                <a:ext cx="73656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Группа 35"/>
            <p:cNvGrpSpPr/>
            <p:nvPr/>
          </p:nvGrpSpPr>
          <p:grpSpPr>
            <a:xfrm>
              <a:off x="23760" y="147240"/>
              <a:ext cx="736560" cy="44280"/>
              <a:chOff x="23760" y="147240"/>
              <a:chExt cx="736560" cy="44280"/>
            </a:xfrm>
          </p:grpSpPr>
          <p:sp>
            <p:nvSpPr>
              <p:cNvPr id="332" name="Прямая соединительная линия 27"/>
              <p:cNvSpPr/>
              <p:nvPr/>
            </p:nvSpPr>
            <p:spPr>
              <a:xfrm>
                <a:off x="23760" y="191520"/>
                <a:ext cx="736560" cy="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Прямая соединительная линия 28"/>
              <p:cNvSpPr/>
              <p:nvPr/>
            </p:nvSpPr>
            <p:spPr>
              <a:xfrm>
                <a:off x="23760" y="147240"/>
                <a:ext cx="736560" cy="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Группа 31"/>
            <p:cNvGrpSpPr/>
            <p:nvPr/>
          </p:nvGrpSpPr>
          <p:grpSpPr>
            <a:xfrm>
              <a:off x="4680" y="0"/>
              <a:ext cx="25200" cy="1311120"/>
              <a:chOff x="4680" y="0"/>
              <a:chExt cx="25200" cy="1311120"/>
            </a:xfrm>
          </p:grpSpPr>
          <p:sp>
            <p:nvSpPr>
              <p:cNvPr id="335" name="Прямая соединительная линия 25"/>
              <p:cNvSpPr/>
              <p:nvPr/>
            </p:nvSpPr>
            <p:spPr>
              <a:xfrm>
                <a:off x="4680" y="0"/>
                <a:ext cx="0" cy="1311120"/>
              </a:xfrm>
              <a:prstGeom prst="line">
                <a:avLst/>
              </a:prstGeom>
              <a:ln w="38160">
                <a:solidFill>
                  <a:srgbClr val="8f4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Прямая соединительная линия 28"/>
              <p:cNvSpPr/>
              <p:nvPr/>
            </p:nvSpPr>
            <p:spPr>
              <a:xfrm>
                <a:off x="29880" y="0"/>
                <a:ext cx="0" cy="1311120"/>
              </a:xfrm>
              <a:prstGeom prst="line">
                <a:avLst/>
              </a:prstGeom>
              <a:ln w="38160">
                <a:solidFill>
                  <a:srgbClr val="502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7944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85880" y="20718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ссворд - Про школу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, иллюстрации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litera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ww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kazk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C:\Documents and Settings\Admin\Рабочий стол\рис. картинки\books.png"/>
          <p:cNvPicPr/>
          <p:nvPr/>
        </p:nvPicPr>
        <p:blipFill>
          <a:blip r:embed="rId7"/>
          <a:stretch/>
        </p:blipFill>
        <p:spPr>
          <a:xfrm>
            <a:off x="6215040" y="5000760"/>
            <a:ext cx="16574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786200" y="500040"/>
            <a:ext cx="3857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ушкинские сказки -   это чудесный сплав, где народное творчество неотделимо от личного творчества поэт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 Баж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Группа 38"/>
          <p:cNvGrpSpPr/>
          <p:nvPr/>
        </p:nvGrpSpPr>
        <p:grpSpPr>
          <a:xfrm>
            <a:off x="8214840" y="5127480"/>
            <a:ext cx="698400" cy="1394640"/>
            <a:chOff x="8214840" y="5127480"/>
            <a:chExt cx="698400" cy="1394640"/>
          </a:xfrm>
        </p:grpSpPr>
        <p:sp>
          <p:nvSpPr>
            <p:cNvPr id="57" name="Полилиния 7"/>
            <p:cNvSpPr/>
            <p:nvPr/>
          </p:nvSpPr>
          <p:spPr>
            <a:xfrm flipH="1" rot="308400">
              <a:off x="8232480" y="6114960"/>
              <a:ext cx="131760" cy="40212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олилиния 8"/>
            <p:cNvSpPr/>
            <p:nvPr/>
          </p:nvSpPr>
          <p:spPr>
            <a:xfrm flipH="1" rot="308400">
              <a:off x="8388720" y="5146560"/>
              <a:ext cx="477360" cy="1060200"/>
            </a:xfrm>
            <a:custGeom>
              <a:avLst/>
              <a:gdLst/>
              <a:ahLst/>
              <a:rect l="l" t="t" r="r" b="b"/>
              <a:pathLst>
                <a:path w="2925765" h="3049531">
                  <a:moveTo>
                    <a:pt x="0" y="154104"/>
                  </a:moveTo>
                  <a:cubicBezTo>
                    <a:pt x="0" y="39584"/>
                    <a:pt x="88113" y="0"/>
                    <a:pt x="362478" y="35569"/>
                  </a:cubicBezTo>
                  <a:cubicBezTo>
                    <a:pt x="818412" y="32653"/>
                    <a:pt x="1201915" y="473192"/>
                    <a:pt x="1519239" y="749417"/>
                  </a:cubicBezTo>
                  <a:cubicBezTo>
                    <a:pt x="1836564" y="1025642"/>
                    <a:pt x="2201016" y="1528078"/>
                    <a:pt x="2266425" y="1692919"/>
                  </a:cubicBezTo>
                  <a:cubicBezTo>
                    <a:pt x="2426490" y="1752600"/>
                    <a:pt x="2925765" y="2859381"/>
                    <a:pt x="2876552" y="2954456"/>
                  </a:cubicBezTo>
                  <a:cubicBezTo>
                    <a:pt x="2827340" y="3049531"/>
                    <a:pt x="2312463" y="2549911"/>
                    <a:pt x="1971150" y="2263367"/>
                  </a:cubicBezTo>
                  <a:cubicBezTo>
                    <a:pt x="1629837" y="1976823"/>
                    <a:pt x="958762" y="1425602"/>
                    <a:pt x="828674" y="1235189"/>
                  </a:cubicBezTo>
                  <a:cubicBezTo>
                    <a:pt x="993861" y="1130501"/>
                    <a:pt x="1296987" y="1152639"/>
                    <a:pt x="1190624" y="1120889"/>
                  </a:cubicBezTo>
                  <a:cubicBezTo>
                    <a:pt x="950999" y="1079701"/>
                    <a:pt x="841374" y="1171689"/>
                    <a:pt x="704849" y="1101839"/>
                  </a:cubicBezTo>
                  <a:cubicBezTo>
                    <a:pt x="654049" y="1031989"/>
                    <a:pt x="519112" y="878001"/>
                    <a:pt x="409574" y="739889"/>
                  </a:cubicBezTo>
                  <a:cubicBezTo>
                    <a:pt x="568411" y="714576"/>
                    <a:pt x="1308099" y="849426"/>
                    <a:pt x="1152524" y="797039"/>
                  </a:cubicBezTo>
                  <a:cubicBezTo>
                    <a:pt x="877974" y="641551"/>
                    <a:pt x="481011" y="692264"/>
                    <a:pt x="323849" y="644639"/>
                  </a:cubicBezTo>
                  <a:cubicBezTo>
                    <a:pt x="252412" y="587489"/>
                    <a:pt x="242798" y="539951"/>
                    <a:pt x="209549" y="511289"/>
                  </a:cubicBezTo>
                  <a:cubicBezTo>
                    <a:pt x="312912" y="465252"/>
                    <a:pt x="413278" y="405992"/>
                    <a:pt x="362478" y="386942"/>
                  </a:cubicBezTo>
                  <a:cubicBezTo>
                    <a:pt x="218103" y="367979"/>
                    <a:pt x="155662" y="454845"/>
                    <a:pt x="95249" y="416039"/>
                  </a:cubicBezTo>
                  <a:cubicBezTo>
                    <a:pt x="34836" y="377233"/>
                    <a:pt x="31751" y="181887"/>
                    <a:pt x="1" y="154106"/>
                  </a:cubicBezTo>
                  <a:cubicBezTo>
                    <a:pt x="1" y="154105"/>
                    <a:pt x="0" y="154105"/>
                    <a:pt x="0" y="154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162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олилиния 9"/>
            <p:cNvSpPr/>
            <p:nvPr/>
          </p:nvSpPr>
          <p:spPr>
            <a:xfrm flipH="1" rot="308400">
              <a:off x="8474040" y="5178600"/>
              <a:ext cx="389520" cy="794520"/>
            </a:xfrm>
            <a:custGeom>
              <a:avLst/>
              <a:gdLst/>
              <a:ahLst/>
              <a:rect l="l" t="t" r="r" b="b"/>
              <a:pathLst>
                <a:path w="2390775" h="2286000">
                  <a:moveTo>
                    <a:pt x="2390775" y="2286000"/>
                  </a:moveTo>
                  <a:cubicBezTo>
                    <a:pt x="2162175" y="1828800"/>
                    <a:pt x="1685925" y="1371600"/>
                    <a:pt x="1333500" y="914400"/>
                  </a:cubicBezTo>
                  <a:cubicBezTo>
                    <a:pt x="889000" y="609600"/>
                    <a:pt x="863600" y="30480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олилиния 10"/>
            <p:cNvSpPr/>
            <p:nvPr/>
          </p:nvSpPr>
          <p:spPr>
            <a:xfrm flipH="1" rot="308400">
              <a:off x="8241840" y="6102000"/>
              <a:ext cx="120960" cy="40176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Группа 43"/>
          <p:cNvGrpSpPr/>
          <p:nvPr/>
        </p:nvGrpSpPr>
        <p:grpSpPr>
          <a:xfrm>
            <a:off x="7851240" y="6389640"/>
            <a:ext cx="692280" cy="468360"/>
            <a:chOff x="7851240" y="6389640"/>
            <a:chExt cx="692280" cy="468360"/>
          </a:xfrm>
        </p:grpSpPr>
        <p:sp>
          <p:nvSpPr>
            <p:cNvPr id="62" name="Овал 12"/>
            <p:cNvSpPr/>
            <p:nvPr/>
          </p:nvSpPr>
          <p:spPr>
            <a:xfrm flipH="1">
              <a:off x="8042040" y="6453000"/>
              <a:ext cx="295200" cy="71280"/>
            </a:xfrm>
            <a:prstGeom prst="ellipse">
              <a:avLst/>
            </a:prstGeom>
            <a:solidFill>
              <a:srgbClr val="170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олилиния 13"/>
            <p:cNvSpPr/>
            <p:nvPr/>
          </p:nvSpPr>
          <p:spPr>
            <a:xfrm flipH="1">
              <a:off x="7850880" y="6503760"/>
              <a:ext cx="692280" cy="316080"/>
            </a:xfrm>
            <a:custGeom>
              <a:avLst/>
              <a:gdLst/>
              <a:ahLst/>
              <a:rect l="l" t="t" r="r" b="b"/>
              <a:pathLst>
                <a:path w="2143125" h="1181097">
                  <a:moveTo>
                    <a:pt x="0" y="652456"/>
                  </a:moveTo>
                  <a:cubicBezTo>
                    <a:pt x="1" y="453263"/>
                    <a:pt x="220913" y="270982"/>
                    <a:pt x="571459" y="180928"/>
                  </a:cubicBezTo>
                  <a:cubicBezTo>
                    <a:pt x="703221" y="99172"/>
                    <a:pt x="616737" y="38086"/>
                    <a:pt x="647700" y="9518"/>
                  </a:cubicBezTo>
                  <a:cubicBezTo>
                    <a:pt x="726288" y="0"/>
                    <a:pt x="944556" y="120651"/>
                    <a:pt x="1128713" y="104769"/>
                  </a:cubicBezTo>
                  <a:cubicBezTo>
                    <a:pt x="1304925" y="106357"/>
                    <a:pt x="1450174" y="7938"/>
                    <a:pt x="1514475" y="9519"/>
                  </a:cubicBezTo>
                  <a:cubicBezTo>
                    <a:pt x="1578776" y="11100"/>
                    <a:pt x="1403393" y="18209"/>
                    <a:pt x="1514518" y="114253"/>
                  </a:cubicBezTo>
                  <a:cubicBezTo>
                    <a:pt x="1712664" y="242408"/>
                    <a:pt x="2105026" y="386590"/>
                    <a:pt x="2085975" y="652459"/>
                  </a:cubicBezTo>
                  <a:cubicBezTo>
                    <a:pt x="2143125" y="946902"/>
                    <a:pt x="1865063" y="1033934"/>
                    <a:pt x="1514517" y="1123988"/>
                  </a:cubicBezTo>
                  <a:cubicBezTo>
                    <a:pt x="1368372" y="1161532"/>
                    <a:pt x="1206832" y="1181097"/>
                    <a:pt x="1042988" y="1181097"/>
                  </a:cubicBezTo>
                  <a:cubicBezTo>
                    <a:pt x="879143" y="1181097"/>
                    <a:pt x="717603" y="1161532"/>
                    <a:pt x="571459" y="1123988"/>
                  </a:cubicBezTo>
                  <a:cubicBezTo>
                    <a:pt x="220913" y="1033934"/>
                    <a:pt x="1" y="851651"/>
                    <a:pt x="2" y="652458"/>
                  </a:cubicBezTo>
                  <a:lnTo>
                    <a:pt x="0" y="652456"/>
                  </a:lnTo>
                  <a:close/>
                </a:path>
              </a:pathLst>
            </a:custGeom>
            <a:solidFill>
              <a:srgbClr val="301702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олилиния 14"/>
            <p:cNvSpPr/>
            <p:nvPr/>
          </p:nvSpPr>
          <p:spPr>
            <a:xfrm flipH="1">
              <a:off x="8021160" y="6793200"/>
              <a:ext cx="325440" cy="64800"/>
            </a:xfrm>
            <a:custGeom>
              <a:avLst/>
              <a:gdLst/>
              <a:ahLst/>
              <a:rect l="l" t="t" r="r" b="b"/>
              <a:pathLst>
                <a:path w="1010253" h="244036">
                  <a:moveTo>
                    <a:pt x="466725" y="90459"/>
                  </a:moveTo>
                  <a:cubicBezTo>
                    <a:pt x="621411" y="118145"/>
                    <a:pt x="916240" y="59664"/>
                    <a:pt x="960278" y="32801"/>
                  </a:cubicBezTo>
                  <a:cubicBezTo>
                    <a:pt x="1010253" y="0"/>
                    <a:pt x="870460" y="166599"/>
                    <a:pt x="695325" y="214286"/>
                  </a:cubicBezTo>
                  <a:cubicBezTo>
                    <a:pt x="548765" y="244036"/>
                    <a:pt x="275524" y="202965"/>
                    <a:pt x="233934" y="199427"/>
                  </a:cubicBezTo>
                  <a:cubicBezTo>
                    <a:pt x="38861" y="135207"/>
                    <a:pt x="47500" y="102102"/>
                    <a:pt x="0" y="42835"/>
                  </a:cubicBezTo>
                  <a:lnTo>
                    <a:pt x="466725" y="9045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олилиния 15"/>
            <p:cNvSpPr/>
            <p:nvPr/>
          </p:nvSpPr>
          <p:spPr>
            <a:xfrm flipH="1">
              <a:off x="8241480" y="6527520"/>
              <a:ext cx="250920" cy="222120"/>
            </a:xfrm>
            <a:custGeom>
              <a:avLst/>
              <a:gdLst/>
              <a:ahLst/>
              <a:rect l="l" t="t" r="r" b="b"/>
              <a:pathLst>
                <a:path w="773179" h="832028">
                  <a:moveTo>
                    <a:pt x="221682" y="269973"/>
                  </a:moveTo>
                  <a:cubicBezTo>
                    <a:pt x="336776" y="182660"/>
                    <a:pt x="539247" y="188150"/>
                    <a:pt x="592283" y="156546"/>
                  </a:cubicBezTo>
                  <a:cubicBezTo>
                    <a:pt x="645319" y="124942"/>
                    <a:pt x="495592" y="92900"/>
                    <a:pt x="539896" y="80346"/>
                  </a:cubicBezTo>
                  <a:cubicBezTo>
                    <a:pt x="599930" y="56533"/>
                    <a:pt x="724262" y="0"/>
                    <a:pt x="753335" y="100270"/>
                  </a:cubicBezTo>
                  <a:cubicBezTo>
                    <a:pt x="773179" y="120907"/>
                    <a:pt x="677862" y="132085"/>
                    <a:pt x="592283" y="175596"/>
                  </a:cubicBezTo>
                  <a:cubicBezTo>
                    <a:pt x="506704" y="219107"/>
                    <a:pt x="317646" y="297834"/>
                    <a:pt x="239859" y="361334"/>
                  </a:cubicBezTo>
                  <a:cubicBezTo>
                    <a:pt x="162072" y="424834"/>
                    <a:pt x="123179" y="484365"/>
                    <a:pt x="125560" y="556596"/>
                  </a:cubicBezTo>
                  <a:cubicBezTo>
                    <a:pt x="127941" y="628827"/>
                    <a:pt x="287484" y="780435"/>
                    <a:pt x="254146" y="794722"/>
                  </a:cubicBezTo>
                  <a:cubicBezTo>
                    <a:pt x="222396" y="832028"/>
                    <a:pt x="77140" y="702646"/>
                    <a:pt x="39834" y="651846"/>
                  </a:cubicBezTo>
                  <a:cubicBezTo>
                    <a:pt x="2528" y="601046"/>
                    <a:pt x="0" y="553567"/>
                    <a:pt x="30308" y="489921"/>
                  </a:cubicBezTo>
                  <a:cubicBezTo>
                    <a:pt x="60616" y="426276"/>
                    <a:pt x="56582" y="355698"/>
                    <a:pt x="221682" y="26997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 flipH="1" rot="20884800">
              <a:off x="8047800" y="6418080"/>
              <a:ext cx="903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 flipH="1">
              <a:off x="7985880" y="6389640"/>
              <a:ext cx="406440" cy="135000"/>
            </a:xfrm>
            <a:prstGeom prst="ellipse">
              <a:avLst/>
            </a:prstGeom>
            <a:solidFill>
              <a:srgbClr val="6f350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Рисунок 18" descr="011laba0811240309615.jpg"/>
          <p:cNvPicPr/>
          <p:nvPr/>
        </p:nvPicPr>
        <p:blipFill>
          <a:blip r:embed="rId1"/>
          <a:stretch/>
        </p:blipFill>
        <p:spPr>
          <a:xfrm>
            <a:off x="262080" y="401760"/>
            <a:ext cx="45957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Из какой сказки отрыв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Жил старик со своею  старухой                                               У самого синего моря.                                     Они жили в ветхой землянке                         Ровно тридцать лет и три года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Жил-был поп, толоконный лоб.                                                                Пошел поп по базару                            Посмотреть кой-какого товару.                                               Навстречу ему Балда                                     Идет, сам не знает, куда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Три девицы под окном                                          Пряли поздно вечерком.                                     «Кабы я была царица,-                                           Говорит одна девица,-                                           Я б на целый мир одна                                        Напряла бы полотна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Царь с царицею простился,                                         В путь-дорогу снарядился.                                     И царица у окна                                                    Села ждать его одна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.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TextBox 4"/>
          <p:cNvGrpSpPr/>
          <p:nvPr/>
        </p:nvGrpSpPr>
        <p:grpSpPr>
          <a:xfrm>
            <a:off x="-36360" y="-36360"/>
            <a:ext cx="9223200" cy="7095960"/>
            <a:chOff x="-36360" y="-36360"/>
            <a:chExt cx="9223200" cy="7095960"/>
          </a:xfrm>
        </p:grpSpPr>
        <p:pic>
          <p:nvPicPr>
            <p:cNvPr id="78" name="TextBox 4" descr=""/>
            <p:cNvPicPr/>
            <p:nvPr/>
          </p:nvPicPr>
          <p:blipFill>
            <a:blip r:embed="rId1"/>
            <a:stretch/>
          </p:blipFill>
          <p:spPr>
            <a:xfrm>
              <a:off x="-36360" y="-36360"/>
              <a:ext cx="9223200" cy="70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0"/>
              <a:ext cx="9144000" cy="69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5" descr="pisateli_19_10.jpg"/>
          <p:cNvPicPr/>
          <p:nvPr/>
        </p:nvPicPr>
        <p:blipFill>
          <a:blip r:embed="rId2"/>
          <a:stretch/>
        </p:blipFill>
        <p:spPr>
          <a:xfrm>
            <a:off x="0" y="639720"/>
            <a:ext cx="4705200" cy="5718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rcRect l="0" t="0" r="0" b="-100"/>
          <a:stretch/>
        </p:blipFill>
        <p:spPr>
          <a:xfrm rot="1081200">
            <a:off x="5279760" y="1138320"/>
            <a:ext cx="3135240" cy="458928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127"/>
          <p:cNvGrpSpPr/>
          <p:nvPr/>
        </p:nvGrpSpPr>
        <p:grpSpPr>
          <a:xfrm>
            <a:off x="2006280" y="6151680"/>
            <a:ext cx="5118480" cy="603000"/>
            <a:chOff x="2006280" y="6151680"/>
            <a:chExt cx="5118480" cy="603000"/>
          </a:xfrm>
        </p:grpSpPr>
        <p:sp>
          <p:nvSpPr>
            <p:cNvPr id="83" name="Полилиния 8"/>
            <p:cNvSpPr/>
            <p:nvPr/>
          </p:nvSpPr>
          <p:spPr>
            <a:xfrm>
              <a:off x="3251160" y="6237360"/>
              <a:ext cx="2619360" cy="517320"/>
            </a:xfrm>
            <a:custGeom>
              <a:avLst/>
              <a:gdLst/>
              <a:ahLst/>
              <a:rect l="l" t="t" r="r" b="b"/>
              <a:pathLst>
                <a:path w="2955582" h="1079521">
                  <a:moveTo>
                    <a:pt x="443045" y="910771"/>
                  </a:moveTo>
                  <a:cubicBezTo>
                    <a:pt x="329109" y="924298"/>
                    <a:pt x="137768" y="823247"/>
                    <a:pt x="79031" y="655660"/>
                  </a:cubicBezTo>
                  <a:cubicBezTo>
                    <a:pt x="0" y="74186"/>
                    <a:pt x="790708" y="120356"/>
                    <a:pt x="1005020" y="190999"/>
                  </a:cubicBezTo>
                  <a:cubicBezTo>
                    <a:pt x="1314803" y="281910"/>
                    <a:pt x="2510706" y="879496"/>
                    <a:pt x="1498255" y="1079521"/>
                  </a:cubicBezTo>
                  <a:cubicBezTo>
                    <a:pt x="466754" y="917596"/>
                    <a:pt x="1672182" y="215235"/>
                    <a:pt x="1915291" y="152899"/>
                  </a:cubicBezTo>
                  <a:cubicBezTo>
                    <a:pt x="2803421" y="0"/>
                    <a:pt x="2955582" y="441300"/>
                    <a:pt x="2917480" y="646136"/>
                  </a:cubicBezTo>
                  <a:cubicBezTo>
                    <a:pt x="2873083" y="778163"/>
                    <a:pt x="2722027" y="857782"/>
                    <a:pt x="2487110" y="878386"/>
                  </a:cubicBezTo>
                </a:path>
              </a:pathLst>
            </a:custGeom>
            <a:noFill/>
            <a:ln w="38160">
              <a:solidFill>
                <a:srgbClr val="3017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олилиния 9"/>
            <p:cNvSpPr/>
            <p:nvPr/>
          </p:nvSpPr>
          <p:spPr>
            <a:xfrm flipH="1">
              <a:off x="2005920" y="6151680"/>
              <a:ext cx="3133800" cy="349200"/>
            </a:xfrm>
            <a:custGeom>
              <a:avLst/>
              <a:gdLst/>
              <a:ahLst/>
              <a:rect l="l" t="t" r="r" b="b"/>
              <a:pathLst>
                <a:path w="3536282" h="729264">
                  <a:moveTo>
                    <a:pt x="0" y="729264"/>
                  </a:moveTo>
                  <a:cubicBezTo>
                    <a:pt x="182099" y="507874"/>
                    <a:pt x="699478" y="152023"/>
                    <a:pt x="1148396" y="123792"/>
                  </a:cubicBezTo>
                  <a:cubicBezTo>
                    <a:pt x="1969851" y="161393"/>
                    <a:pt x="2341087" y="516968"/>
                    <a:pt x="2693510" y="559879"/>
                  </a:cubicBezTo>
                  <a:cubicBezTo>
                    <a:pt x="3239663" y="710956"/>
                    <a:pt x="3536282" y="0"/>
                    <a:pt x="2815590" y="96804"/>
                  </a:cubicBezTo>
                </a:path>
              </a:pathLst>
            </a:custGeom>
            <a:noFill/>
            <a:ln w="38160">
              <a:solidFill>
                <a:srgbClr val="3017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олилиния 10"/>
            <p:cNvSpPr/>
            <p:nvPr/>
          </p:nvSpPr>
          <p:spPr>
            <a:xfrm>
              <a:off x="3990960" y="6161040"/>
              <a:ext cx="3133800" cy="349200"/>
            </a:xfrm>
            <a:custGeom>
              <a:avLst/>
              <a:gdLst/>
              <a:ahLst/>
              <a:rect l="l" t="t" r="r" b="b"/>
              <a:pathLst>
                <a:path w="3536282" h="729264">
                  <a:moveTo>
                    <a:pt x="0" y="729264"/>
                  </a:moveTo>
                  <a:cubicBezTo>
                    <a:pt x="182099" y="507874"/>
                    <a:pt x="699478" y="152023"/>
                    <a:pt x="1148396" y="123792"/>
                  </a:cubicBezTo>
                  <a:cubicBezTo>
                    <a:pt x="1969851" y="161393"/>
                    <a:pt x="2341087" y="516968"/>
                    <a:pt x="2693510" y="559879"/>
                  </a:cubicBezTo>
                  <a:cubicBezTo>
                    <a:pt x="3239663" y="710956"/>
                    <a:pt x="3536282" y="0"/>
                    <a:pt x="2815590" y="96804"/>
                  </a:cubicBezTo>
                </a:path>
              </a:pathLst>
            </a:custGeom>
            <a:noFill/>
            <a:ln w="38160">
              <a:solidFill>
                <a:srgbClr val="3017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В какой праздник родилась царев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Как звали жениха царев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У кого последнего жених царевны просит помощ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Главная героиня 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Кому приказала мачеха погубить царев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У кого жила царевна в лес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Чем угрожала царица Чернав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Из чего сделан гроб царев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Кем был Елис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Что было дано царице в прида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9144000" cy="9237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011laba0811240309615.jpg"/>
          <p:cNvPicPr/>
          <p:nvPr/>
        </p:nvPicPr>
        <p:blipFill>
          <a:blip r:embed="rId1"/>
          <a:stretch/>
        </p:blipFill>
        <p:spPr>
          <a:xfrm>
            <a:off x="762120" y="3651120"/>
            <a:ext cx="4870440" cy="466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расивая внешность и красота души в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казке о мёртвой царевне и  семи богатырях» А.С.Пушкин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38"/>
          <p:cNvGrpSpPr/>
          <p:nvPr/>
        </p:nvGrpSpPr>
        <p:grpSpPr>
          <a:xfrm>
            <a:off x="8214840" y="5127480"/>
            <a:ext cx="698400" cy="1394640"/>
            <a:chOff x="8214840" y="5127480"/>
            <a:chExt cx="698400" cy="1394640"/>
          </a:xfrm>
        </p:grpSpPr>
        <p:sp>
          <p:nvSpPr>
            <p:cNvPr id="92" name="Полилиния 9"/>
            <p:cNvSpPr/>
            <p:nvPr/>
          </p:nvSpPr>
          <p:spPr>
            <a:xfrm flipH="1" rot="308400">
              <a:off x="8232480" y="6114960"/>
              <a:ext cx="131760" cy="40212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0"/>
            <p:cNvSpPr/>
            <p:nvPr/>
          </p:nvSpPr>
          <p:spPr>
            <a:xfrm flipH="1" rot="308400">
              <a:off x="8388720" y="5146560"/>
              <a:ext cx="477360" cy="1060200"/>
            </a:xfrm>
            <a:custGeom>
              <a:avLst/>
              <a:gdLst/>
              <a:ahLst/>
              <a:rect l="l" t="t" r="r" b="b"/>
              <a:pathLst>
                <a:path w="2925765" h="3049531">
                  <a:moveTo>
                    <a:pt x="0" y="154104"/>
                  </a:moveTo>
                  <a:cubicBezTo>
                    <a:pt x="0" y="39584"/>
                    <a:pt x="88113" y="0"/>
                    <a:pt x="362478" y="35569"/>
                  </a:cubicBezTo>
                  <a:cubicBezTo>
                    <a:pt x="818412" y="32653"/>
                    <a:pt x="1201915" y="473192"/>
                    <a:pt x="1519239" y="749417"/>
                  </a:cubicBezTo>
                  <a:cubicBezTo>
                    <a:pt x="1836564" y="1025642"/>
                    <a:pt x="2201016" y="1528078"/>
                    <a:pt x="2266425" y="1692919"/>
                  </a:cubicBezTo>
                  <a:cubicBezTo>
                    <a:pt x="2426490" y="1752600"/>
                    <a:pt x="2925765" y="2859381"/>
                    <a:pt x="2876552" y="2954456"/>
                  </a:cubicBezTo>
                  <a:cubicBezTo>
                    <a:pt x="2827340" y="3049531"/>
                    <a:pt x="2312463" y="2549911"/>
                    <a:pt x="1971150" y="2263367"/>
                  </a:cubicBezTo>
                  <a:cubicBezTo>
                    <a:pt x="1629837" y="1976823"/>
                    <a:pt x="958762" y="1425602"/>
                    <a:pt x="828674" y="1235189"/>
                  </a:cubicBezTo>
                  <a:cubicBezTo>
                    <a:pt x="993861" y="1130501"/>
                    <a:pt x="1296987" y="1152639"/>
                    <a:pt x="1190624" y="1120889"/>
                  </a:cubicBezTo>
                  <a:cubicBezTo>
                    <a:pt x="950999" y="1079701"/>
                    <a:pt x="841374" y="1171689"/>
                    <a:pt x="704849" y="1101839"/>
                  </a:cubicBezTo>
                  <a:cubicBezTo>
                    <a:pt x="654049" y="1031989"/>
                    <a:pt x="519112" y="878001"/>
                    <a:pt x="409574" y="739889"/>
                  </a:cubicBezTo>
                  <a:cubicBezTo>
                    <a:pt x="568411" y="714576"/>
                    <a:pt x="1308099" y="849426"/>
                    <a:pt x="1152524" y="797039"/>
                  </a:cubicBezTo>
                  <a:cubicBezTo>
                    <a:pt x="877974" y="641551"/>
                    <a:pt x="481011" y="692264"/>
                    <a:pt x="323849" y="644639"/>
                  </a:cubicBezTo>
                  <a:cubicBezTo>
                    <a:pt x="252412" y="587489"/>
                    <a:pt x="242798" y="539951"/>
                    <a:pt x="209549" y="511289"/>
                  </a:cubicBezTo>
                  <a:cubicBezTo>
                    <a:pt x="312912" y="465252"/>
                    <a:pt x="413278" y="405992"/>
                    <a:pt x="362478" y="386942"/>
                  </a:cubicBezTo>
                  <a:cubicBezTo>
                    <a:pt x="218103" y="367979"/>
                    <a:pt x="155662" y="454845"/>
                    <a:pt x="95249" y="416039"/>
                  </a:cubicBezTo>
                  <a:cubicBezTo>
                    <a:pt x="34836" y="377233"/>
                    <a:pt x="31751" y="181887"/>
                    <a:pt x="1" y="154106"/>
                  </a:cubicBezTo>
                  <a:cubicBezTo>
                    <a:pt x="1" y="154105"/>
                    <a:pt x="0" y="154105"/>
                    <a:pt x="0" y="154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162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олилиния 11"/>
            <p:cNvSpPr/>
            <p:nvPr/>
          </p:nvSpPr>
          <p:spPr>
            <a:xfrm flipH="1" rot="308400">
              <a:off x="8474040" y="5178600"/>
              <a:ext cx="389520" cy="794520"/>
            </a:xfrm>
            <a:custGeom>
              <a:avLst/>
              <a:gdLst/>
              <a:ahLst/>
              <a:rect l="l" t="t" r="r" b="b"/>
              <a:pathLst>
                <a:path w="2390775" h="2286000">
                  <a:moveTo>
                    <a:pt x="2390775" y="2286000"/>
                  </a:moveTo>
                  <a:cubicBezTo>
                    <a:pt x="2162175" y="1828800"/>
                    <a:pt x="1685925" y="1371600"/>
                    <a:pt x="1333500" y="914400"/>
                  </a:cubicBezTo>
                  <a:cubicBezTo>
                    <a:pt x="889000" y="609600"/>
                    <a:pt x="863600" y="30480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олилиния 12"/>
            <p:cNvSpPr/>
            <p:nvPr/>
          </p:nvSpPr>
          <p:spPr>
            <a:xfrm flipH="1" rot="308400">
              <a:off x="8241840" y="6102000"/>
              <a:ext cx="120960" cy="401760"/>
            </a:xfrm>
            <a:custGeom>
              <a:avLst/>
              <a:gdLst/>
              <a:ahLst/>
              <a:rect l="l" t="t" r="r" b="b"/>
              <a:pathLst>
                <a:path w="749109" h="1156615">
                  <a:moveTo>
                    <a:pt x="415683" y="665404"/>
                  </a:moveTo>
                  <a:cubicBezTo>
                    <a:pt x="315213" y="471272"/>
                    <a:pt x="0" y="0"/>
                    <a:pt x="18377" y="5436"/>
                  </a:cubicBezTo>
                  <a:cubicBezTo>
                    <a:pt x="129963" y="5436"/>
                    <a:pt x="418023" y="620444"/>
                    <a:pt x="497370" y="698018"/>
                  </a:cubicBezTo>
                  <a:cubicBezTo>
                    <a:pt x="632765" y="941363"/>
                    <a:pt x="749109" y="1156615"/>
                    <a:pt x="735494" y="1151179"/>
                  </a:cubicBezTo>
                  <a:cubicBezTo>
                    <a:pt x="721880" y="1145743"/>
                    <a:pt x="480434" y="796036"/>
                    <a:pt x="415683" y="665404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43"/>
          <p:cNvGrpSpPr/>
          <p:nvPr/>
        </p:nvGrpSpPr>
        <p:grpSpPr>
          <a:xfrm>
            <a:off x="7851240" y="6389640"/>
            <a:ext cx="692280" cy="468360"/>
            <a:chOff x="7851240" y="6389640"/>
            <a:chExt cx="692280" cy="468360"/>
          </a:xfrm>
        </p:grpSpPr>
        <p:sp>
          <p:nvSpPr>
            <p:cNvPr id="97" name="Овал 14"/>
            <p:cNvSpPr/>
            <p:nvPr/>
          </p:nvSpPr>
          <p:spPr>
            <a:xfrm flipH="1">
              <a:off x="8042040" y="6453000"/>
              <a:ext cx="295200" cy="71280"/>
            </a:xfrm>
            <a:prstGeom prst="ellipse">
              <a:avLst/>
            </a:prstGeom>
            <a:solidFill>
              <a:srgbClr val="170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олилиния 15"/>
            <p:cNvSpPr/>
            <p:nvPr/>
          </p:nvSpPr>
          <p:spPr>
            <a:xfrm flipH="1">
              <a:off x="7850880" y="6503760"/>
              <a:ext cx="692280" cy="316080"/>
            </a:xfrm>
            <a:custGeom>
              <a:avLst/>
              <a:gdLst/>
              <a:ahLst/>
              <a:rect l="l" t="t" r="r" b="b"/>
              <a:pathLst>
                <a:path w="2143125" h="1181097">
                  <a:moveTo>
                    <a:pt x="0" y="652456"/>
                  </a:moveTo>
                  <a:cubicBezTo>
                    <a:pt x="1" y="453263"/>
                    <a:pt x="220913" y="270982"/>
                    <a:pt x="571459" y="180928"/>
                  </a:cubicBezTo>
                  <a:cubicBezTo>
                    <a:pt x="703221" y="99172"/>
                    <a:pt x="616737" y="38086"/>
                    <a:pt x="647700" y="9518"/>
                  </a:cubicBezTo>
                  <a:cubicBezTo>
                    <a:pt x="726288" y="0"/>
                    <a:pt x="944556" y="120651"/>
                    <a:pt x="1128713" y="104769"/>
                  </a:cubicBezTo>
                  <a:cubicBezTo>
                    <a:pt x="1304925" y="106357"/>
                    <a:pt x="1450174" y="7938"/>
                    <a:pt x="1514475" y="9519"/>
                  </a:cubicBezTo>
                  <a:cubicBezTo>
                    <a:pt x="1578776" y="11100"/>
                    <a:pt x="1403393" y="18209"/>
                    <a:pt x="1514518" y="114253"/>
                  </a:cubicBezTo>
                  <a:cubicBezTo>
                    <a:pt x="1712664" y="242408"/>
                    <a:pt x="2105026" y="386590"/>
                    <a:pt x="2085975" y="652459"/>
                  </a:cubicBezTo>
                  <a:cubicBezTo>
                    <a:pt x="2143125" y="946902"/>
                    <a:pt x="1865063" y="1033934"/>
                    <a:pt x="1514517" y="1123988"/>
                  </a:cubicBezTo>
                  <a:cubicBezTo>
                    <a:pt x="1368372" y="1161532"/>
                    <a:pt x="1206832" y="1181097"/>
                    <a:pt x="1042988" y="1181097"/>
                  </a:cubicBezTo>
                  <a:cubicBezTo>
                    <a:pt x="879143" y="1181097"/>
                    <a:pt x="717603" y="1161532"/>
                    <a:pt x="571459" y="1123988"/>
                  </a:cubicBezTo>
                  <a:cubicBezTo>
                    <a:pt x="220913" y="1033934"/>
                    <a:pt x="1" y="851651"/>
                    <a:pt x="2" y="652458"/>
                  </a:cubicBezTo>
                  <a:lnTo>
                    <a:pt x="0" y="652456"/>
                  </a:lnTo>
                  <a:close/>
                </a:path>
              </a:pathLst>
            </a:custGeom>
            <a:solidFill>
              <a:srgbClr val="301702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олилиния 16"/>
            <p:cNvSpPr/>
            <p:nvPr/>
          </p:nvSpPr>
          <p:spPr>
            <a:xfrm flipH="1">
              <a:off x="8021160" y="6793200"/>
              <a:ext cx="325440" cy="64800"/>
            </a:xfrm>
            <a:custGeom>
              <a:avLst/>
              <a:gdLst/>
              <a:ahLst/>
              <a:rect l="l" t="t" r="r" b="b"/>
              <a:pathLst>
                <a:path w="1010253" h="244036">
                  <a:moveTo>
                    <a:pt x="466725" y="90459"/>
                  </a:moveTo>
                  <a:cubicBezTo>
                    <a:pt x="621411" y="118145"/>
                    <a:pt x="916240" y="59664"/>
                    <a:pt x="960278" y="32801"/>
                  </a:cubicBezTo>
                  <a:cubicBezTo>
                    <a:pt x="1010253" y="0"/>
                    <a:pt x="870460" y="166599"/>
                    <a:pt x="695325" y="214286"/>
                  </a:cubicBezTo>
                  <a:cubicBezTo>
                    <a:pt x="548765" y="244036"/>
                    <a:pt x="275524" y="202965"/>
                    <a:pt x="233934" y="199427"/>
                  </a:cubicBezTo>
                  <a:cubicBezTo>
                    <a:pt x="38861" y="135207"/>
                    <a:pt x="47500" y="102102"/>
                    <a:pt x="0" y="42835"/>
                  </a:cubicBezTo>
                  <a:lnTo>
                    <a:pt x="466725" y="9045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олилиния 17"/>
            <p:cNvSpPr/>
            <p:nvPr/>
          </p:nvSpPr>
          <p:spPr>
            <a:xfrm flipH="1">
              <a:off x="8241480" y="6527520"/>
              <a:ext cx="250920" cy="222120"/>
            </a:xfrm>
            <a:custGeom>
              <a:avLst/>
              <a:gdLst/>
              <a:ahLst/>
              <a:rect l="l" t="t" r="r" b="b"/>
              <a:pathLst>
                <a:path w="773179" h="832028">
                  <a:moveTo>
                    <a:pt x="221682" y="269973"/>
                  </a:moveTo>
                  <a:cubicBezTo>
                    <a:pt x="336776" y="182660"/>
                    <a:pt x="539247" y="188150"/>
                    <a:pt x="592283" y="156546"/>
                  </a:cubicBezTo>
                  <a:cubicBezTo>
                    <a:pt x="645319" y="124942"/>
                    <a:pt x="495592" y="92900"/>
                    <a:pt x="539896" y="80346"/>
                  </a:cubicBezTo>
                  <a:cubicBezTo>
                    <a:pt x="599930" y="56533"/>
                    <a:pt x="724262" y="0"/>
                    <a:pt x="753335" y="100270"/>
                  </a:cubicBezTo>
                  <a:cubicBezTo>
                    <a:pt x="773179" y="120907"/>
                    <a:pt x="677862" y="132085"/>
                    <a:pt x="592283" y="175596"/>
                  </a:cubicBezTo>
                  <a:cubicBezTo>
                    <a:pt x="506704" y="219107"/>
                    <a:pt x="317646" y="297834"/>
                    <a:pt x="239859" y="361334"/>
                  </a:cubicBezTo>
                  <a:cubicBezTo>
                    <a:pt x="162072" y="424834"/>
                    <a:pt x="123179" y="484365"/>
                    <a:pt x="125560" y="556596"/>
                  </a:cubicBezTo>
                  <a:cubicBezTo>
                    <a:pt x="127941" y="628827"/>
                    <a:pt x="287484" y="780435"/>
                    <a:pt x="254146" y="794722"/>
                  </a:cubicBezTo>
                  <a:cubicBezTo>
                    <a:pt x="222396" y="832028"/>
                    <a:pt x="77140" y="702646"/>
                    <a:pt x="39834" y="651846"/>
                  </a:cubicBezTo>
                  <a:cubicBezTo>
                    <a:pt x="2528" y="601046"/>
                    <a:pt x="0" y="553567"/>
                    <a:pt x="30308" y="489921"/>
                  </a:cubicBezTo>
                  <a:cubicBezTo>
                    <a:pt x="60616" y="426276"/>
                    <a:pt x="56582" y="355698"/>
                    <a:pt x="221682" y="26997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Овал 18"/>
            <p:cNvSpPr/>
            <p:nvPr/>
          </p:nvSpPr>
          <p:spPr>
            <a:xfrm flipH="1" rot="20884800">
              <a:off x="8047800" y="6418080"/>
              <a:ext cx="903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Овал 19"/>
            <p:cNvSpPr/>
            <p:nvPr/>
          </p:nvSpPr>
          <p:spPr>
            <a:xfrm flipH="1">
              <a:off x="7985880" y="6389640"/>
              <a:ext cx="406440" cy="135000"/>
            </a:xfrm>
            <a:prstGeom prst="ellipse">
              <a:avLst/>
            </a:prstGeom>
            <a:solidFill>
              <a:srgbClr val="6f350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7:37:24Z</dcterms:created>
  <dc:creator>Admin</dc:creator>
  <dc:description/>
  <dc:language>en-US</dc:language>
  <cp:lastModifiedBy>SysAdmin</cp:lastModifiedBy>
  <dcterms:modified xsi:type="dcterms:W3CDTF">2015-01-22T08:14:06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46000000000001024140</vt:lpwstr>
  </property>
</Properties>
</file>