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CB6-2334-4917-9D23-67A81275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D67-2E88-43EC-9EEC-8E49070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C6B-E55D-4918-866A-49DEF1DD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235-3EFA-42CA-B2A2-589204CB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A7F-3BC7-494D-A537-24D8DCE1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2BDA-B761-4407-9074-FCD7D71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C85-A594-4956-B5C5-41E3BD8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349-41AE-4877-A8A1-2F71289A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C8EF-003F-4B61-9DAF-523850F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AD2-0646-47E7-A018-495658C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5A4A-5ECD-4BB8-B6E8-BD1FCE0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C25-9485-4E70-9F6F-B00C255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D04-BB25-4056-9C5C-D63134B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74A7-887C-4D0B-B12B-11434FB4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B9CC-8B7F-447F-993E-08CBCE10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189C-47E3-48E5-AF08-83349A3F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340-921E-4318-846C-7FB808B3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CDF-481A-458F-95A4-A473F5C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68C-C931-4720-A6D5-460E2F51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8AC-737E-4579-A398-288DAEC5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CB2-037F-4941-96EB-99F73599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CAD-5B36-4609-95D7-C861E80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37E-B5C9-4387-B302-A7E2771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9C2-3C1A-4612-B807-605F0D2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C5FE-EA2C-4D49-875B-2D34B226657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405-012B-4966-B162-188460F394FA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b2600"/>
                </a:solidFill>
                <a:latin typeface="Times New Roman"/>
              </a:rPr>
              <a:t>Астрід Ліндгрен – чарівниця зі Швеції, жінка ХХ століття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57012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46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643280" cy="28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8000" y="336456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вдяки А. Ліндгрен вперше у світі прийняли закон, що забороняв тілесні покарання та інші види насильства з боку батьків до ді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вдяки її виступам було ухвалено закон про захист свійських тварин від жорстокого поводжен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905120" cy="197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740040" cy="2400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49236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b2600"/>
                </a:solidFill>
                <a:latin typeface="Times New Roman"/>
              </a:rPr>
              <a:t>Популярні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050920" y="198900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</a:rPr>
              <a:t>А.Ліндгрен проголошено жінкою ХХ столітт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Їі двічі відзначено премією ім. Г.К.Андерсена, що вручається один раз на 2 роки за найкращі твори для ді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9280" y="184140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 </a:t>
            </a:r>
            <a:r>
              <a:rPr b="0" i="1" lang="ru-RU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А.Лідгрен  отримала Веселий орден Посмішки, диплом почесного доктора університету Лінчепінге, премію імені Льюіса Керролла, нагороди ЮНЕСКО, інших держа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день її 90-ліття  350 депутатів шведського парламенту посадили 350 дере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У 2015 році банк Швеції планує випустити купюру у 20 крон з її портре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</a:t>
            </a:r>
            <a:r>
              <a:rPr b="0" i="1" lang="en-US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Шведська кронпринцеса Вікторія, як і всі шведські діти, виросла на казках Астрід Ліндгрен</a:t>
            </a:r>
            <a:r>
              <a:rPr b="0" i="1" lang="uk-UA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В 1997 році на її честь названо одну із малих планет в Сонячній систе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2592360" cy="34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8083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6" descr="Линдгрен"/>
          <p:cNvPicPr/>
          <p:nvPr/>
        </p:nvPicPr>
        <p:blipFill>
          <a:blip r:embed="rId3"/>
          <a:stretch/>
        </p:blipFill>
        <p:spPr>
          <a:xfrm>
            <a:off x="7991640" y="907920"/>
            <a:ext cx="115236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TextBox 7"/>
          <p:cNvSpPr/>
          <p:nvPr/>
        </p:nvSpPr>
        <p:spPr>
          <a:xfrm>
            <a:off x="1835280" y="40464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Вшанування творч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547640" y="189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b2600"/>
                </a:solidFill>
                <a:latin typeface="Times New Roman"/>
              </a:rPr>
              <a:t>«Світ Астрід Ліндгрен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140360" y="450864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арк розташований в місті Віммер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ю.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ув заснований в 1981 році, займає територію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130 тисяч квадратних метр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069080" cy="30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024440" cy="302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3456000" cy="259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317680" cy="30592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2916360" y="1159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Музей каз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А. Ліндгрен «Юнібаке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в Стокгольм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3040200" cy="193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3040200" cy="1936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5867280" y="4613400"/>
            <a:ext cx="3122640" cy="198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5"/>
          <a:stretch/>
        </p:blipFill>
        <p:spPr>
          <a:xfrm>
            <a:off x="2627280" y="2565360"/>
            <a:ext cx="3097080" cy="1960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6"/>
          <a:stretch/>
        </p:blipFill>
        <p:spPr>
          <a:xfrm>
            <a:off x="2597040" y="4653000"/>
            <a:ext cx="3152880" cy="200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7"/>
          <a:stretch/>
        </p:blipFill>
        <p:spPr>
          <a:xfrm>
            <a:off x="468360" y="1197000"/>
            <a:ext cx="2900160" cy="18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719784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b2600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708200" y="2612880"/>
            <a:ext cx="228744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3888000" cy="300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7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2862360" cy="1952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2583000" cy="21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164360" y="2781360"/>
            <a:ext cx="1800360" cy="27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332000" y="333360"/>
            <a:ext cx="3744720" cy="250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2124000" y="4581360"/>
            <a:ext cx="2857680" cy="214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9" name="TextBox 10"/>
          <p:cNvSpPr/>
          <p:nvPr/>
        </p:nvSpPr>
        <p:spPr>
          <a:xfrm>
            <a:off x="2987640" y="3068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Стокгольм – столиця Шве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580000" y="333360"/>
            <a:ext cx="3203640" cy="237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b2600"/>
                </a:solidFill>
                <a:latin typeface="Times New Roman"/>
              </a:rPr>
              <a:t>«Щасливе дитинство»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b2600"/>
                </a:solidFill>
                <a:latin typeface="Times New Roman"/>
              </a:rPr>
              <a:t>Астрід Ліндґрен народилася 1907 року на хуторі Нес біля містечка Вімерб'ю в старовинному червоному будинку, оточеному яблуневим садом. Дівчинка виростала в сім'ї, де панували злагода й любов і між батьками, і між дітьми, - а в Астрід було дві  сестри й брат. Дітей змалку привчали до праці, але й давали їм час на гру і на розваги, тому дитинство письменниці було дуже щаслив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6728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Rectangle 3"/>
          <p:cNvSpPr/>
          <p:nvPr/>
        </p:nvSpPr>
        <p:spPr>
          <a:xfrm>
            <a:off x="0" y="31446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Дім родини Еріксон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6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140328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Рисунок 19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140364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Rectangle 7"/>
          <p:cNvSpPr/>
          <p:nvPr/>
        </p:nvSpPr>
        <p:spPr>
          <a:xfrm>
            <a:off x="5364000" y="223884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b2600"/>
                </a:solidFill>
                <a:latin typeface="Times New Roman"/>
                <a:ea typeface="Calibri"/>
              </a:rPr>
              <a:t>Інтер'єр будинку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2232000" cy="167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7"/>
          <p:cNvSpPr/>
          <p:nvPr/>
        </p:nvSpPr>
        <p:spPr>
          <a:xfrm>
            <a:off x="324000" y="5732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Сучасний вигляд будинка батьків 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А.Ліндгрен у Віммерб`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ю, який вона викупила в орендарів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5"/>
          <a:stretch/>
        </p:blipFill>
        <p:spPr>
          <a:xfrm>
            <a:off x="4643280" y="2637000"/>
            <a:ext cx="409284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9"/>
          <p:cNvSpPr/>
          <p:nvPr/>
        </p:nvSpPr>
        <p:spPr>
          <a:xfrm>
            <a:off x="4788000" y="5661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Будинок у Стокгольмі, де А.Ліндгрен мешкала понад 60 рок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10996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2678040" y="836640"/>
            <a:ext cx="20383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49" descr=""/>
          <p:cNvPicPr/>
          <p:nvPr/>
        </p:nvPicPr>
        <p:blipFill>
          <a:blip r:embed="rId3"/>
          <a:stretch/>
        </p:blipFill>
        <p:spPr>
          <a:xfrm>
            <a:off x="5364000" y="115920"/>
            <a:ext cx="3024360" cy="29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521080" cy="18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Rectangle 6"/>
          <p:cNvSpPr/>
          <p:nvPr/>
        </p:nvSpPr>
        <p:spPr>
          <a:xfrm>
            <a:off x="693000" y="34797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Самуель Август Еріксон  і Ганна Юнс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 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- батьки Астрід Ліндгр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580000" y="32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Родина А.Ліндгр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55640" y="6021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Письменниця народилась в сільській місцевост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52" descr=""/>
          <p:cNvPicPr/>
          <p:nvPr/>
        </p:nvPicPr>
        <p:blipFill>
          <a:blip r:embed="rId5"/>
          <a:stretch/>
        </p:blipFill>
        <p:spPr>
          <a:xfrm>
            <a:off x="4211640" y="4005360"/>
            <a:ext cx="1992240" cy="229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Рисунок 61" descr=""/>
          <p:cNvPicPr/>
          <p:nvPr/>
        </p:nvPicPr>
        <p:blipFill>
          <a:blip r:embed="rId6"/>
          <a:stretch/>
        </p:blipFill>
        <p:spPr>
          <a:xfrm>
            <a:off x="6300720" y="3860640"/>
            <a:ext cx="269892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286000" cy="238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659640" y="2133720"/>
            <a:ext cx="2160360" cy="32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3"/>
          <p:cNvSpPr/>
          <p:nvPr/>
        </p:nvSpPr>
        <p:spPr>
          <a:xfrm>
            <a:off x="468360" y="584208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Ім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я літературної героїні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вигадала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донька Кар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133680"/>
          <p:cNvPicPr/>
          <p:nvPr/>
        </p:nvPicPr>
        <p:blipFill>
          <a:blip r:embed="rId3"/>
          <a:stretch/>
        </p:blipFill>
        <p:spPr>
          <a:xfrm>
            <a:off x="1547640" y="189000"/>
            <a:ext cx="208296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5"/>
          <p:cNvSpPr/>
          <p:nvPr/>
        </p:nvSpPr>
        <p:spPr>
          <a:xfrm>
            <a:off x="3995640" y="333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b2600"/>
                </a:solidFill>
                <a:latin typeface="Times New Roman"/>
              </a:rPr>
              <a:t>Повість “Пеппі Довгапанчоха” принесла популярність А.Лідг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19051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7"/>
          <p:cNvSpPr/>
          <p:nvPr/>
        </p:nvSpPr>
        <p:spPr>
          <a:xfrm>
            <a:off x="3708360" y="4076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Українською мовою твір переклала Ольга Сенюк, якій А.Ліндгрен під час зустрічі подарувала портрет з автограф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6b2600"/>
                </a:solidFill>
                <a:latin typeface="Times New Roman"/>
              </a:rPr>
              <a:t>Про творчі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А.Ліндгрен написала  понад 40 творів. Серед них  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Малий і Карлсон, що живе на даху»,  «Міо, мій Міо»,  «Брати Лев’яче Серце»</a:t>
            </a: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Расмус-волоцюга», «Роня – донька розбійник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1403280" y="333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Твори А.Ліндгр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155219----"/>
          <p:cNvPicPr/>
          <p:nvPr/>
        </p:nvPicPr>
        <p:blipFill>
          <a:blip r:embed="rId1"/>
          <a:stretch/>
        </p:blipFill>
        <p:spPr>
          <a:xfrm>
            <a:off x="1476360" y="4365720"/>
            <a:ext cx="187164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7" descr="e6060f62c7f649425129674c50c62773"/>
          <p:cNvPicPr/>
          <p:nvPr/>
        </p:nvPicPr>
        <p:blipFill>
          <a:blip r:embed="rId2"/>
          <a:stretch/>
        </p:blipFill>
        <p:spPr>
          <a:xfrm>
            <a:off x="3419640" y="4149720"/>
            <a:ext cx="1984320" cy="247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5" descr="9789666056415"/>
          <p:cNvPicPr/>
          <p:nvPr/>
        </p:nvPicPr>
        <p:blipFill>
          <a:blip r:embed="rId3"/>
          <a:stretch/>
        </p:blipFill>
        <p:spPr>
          <a:xfrm>
            <a:off x="250920" y="1844640"/>
            <a:ext cx="1944720" cy="269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7" descr="160420----"/>
          <p:cNvPicPr/>
          <p:nvPr/>
        </p:nvPicPr>
        <p:blipFill>
          <a:blip r:embed="rId4"/>
          <a:stretch/>
        </p:blipFill>
        <p:spPr>
          <a:xfrm>
            <a:off x="3995640" y="476280"/>
            <a:ext cx="194472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Picture 7" descr="image_197608"/>
          <p:cNvPicPr/>
          <p:nvPr/>
        </p:nvPicPr>
        <p:blipFill>
          <a:blip r:embed="rId5"/>
          <a:stretch/>
        </p:blipFill>
        <p:spPr>
          <a:xfrm>
            <a:off x="6227640" y="260280"/>
            <a:ext cx="204156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4" descr="155214----"/>
          <p:cNvPicPr/>
          <p:nvPr/>
        </p:nvPicPr>
        <p:blipFill>
          <a:blip r:embed="rId6"/>
          <a:stretch/>
        </p:blipFill>
        <p:spPr>
          <a:xfrm>
            <a:off x="7020000" y="2637000"/>
            <a:ext cx="19922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8" descr="708"/>
          <p:cNvPicPr/>
          <p:nvPr/>
        </p:nvPicPr>
        <p:blipFill>
          <a:blip r:embed="rId7"/>
          <a:stretch/>
        </p:blipFill>
        <p:spPr>
          <a:xfrm>
            <a:off x="5435640" y="3789360"/>
            <a:ext cx="19494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Picture 4" descr=""/>
          <p:cNvPicPr/>
          <p:nvPr/>
        </p:nvPicPr>
        <p:blipFill>
          <a:blip r:embed="rId8"/>
          <a:stretch/>
        </p:blipFill>
        <p:spPr>
          <a:xfrm>
            <a:off x="1884240" y="2292480"/>
            <a:ext cx="305928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187280" y="1916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 творами А. Ліндгрен знято більше 40 фільмів, телесеріалів, мультфільмів, театральних вистав та мюзиклів. Її твори перекладено на 80 мов світ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340000" y="549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6b2600"/>
                </a:solidFill>
                <a:latin typeface="Times New Roman"/>
              </a:rPr>
              <a:t>Визнання творчост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521080" cy="346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2" descr="За что мы любим родственников - Ничего святого"/>
          <p:cNvPicPr/>
          <p:nvPr/>
        </p:nvPicPr>
        <p:blipFill>
          <a:blip r:embed="rId2"/>
          <a:stretch/>
        </p:blipFill>
        <p:spPr>
          <a:xfrm>
            <a:off x="3395520" y="3933720"/>
            <a:ext cx="300060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025800" cy="22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207648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4:29:12Z</dcterms:created>
  <dc:creator>User</dc:creator>
  <dc:description/>
  <dc:language>en-US</dc:language>
  <cp:lastModifiedBy>Пользователь</cp:lastModifiedBy>
  <dcterms:modified xsi:type="dcterms:W3CDTF">2015-02-01T12:46:05Z</dcterms:modified>
  <cp:revision>85</cp:revision>
  <dc:subject/>
  <dc:title>Разработка урока по творчеству шведской писательницы А.Линдгре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18000000000001024140</vt:lpwstr>
  </property>
</Properties>
</file>