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28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DD6B-6021-4974-8677-23DF8F60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14F6-18EF-4971-B0C2-ED6AEA8E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8372-A4FC-4D8B-B7CB-9C13ECC24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0FEC-0672-4A98-8596-EC0E92CF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1E05-9DC6-4967-A334-A77E2C0F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BB03-C7EA-4F87-8B19-C70C150F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2C56-F4F5-4ADE-A4D2-3F022033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389B-B339-4488-A578-9D31C8EC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4B48-A0E5-4752-9BF7-EE50C2E9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931E-4D9C-4B4C-89D3-33047648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AD79-C9B7-41C2-9FB2-6AFD8406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69B2-A5AB-4428-93A9-69CDC9DF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705E-A1B2-4549-9BAC-AE21F0060AA9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520" y="425520"/>
            <a:ext cx="1051560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2060"/>
                </a:solidFill>
                <a:latin typeface="Mistral"/>
              </a:rPr>
              <a:t>«Пристрасна проповідь добра</a:t>
            </a:r>
            <a:br>
              <a:rPr sz="6600"/>
            </a:br>
            <a:r>
              <a:rPr b="1" lang="uk-UA" sz="6600" spc="-1" strike="noStrike">
                <a:solidFill>
                  <a:srgbClr val="002060"/>
                </a:solidFill>
                <a:latin typeface="Mistral"/>
              </a:rPr>
              <a:t>для всього людства»</a:t>
            </a: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2" name="Picture 10" descr="http://www.interschool.ru/images/news/00001033.jpg"/>
          <p:cNvPicPr/>
          <p:nvPr/>
        </p:nvPicPr>
        <p:blipFill>
          <a:blip r:embed="rId2"/>
          <a:stretch/>
        </p:blipFill>
        <p:spPr>
          <a:xfrm>
            <a:off x="385920" y="649440"/>
            <a:ext cx="3705120" cy="2757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ttp://www.lenatour.ru/userfiles/image/%D0%B4%D0%BE%D0%BC%20%D1%81%D0%BE%D0%BD%D0%B8%20%D0%BC%D0%B0%D1%80%D0%BC%D0%B5%D0%BB%D0%B0%D0%B4%D0%BE%D0%B2%D0%BE%D0%B9.jpg"/>
          <p:cNvPicPr/>
          <p:nvPr/>
        </p:nvPicPr>
        <p:blipFill>
          <a:blip r:embed="rId3"/>
          <a:stretch/>
        </p:blipFill>
        <p:spPr>
          <a:xfrm>
            <a:off x="3951360" y="1919160"/>
            <a:ext cx="4498920" cy="3000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http://img.trip-guide.ru/img/13345/87012.jpg"/>
          <p:cNvPicPr/>
          <p:nvPr/>
        </p:nvPicPr>
        <p:blipFill>
          <a:blip r:embed="rId4"/>
          <a:stretch/>
        </p:blipFill>
        <p:spPr>
          <a:xfrm>
            <a:off x="7343640" y="4202280"/>
            <a:ext cx="4241880" cy="2828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http://www.privetsochi.ru/uploads/images/00/28/93/2011/04/07/be81d4.jpg"/>
          <p:cNvPicPr/>
          <p:nvPr/>
        </p:nvPicPr>
        <p:blipFill>
          <a:blip r:embed="rId5"/>
          <a:stretch/>
        </p:blipFill>
        <p:spPr>
          <a:xfrm>
            <a:off x="1457280" y="4205160"/>
            <a:ext cx="474336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-37836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 Light"/>
              </a:rPr>
              <a:t>Відношення людей до Раскольніков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09160" y="947520"/>
            <a:ext cx="11620440" cy="61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1) Занимался он усиленно, не жалея себя, и за это его уважали, но </a:t>
            </a:r>
            <a:r>
              <a:rPr b="1" lang="uk-UA" sz="3600" spc="-1" strike="noStrike">
                <a:solidFill>
                  <a:srgbClr val="ff0000"/>
                </a:solidFill>
                <a:latin typeface="Calibri"/>
              </a:rPr>
              <a:t>никто не любил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uk-UA" sz="3600" spc="-1" strike="noStrike">
                <a:solidFill>
                  <a:srgbClr val="0070c0"/>
                </a:solidFill>
                <a:latin typeface="Calibri"/>
              </a:rPr>
              <a:t>Угрюм, мрачен, надменен и горд. Великодушен и добр. 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Чувств своих не любит высказывать и скорей жестокость сделает, чем словами выскажет сердце. Иногда просто холоден и бесчувственен до бесчеловечия, право, </a:t>
            </a:r>
            <a:r>
              <a:rPr b="1" lang="uk-UA" sz="3600" spc="-1" strike="noStrike" u="sng">
                <a:solidFill>
                  <a:srgbClr val="ff0000"/>
                </a:solidFill>
                <a:uFillTx/>
                <a:latin typeface="Calibri"/>
              </a:rPr>
              <a:t>точно в нем два противоположные характера поочередно сменяются.</a:t>
            </a:r>
            <a:r>
              <a:rPr b="1" lang="uk-UA" sz="3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Никогда не интересуется тем, чем все в данную минуту интересуются. Ужасно высоко себя ценит и, кажется, не без некоторого права на т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9" dur="1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1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9" dur="1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 u="sng">
                <a:solidFill>
                  <a:srgbClr val="002060"/>
                </a:solidFill>
                <a:uFillTx/>
                <a:latin typeface="Calibri Light"/>
              </a:rPr>
              <a:t>Три етапи життя головного геро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2" name="Місце для вмісту 5" descr=""/>
          <p:cNvPicPr/>
          <p:nvPr/>
        </p:nvPicPr>
        <p:blipFill>
          <a:blip r:embed="rId2"/>
          <a:stretch/>
        </p:blipFill>
        <p:spPr>
          <a:xfrm>
            <a:off x="835200" y="1816200"/>
            <a:ext cx="1052820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-1062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0000"/>
                </a:solidFill>
                <a:latin typeface="Mistral"/>
              </a:rPr>
              <a:t>Альона Іванівна та Лізавета 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1025280"/>
            <a:ext cx="6019920" cy="56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100" spc="-1" strike="noStrike">
                <a:solidFill>
                  <a:srgbClr val="000000"/>
                </a:solidFill>
                <a:latin typeface="Calibri"/>
              </a:rPr>
              <a:t>Это была крошечная сухая старушонка, лет шестиде-сяти, с вострыми и злыми глазками, с маленьким вост-рым носом и простоволосая. Белобрысые, мало поседевшие волосы ее были жирно смазаны маслом. На ее тонкой и длин-ной шее, похожей на куриную ногу, было наверчено какое-то фланелевое тряпье, а на плечах, несмотря на жару, бол-талась вся истрепанная и по-желтелая меховая кацавейка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178320" y="1025280"/>
            <a:ext cx="5916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Это была высокая, неуклюжая, робкая и смиренная девка, чуть не идиотка, тридцати пяти лет, бывшая в полном рабстве у сестры своей, работавшая на нее день и ночь, трепетавшая перед ней и терпевшая от нее даже побои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Говорила же вообще мало, и, как уже сказано, была такая смиренная и пугливая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У нее такое доброе лицо и глаза. Тихая такая, кроткая, безответная, согласная, на все согласная. А улыбка у ней даже очень хорош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-2444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Calibri Light"/>
              </a:rPr>
              <a:t>Дві сторони «теорії» Раскольнікова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90440" y="875880"/>
            <a:ext cx="5639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ff0000"/>
                </a:solidFill>
                <a:uFillTx/>
                <a:latin typeface="Calibri"/>
              </a:rPr>
              <a:t>Наполеонівськ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Ділення людей на два тип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«звичайні» ( «тварь дрожащая», «вошь»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«незвичайні» (здатні сказати «нове слово», зробити «новий крок»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00000"/>
                </a:solidFill>
                <a:latin typeface="Calibri"/>
              </a:rPr>
              <a:t>«Незвичайним» дозво-ляється переступати через життя «зви-чайних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552720" y="875880"/>
            <a:ext cx="533412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ff0000"/>
                </a:solidFill>
                <a:uFillTx/>
                <a:latin typeface="Calibri"/>
              </a:rPr>
              <a:t>Альтруїстич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Одна смерть заради тисяч врятованих життів; прийняття на себе гріха вбивства заради щастя інших людей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006600"/>
                </a:solidFill>
                <a:latin typeface="Calibri"/>
              </a:rPr>
              <a:t>Розкриваємо значення слова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 u="sng">
                <a:solidFill>
                  <a:srgbClr val="c00000"/>
                </a:solidFill>
                <a:uFillTx/>
                <a:latin typeface="Calibri"/>
              </a:rPr>
              <a:t>Альтруїзм</a:t>
            </a: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uk-UA" sz="3300" spc="-1" strike="noStrike">
                <a:solidFill>
                  <a:srgbClr val="000000"/>
                </a:solidFill>
                <a:latin typeface="Calibri"/>
              </a:rPr>
              <a:t>безкорисливе піклування про благо інших, </a:t>
            </a:r>
            <a:r>
              <a:rPr b="0" i="1" lang="uk-UA" sz="3300" spc="-1" strike="noStrike">
                <a:solidFill>
                  <a:srgbClr val="ff0000"/>
                </a:solidFill>
                <a:latin typeface="Calibri"/>
              </a:rPr>
              <a:t>готовність жертвувати </a:t>
            </a:r>
            <a:r>
              <a:rPr b="0" i="1" lang="uk-UA" sz="3300" spc="-1" strike="noStrike">
                <a:solidFill>
                  <a:srgbClr val="000000"/>
                </a:solidFill>
                <a:latin typeface="Calibri"/>
              </a:rPr>
              <a:t>для інших своїми особис-тими інтересами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90360"/>
            <a:ext cx="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2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2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-1872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 Light"/>
              </a:rPr>
              <a:t>"Двійники" Раскольников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71360" y="819000"/>
            <a:ext cx="584856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Calibri"/>
              </a:rPr>
              <a:t>Відображають окре-мі сторони, прояви його "теорії", </a:t>
            </a:r>
            <a:r>
              <a:rPr b="1" lang="uk-UA" sz="4800" spc="-1" strike="noStrike">
                <a:solidFill>
                  <a:srgbClr val="ff0000"/>
                </a:solidFill>
                <a:latin typeface="Calibri"/>
              </a:rPr>
              <a:t>тем-ного боку </a:t>
            </a:r>
            <a:r>
              <a:rPr b="0" lang="uk-UA" sz="4800" spc="-1" strike="noStrike">
                <a:solidFill>
                  <a:srgbClr val="000000"/>
                </a:solidFill>
                <a:latin typeface="Calibri"/>
              </a:rPr>
              <a:t>його особистості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Calibri"/>
              </a:rPr>
              <a:t>Лужин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Calibri"/>
              </a:rPr>
              <a:t>Лебезятников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Calibri"/>
              </a:rPr>
              <a:t>Свидригайлов</a:t>
            </a:r>
            <a:r>
              <a:rPr b="0" lang="uk-UA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http://umdb.org.ua/images/imgs/__local10009/1255702259778.jpg"/>
          <p:cNvPicPr/>
          <p:nvPr/>
        </p:nvPicPr>
        <p:blipFill>
          <a:blip r:embed="rId2"/>
          <a:stretch/>
        </p:blipFill>
        <p:spPr>
          <a:xfrm>
            <a:off x="6019920" y="990720"/>
            <a:ext cx="1923840" cy="3309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://www.kinopoisk.ru/images/kadr/sm_528979.jpg"/>
          <p:cNvPicPr/>
          <p:nvPr/>
        </p:nvPicPr>
        <p:blipFill>
          <a:blip r:embed="rId3"/>
          <a:stretch/>
        </p:blipFill>
        <p:spPr>
          <a:xfrm>
            <a:off x="8110440" y="3619440"/>
            <a:ext cx="1887480" cy="2830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http://1.bp.blogspot.com/-x44O3Wb1B8M/UZeqB-CtyPI/AAAAAAAADUM/qeSdTEB4Lsk/s1600/e5a9063bd48b.jpg"/>
          <p:cNvPicPr/>
          <p:nvPr/>
        </p:nvPicPr>
        <p:blipFill>
          <a:blip r:embed="rId4"/>
          <a:stretch/>
        </p:blipFill>
        <p:spPr>
          <a:xfrm>
            <a:off x="8564400" y="990720"/>
            <a:ext cx="330372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2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-1872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0000"/>
                </a:solidFill>
                <a:latin typeface="Mistral"/>
              </a:rPr>
              <a:t>Аркадій Іванович Свидригайлов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0" y="971640"/>
            <a:ext cx="77724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Это был человек лет пятидесяти, росту повыше среднего, дородный, с широкими и крутыми плечами, что придавало ему несколько суту-ловатый вид. Широкое, скулистое лицо его было довольно приятно, и цвет лица был свежий, не петербургский. Волосы его, очень еще густые, были совсем белокурые и чуть-чуть разве с проседью, а широкая, густая бо-рода, спускавшаяся лопатой, была еще свет-лее головных волос. Глаза его были голубые и смотрели холодно, пристально и вдумчиво; губы алые. Вообще это был отлично сохра-нившийся человек и казавшийся гораздо моложе своих л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lib.rus.ec/i/52/352952/i_011.jpg"/>
          <p:cNvPicPr/>
          <p:nvPr/>
        </p:nvPicPr>
        <p:blipFill>
          <a:blip r:embed="rId2"/>
          <a:stretch/>
        </p:blipFill>
        <p:spPr>
          <a:xfrm>
            <a:off x="7772400" y="971640"/>
            <a:ext cx="4248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http://fabienrothey.hautetfort.com/media/02/02/1497782599.png"/>
          <p:cNvPicPr/>
          <p:nvPr/>
        </p:nvPicPr>
        <p:blipFill>
          <a:blip r:embed="rId2"/>
          <a:stretch/>
        </p:blipFill>
        <p:spPr>
          <a:xfrm>
            <a:off x="7182000" y="438120"/>
            <a:ext cx="5032080" cy="64198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255600" y="2192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 Light"/>
              </a:rPr>
              <a:t>Свидригайлов -доведена до цин</a:t>
            </a:r>
            <a:r>
              <a:rPr b="1" lang="uk-UA" sz="4000" spc="-1" strike="noStrike">
                <a:solidFill>
                  <a:srgbClr val="002060"/>
                </a:solidFill>
                <a:latin typeface="Calibri Light"/>
              </a:rPr>
              <a:t>і</a:t>
            </a:r>
            <a:r>
              <a:rPr b="1" lang="ru-RU" sz="4000" spc="-1" strike="noStrike">
                <a:solidFill>
                  <a:srgbClr val="002060"/>
                </a:solidFill>
                <a:latin typeface="Calibri Light"/>
              </a:rPr>
              <a:t>зму проекція «теорії» Раскольніков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33440" y="1274400"/>
            <a:ext cx="756288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«Я человек развратный и праздный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«Изверг ли я или сам жертва? Ну, а как жертва?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«Это самый развращенный и погибший в пороках человек из всех подобного рода людей!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«Мне все кажется, что в вас есть что-то к моему подходящее…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00000"/>
                </a:solidFill>
                <a:latin typeface="Calibri"/>
              </a:rPr>
              <a:t>«Мы одного поля ягоды…»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1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1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1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1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1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-14976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0000"/>
                </a:solidFill>
                <a:latin typeface="Mistral"/>
              </a:rPr>
              <a:t>Андрій Семенович Лебезятніков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1028880"/>
            <a:ext cx="8896320" cy="58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Это был худосочный и золотушный человек, малого роста, до странности белокурый, с бакенбардами, в виде котлет, которыми он очень гордился. Сердце у него было довольно мягкое, но речь весьма самоуверенная, а иной раз чрезвычайно даже заносчивая, – что, в сравнении с фигуркой его, почти всегда выходило смешно. Он действительно был </a:t>
            </a: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глуповат.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Это был один из того бесчисленного и разноличного легиона </a:t>
            </a: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пошляков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, дохленьких </a:t>
            </a: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недо-носков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и всему недоучившихся </a:t>
            </a: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самодуров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, которые мигом пристают непременно к самой модной ходя-чей идее, чтобы тотчас же </a:t>
            </a: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опошлить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ее, чтобы мигом </a:t>
            </a: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окарикатурить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все, чему они же иногда самым иск-ренним образом служа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Лебезятников - карикатурна проекція  «теорії» Раскольнікова</a:t>
            </a:r>
            <a:br>
              <a:rPr sz="4400"/>
            </a:b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www.kinopoisk.ru/images/kadr/sm_528979.jpg"/>
          <p:cNvPicPr/>
          <p:nvPr/>
        </p:nvPicPr>
        <p:blipFill>
          <a:blip r:embed="rId2"/>
          <a:stretch/>
        </p:blipFill>
        <p:spPr>
          <a:xfrm>
            <a:off x="9185400" y="1028880"/>
            <a:ext cx="281628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ff0000"/>
                </a:solidFill>
                <a:latin typeface="Mistral"/>
              </a:rPr>
              <a:t>Петро Петрович Лужин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66400" y="132552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Убеждению этому много помогли </a:t>
            </a:r>
            <a:r>
              <a:rPr b="0" lang="uk-UA" sz="2800" spc="-1" strike="noStrike">
                <a:solidFill>
                  <a:srgbClr val="ff0000"/>
                </a:solidFill>
                <a:latin typeface="Calibri"/>
              </a:rPr>
              <a:t>тщеславие и та степень самоуверенности, которую лучше всего назвать самовлюбленностию.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Петр Петрович, </a:t>
            </a:r>
            <a:r>
              <a:rPr b="0" lang="uk-UA" sz="2800" spc="-1" strike="noStrike">
                <a:solidFill>
                  <a:srgbClr val="002060"/>
                </a:solidFill>
                <a:latin typeface="Calibri"/>
              </a:rPr>
              <a:t>пробившись из ничтожества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, болезненно привык любоваться собою, </a:t>
            </a:r>
            <a:r>
              <a:rPr b="0" lang="uk-UA" sz="2800" spc="-1" strike="noStrike">
                <a:solidFill>
                  <a:srgbClr val="002060"/>
                </a:solidFill>
                <a:latin typeface="Calibri"/>
              </a:rPr>
              <a:t>высоко ценил свой ум и способности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и даже иногда, наедине, любовался своим лицом в зеркал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00000"/>
                </a:solidFill>
                <a:latin typeface="Calibri"/>
              </a:rPr>
              <a:t>Но более всего на свете любил и ценил он, добытые трудом и всякими средствами, свои деньги: они равняли его со всем, что было выше е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http://lib.rus.ec/i/52/352952/i_006.jpg"/>
          <p:cNvPicPr/>
          <p:nvPr/>
        </p:nvPicPr>
        <p:blipFill>
          <a:blip r:embed="rId2"/>
          <a:stretch/>
        </p:blipFill>
        <p:spPr>
          <a:xfrm>
            <a:off x="7858080" y="1325520"/>
            <a:ext cx="3915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 Light"/>
              </a:rPr>
              <a:t>Теорія «розумного егоїзму» або «цілого кафтану» Лужин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85840" y="1135080"/>
            <a:ext cx="11772720" cy="65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Если мне, например, до сих пор говорили: «возлюби» и я воз-люблял, то выходило то, что я рвал кафтан пополам, делился с ближним, и оба мы оставались наполовину гол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Наука же говорит: </a:t>
            </a:r>
            <a:r>
              <a:rPr b="1" lang="uk-UA" sz="3200" spc="-1" strike="noStrike">
                <a:solidFill>
                  <a:srgbClr val="ff0000"/>
                </a:solidFill>
                <a:latin typeface="Calibri"/>
              </a:rPr>
              <a:t>возлюби, прежде всех, одного себя, ибо все на свете на личном интересе основано.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Возлюбишь одного се-бя, то и дела свои обделаешь как следует и кафтан твой оста-нется це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Стало быть,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риобретая единственно и исключительно себе, я именно тем самым приобретаю как бы и всем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и веду к тому, чтобы ближний получил несколько более рваного кафтана, и уже не от частных, единичных щедрот, а вследствие всеобщего пре-успеяния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581800" y="1825200"/>
            <a:ext cx="5904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0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2"/>
          <a:stretch/>
        </p:blipFill>
        <p:spPr>
          <a:xfrm>
            <a:off x="60480" y="-262080"/>
            <a:ext cx="8669160" cy="54435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5146560" y="7949880"/>
            <a:ext cx="101649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fitoera.ru/wp-content/uploads/2014/03/Dostoevskiy_2.jpg"/>
          <p:cNvPicPr/>
          <p:nvPr/>
        </p:nvPicPr>
        <p:blipFill>
          <a:blip r:embed="rId3"/>
          <a:stretch/>
        </p:blipFill>
        <p:spPr>
          <a:xfrm>
            <a:off x="4003560" y="3168720"/>
            <a:ext cx="3956040" cy="3689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http://www.ug.ru/uploads/images/method_article/661/large/notitle7.png"/>
          <p:cNvPicPr/>
          <p:nvPr/>
        </p:nvPicPr>
        <p:blipFill>
          <a:blip r:embed="rId4"/>
          <a:stretch/>
        </p:blipFill>
        <p:spPr>
          <a:xfrm>
            <a:off x="8705880" y="2443320"/>
            <a:ext cx="333360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526680"/>
            <a:ext cx="10515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2060"/>
                </a:solidFill>
                <a:latin typeface="Calibri Light"/>
              </a:rPr>
              <a:t>Лужин – </a:t>
            </a:r>
            <a:r>
              <a:rPr b="1" lang="uk-UA" sz="5400" spc="-1" strike="noStrike">
                <a:solidFill>
                  <a:srgbClr val="002060"/>
                </a:solidFill>
                <a:latin typeface="Calibri Light"/>
              </a:rPr>
              <a:t>знижена проекція </a:t>
            </a:r>
            <a:br>
              <a:rPr sz="5400"/>
            </a:br>
            <a:r>
              <a:rPr b="1" lang="uk-UA" sz="5400" spc="-1" strike="noStrike">
                <a:solidFill>
                  <a:srgbClr val="002060"/>
                </a:solidFill>
                <a:latin typeface="Calibri Light"/>
              </a:rPr>
              <a:t>«теорії» Раскольнікова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19040" y="1825200"/>
            <a:ext cx="10344240" cy="51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400" spc="-1" strike="noStrike">
                <a:solidFill>
                  <a:srgbClr val="000000"/>
                </a:solidFill>
                <a:latin typeface="Calibri"/>
              </a:rPr>
              <a:t>«А доведите до последствий, что вы давеча проповедовали, и выйдет, что </a:t>
            </a:r>
            <a:r>
              <a:rPr b="0" i="1" lang="uk-UA" sz="6400" spc="-1" strike="noStrike">
                <a:solidFill>
                  <a:srgbClr val="ff0000"/>
                </a:solidFill>
                <a:latin typeface="Calibri"/>
              </a:rPr>
              <a:t>людей можно  резать</a:t>
            </a:r>
            <a:r>
              <a:rPr b="0" lang="uk-UA" sz="6400" spc="-1" strike="noStrike">
                <a:solidFill>
                  <a:srgbClr val="000000"/>
                </a:solidFill>
                <a:latin typeface="Calibri"/>
              </a:rPr>
              <a:t>…»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239040" y="1825200"/>
            <a:ext cx="21142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5" dur="1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-3286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2060"/>
                </a:solidFill>
                <a:latin typeface="Calibri Light"/>
              </a:rPr>
              <a:t>"Антиподи" Раскольникова</a:t>
            </a: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28200" y="819000"/>
            <a:ext cx="5148360" cy="588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Розвінчують антигу-манну сутність «тео-рії» Раскольнікова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Відображають різні сторони </a:t>
            </a:r>
            <a:r>
              <a:rPr b="0" lang="uk-UA" sz="4000" spc="-1" strike="noStrike">
                <a:solidFill>
                  <a:srgbClr val="ff0000"/>
                </a:solidFill>
                <a:latin typeface="Calibri"/>
              </a:rPr>
              <a:t>світлого в головному герої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Calibri"/>
              </a:rPr>
              <a:t>Соня Мармеладова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Calibri"/>
              </a:rPr>
              <a:t>Порфирій Петрович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Calibri"/>
              </a:rPr>
              <a:t>Дмитро Разуміхі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4" descr=""/>
          <p:cNvPicPr/>
          <p:nvPr/>
        </p:nvPicPr>
        <p:blipFill>
          <a:blip r:embed="rId2"/>
          <a:stretch/>
        </p:blipFill>
        <p:spPr>
          <a:xfrm>
            <a:off x="5578560" y="996840"/>
            <a:ext cx="2654280" cy="1990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http://bihun.in.ua/uploads/RTEmagicC_Porfirii.jpg.jpg"/>
          <p:cNvPicPr/>
          <p:nvPr/>
        </p:nvPicPr>
        <p:blipFill>
          <a:blip r:embed="rId3"/>
          <a:stretch/>
        </p:blipFill>
        <p:spPr>
          <a:xfrm>
            <a:off x="7108920" y="2805120"/>
            <a:ext cx="2967120" cy="2225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http://kp.ru/f/4/image/22/70/577022.jpg"/>
          <p:cNvPicPr/>
          <p:nvPr/>
        </p:nvPicPr>
        <p:blipFill>
          <a:blip r:embed="rId4"/>
          <a:stretch/>
        </p:blipFill>
        <p:spPr>
          <a:xfrm>
            <a:off x="9753480" y="4419720"/>
            <a:ext cx="3629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0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-14976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uk-UA" sz="8800" spc="-1" strike="noStrike">
                <a:solidFill>
                  <a:srgbClr val="ff0000"/>
                </a:solidFill>
                <a:latin typeface="Mistral"/>
              </a:rPr>
              <a:t>Соня Мармеладова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875880"/>
            <a:ext cx="8667720" cy="653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Соня была малого роста, лет восемнадцати, худень-кая, но довольно хорошенькая блондинка, </a:t>
            </a:r>
            <a:r>
              <a:rPr b="1" lang="uk-UA" sz="2800" spc="-1" strike="noStrike">
                <a:solidFill>
                  <a:srgbClr val="00b0f0"/>
                </a:solidFill>
                <a:latin typeface="Calibri"/>
              </a:rPr>
              <a:t>с заме-чательными голубыми глаз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Это было худенькое, совсем худенькое и бледное личико, довольно неправильное, какое-то востре-нькое, с востреньким маленьким носом и подбо-родком. Ее даже нельзя было назвать и хорошень-кою, но </a:t>
            </a:r>
            <a:r>
              <a:rPr b="1" lang="uk-UA" sz="2800" spc="-1" strike="noStrike">
                <a:solidFill>
                  <a:srgbClr val="00b0f0"/>
                </a:solidFill>
                <a:latin typeface="Calibri"/>
              </a:rPr>
              <a:t>зато голубые глаза ее были такие ясные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, и когда оживлялись они, выражение лица ее стано-вилось такое доброе и простодушное, что невольно привлекало к ней. В лице ее, да и во всей ее фигуре, была сверх того </a:t>
            </a: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одна особенная характерная черта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: несмотря на свои восемнадцать лет, </a:t>
            </a: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она казалась почти еще девочкой, гораздо моложе своих лет, совсем почти ребенк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6" descr="http://resoch.ru/wp-content/uploads/2012/09/glazunov.jpg"/>
          <p:cNvPicPr/>
          <p:nvPr/>
        </p:nvPicPr>
        <p:blipFill>
          <a:blip r:embed="rId2"/>
          <a:stretch/>
        </p:blipFill>
        <p:spPr>
          <a:xfrm>
            <a:off x="8886960" y="1176480"/>
            <a:ext cx="292392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1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500"/>
                            </p:stCondLst>
                            <p:childTnLst>
                              <p:par>
                                <p:cTn id="62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3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3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3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4500"/>
                            </p:stCondLst>
                            <p:childTnLst>
                              <p:par>
                                <p:cTn id="63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3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3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3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7500"/>
                            </p:stCondLst>
                            <p:childTnLst>
                              <p:par>
                                <p:cTn id="6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2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61920" y="1364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Calibri Light"/>
              </a:rPr>
              <a:t>«Сонечка, Сонечка Мармеладова, вечная Сонечка, пока мир стоит!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90440" y="1104480"/>
            <a:ext cx="12001680" cy="64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Ей три дороги, – думал он: – броситься в канаву, попасть в сумасшедший дом, или… или, наконец, броситься в разврат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одурманивающий ум и окаменяющий сердце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«Я не тебе поклонился, я всему страданию человеческому поклонился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«Мы вместе прокляты, вместе и пойдем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«Ты тоже переступила… смогла переступить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Ты на себя руки наложила, ты загубила жизнь… свою (это все равно!) Ты могла бы жить духом и ра-зумом, а кончишь на Сенной…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Да она свое последнее платье скинет, продаст, босая пойдет, а вам от-даст, коль вам надо будет, вот она какая! Она и желтый-то билет полу-чила, потому что мои же дети с голоду пропадали, себя за нас продала!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.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Calibri"/>
              </a:rPr>
              <a:t>Шлях Соні Мармеладової – шлях духовного воскресіння Раскольнікова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1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000"/>
                            </p:stCondLst>
                            <p:childTnLst>
                              <p:par>
                                <p:cTn id="683" nodeType="afterEffect" fill="hold" presetClass="entr" presetID="5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7920"/>
          <a:ext cx="12192120" cy="7182000"/>
        </p:xfrm>
        <a:graphic>
          <a:graphicData uri="http://schemas.openxmlformats.org/drawingml/2006/table">
            <a:tbl>
              <a:tblPr/>
              <a:tblGrid>
                <a:gridCol w="5829480"/>
                <a:gridCol w="6362640"/>
              </a:tblGrid>
              <a:tr h="50184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оня Мармелад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Родіон Раскольні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55a11"/>
                    </a:solidFill>
                  </a:tcPr>
                </a:tc>
              </a:tr>
              <a:tr h="50292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кромна, добра, сором’язлива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Гордий, з приниженим самолюбств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  <a:tr h="156528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Рятуючи інших, бере на себе всю важкість гріха.В духовному плані – мучениц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«Это человек-то вошь!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На підтвердження своєї теорії здійснює злочин.В духовному плані – злочинец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«Я ведь только вошь убил, Соня, бесполезную, гадкую, зловредную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  <a:tr h="16430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Живе, виходячи з потреб життя, поза межами жодних теорі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Теорія вирахувана досконало, але людина не може переступити через кров, рятуючи людей. Теорія не може врахувати все, що відбувається в житті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  <a:tr h="82260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Без освіти, важко формулює думку, читає Євангеліє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вітло розуму заводить його в прірв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  <a:tr h="50328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Розуміє сенс життя в любові та вір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Не бачить сенсу житт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  <a:tr h="8222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еретнула межу заради інших – постраждала са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коїв злочин заради себе – постраждали інш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  <a:tr h="82080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Виношує ідеї милосердя і смире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Уявив себе Наполеоном, «тим, хто право має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b183"/>
                    </a:solidFill>
                  </a:tcPr>
                </a:tc>
              </a:tr>
            </a:tbl>
          </a:graphicData>
        </a:graphic>
      </p:graphicFrame>
      <p:sp>
        <p:nvSpPr>
          <p:cNvPr id="115" name=""/>
          <p:cNvSpPr txBox="1"/>
          <p:nvPr/>
        </p:nvSpPr>
        <p:spPr>
          <a:xfrm>
            <a:off x="6171840" y="1825200"/>
            <a:ext cx="51814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94" dur="4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-1872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0000"/>
                </a:solidFill>
                <a:latin typeface="Mistral"/>
              </a:rPr>
              <a:t>Дмитро Прокопович Разуміхін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360" y="933480"/>
            <a:ext cx="7553160" cy="61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libri"/>
              </a:rPr>
              <a:t>Это был необыкновенно веселый и сообщитель-ный парень, добрый до простоты. Впрочем, под этою простотой таились и глубина и достоинство. Лучшие из его товарищей понимали это, все лю-били его. Иногда он буянил и слыл за силача.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libri"/>
              </a:rPr>
              <a:t>Пить он мог до бесконечности, но мог и совсем не пить; иногда проказил даже непозволитель-но, но мог и совсем не проказить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libri"/>
              </a:rPr>
              <a:t>Разумихин был еще тем замечателен, что ника-кие неудачи его никогда не смущали и никакие дурные обстоятельства, казалось, не могли при-давить его. Он мог квартировать хоть на крыше, терпеть адский голод и необыкновенный холод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libri"/>
              </a:rPr>
              <a:t>Был он очень беден и решительно сам, один, со-держал себя, добывая кой-какими работами деньги. Он знал бездну источников, где мог по-черпнуть, разумеется заработком.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http://cs313420.vk.me/v313420797/41c9/SZal0yI4Yl4.jpg"/>
          <p:cNvPicPr/>
          <p:nvPr/>
        </p:nvPicPr>
        <p:blipFill>
          <a:blip r:embed="rId2"/>
          <a:stretch/>
        </p:blipFill>
        <p:spPr>
          <a:xfrm>
            <a:off x="7553160" y="1690560"/>
            <a:ext cx="446724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1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2000"/>
                            </p:stCondLst>
                            <p:childTnLst>
                              <p:par>
                                <p:cTn id="70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5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4000"/>
                            </p:stCondLst>
                            <p:childTnLst>
                              <p:par>
                                <p:cTn id="70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9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3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 Light"/>
              </a:rPr>
              <a:t>«Ведь вот этот человек за меня на распятие пойдет…»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0080" y="1325520"/>
            <a:ext cx="64198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700" spc="-1" strike="noStrike">
                <a:solidFill>
                  <a:srgbClr val="000000"/>
                </a:solidFill>
                <a:latin typeface="Calibri"/>
              </a:rPr>
              <a:t>Втілює простий розум, гуманізм, який ґрунтується на життєвому досвіді, повагу та любов до людей;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700" spc="-1" strike="noStrike">
                <a:solidFill>
                  <a:srgbClr val="000000"/>
                </a:solidFill>
                <a:latin typeface="Calibri"/>
              </a:rPr>
              <a:t>На його думку, злочин проти-річить здоровому глузду;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700" spc="-1" strike="noStrike">
                <a:solidFill>
                  <a:srgbClr val="000000"/>
                </a:solidFill>
                <a:latin typeface="Calibri"/>
              </a:rPr>
              <a:t>Шлях Разуміхіна - це </a:t>
            </a:r>
            <a:r>
              <a:rPr b="0" lang="uk-UA" sz="3700" spc="-1" strike="noStrike">
                <a:solidFill>
                  <a:srgbClr val="ff0000"/>
                </a:solidFill>
                <a:latin typeface="Calibri"/>
              </a:rPr>
              <a:t>свого роду можливий шлях розвитку й життя головного героя </a:t>
            </a:r>
            <a:r>
              <a:rPr b="0" lang="uk-UA" sz="3700" spc="-1" strike="noStrike">
                <a:solidFill>
                  <a:srgbClr val="000000"/>
                </a:solidFill>
                <a:latin typeface="Calibri"/>
              </a:rPr>
              <a:t>Родіона Раскольнікова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http://static.diary.ru/userdir/1/8/2/0/1820635/70945541.jpg"/>
          <p:cNvPicPr/>
          <p:nvPr/>
        </p:nvPicPr>
        <p:blipFill>
          <a:blip r:embed="rId2"/>
          <a:stretch/>
        </p:blipFill>
        <p:spPr>
          <a:xfrm>
            <a:off x="7047000" y="1552680"/>
            <a:ext cx="534492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3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8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3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8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://ppt4web.ru/images/1402/38592/310/img11.jpg"/>
          <p:cNvPicPr/>
          <p:nvPr/>
        </p:nvPicPr>
        <p:blipFill>
          <a:blip r:embed="rId2"/>
          <a:stretch/>
        </p:blipFill>
        <p:spPr>
          <a:xfrm>
            <a:off x="7810560" y="2859120"/>
            <a:ext cx="5048280" cy="44942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2060"/>
                </a:solidFill>
                <a:latin typeface="Calibri Light"/>
              </a:rPr>
              <a:t>«Недоверчив, скептик, циник… </a:t>
            </a:r>
            <a:br>
              <a:rPr sz="5400"/>
            </a:br>
            <a:r>
              <a:rPr b="1" lang="uk-UA" sz="5400" spc="-1" strike="noStrike">
                <a:solidFill>
                  <a:srgbClr val="002060"/>
                </a:solidFill>
                <a:latin typeface="Calibri Light"/>
              </a:rPr>
              <a:t>А дело знает, знает…» 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1325160"/>
            <a:ext cx="84582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З його іменем пов'язана в романі тема пока-рання;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Їхні роздуми збігаються, вони мають одна-кову логіку. Але Порфирій Петрович оцінює факти з точки зору закону, яким керується в житті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Сприймає «теорію» Раскольнікова як знайо-му за власним досвідом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Здатний зрозуміти іншу людину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Знає життя і його закони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Шлях Порфирія Петровича - це </a:t>
            </a:r>
            <a:r>
              <a:rPr b="0" lang="uk-UA" sz="3300" spc="-1" strike="noStrike">
                <a:solidFill>
                  <a:srgbClr val="ff0000"/>
                </a:solidFill>
                <a:latin typeface="Calibri"/>
              </a:rPr>
              <a:t>можлива кар'єра самого Раскольнікова.</a:t>
            </a:r>
            <a:r>
              <a:rPr b="0" lang="en-US" sz="33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5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3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4" dur="3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3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0" dur="3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3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6" dur="3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3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2" dur="3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3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8" dur="3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4" dur="3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-2253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2060"/>
                </a:solidFill>
                <a:latin typeface="Calibri Light"/>
              </a:rPr>
              <a:t>Значення "двійників" і "антиподів"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8600" y="914400"/>
            <a:ext cx="65930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Відображають проти-річчя характеру головно-го героя;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2) Детально змальовують  основні його риси;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3) Подають перспективи розвитку його ідеології та моралі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http://fb.ru/misc/i/gallery/13848/452540.jpg"/>
          <p:cNvPicPr/>
          <p:nvPr/>
        </p:nvPicPr>
        <p:blipFill>
          <a:blip r:embed="rId2"/>
          <a:stretch/>
        </p:blipFill>
        <p:spPr>
          <a:xfrm>
            <a:off x="6821640" y="1428840"/>
            <a:ext cx="537048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3000"/>
                            </p:stCondLst>
                            <p:childTnLst>
                              <p:par>
                                <p:cTn id="8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3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3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3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6000"/>
                            </p:stCondLst>
                            <p:childTnLst>
                              <p:par>
                                <p:cTn id="8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3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3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3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9000"/>
                            </p:stCondLst>
                            <p:childTnLst>
                              <p:par>
                                <p:cTn id="8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3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3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3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3480" y="-17114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600" spc="-1" strike="noStrike">
              <a:solidFill>
                <a:srgbClr val="ff0000"/>
              </a:solidFill>
              <a:latin typeface="Mistr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-360"/>
            <a:ext cx="11639520" cy="666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Mistral"/>
              </a:rPr>
              <a:t>Пульхерія Олександрівна Раскольніков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94040" indent="-1940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Mistral"/>
              </a:rPr>
              <a:t>Авдотья Романівна Раскольніков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94040" indent="-1940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Mistral"/>
              </a:rPr>
              <a:t>Семен Захарович Мармеладо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94040" indent="-1940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Mistral"/>
              </a:rPr>
              <a:t>Катерина Іванівна і її діт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94040" indent="-1940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Mistral"/>
              </a:rPr>
              <a:t>Студент і молодий офіцер в трактирі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94040" indent="-1940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Mistral"/>
              </a:rPr>
              <a:t>Никодим Фоміч та Ілля Петрович, Замето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94040" indent="-1940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Mistral"/>
              </a:rPr>
              <a:t>Зосімо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94040" indent="-1940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Mistral"/>
              </a:rPr>
              <a:t>Мікол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94040" indent="-19404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Mistral"/>
              </a:rPr>
              <a:t>Міщанин і т.д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353320" y="1825200"/>
            <a:ext cx="4366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500"/>
                            </p:stCondLst>
                            <p:childTnLst>
                              <p:par>
                                <p:cTn id="837" nodeType="after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6500"/>
                            </p:stCondLst>
                            <p:childTnLst>
                              <p:par>
                                <p:cTn id="843" nodeType="after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500"/>
                            </p:stCondLst>
                            <p:childTnLst>
                              <p:par>
                                <p:cTn id="849" nodeType="after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4500"/>
                            </p:stCondLst>
                            <p:childTnLst>
                              <p:par>
                                <p:cTn id="855" nodeType="after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2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18500"/>
                            </p:stCondLst>
                            <p:childTnLst>
                              <p:par>
                                <p:cTn id="861" nodeType="after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2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22500"/>
                            </p:stCondLst>
                            <p:childTnLst>
                              <p:par>
                                <p:cTn id="867" nodeType="after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2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26500"/>
                            </p:stCondLst>
                            <p:childTnLst>
                              <p:par>
                                <p:cTn id="873" nodeType="after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2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20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30500"/>
                            </p:stCondLst>
                            <p:childTnLst>
                              <p:par>
                                <p:cTn id="879" nodeType="after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2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2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20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3" descr=""/>
          <p:cNvPicPr/>
          <p:nvPr/>
        </p:nvPicPr>
        <p:blipFill>
          <a:blip r:embed="rId2"/>
          <a:stretch/>
        </p:blipFill>
        <p:spPr>
          <a:xfrm>
            <a:off x="701640" y="-615960"/>
            <a:ext cx="3876840" cy="3322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39520" y="1898640"/>
            <a:ext cx="10937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Mistral"/>
              </a:rPr>
              <a:t>Кожна людина відповідальна перед усіма людьми за всіх людей і за все…</a:t>
            </a:r>
            <a:r>
              <a:rPr b="1" lang="uk-UA" sz="6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000000"/>
                </a:solidFill>
                <a:latin typeface="Monotype Corsiva"/>
              </a:rPr>
              <a:t>                      </a:t>
            </a:r>
            <a:r>
              <a:rPr b="0" lang="uk-UA" sz="6600" spc="-1" strike="noStrike">
                <a:solidFill>
                  <a:srgbClr val="000000"/>
                </a:solidFill>
                <a:latin typeface="Monotype Corsiva"/>
              </a:rPr>
              <a:t>Ф.М.Достоєвськи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az.lib.ru/d/dostoewskij_f_m/.photo2.jpg"/>
          <p:cNvPicPr/>
          <p:nvPr/>
        </p:nvPicPr>
        <p:blipFill>
          <a:blip r:embed="rId3"/>
          <a:stretch/>
        </p:blipFill>
        <p:spPr>
          <a:xfrm>
            <a:off x="10290240" y="3152880"/>
            <a:ext cx="176220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2560" y="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Calibri Light"/>
              </a:rPr>
              <a:t>Символічне значення назви роману </a:t>
            </a:r>
            <a:br>
              <a:rPr sz="4400"/>
            </a:br>
            <a:r>
              <a:rPr b="1" lang="uk-UA" sz="4400" spc="-1" strike="noStrike">
                <a:solidFill>
                  <a:srgbClr val="ff0000"/>
                </a:solidFill>
                <a:latin typeface="Calibri Light"/>
              </a:rPr>
              <a:t>Ф.М. Достоєвського «Злочин і кара»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2" name="Picture 2" descr="http://5fan.ru/files/10/5fan_ru_51780_28b5ae36146f937de8338539253e755a.html_files/22.png"/>
          <p:cNvPicPr/>
          <p:nvPr/>
        </p:nvPicPr>
        <p:blipFill>
          <a:blip r:embed="rId2"/>
          <a:stretch/>
        </p:blipFill>
        <p:spPr>
          <a:xfrm>
            <a:off x="182520" y="1542960"/>
            <a:ext cx="1205388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0" dur="4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4000"/>
                            </p:stCondLst>
                            <p:childTnLst>
                              <p:par>
                                <p:cTn id="892" nodeType="after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94" dur="4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7720" y="365040"/>
            <a:ext cx="10820520" cy="649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0000"/>
                </a:solidFill>
                <a:latin typeface="Calibri"/>
              </a:rPr>
              <a:t>Где это я читал, как один приговоренный к сме-рти, за час до смерти, говорит или думает, что если бы пришлось ему жить где-нибудь на высо-те, на скале, и на такой узенькой площадке, что-бы только две ноги можно было поставить, – а кругом будут пропасти, океан, вечный мрак, веч-ное уединение и вечная буря, – и оставаться так, стоя на аршине пространства, всю жизнь, тысячу лет, вечность, – то лучше так жить, чем сейчас умирать! Только бы жить, жить и жить! Как бы ни жить, – только жить!.. Экая правда! Господи, какая правда!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429680" y="1825200"/>
            <a:ext cx="39240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5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-168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c00000"/>
                </a:solidFill>
                <a:latin typeface="Calibri Light"/>
              </a:rPr>
              <a:t>Цілі уроку: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38080" y="952560"/>
            <a:ext cx="10515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розкрити особливості системи образів роману шляхом співставлення , визначити , яка їх роль  в розкритті образу головного героя;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перевірити отриманий  рівень знань, вмінь у формі виконання самостійної робот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формування навиків аналізу художнього твору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виховання толерантності, прагнення до активної багатогранної життєвої позиції, свідоме ставлення до вибору життєвого шлях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1353680" y="1825200"/>
            <a:ext cx="460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61920" y="312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вдання №1   </a:t>
            </a:r>
            <a:r>
              <a:rPr b="1" lang="uk-UA" sz="3200" spc="-1" strike="noStrike">
                <a:solidFill>
                  <a:srgbClr val="c00000"/>
                </a:solidFill>
                <a:latin typeface="Calibri Light"/>
              </a:rPr>
              <a:t>Поєднайте роз'єднані частини назв найвідоміших творів Достоєвського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209320" y="1638000"/>
            <a:ext cx="1141092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Бед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ые                                                  с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ратья                                                    мёртвого до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ниженные                                          наказ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елые                                                     Карамазо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ядюшкин                                            лю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точка                                                  и  оскорблён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ело Степанчиково и                         но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писки из                                             Незван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ступление и                                    его обитате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125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25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125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5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125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75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125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125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725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25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85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125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975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125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125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вдання №2</a:t>
            </a:r>
            <a:br>
              <a:rPr sz="2900"/>
            </a:br>
            <a:r>
              <a:rPr b="1" lang="uk-UA" sz="2900" spc="-1" strike="noStrike">
                <a:solidFill>
                  <a:srgbClr val="c00000"/>
                </a:solidFill>
                <a:latin typeface="Calibri Light"/>
              </a:rPr>
              <a:t>Згадайте прізвища героїв роману «Злочин і кара» за їхніми іменами: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715840" y="1454040"/>
            <a:ext cx="5783400" cy="525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Семен Захарович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Авдотья Романі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Аркадій Іванович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Порфирій Петрович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Родіон Романович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Дмитро Прокопович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Петро Петрович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Пульхерія Олександрі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Софія Семенівна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Альона Іванівна                    </a:t>
            </a:r>
            <a:r>
              <a:rPr b="0" lang="uk-UA" sz="2800" spc="-1" strike="noStrike">
                <a:solidFill>
                  <a:srgbClr val="002060"/>
                </a:solidFill>
                <a:latin typeface="Calibri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962480" y="1454040"/>
            <a:ext cx="3390840" cy="525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Мармелад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Раскольнік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Свидригай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           </a:t>
            </a: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Раскольні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Разуміхі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Луж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Раскольнік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Мармелад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Calibri"/>
              </a:rPr>
              <a:t>           </a:t>
            </a:r>
            <a:r>
              <a:rPr b="0" lang="uk-UA" sz="2800" spc="-1" strike="noStrike">
                <a:solidFill>
                  <a:srgbClr val="00206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" dur="1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0440" y="304560"/>
            <a:ext cx="115380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002060"/>
                </a:solidFill>
                <a:uFillTx/>
                <a:latin typeface="Calibri Light"/>
              </a:rPr>
              <a:t>Двоїстість</a:t>
            </a:r>
            <a:r>
              <a:rPr b="1" lang="uk-UA" sz="4000" spc="-1" strike="noStrike">
                <a:solidFill>
                  <a:srgbClr val="002060"/>
                </a:solidFill>
                <a:latin typeface="Calibri Light"/>
              </a:rPr>
              <a:t> - характерний прийом зображення у Достоєвського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26880" y="1325160"/>
            <a:ext cx="115380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 u="sng">
                <a:solidFill>
                  <a:srgbClr val="002060"/>
                </a:solidFill>
                <a:uFillTx/>
                <a:latin typeface="Calibri"/>
              </a:rPr>
              <a:t>Двоїстість реалізується</a:t>
            </a: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по-перше, через </a:t>
            </a:r>
            <a:r>
              <a:rPr b="0" i="1" lang="uk-UA" sz="3300" spc="-1" strike="noStrike">
                <a:solidFill>
                  <a:srgbClr val="c00000"/>
                </a:solidFill>
                <a:latin typeface="Calibri"/>
              </a:rPr>
              <a:t>роздвоєність свідомості головного героя. </a:t>
            </a: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У ньому ніби живе двоє: один за інстинктом прагне допомагати, рятувати принижених, а другий, розсудливий, цинічно аналізує вчинки першого й піддає їх критиці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По-друге, в романі ціла </a:t>
            </a:r>
            <a:r>
              <a:rPr b="0" i="1" lang="uk-UA" sz="3300" spc="-1" strike="noStrike">
                <a:solidFill>
                  <a:srgbClr val="c00000"/>
                </a:solidFill>
                <a:latin typeface="Calibri"/>
              </a:rPr>
              <a:t>низка героїв</a:t>
            </a:r>
            <a:r>
              <a:rPr b="0" lang="uk-UA" sz="3300" spc="-1" strike="noStrike">
                <a:solidFill>
                  <a:srgbClr val="000000"/>
                </a:solidFill>
                <a:latin typeface="Calibri"/>
              </a:rPr>
              <a:t>, які так чи інакше інтерпретують обидві названі сторони особистості Раскольнікова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300" spc="-1" strike="noStrike">
                <a:solidFill>
                  <a:srgbClr val="ff0000"/>
                </a:solidFill>
                <a:latin typeface="Calibri"/>
              </a:rPr>
              <a:t>Їх умовно називають "двійниками" й "антиподами" головного героя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0" dur="1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1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1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3" dur="1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1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0000"/>
                </a:solidFill>
                <a:latin typeface="Mistral"/>
              </a:rPr>
              <a:t>Родіон Романович Раскольніков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39680" y="1512720"/>
            <a:ext cx="6781680" cy="51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Он был замечательно хорош собою, с прекрасными темными глазами, темно-рус, ростом выше среднего, тонок и строен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Он был до того худо одет, что иной, даже и привычный человек, посовестился бы днем выходить в таких лохмотьях на улиц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Он был задавлен бедностью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По платью и по виду его очень могли принять  за нищего, за настоящего собирателя грошей по улиц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school.xvatit.com/images/f/f5/T18or.jpeg"/>
          <p:cNvPicPr/>
          <p:nvPr/>
        </p:nvPicPr>
        <p:blipFill>
          <a:blip r:embed="rId2"/>
          <a:stretch/>
        </p:blipFill>
        <p:spPr>
          <a:xfrm>
            <a:off x="7256520" y="1460520"/>
            <a:ext cx="345276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6000"/>
                            </p:stCondLst>
                            <p:childTnLst>
                              <p:par>
                                <p:cTn id="24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8000"/>
                            </p:stCondLst>
                            <p:childTnLst>
                              <p:par>
                                <p:cTn id="24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-339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 Light"/>
              </a:rPr>
              <a:t>Відношення Раскольнікова до людей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47680" y="647280"/>
            <a:ext cx="5734080" cy="603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Казалось, что он смотрит на них на всех, как на детей, 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свысока</a:t>
            </a: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, как будто он всех их опередил и развитием, и знани-ем, и убеждениями, и что на их убеж-дения и интересы он смотрит как на что-то 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низшее</a:t>
            </a:r>
            <a:r>
              <a:rPr b="0" lang="uk-UA" sz="4400" spc="-1" strike="noStrike">
                <a:solidFill>
                  <a:srgbClr val="c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illustrators.ru/illustrations/584321_original.jpg"/>
          <p:cNvPicPr/>
          <p:nvPr/>
        </p:nvPicPr>
        <p:blipFill>
          <a:blip r:embed="rId2"/>
          <a:stretch/>
        </p:blipFill>
        <p:spPr>
          <a:xfrm>
            <a:off x="6039000" y="1550880"/>
            <a:ext cx="5543280" cy="42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0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8T14:47:09Z</dcterms:created>
  <dc:creator>RePack by Diakov</dc:creator>
  <dc:description/>
  <dc:language>en-US</dc:language>
  <cp:lastModifiedBy>Admin</cp:lastModifiedBy>
  <dcterms:modified xsi:type="dcterms:W3CDTF">2014-12-12T16:36:55Z</dcterms:modified>
  <cp:revision>430</cp:revision>
  <dc:subject/>
  <dc:title>   Система образів роману Ф.М. Достоєвського «Злочин і кара», значення і символіка його назви.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15000000000001024140</vt:lpwstr>
  </property>
</Properties>
</file>