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561-D364-4A21-A08D-1A796ABB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1D8-116D-489E-A71C-0BB51637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16D-C841-46F9-BBBF-3097F97C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CEE-5A7D-4D4C-A6BD-0B86BBCC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BA4-D1CE-41F3-9050-0052B372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B14-5598-418F-BB13-CE51E44F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EC7-07F1-4F1A-959F-B7E84B91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2A0-B7AC-4D89-8BF5-2F30DD05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C6F-1101-42B3-A142-A78B2ACE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C5F-C17C-44D5-98E6-76A187C3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E92-EB36-4EFB-9491-DE0098B9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DD7-3268-4113-8086-E9859179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8454-9D38-4C1B-A67F-67F6924C9CA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425520"/>
            <a:ext cx="10515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2060"/>
                </a:solidFill>
                <a:latin typeface="Mistral"/>
              </a:rPr>
              <a:t>«Пристрасна проповідь добра</a:t>
            </a:r>
            <a:br>
              <a:rPr sz="6600"/>
            </a:br>
            <a:r>
              <a:rPr b="1" lang="uk-UA" sz="6600" spc="-1" strike="noStrike">
                <a:solidFill>
                  <a:srgbClr val="002060"/>
                </a:solidFill>
                <a:latin typeface="Mistral"/>
              </a:rPr>
              <a:t>для всього людства»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10" descr="http://www.interschool.ru/images/news/00001033.jpg"/>
          <p:cNvPicPr/>
          <p:nvPr/>
        </p:nvPicPr>
        <p:blipFill>
          <a:blip r:embed="rId2"/>
          <a:stretch/>
        </p:blipFill>
        <p:spPr>
          <a:xfrm>
            <a:off x="385920" y="649440"/>
            <a:ext cx="3705120" cy="275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www.lenatour.ru/userfiles/image/%D0%B4%D0%BE%D0%BC%20%D1%81%D0%BE%D0%BD%D0%B8%20%D0%BC%D0%B0%D1%80%D0%BC%D0%B5%D0%BB%D0%B0%D0%B4%D0%BE%D0%B2%D0%BE%D0%B9.jpg"/>
          <p:cNvPicPr/>
          <p:nvPr/>
        </p:nvPicPr>
        <p:blipFill>
          <a:blip r:embed="rId3"/>
          <a:stretch/>
        </p:blipFill>
        <p:spPr>
          <a:xfrm>
            <a:off x="3951360" y="1919160"/>
            <a:ext cx="4498920" cy="300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g.trip-guide.ru/img/13345/87012.jpg"/>
          <p:cNvPicPr/>
          <p:nvPr/>
        </p:nvPicPr>
        <p:blipFill>
          <a:blip r:embed="rId4"/>
          <a:stretch/>
        </p:blipFill>
        <p:spPr>
          <a:xfrm>
            <a:off x="7343640" y="4202280"/>
            <a:ext cx="4241880" cy="2828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www.privetsochi.ru/uploads/images/00/28/93/2011/04/07/be81d4.jpg"/>
          <p:cNvPicPr/>
          <p:nvPr/>
        </p:nvPicPr>
        <p:blipFill>
          <a:blip r:embed="rId5"/>
          <a:stretch/>
        </p:blipFill>
        <p:spPr>
          <a:xfrm>
            <a:off x="1457280" y="4205160"/>
            <a:ext cx="47433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-378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Відношення людей до Раскольніков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9160" y="947520"/>
            <a:ext cx="1162044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) Занимался он усиленно, не жалея себя, и за это его уважали, но </a:t>
            </a: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никто не любил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Угрюм, мрачен, надменен и горд. Великодушен и добр.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Чувств своих не любит высказывать и скорей жестокость сделает, чем словами выскажет сердце. Иногда просто холоден и бесчувственен до бесчеловечия, право, </a:t>
            </a:r>
            <a:r>
              <a:rPr b="1" lang="uk-UA" sz="3600" spc="-1" strike="noStrike" u="sng">
                <a:solidFill>
                  <a:srgbClr val="ff0000"/>
                </a:solidFill>
                <a:uFillTx/>
                <a:latin typeface="Calibri"/>
              </a:rPr>
              <a:t>точно в нем два противоположные характера поочередно сменяются.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Никогда не интересуется тем, чем все в данную минуту интересуются. Ужасно высоко себя ценит и, кажется, не без некоторого права на т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1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1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1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2060"/>
                </a:solidFill>
                <a:uFillTx/>
                <a:latin typeface="Calibri Light"/>
              </a:rPr>
              <a:t>Три етапи життя головного геро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Місце для вмісту 5" descr=""/>
          <p:cNvPicPr/>
          <p:nvPr/>
        </p:nvPicPr>
        <p:blipFill>
          <a:blip r:embed="rId2"/>
          <a:stretch/>
        </p:blipFill>
        <p:spPr>
          <a:xfrm>
            <a:off x="835200" y="1816200"/>
            <a:ext cx="105282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106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Альона Іванівна та Лізавета 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25280"/>
            <a:ext cx="6019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>
                <a:solidFill>
                  <a:srgbClr val="000000"/>
                </a:solidFill>
                <a:latin typeface="Calibri"/>
              </a:rPr>
              <a:t>Это была крошечная сухая старушонка, лет шестиде-сяти, с вострыми и злыми глазками, с маленьким вост-рым носом и простоволосая. Белобрысые, мало поседевшие волосы ее были жирно смазаны маслом. На ее тонкой и длин-ной шее, похожей на куриную ногу, было наверчено какое-то фланелевое тряпье, а на плечах, несмотря на жару, бол-талась вся истрепанная и по-желтелая меховая кацавейка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78320" y="1025280"/>
            <a:ext cx="5916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Это была высокая, неуклюжая, робкая и смиренная девка, чуть не идиотка, тридцати пяти лет, бывшая в полном рабстве у сестры своей, работавшая на нее день и ночь, трепетавшая перед ней и терпевшая от нее даже побо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оворила же вообще мало, и, как уже сказано, была такая смиренная и пуглива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 нее такое доброе лицо и глаза. Тихая такая, кроткая, безответная, согласная, на все согласная. А улыбка у ней даже очень хоро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-244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 Light"/>
              </a:rPr>
              <a:t>Дві сторони «теорії» Раскольніков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40" y="875880"/>
            <a:ext cx="5639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0000"/>
                </a:solidFill>
                <a:uFillTx/>
                <a:latin typeface="Calibri"/>
              </a:rPr>
              <a:t>Наполеонівсь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Ділення людей на два тип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«звичайні» ( «тварь дрожащая», «вошь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«незвичайні» (здатні сказати «нове слово», зробити «новий крок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alibri"/>
              </a:rPr>
              <a:t>«Незвичайним» дозво-ляється переступати через життя «зви-чайних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52720" y="875880"/>
            <a:ext cx="53341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0000"/>
                </a:solidFill>
                <a:uFillTx/>
                <a:latin typeface="Calibri"/>
              </a:rPr>
              <a:t>Альтруїстич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Одна смерть заради тисяч врятованих життів; прийняття на себе гріха вбивства заради щастя інших люде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6600"/>
                </a:solidFill>
                <a:latin typeface="Calibri"/>
              </a:rPr>
              <a:t>Розкриваємо значення слова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 u="sng">
                <a:solidFill>
                  <a:srgbClr val="c00000"/>
                </a:solidFill>
                <a:uFillTx/>
                <a:latin typeface="Calibri"/>
              </a:rPr>
              <a:t>Альтруїзм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uk-UA" sz="3300" spc="-1" strike="noStrike">
                <a:solidFill>
                  <a:srgbClr val="000000"/>
                </a:solidFill>
                <a:latin typeface="Calibri"/>
              </a:rPr>
              <a:t>безкорисливе піклування про благо інших, </a:t>
            </a:r>
            <a:r>
              <a:rPr b="0" i="1" lang="uk-UA" sz="3300" spc="-1" strike="noStrike">
                <a:solidFill>
                  <a:srgbClr val="ff0000"/>
                </a:solidFill>
                <a:latin typeface="Calibri"/>
              </a:rPr>
              <a:t>готовність жертвувати </a:t>
            </a:r>
            <a:r>
              <a:rPr b="0" i="1" lang="uk-UA" sz="3300" spc="-1" strike="noStrike">
                <a:solidFill>
                  <a:srgbClr val="000000"/>
                </a:solidFill>
                <a:latin typeface="Calibri"/>
              </a:rPr>
              <a:t>для інших своїми особис-тими інтересам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0360"/>
            <a:ext cx="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-187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"Двійники" Раскольников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1360" y="819000"/>
            <a:ext cx="584856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Відображають окре-мі сторони, прояви його "теорії", </a:t>
            </a: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тем-ного боку </a:t>
            </a: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його особистості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Лужин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Лебезятников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Свидригайлов</a:t>
            </a: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umdb.org.ua/images/imgs/__local10009/1255702259778.jpg"/>
          <p:cNvPicPr/>
          <p:nvPr/>
        </p:nvPicPr>
        <p:blipFill>
          <a:blip r:embed="rId2"/>
          <a:stretch/>
        </p:blipFill>
        <p:spPr>
          <a:xfrm>
            <a:off x="6019920" y="990720"/>
            <a:ext cx="1923840" cy="3309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kinopoisk.ru/images/kadr/sm_528979.jpg"/>
          <p:cNvPicPr/>
          <p:nvPr/>
        </p:nvPicPr>
        <p:blipFill>
          <a:blip r:embed="rId3"/>
          <a:stretch/>
        </p:blipFill>
        <p:spPr>
          <a:xfrm>
            <a:off x="8110440" y="3619440"/>
            <a:ext cx="1887480" cy="28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1.bp.blogspot.com/-x44O3Wb1B8M/UZeqB-CtyPI/AAAAAAAADUM/qeSdTEB4Lsk/s1600/e5a9063bd48b.jpg"/>
          <p:cNvPicPr/>
          <p:nvPr/>
        </p:nvPicPr>
        <p:blipFill>
          <a:blip r:embed="rId4"/>
          <a:stretch/>
        </p:blipFill>
        <p:spPr>
          <a:xfrm>
            <a:off x="8564400" y="990720"/>
            <a:ext cx="33037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187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Аркадій Іванович Свидригайлов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97164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Это был человек лет пятидесяти, росту повыше среднего, дородный, с широкими и крутыми плечами, что придавало ему несколько суту-ловатый вид. Широкое, скулистое лицо его было довольно приятно, и цвет лица был свежий, не петербургский. Волосы его, очень еще густые, были совсем белокурые и чуть-чуть разве с проседью, а широкая, густая бо-рода, спускавшаяся лопатой, была еще свет-лее головных волос. Глаза его были голубые и смотрели холодно, пристально и вдумчиво; губы алые. Вообще это был отлично сохра-нившийся человек и казавшийся гораздо моложе своих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lib.rus.ec/i/52/352952/i_011.jpg"/>
          <p:cNvPicPr/>
          <p:nvPr/>
        </p:nvPicPr>
        <p:blipFill>
          <a:blip r:embed="rId2"/>
          <a:stretch/>
        </p:blipFill>
        <p:spPr>
          <a:xfrm>
            <a:off x="7772400" y="971640"/>
            <a:ext cx="4248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fabienrothey.hautetfort.com/media/02/02/1497782599.png"/>
          <p:cNvPicPr/>
          <p:nvPr/>
        </p:nvPicPr>
        <p:blipFill>
          <a:blip r:embed="rId2"/>
          <a:stretch/>
        </p:blipFill>
        <p:spPr>
          <a:xfrm>
            <a:off x="7182000" y="438120"/>
            <a:ext cx="5032080" cy="6419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5600" y="219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Свидригайлов -доведена до цин</a:t>
            </a:r>
            <a:r>
              <a:rPr b="1" lang="uk-UA" sz="4000" spc="-1" strike="noStrike">
                <a:solidFill>
                  <a:srgbClr val="002060"/>
                </a:solidFill>
                <a:latin typeface="Calibri Light"/>
              </a:rPr>
              <a:t>і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зму проекція «теорії» Раскольніков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33440" y="1274400"/>
            <a:ext cx="75628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«Я человек развратный и праздный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«Изверг ли я или сам жертва? Ну, а как жертва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«Это самый развращенный и погибший в пороках человек из всех подобного рода людей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«Мне все кажется, что в вас есть что-то к моему подходящее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Мы одного поля ягоды…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1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149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Андрій Семенович Лебезятніков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028880"/>
            <a:ext cx="889632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Это был худосочный и золотушный человек, малого роста, до странности белокурый, с бакенбардами, в виде котлет, которыми он очень гордился. Сердце у него было довольно мягкое, но речь весьма самоуверенная, а иной раз чрезвычайно даже заносчивая, – что, в сравнении с фигуркой его, почти всегда выходило смешно. Он действительно был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луповат.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Это был один из того бесчисленного и разноличного легиона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пошляков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 дохленьких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недо-носков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и всему недоучившихся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самодуров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 которые мигом пристают непременно к самой модной ходя-чей идее, чтобы тотчас же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опошлить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ее, чтобы мигом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окарикатурить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се, чему они же иногда самым иск-ренним образом служ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ебезятников - карикатурна проекція  «теорії» Раскольнікова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kinopoisk.ru/images/kadr/sm_528979.jpg"/>
          <p:cNvPicPr/>
          <p:nvPr/>
        </p:nvPicPr>
        <p:blipFill>
          <a:blip r:embed="rId2"/>
          <a:stretch/>
        </p:blipFill>
        <p:spPr>
          <a:xfrm>
            <a:off x="9185400" y="1028880"/>
            <a:ext cx="2816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Mistral"/>
              </a:rPr>
              <a:t>Петро Петрович Лужин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400" y="13255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беждению этому много помогли 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тщеславие и та степень самоуверенности, которую лучше всего назвать самовлюбленностию.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етр Петрович,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пробившись из ничтожества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, болезненно привык любоваться собою,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высоко ценил свой ум и способности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и даже иногда, наедине, любовался своим лицом в зерка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Calibri"/>
              </a:rPr>
              <a:t>Но более всего на свете любил и ценил он, добытые трудом и всякими средствами, свои деньги: они равняли его со всем, что было выше 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ttp://lib.rus.ec/i/52/352952/i_006.jpg"/>
          <p:cNvPicPr/>
          <p:nvPr/>
        </p:nvPicPr>
        <p:blipFill>
          <a:blip r:embed="rId2"/>
          <a:stretch/>
        </p:blipFill>
        <p:spPr>
          <a:xfrm>
            <a:off x="7858080" y="1325520"/>
            <a:ext cx="3915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Теорія «розумного егоїзму» або «цілого кафтану» Лужи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5840" y="1135080"/>
            <a:ext cx="11772720" cy="65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сли мне, например, до сих пор говорили: «возлюби» и я воз-люблял, то выходило то, что я рвал кафтан пополам, делился с ближним, и оба мы оставались наполовину г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ука же говорит: </a:t>
            </a: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возлюби, прежде всех, одного себя, ибо все на свете на личном интересе основано.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Возлюбишь одного се-бя, то и дела свои обделаешь как следует и кафтан твой оста-нется ц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ало быть,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иобретая единственно и исключительно себе, я именно тем самым приобретаю как бы и всем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и веду к тому, чтобы ближний получил несколько более рваного кафтана, и уже не от частных, единичных щедрот, а вследствие всеобщего пре-успеяния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581800" y="1825200"/>
            <a:ext cx="5904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60480" y="-262080"/>
            <a:ext cx="8669160" cy="5443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6560" y="7949880"/>
            <a:ext cx="101649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fitoera.ru/wp-content/uploads/2014/03/Dostoevskiy_2.jpg"/>
          <p:cNvPicPr/>
          <p:nvPr/>
        </p:nvPicPr>
        <p:blipFill>
          <a:blip r:embed="rId3"/>
          <a:stretch/>
        </p:blipFill>
        <p:spPr>
          <a:xfrm>
            <a:off x="4003560" y="3168720"/>
            <a:ext cx="3956040" cy="368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www.ug.ru/uploads/images/method_article/661/large/notitle7.png"/>
          <p:cNvPicPr/>
          <p:nvPr/>
        </p:nvPicPr>
        <p:blipFill>
          <a:blip r:embed="rId4"/>
          <a:stretch/>
        </p:blipFill>
        <p:spPr>
          <a:xfrm>
            <a:off x="8705880" y="2443320"/>
            <a:ext cx="33336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26680"/>
            <a:ext cx="10515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Лужин – </a:t>
            </a: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знижена проекція </a:t>
            </a:r>
            <a:br>
              <a:rPr sz="5400"/>
            </a:b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«теорії» Раскольніков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19040" y="1825200"/>
            <a:ext cx="10344240" cy="51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400" spc="-1" strike="noStrike">
                <a:solidFill>
                  <a:srgbClr val="000000"/>
                </a:solidFill>
                <a:latin typeface="Calibri"/>
              </a:rPr>
              <a:t>«А доведите до последствий, что вы давеча проповедовали, и выйдет, что </a:t>
            </a:r>
            <a:r>
              <a:rPr b="0" i="1" lang="uk-UA" sz="6400" spc="-1" strike="noStrike">
                <a:solidFill>
                  <a:srgbClr val="ff0000"/>
                </a:solidFill>
                <a:latin typeface="Calibri"/>
              </a:rPr>
              <a:t>людей можно  резать</a:t>
            </a:r>
            <a:r>
              <a:rPr b="0" lang="uk-UA" sz="6400" spc="-1" strike="noStrike">
                <a:solidFill>
                  <a:srgbClr val="000000"/>
                </a:solidFill>
                <a:latin typeface="Calibri"/>
              </a:rPr>
              <a:t>…»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239040" y="1825200"/>
            <a:ext cx="2114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5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286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2060"/>
                </a:solidFill>
                <a:latin typeface="Calibri Light"/>
              </a:rPr>
              <a:t>"Антиподи" Раскольникова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200" y="819000"/>
            <a:ext cx="5148360" cy="588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озвінчують антигу-манну сутність «тео-рії» Раскольніков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ідображають різні сторони </a:t>
            </a: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світлого в головному герої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Соня Мармеладов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Порфирій Петрович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Дмитро Разуміхі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2"/>
          <a:stretch/>
        </p:blipFill>
        <p:spPr>
          <a:xfrm>
            <a:off x="5578560" y="996840"/>
            <a:ext cx="2654280" cy="1990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bihun.in.ua/uploads/RTEmagicC_Porfirii.jpg.jpg"/>
          <p:cNvPicPr/>
          <p:nvPr/>
        </p:nvPicPr>
        <p:blipFill>
          <a:blip r:embed="rId3"/>
          <a:stretch/>
        </p:blipFill>
        <p:spPr>
          <a:xfrm>
            <a:off x="7108920" y="2805120"/>
            <a:ext cx="2967120" cy="222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kp.ru/f/4/image/22/70/577022.jpg"/>
          <p:cNvPicPr/>
          <p:nvPr/>
        </p:nvPicPr>
        <p:blipFill>
          <a:blip r:embed="rId4"/>
          <a:stretch/>
        </p:blipFill>
        <p:spPr>
          <a:xfrm>
            <a:off x="9753480" y="4419720"/>
            <a:ext cx="3629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149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uk-UA" sz="8800" spc="-1" strike="noStrike">
                <a:solidFill>
                  <a:srgbClr val="ff0000"/>
                </a:solidFill>
                <a:latin typeface="Mistral"/>
              </a:rPr>
              <a:t>Соня Мармеладова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75880"/>
            <a:ext cx="866772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оня была малого роста, лет восемнадцати, худень-кая, но довольно хорошенькая блондинка, </a:t>
            </a:r>
            <a:r>
              <a:rPr b="1" lang="uk-UA" sz="2800" spc="-1" strike="noStrike">
                <a:solidFill>
                  <a:srgbClr val="00b0f0"/>
                </a:solidFill>
                <a:latin typeface="Calibri"/>
              </a:rPr>
              <a:t>с заме-чательными голубыми глаз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Это было худенькое, совсем худенькое и бледное личико, довольно неправильное, какое-то востре-нькое, с востреньким маленьким носом и подбо-родком. Ее даже нельзя было назвать и хорошень-кою, но </a:t>
            </a:r>
            <a:r>
              <a:rPr b="1" lang="uk-UA" sz="2800" spc="-1" strike="noStrike">
                <a:solidFill>
                  <a:srgbClr val="00b0f0"/>
                </a:solidFill>
                <a:latin typeface="Calibri"/>
              </a:rPr>
              <a:t>зато голубые глаза ее были такие ясные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 и когда оживлялись они, выражение лица ее стано-вилось такое доброе и простодушное, что невольно привлекало к ней. В лице ее, да и во всей ее фигуре, была сверх того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одна особенная характерная черта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: несмотря на свои восемнадцать лет,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она казалась почти еще девочкой, гораздо моложе своих лет, совсем почти ребен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http://resoch.ru/wp-content/uploads/2012/09/glazunov.jpg"/>
          <p:cNvPicPr/>
          <p:nvPr/>
        </p:nvPicPr>
        <p:blipFill>
          <a:blip r:embed="rId2"/>
          <a:stretch/>
        </p:blipFill>
        <p:spPr>
          <a:xfrm>
            <a:off x="8886960" y="1176480"/>
            <a:ext cx="2923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7500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36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 Light"/>
              </a:rPr>
              <a:t>«Сонечка, Сонечка Мармеладова, вечная Сонечка, пока мир стоит!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440" y="1104480"/>
            <a:ext cx="12001680" cy="64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Ей три дороги, – думал он: – броситься в канаву, попасть в сумасшедший дом, или… или, наконец, броситься в разврат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дурманивающий ум и окаменяющий сердце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«Я не тебе поклонился, я всему страданию человеческому поклонилс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«Мы вместе прокляты, вместе и пойдем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«Ты тоже переступила… смогла переступить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ы на себя руки наложила, ты загубила жизнь… свою (это все равно!) Ты могла бы жить духом и ра-зумом, а кончишь на Сенной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а она свое последнее платье скинет, продаст, босая пойдет, а вам от-даст, коль вам надо будет, вот она какая! Она и желтый-то билет полу-чила, потому что мои же дети с голоду пропадали, себя за нас продала!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Шлях Соні Мармеладової – шлях духовного воскресіння Раскольнікова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7920"/>
          <a:ext cx="12192120" cy="7182000"/>
        </p:xfrm>
        <a:graphic>
          <a:graphicData uri="http://schemas.openxmlformats.org/drawingml/2006/table">
            <a:tbl>
              <a:tblPr/>
              <a:tblGrid>
                <a:gridCol w="5829480"/>
                <a:gridCol w="6362640"/>
              </a:tblGrid>
              <a:tr h="5018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оня Мармелад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одіон Раскольні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5a11"/>
                    </a:solidFill>
                  </a:tcPr>
                </a:tc>
              </a:tr>
              <a:tr h="502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кромна, добра, сором’язлива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ордий, з приниженим самолюбст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15652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ятуючи інших, бере на себе всю важкість гріха.В духовному плані – мучениц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«Это человек-то вошь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 підтвердження своєї теорії здійснює злочин.В духовному плані – злочинец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«Я ведь только вошь убил, Соня, бесполезную, гадкую, зловредную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1643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Живе, виходячи з потреб життя, поза межами жодних теорі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еорія вирахувана досконало, але людина не може переступити через кров, рятуючи людей. Теорія не може врахувати все, що відбувається в жит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8226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з освіти, важко формулює думку, читає Євангеліє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вітло розуму заводить його в прір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5032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озуміє сенс життя в любові та ві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е бачить сенсу жит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8222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еретнула межу заради інших – постраждала с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коїв злочин заради себе – постраждали інш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8208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иношує ідеї милосердя і смир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явив себе Наполеоном, «тим, хто право має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4" dur="4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187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Дмитро Прокопович Разуміхін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480"/>
            <a:ext cx="7553160" cy="61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Это был необыкновенно веселый и сообщитель-ный парень, добрый до простоты. Впрочем, под этою простотой таились и глубина и достоинство. Лучшие из его товарищей понимали это, все лю-били его. Иногда он буянил и слыл за силача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Пить он мог до бесконечности, но мог и совсем не пить; иногда проказил даже непозволитель-но, но мог и совсем не проказит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Разумихин был еще тем замечателен, что ника-кие неудачи его никогда не смущали и никакие дурные обстоятельства, казалось, не могли при-давить его. Он мог квартировать хоть на крыше, терпеть адский голод и необыкновенный холод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Был он очень беден и решительно сам, один, со-держал себя, добывая кой-какими работами деньги. Он знал бездну источников, где мог по-черпнуть, разумеется заработком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ttp://cs313420.vk.me/v313420797/41c9/SZal0yI4Yl4.jpg"/>
          <p:cNvPicPr/>
          <p:nvPr/>
        </p:nvPicPr>
        <p:blipFill>
          <a:blip r:embed="rId2"/>
          <a:stretch/>
        </p:blipFill>
        <p:spPr>
          <a:xfrm>
            <a:off x="7553160" y="1690560"/>
            <a:ext cx="44672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«Ведь вот этот человек за меня на распятие пойдет…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080" y="1325520"/>
            <a:ext cx="6419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Втілює простий розум, гуманізм, який ґрунтується на життєвому досвіді, повагу та любов до людей;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На його думку, злочин проти-річить здоровому глузду;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Шлях Разуміхіна - це </a:t>
            </a:r>
            <a:r>
              <a:rPr b="0" lang="uk-UA" sz="3700" spc="-1" strike="noStrike">
                <a:solidFill>
                  <a:srgbClr val="ff0000"/>
                </a:solidFill>
                <a:latin typeface="Calibri"/>
              </a:rPr>
              <a:t>свого роду можливий шлях розвитку й життя головного героя </a:t>
            </a: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Родіона Раскольніков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static.diary.ru/userdir/1/8/2/0/1820635/70945541.jpg"/>
          <p:cNvPicPr/>
          <p:nvPr/>
        </p:nvPicPr>
        <p:blipFill>
          <a:blip r:embed="rId2"/>
          <a:stretch/>
        </p:blipFill>
        <p:spPr>
          <a:xfrm>
            <a:off x="7047000" y="1552680"/>
            <a:ext cx="53449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8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ppt4web.ru/images/1402/38592/310/img11.jpg"/>
          <p:cNvPicPr/>
          <p:nvPr/>
        </p:nvPicPr>
        <p:blipFill>
          <a:blip r:embed="rId2"/>
          <a:stretch/>
        </p:blipFill>
        <p:spPr>
          <a:xfrm>
            <a:off x="7810560" y="2859120"/>
            <a:ext cx="5048280" cy="4494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«Недоверчив, скептик, циник… </a:t>
            </a:r>
            <a:br>
              <a:rPr sz="5400"/>
            </a:b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А дело знает, знает…»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1325160"/>
            <a:ext cx="84582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З його іменем пов'язана в романі тема пока-рання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Їхні роздуми збігаються, вони мають одна-кову логіку. Але Порфирій Петрович оцінює факти з точки зору закону, яким керується в житті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Сприймає «теорію» Раскольнікова як знайо-му за власним досвідо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Здатний зрозуміти іншу людину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Знає життя і його закон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Шлях Порфирія Петровича - це </a:t>
            </a:r>
            <a:r>
              <a:rPr b="0" lang="uk-UA" sz="3300" spc="-1" strike="noStrike">
                <a:solidFill>
                  <a:srgbClr val="ff0000"/>
                </a:solidFill>
                <a:latin typeface="Calibri"/>
              </a:rPr>
              <a:t>можлива кар'єра самого Раскольнікова.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4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6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2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8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4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-225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Значення "двійників" і "антиподів"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914400"/>
            <a:ext cx="6593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дображають проти-річчя характеру головно-го героя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2) Детально змальовують  основні його риси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3) Подають перспективи розвитку його ідеології та морал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fb.ru/misc/i/gallery/13848/452540.jpg"/>
          <p:cNvPicPr/>
          <p:nvPr/>
        </p:nvPicPr>
        <p:blipFill>
          <a:blip r:embed="rId2"/>
          <a:stretch/>
        </p:blipFill>
        <p:spPr>
          <a:xfrm>
            <a:off x="6821640" y="1428840"/>
            <a:ext cx="5370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6000"/>
                            </p:stCondLst>
                            <p:childTnLst>
                              <p:par>
                                <p:cTn id="8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3480" y="-1711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ff0000"/>
              </a:solidFill>
              <a:latin typeface="Mistr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-360"/>
            <a:ext cx="11639520" cy="66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Пульхерія Олександрівна Раскольнік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Авдотья Романівна Раскольнік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Семен Захарович Мармелад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Катерина Іванівна і її ді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Студент і молодий офіцер в трактир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Никодим Фоміч та Ілля Петрович, Замет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Зосім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Мікол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Міщанин і т.д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353320" y="1825200"/>
            <a:ext cx="436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500"/>
                            </p:stCondLst>
                            <p:childTnLst>
                              <p:par>
                                <p:cTn id="837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6500"/>
                            </p:stCondLst>
                            <p:childTnLst>
                              <p:par>
                                <p:cTn id="843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9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5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8500"/>
                            </p:stCondLst>
                            <p:childTnLst>
                              <p:par>
                                <p:cTn id="861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2500"/>
                            </p:stCondLst>
                            <p:childTnLst>
                              <p:par>
                                <p:cTn id="867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6500"/>
                            </p:stCondLst>
                            <p:childTnLst>
                              <p:par>
                                <p:cTn id="873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500"/>
                            </p:stCondLst>
                            <p:childTnLst>
                              <p:par>
                                <p:cTn id="879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3" descr=""/>
          <p:cNvPicPr/>
          <p:nvPr/>
        </p:nvPicPr>
        <p:blipFill>
          <a:blip r:embed="rId2"/>
          <a:stretch/>
        </p:blipFill>
        <p:spPr>
          <a:xfrm>
            <a:off x="701640" y="-615960"/>
            <a:ext cx="3876840" cy="332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9520" y="1898640"/>
            <a:ext cx="1093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istral"/>
              </a:rPr>
              <a:t>Кожна людина відповідальна перед усіма людьми за всіх людей і за все…</a:t>
            </a: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0" lang="uk-UA" sz="6600" spc="-1" strike="noStrike">
                <a:solidFill>
                  <a:srgbClr val="000000"/>
                </a:solidFill>
                <a:latin typeface="Monotype Corsiva"/>
              </a:rPr>
              <a:t>Ф.М.Достоєвськи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az.lib.ru/d/dostoewskij_f_m/.photo2.jpg"/>
          <p:cNvPicPr/>
          <p:nvPr/>
        </p:nvPicPr>
        <p:blipFill>
          <a:blip r:embed="rId3"/>
          <a:stretch/>
        </p:blipFill>
        <p:spPr>
          <a:xfrm>
            <a:off x="10290240" y="3152880"/>
            <a:ext cx="176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56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 Light"/>
              </a:rPr>
              <a:t>Символічне значення назви роману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alibri Light"/>
              </a:rPr>
              <a:t>Ф.М. Достоєвського «Злочин і кара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Picture 2" descr="http://5fan.ru/files/10/5fan_ru_51780_28b5ae36146f937de8338539253e755a.html_files/22.png"/>
          <p:cNvPicPr/>
          <p:nvPr/>
        </p:nvPicPr>
        <p:blipFill>
          <a:blip r:embed="rId2"/>
          <a:stretch/>
        </p:blipFill>
        <p:spPr>
          <a:xfrm>
            <a:off x="182520" y="1542960"/>
            <a:ext cx="120538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0" dur="4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4000"/>
                            </p:stCondLst>
                            <p:childTnLst>
                              <p:par>
                                <p:cTn id="892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4" dur="4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7720" y="365040"/>
            <a:ext cx="10820520" cy="64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Calibri"/>
              </a:rPr>
              <a:t>Где это я читал, как один приговоренный к сме-рти, за час до смерти, говорит или думает, что если бы пришлось ему жить где-нибудь на высо-те, на скале, и на такой узенькой площадке, что-бы только две ноги можно было поставить, – а кругом будут пропасти, океан, вечный мрак, веч-ное уединение и вечная буря, – и оставаться так, стоя на аршине пространства, всю жизнь, тысячу лет, вечность, – то лучше так жить, чем сейчас умирать! Только бы жить, жить и жить! Как бы ни жить, – только жить!.. Экая правда! Господи, какая правда!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429680" y="1825200"/>
            <a:ext cx="3924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168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c00000"/>
                </a:solidFill>
                <a:latin typeface="Calibri Light"/>
              </a:rPr>
              <a:t>Цілі уроку: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952560"/>
            <a:ext cx="10515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озкрити особливості системи образів роману шляхом співставлення , визначити , яка їх роль  в розкритті образу головного героя;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еревірити отриманий  рівень знань, вмінь у формі виконання самостійної робо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формування навиків аналізу художнього твор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виховання толерантності, прагнення до активної багатогранної життєвої позиції, свідоме ставлення до вибору життєвого шлях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353680" y="1825200"/>
            <a:ext cx="46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1920" y="312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дання №1   </a:t>
            </a:r>
            <a:r>
              <a:rPr b="1" lang="uk-UA" sz="3200" spc="-1" strike="noStrike">
                <a:solidFill>
                  <a:srgbClr val="c00000"/>
                </a:solidFill>
                <a:latin typeface="Calibri Light"/>
              </a:rPr>
              <a:t>Поєднайте роз'єднані частини назв найвідоміших творів Достоєвськог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09320" y="1638000"/>
            <a:ext cx="114109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ые                                                  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атья                                                    мёртвого д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ниженные                                          наказ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ые                                                     Карамазо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ядюшкин                                            лю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точка                                                  и  оскорблё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о Степанчиково и                         н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иски из                                             Незва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ступление и                                    его обит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25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25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25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25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75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25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25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25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25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25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75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25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25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дання №2</a:t>
            </a:r>
            <a:br>
              <a:rPr sz="2900"/>
            </a:br>
            <a:r>
              <a:rPr b="1" lang="uk-UA" sz="2900" spc="-1" strike="noStrike">
                <a:solidFill>
                  <a:srgbClr val="c00000"/>
                </a:solidFill>
                <a:latin typeface="Calibri Light"/>
              </a:rPr>
              <a:t>Згадайте прізвища героїв роману «Злочин і кара» за їхніми іменами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15840" y="1454040"/>
            <a:ext cx="578340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Семен Захарович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Авдотья Романі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Аркадій Іванович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орфирій Петрович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одіон Романович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Дмитро Прокопович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етро Петрович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ульхерія Олександрі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Софія Семенівна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Альона Іванівна                   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962480" y="1454040"/>
            <a:ext cx="339084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Мармела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аскольні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Свидригай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аскольні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азуміхі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Луж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аскольні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Мармелад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0440" y="304560"/>
            <a:ext cx="11538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2060"/>
                </a:solidFill>
                <a:uFillTx/>
                <a:latin typeface="Calibri Light"/>
              </a:rPr>
              <a:t>Двоїстість</a:t>
            </a:r>
            <a:r>
              <a:rPr b="1" lang="uk-UA" sz="4000" spc="-1" strike="noStrike">
                <a:solidFill>
                  <a:srgbClr val="002060"/>
                </a:solidFill>
                <a:latin typeface="Calibri Light"/>
              </a:rPr>
              <a:t> - характерний прийом зображення у Достоєвського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6880" y="1325160"/>
            <a:ext cx="11538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 u="sng">
                <a:solidFill>
                  <a:srgbClr val="002060"/>
                </a:solidFill>
                <a:uFillTx/>
                <a:latin typeface="Calibri"/>
              </a:rPr>
              <a:t>Двоїстість реалізується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по-перше, через </a:t>
            </a:r>
            <a:r>
              <a:rPr b="0" i="1" lang="uk-UA" sz="3300" spc="-1" strike="noStrike">
                <a:solidFill>
                  <a:srgbClr val="c00000"/>
                </a:solidFill>
                <a:latin typeface="Calibri"/>
              </a:rPr>
              <a:t>роздвоєність свідомості головного героя.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У ньому ніби живе двоє: один за інстинктом прагне допомагати, рятувати принижених, а другий, розсудливий, цинічно аналізує вчинки першого й піддає їх критиці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По-друге, в романі ціла </a:t>
            </a:r>
            <a:r>
              <a:rPr b="0" i="1" lang="uk-UA" sz="3300" spc="-1" strike="noStrike">
                <a:solidFill>
                  <a:srgbClr val="c00000"/>
                </a:solidFill>
                <a:latin typeface="Calibri"/>
              </a:rPr>
              <a:t>низка героїв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, які так чи інакше інтерпретують обидві названі сторони особистості Раскольнікова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ff0000"/>
                </a:solidFill>
                <a:latin typeface="Calibri"/>
              </a:rPr>
              <a:t>Їх умовно називають "двійниками" й "антиподами" головного геро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1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1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1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Родіон Романович Раскольніков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9680" y="1512720"/>
            <a:ext cx="6781680" cy="51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Он был замечательно хорош собою, с прекрасными темными глазами, темно-рус, ростом выше среднего, тонок и строе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Он был до того худо одет, что иной, даже и привычный человек, посовестился бы днем выходить в таких лохмотьях на улиц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Он был задавлен бедностью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По платью и по виду его очень могли принять  за нищего, за настоящего собирателя грошей по улиц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school.xvatit.com/images/f/f5/T18or.jpeg"/>
          <p:cNvPicPr/>
          <p:nvPr/>
        </p:nvPicPr>
        <p:blipFill>
          <a:blip r:embed="rId2"/>
          <a:stretch/>
        </p:blipFill>
        <p:spPr>
          <a:xfrm>
            <a:off x="7256520" y="1460520"/>
            <a:ext cx="34527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-339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Відношення Раскольнікова до люде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7680" y="647280"/>
            <a:ext cx="573408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Казалось, что он смотрит на них на всех, как на детей,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свысока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, как будто он всех их опередил и развитием, и знани-ем, и убеждениями, и что на их убеж-дения и интересы он смотрит как на что-то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низшее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illustrators.ru/illustrations/584321_original.jpg"/>
          <p:cNvPicPr/>
          <p:nvPr/>
        </p:nvPicPr>
        <p:blipFill>
          <a:blip r:embed="rId2"/>
          <a:stretch/>
        </p:blipFill>
        <p:spPr>
          <a:xfrm>
            <a:off x="6039000" y="1550880"/>
            <a:ext cx="554328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4:47:09Z</dcterms:created>
  <dc:creator>RePack by Diakov</dc:creator>
  <dc:description/>
  <dc:language>en-US</dc:language>
  <cp:lastModifiedBy>Admin</cp:lastModifiedBy>
  <dcterms:modified xsi:type="dcterms:W3CDTF">2014-12-12T16:36:55Z</dcterms:modified>
  <cp:revision>430</cp:revision>
  <dc:subject/>
  <dc:title>   Система образів роману Ф.М. Достоєвського «Злочин і кара», значення і символіка його назви.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15000000000001024140</vt:lpwstr>
  </property>
</Properties>
</file>