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393-327B-45D3-B329-53B6A169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E58-9C65-4104-88BB-D125F93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648-DC6B-4EF8-A456-CC0AE8D0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A27-CF79-499E-8644-40F8C480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3708-56F0-456D-B9DF-AC5637BA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8538-3590-439A-B95E-8BA8EA7A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ED6F-CCC5-4344-AD41-831C6656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C911-DF45-4C1F-A3AB-F8C03BDE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D939-2EF4-4B3B-B576-946E5D8A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D20C-4D59-48DB-BA65-9966FCB6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F6F8-0D73-4303-83E2-801641A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414-B191-4885-8297-7869ADF4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7356-468D-4D47-9223-308CB703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6FA9-96BD-45DC-836C-D8ABC36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74CD-7551-49E8-83F4-D2D6E115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4693-5BD4-4CE9-B21B-EF9C558C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980A-DDE3-446A-BB8C-7236747B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3189-95BC-4145-93EA-2CE51122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2A18-6D91-4AEF-9D5C-8A5CD5D2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5A30-7921-4E8A-BE1C-669BC30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8214-38C3-4149-AF76-EB57CC84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9042-7BCB-4058-BE59-2DFB7AE2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D5A-7502-4D8F-9D86-1911363D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19E9-2C27-4F0D-960D-D25E29F2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D5E8-328A-4599-824D-D4FAEF69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27F2-2E29-4C0B-8A0B-D4758AAA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9762E-1AFD-4CC5-8F0D-6D555F72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5354-7BD4-4BC0-B2C2-8BDF8E4C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9179-A111-4B7A-BF70-97AB8E1A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6AD5-763E-4D87-B7A0-A44767C8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2487-D5F3-4975-88A7-C2AD9755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AD09-0D66-42D4-A942-C80F5998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6930-C54A-481F-A7A7-0EF21434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897-3388-4241-AC56-50DC848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DCF6-8A27-4CD2-9581-4FFF7C8A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5E97E-ACCD-4C86-9182-8C9C45F7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5D90D-4CC1-498A-B3CC-A958BB6A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DECB-8964-4152-A181-CA7B158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D3C0-79A3-426F-93F7-E19B264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A9D0-E3C1-45E4-BA48-5B45B17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C86C-3566-48B6-AF0F-4A05BFA9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D0052-9011-4581-88E3-C2227DF2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29559-66C2-438F-BF6F-F2887107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002D-CEE4-4D87-809C-F27B39A0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4FD-CC34-4266-8E64-F8808E5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4B01-22DA-4FF0-B6FA-A3550602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9707A-82E4-4185-89CF-FFD19B31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A92C-62C3-4322-BF9A-EAC43EB9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2666-C15B-471B-8EDD-46505803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4964-D813-4BD2-9059-E42EB2A9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606A3-30F9-4C85-A9AD-184EECF7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5C4C-453F-4789-AE05-B06F59D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6F60B-B6FC-4ABF-9C6B-25D2E3D1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398F-0E8D-4D60-9DB0-49435E14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FEC2-07D0-4221-89EB-7E05D4DB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48D-666D-4AD8-BC3E-B53440F6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6583-4CF8-402C-B80D-87C0349A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FE8-2A89-4B26-9CF7-9DAF6A72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3E8-11AC-45CC-8E69-DCA9C68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E1E-F3AF-4A1D-AC9E-28C0165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EEA0-2357-424C-95FE-5DFB53EB30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B57-1E62-44BC-9E15-CABF6179F8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7EF4-F05B-4594-8A77-03658A91A1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F7C9-A92A-4786-B122-00F90116FA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C979-E71E-4067-8593-2874B23694E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uk-UA" sz="41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uk-UA" sz="4100" spc="-1" strike="noStrike">
                <a:solidFill>
                  <a:srgbClr val="ff8d3e"/>
                </a:solidFill>
                <a:latin typeface="Verdana"/>
              </a:rPr>
              <a:t>Співзвучність </a:t>
            </a:r>
            <a:br>
              <a:rPr sz="4100"/>
            </a:br>
            <a:r>
              <a:rPr b="1" lang="uk-UA" sz="4100" spc="-1" strike="noStrike">
                <a:solidFill>
                  <a:srgbClr val="ff8d3e"/>
                </a:solidFill>
                <a:latin typeface="Verdana"/>
              </a:rPr>
              <a:t>„Пісні про Роланда” героїчним епосам інших народів світу. Роль автора у творі. Художня своєрідність героїчного народного епосу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Гроно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олнце 4"/>
          <p:cNvSpPr/>
          <p:nvPr/>
        </p:nvSpPr>
        <p:spPr>
          <a:xfrm>
            <a:off x="2340000" y="836640"/>
            <a:ext cx="4319640" cy="4321080"/>
          </a:xfrm>
          <a:prstGeom prst="sun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Народний гер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Блок-схема: внутренняя память 4"/>
          <p:cNvSpPr/>
          <p:nvPr/>
        </p:nvSpPr>
        <p:spPr>
          <a:xfrm>
            <a:off x="539640" y="620640"/>
            <a:ext cx="3888000" cy="2592360"/>
          </a:xfrm>
          <a:prstGeom prst="flowChartInternalStorag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d0d0d"/>
                </a:solidFill>
                <a:latin typeface="Verdana"/>
              </a:rPr>
              <a:t>« Слово про похід Ігоревім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сильніше виражені язичницькі настрої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внутренняя память 5"/>
          <p:cNvSpPr/>
          <p:nvPr/>
        </p:nvSpPr>
        <p:spPr>
          <a:xfrm>
            <a:off x="4859280" y="620640"/>
            <a:ext cx="3816360" cy="2592360"/>
          </a:xfrm>
          <a:prstGeom prst="flowChartInternalStorag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d0d0d"/>
                </a:solidFill>
                <a:latin typeface="Verdana"/>
              </a:rPr>
              <a:t>« Пісня про Роланд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ідображається християнська ідеологія у звертаннях до Бога, молитвах до святих, засуджуються поганські віруванн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оугольник с двумя вырезанными соседними углами 6"/>
          <p:cNvSpPr/>
          <p:nvPr/>
        </p:nvSpPr>
        <p:spPr>
          <a:xfrm>
            <a:off x="1692360" y="3357720"/>
            <a:ext cx="6192720" cy="331128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спільне ідейне звучанн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палке вболівання за долю, свободу й незалежність рідної землі, заклик до боротьби з внутрішніми й зовнішніми ворогами, уславлення патріотизму й воїнської звитяги її захисн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блемне запитанн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я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1412640"/>
            <a:ext cx="8291520" cy="4895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к ви можете оцінити, що в епосах різних народів, написаних у різний час, звучить одна й та сама ідея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тріотиз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к ви розумієте слово „патріотизм”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и може звичайна людина називатися патріотом? Що для цього вона повинна зробит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Кожен поетичний епос  - це значною мірою творче обличчя народу, вияв давності і зрілості його духовного життя, ознака того важливого етапу розвитку, який називають самосвідомістю, розумінням свого місця в світовій історії...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. Нудь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Скругленный прямоугольник 9"/>
          <p:cNvSpPr/>
          <p:nvPr/>
        </p:nvSpPr>
        <p:spPr>
          <a:xfrm>
            <a:off x="133200" y="0"/>
            <a:ext cx="8902800" cy="76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Скругленный прямоугольник 8"/>
          <p:cNvSpPr/>
          <p:nvPr/>
        </p:nvSpPr>
        <p:spPr>
          <a:xfrm>
            <a:off x="108000" y="5084640"/>
            <a:ext cx="5616360" cy="1297080"/>
          </a:xfrm>
          <a:prstGeom prst="roundRect">
            <a:avLst>
              <a:gd name="adj" fmla="val 16667"/>
            </a:avLst>
          </a:prstGeom>
          <a:solidFill>
            <a:srgbClr val="e6d6b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Скругленный прямоугольник 7"/>
          <p:cNvSpPr/>
          <p:nvPr/>
        </p:nvSpPr>
        <p:spPr>
          <a:xfrm>
            <a:off x="3924360" y="3933720"/>
            <a:ext cx="4895640" cy="1150920"/>
          </a:xfrm>
          <a:prstGeom prst="roundRect">
            <a:avLst>
              <a:gd name="adj" fmla="val 16667"/>
            </a:avLst>
          </a:prstGeom>
          <a:solidFill>
            <a:srgbClr val="89c3e5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Скругленный прямоугольник 6"/>
          <p:cNvSpPr/>
          <p:nvPr/>
        </p:nvSpPr>
        <p:spPr>
          <a:xfrm>
            <a:off x="108000" y="2852640"/>
            <a:ext cx="4608360" cy="1297080"/>
          </a:xfrm>
          <a:prstGeom prst="roundRect">
            <a:avLst>
              <a:gd name="adj" fmla="val 16667"/>
            </a:avLst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Скругленный прямоугольник 5"/>
          <p:cNvSpPr/>
          <p:nvPr/>
        </p:nvSpPr>
        <p:spPr>
          <a:xfrm>
            <a:off x="3780000" y="1844640"/>
            <a:ext cx="5040000" cy="1152720"/>
          </a:xfrm>
          <a:prstGeom prst="roundRect">
            <a:avLst>
              <a:gd name="adj" fmla="val 16667"/>
            </a:avLst>
          </a:prstGeom>
          <a:solidFill>
            <a:srgbClr val="f2ced2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Скругленный прямоугольник 4"/>
          <p:cNvSpPr/>
          <p:nvPr/>
        </p:nvSpPr>
        <p:spPr>
          <a:xfrm>
            <a:off x="133200" y="765000"/>
            <a:ext cx="4824720" cy="1079640"/>
          </a:xfrm>
          <a:prstGeom prst="roundRect">
            <a:avLst>
              <a:gd name="adj" fmla="val 16667"/>
            </a:avLst>
          </a:prstGeom>
          <a:solidFill>
            <a:srgbClr val="b3d6ac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715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uk-UA" sz="2500" spc="-1" strike="noStrike">
                <a:solidFill>
                  <a:srgbClr val="1b1810"/>
                </a:solidFill>
                <a:latin typeface="Verdana"/>
              </a:rPr>
              <a:t>Твори середньовічного героїчного епосу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83664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Пісня про Роланда”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uk-UA" sz="2600" spc="-1" strike="noStrike">
                <a:solidFill>
                  <a:srgbClr val="0000ff"/>
                </a:solidFill>
                <a:latin typeface="Verdana"/>
              </a:rPr>
              <a:t>1100р.   (1837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uk-UA" sz="2900" spc="-1" strike="noStrike">
                <a:solidFill>
                  <a:srgbClr val="000000"/>
                </a:solidFill>
                <a:latin typeface="Comic Sans MS"/>
              </a:rPr>
              <a:t>Пісня про Нібелунгів”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900" spc="-1" strike="noStrike">
                <a:solidFill>
                  <a:srgbClr val="0000ff"/>
                </a:solidFill>
                <a:latin typeface="Verdana"/>
              </a:rPr>
              <a:t>1220р.   (1779р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Пісня про мого Сіда”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uk-UA" sz="2600" spc="-1" strike="noStrike">
                <a:solidFill>
                  <a:srgbClr val="0000ff"/>
                </a:solidFill>
                <a:latin typeface="Verdana"/>
              </a:rPr>
              <a:t>1140р.   ( 1757р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«Пісня про Нібелунгів»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600" spc="-1" strike="noStrike">
                <a:solidFill>
                  <a:srgbClr val="0000ff"/>
                </a:solidFill>
                <a:latin typeface="Verdana"/>
              </a:rPr>
              <a:t>1200р.   (1757 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Слово о полку Ігоревім”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1" lang="uk-UA" sz="1900" spc="-1" strike="noStrike">
                <a:solidFill>
                  <a:srgbClr val="0000ff"/>
                </a:solidFill>
                <a:latin typeface="Verdana"/>
              </a:rPr>
              <a:t>1185-1187рр.   (1880  р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4000" y="530280"/>
            <a:ext cx="5472000" cy="606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Verdana"/>
              </a:rPr>
              <a:t>«Пі́сня про Нібелу́нгів»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(нім. 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as Nibelungenli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 — 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середньовічна німець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епічна поема, написана невідомим автором наприкінці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II — 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поч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III 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ст. У ній розповідається про одруження драконоборця Зігфрида з бургундською принцесою Кримхільдою, його смерть з причини конфлікту Кримхільди з Брунгільдою, дружиною її брата — Гунтера, а потім про помсту Кримхільди за смерть чолові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2498760" cy="3854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429240" y="4076640"/>
            <a:ext cx="18097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мерть Зігфрід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лач Крімхільд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371760" cy="4724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4859280" y="1289160"/>
            <a:ext cx="3313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«Пісня про мого Сіда»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 (ісп. 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Cantar de mío Ci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) —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ам'ятка іспанської літератури, анонімний героїчний епос.  Єдиний оригінал поеми про Сіда — рукопис 1207 року, вперше виданий не раніше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XVIII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толітт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Головним героєм епосу виступає доблесний Сід, борець проти маврів і захисник народних інтересів. Основна мета його життя — звільнення рідної землі від арабів. Історичним прототипом Сіда послужив Кастільський воєначальник, дворянин, герой Реконкісти 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одріґо (Руй) Діас де Бівар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1040—1099). Араби прозвали його Сідом. Всупереч історичній правді, Сід зображений лицарем, який має васалів і який не належить до вищої знаті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браз його ідеалізується в народному дусі. Він перетворений на справжнього народного героя, який терпить образи від несправедливого короля . Сід був вигнаний з Кастілії королем Альфонсом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.</a:t>
            </a: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оте він збирає загін воїнів, бере ряд перемог над маврами, захоплює здобич, і відправляє в подарунок королеві, що вигнав його, чесно виконуючи свій васальний обов'язо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ороль прощає вигнанця і дає згоду на одруження Сіда зі своєю дочкою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«Пісня про мого Сіда» близька до історичної правди більшою мірою, ніж інші пам'ятники героїчного епосу, вона дає правдиву картину Іспанії і в дні миру, і в дні війни. Її відрізняє високий патріотиз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94920" y="259920"/>
            <a:ext cx="4537080" cy="6193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Слово о пол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Ігореві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ово о плъку   Игоревѣ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)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роїчна поема кінця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II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., одна з найвідоміши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м'яток давньоруської літератур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о невдалий похід кн. Ігоря Новгород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іверського на половц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5008680" y="404640"/>
            <a:ext cx="4167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87280" y="22320"/>
          <a:ext cx="8856720" cy="6719760"/>
        </p:xfrm>
        <a:graphic>
          <a:graphicData uri="http://schemas.openxmlformats.org/drawingml/2006/table">
            <a:tbl>
              <a:tblPr/>
              <a:tblGrid>
                <a:gridCol w="1440000"/>
                <a:gridCol w="1152360"/>
                <a:gridCol w="2629080"/>
                <a:gridCol w="1079280"/>
                <a:gridCol w="1584360"/>
                <a:gridCol w="97164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аї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зва тво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ас створ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Історична ос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ан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Іде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ер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ранц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 Пісня про Ролан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хід франкського короля Карла Великого в Іспані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пічна поема (пісн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ротьоба добра і зла, вірності і з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лан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иївська 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 Слово про похід Ігореві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5-18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вдалий похід кн.Ігоря Новгород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іверського 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овц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пічна поема (сло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днання руських зем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Іг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Іпан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існя про Сі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воювання прикордонних арабських земель лицарем Сі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пічна по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існя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ист рідної землі від кривдни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і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7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імеч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існя про Нібелунг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ищення гунами держави бургундів (нібелунгів) у 436 p., придворний і рицарський побут тієї епох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пічна по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існя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іткнення добра і зла, помста Кріхміль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ігфрі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9520" y="28440"/>
            <a:ext cx="818496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Спільні рис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79280" y="31680"/>
            <a:ext cx="1440000" cy="1608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7407360" y="4721400"/>
            <a:ext cx="1736640" cy="2136600"/>
          </a:xfrm>
          <a:prstGeom prst="rect">
            <a:avLst/>
          </a:prstGeom>
          <a:ln w="0">
            <a:noFill/>
          </a:ln>
        </p:spPr>
      </p:pic>
      <p:sp>
        <p:nvSpPr>
          <p:cNvPr id="262" name="Табличка 5"/>
          <p:cNvSpPr/>
          <p:nvPr/>
        </p:nvSpPr>
        <p:spPr>
          <a:xfrm>
            <a:off x="1692360" y="1052640"/>
            <a:ext cx="6983280" cy="720720"/>
          </a:xfrm>
          <a:custGeom>
            <a:avLst/>
            <a:gdLst>
              <a:gd name="textAreaLeft" fmla="*/ 84960 w 6983280"/>
              <a:gd name="textAreaRight" fmla="*/ 6898320 w 69832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20919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5595" y="21600"/>
                </a:lnTo>
                <a:arcTo wR="3600" hR="3600" stAng="10800000" swAng="5400000"/>
                <a:lnTo>
                  <a:pt x="209195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Традиційна композиція, зачини, кінцівки, триразові повтор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Табличка 7"/>
          <p:cNvSpPr/>
          <p:nvPr/>
        </p:nvSpPr>
        <p:spPr>
          <a:xfrm>
            <a:off x="514440" y="1944720"/>
            <a:ext cx="6337080" cy="504720"/>
          </a:xfrm>
          <a:custGeom>
            <a:avLst/>
            <a:gdLst>
              <a:gd name="textAreaLeft" fmla="*/ 59400 w 6337080"/>
              <a:gd name="textAreaRight" fmla="*/ 6277680 w 6337080"/>
              <a:gd name="textAreaTop" fmla="*/ 59400 h 504720"/>
              <a:gd name="textAreaBottom" fmla="*/ 445320 h 504720"/>
            </a:gdLst>
            <a:ahLst/>
            <a:rect l="textAreaLeft" t="textAreaTop" r="textAreaRight" b="textAreaBottom"/>
            <a:pathLst>
              <a:path w="2710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7424" y="21600"/>
                </a:lnTo>
                <a:arcTo wR="3600" hR="3600" stAng="10800000" swAng="5400000"/>
                <a:lnTo>
                  <a:pt x="271024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Поширені діалоги й монолог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Табличка 8"/>
          <p:cNvSpPr/>
          <p:nvPr/>
        </p:nvSpPr>
        <p:spPr>
          <a:xfrm>
            <a:off x="2124000" y="2665440"/>
            <a:ext cx="6551640" cy="860400"/>
          </a:xfrm>
          <a:custGeom>
            <a:avLst/>
            <a:gdLst>
              <a:gd name="textAreaLeft" fmla="*/ 101160 w 6551640"/>
              <a:gd name="textAreaRight" fmla="*/ 6450480 w 6551640"/>
              <a:gd name="textAreaTop" fmla="*/ 101160 h 860400"/>
              <a:gd name="textAreaBottom" fmla="*/ 759240 h 860400"/>
            </a:gdLst>
            <a:ahLst/>
            <a:rect l="textAreaLeft" t="textAreaTop" r="textAreaRight" b="textAreaBottom"/>
            <a:pathLst>
              <a:path w="16441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0817" y="21600"/>
                </a:lnTo>
                <a:arcTo wR="3600" hR="3600" stAng="10800000" swAng="5400000"/>
                <a:lnTo>
                  <a:pt x="164417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Полярне групування персонажів: захисники рідного краю і ворог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Табличка 9"/>
          <p:cNvSpPr/>
          <p:nvPr/>
        </p:nvSpPr>
        <p:spPr>
          <a:xfrm>
            <a:off x="514440" y="3716280"/>
            <a:ext cx="6553080" cy="849240"/>
          </a:xfrm>
          <a:custGeom>
            <a:avLst/>
            <a:gdLst>
              <a:gd name="textAreaLeft" fmla="*/ 100080 w 6553080"/>
              <a:gd name="textAreaRight" fmla="*/ 6453000 w 6553080"/>
              <a:gd name="textAreaTop" fmla="*/ 100080 h 849240"/>
              <a:gd name="textAreaBottom" fmla="*/ 749160 h 849240"/>
            </a:gdLst>
            <a:ahLst/>
            <a:rect l="textAreaLeft" t="textAreaTop" r="textAreaRight" b="textAreaBottom"/>
            <a:pathLst>
              <a:path w="1666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3013" y="21600"/>
                </a:lnTo>
                <a:arcTo wR="3600" hR="3600" stAng="10800000" swAng="5400000"/>
                <a:lnTo>
                  <a:pt x="166613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Різке протиставлення головного героя і його суперник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Табличка 10"/>
          <p:cNvSpPr/>
          <p:nvPr/>
        </p:nvSpPr>
        <p:spPr>
          <a:xfrm>
            <a:off x="520560" y="4867200"/>
            <a:ext cx="6364440" cy="836640"/>
          </a:xfrm>
          <a:custGeom>
            <a:avLst/>
            <a:gdLst>
              <a:gd name="textAreaLeft" fmla="*/ 98640 w 6364440"/>
              <a:gd name="textAreaRight" fmla="*/ 6265800 w 6364440"/>
              <a:gd name="textAreaTop" fmla="*/ 98640 h 836640"/>
              <a:gd name="textAreaBottom" fmla="*/ 738000 h 836640"/>
            </a:gdLst>
            <a:ahLst/>
            <a:rect l="textAreaLeft" t="textAreaTop" r="textAreaRight" b="textAreaBottom"/>
            <a:pathLst>
              <a:path w="16425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0653" y="21600"/>
                </a:lnTo>
                <a:arcTo wR="3600" hR="3600" stAng="10800000" swAng="5400000"/>
                <a:lnTo>
                  <a:pt x="164253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Verdana"/>
              </a:rPr>
              <a:t>Осуд вчинків головних героїв ( Роланда, Ігоря), міжусобні сутич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Табличка 11"/>
          <p:cNvSpPr/>
          <p:nvPr/>
        </p:nvSpPr>
        <p:spPr>
          <a:xfrm>
            <a:off x="514440" y="5950080"/>
            <a:ext cx="6337080" cy="718920"/>
          </a:xfrm>
          <a:custGeom>
            <a:avLst/>
            <a:gdLst>
              <a:gd name="textAreaLeft" fmla="*/ 84600 w 6337080"/>
              <a:gd name="textAreaRight" fmla="*/ 6252480 w 6337080"/>
              <a:gd name="textAreaTop" fmla="*/ 84600 h 718920"/>
              <a:gd name="textAreaBottom" fmla="*/ 634320 h 718920"/>
            </a:gdLst>
            <a:ahLst/>
            <a:rect l="textAreaLeft" t="textAreaTop" r="textAreaRight" b="textAreaBottom"/>
            <a:pathLst>
              <a:path w="1903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6714" y="21600"/>
                </a:lnTo>
                <a:arcTo wR="3600" hR="3600" stAng="10800000" swAng="5400000"/>
                <a:lnTo>
                  <a:pt x="190314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Verdana"/>
              </a:rPr>
              <a:t>Головні герой – улюбленці народ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Verdana"/>
              </a:rPr>
              <a:t>(Роланд, Зігфрід, Сід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5:00:52Z</dcterms:created>
  <dc:creator>User</dc:creator>
  <dc:description/>
  <dc:language>en-US</dc:language>
  <cp:lastModifiedBy>User</cp:lastModifiedBy>
  <dcterms:modified xsi:type="dcterms:W3CDTF">2013-01-24T18:07:22Z</dcterms:modified>
  <cp:revision>1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b000000000001024140</vt:lpwstr>
  </property>
</Properties>
</file>