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6.png" ContentType="image/png"/>
  <Override PartName="/ppt/media/image5.jpeg" ContentType="image/jpeg"/>
  <Override PartName="/ppt/media/image13.jpeg" ContentType="image/jpeg"/>
  <Override PartName="/ppt/media/image8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1.jpeg" ContentType="image/jpe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7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1D1B-6EDF-44E2-964F-14C9D054A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417B-907D-4E38-9230-C7CC413E0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8064-DC70-4417-BF7F-0EF381C98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F8F9-9D1C-480F-89C4-D14FC58C1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4C00C-DD5D-42AC-8763-59A2FDBAC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70F20-038D-47D8-98F8-D0A26FF50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3F2A3-3616-4B25-870D-FC90B15C8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BDEEC-756A-4739-9F28-AA91F896E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4FABA-3CCF-41BE-B630-A63103A6A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AAD1A-43CB-4635-8F40-58AE8400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4528C-2202-45AB-8272-8124FEFD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5A60-8FFF-4BFB-A48E-1CA616DAC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0D6ED-3862-46DD-B306-F0514DBD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38A28-06B9-44FA-8203-B7B46560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47E49-824F-4B3E-AE22-FC4EEA13C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EE169-B825-4252-9CF1-E7F42DCB2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D89C8-AED4-4A3C-B71E-A20EE72DB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854F-6A51-44E0-AEA8-DABF8E358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BFD5-6E2C-454B-9B15-F7FE048A3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5B39-DA96-413E-A1B2-2BDF4F747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BD6D-E645-4A98-8248-0533A198A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FEAB-7FCD-4C18-97A4-12D4DFFC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FE80-35CF-41D3-85A6-BCE986D5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D322-AB9A-4AF4-A922-50514DA5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7916B-585F-4998-AF12-8739D58FADBB}" type="slidenum">
              <a:rPr b="0" lang="ru-RU" sz="1200" spc="-1" strike="noStrike">
                <a:solidFill>
                  <a:srgbClr val="bcbcb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DF4B3-9D69-463A-9945-0B9C91EBBD39}" type="slidenum">
              <a:rPr b="0" lang="ru-RU" sz="1200" spc="-1" strike="noStrike">
                <a:solidFill>
                  <a:srgbClr val="bcbcb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3" descr=""/>
          <p:cNvPicPr/>
          <p:nvPr/>
        </p:nvPicPr>
        <p:blipFill>
          <a:blip r:embed="rId1"/>
          <a:stretch/>
        </p:blipFill>
        <p:spPr>
          <a:xfrm>
            <a:off x="1847880" y="0"/>
            <a:ext cx="7581960" cy="6218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150840" y="3429000"/>
            <a:ext cx="20098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1"/>
          <a:stretch/>
        </p:blipFill>
        <p:spPr>
          <a:xfrm>
            <a:off x="-128520" y="0"/>
            <a:ext cx="9272520" cy="4218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"/>
          <p:cNvPicPr/>
          <p:nvPr/>
        </p:nvPicPr>
        <p:blipFill>
          <a:blip r:embed="rId2"/>
          <a:stretch/>
        </p:blipFill>
        <p:spPr>
          <a:xfrm>
            <a:off x="5508720" y="3213000"/>
            <a:ext cx="2514600" cy="3346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3"/>
          <a:stretch/>
        </p:blipFill>
        <p:spPr>
          <a:xfrm>
            <a:off x="539640" y="3645000"/>
            <a:ext cx="39261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Заголовок 1" descr=""/>
          <p:cNvPicPr/>
          <p:nvPr/>
        </p:nvPicPr>
        <p:blipFill>
          <a:blip r:embed="rId1"/>
          <a:stretch/>
        </p:blipFill>
        <p:spPr>
          <a:xfrm>
            <a:off x="712800" y="0"/>
            <a:ext cx="7772400" cy="1468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"/>
          <p:cNvPicPr/>
          <p:nvPr/>
        </p:nvPicPr>
        <p:blipFill>
          <a:blip r:embed="rId2"/>
          <a:stretch/>
        </p:blipFill>
        <p:spPr>
          <a:xfrm>
            <a:off x="1042920" y="1052640"/>
            <a:ext cx="6769080" cy="55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3206880" y="785880"/>
            <a:ext cx="6076800" cy="53593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285840" y="1571760"/>
            <a:ext cx="25272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Объект 5" descr=""/>
          <p:cNvPicPr/>
          <p:nvPr/>
        </p:nvPicPr>
        <p:blipFill>
          <a:blip r:embed="rId1"/>
          <a:stretch/>
        </p:blipFill>
        <p:spPr>
          <a:xfrm>
            <a:off x="384120" y="1530360"/>
            <a:ext cx="4327560" cy="4815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D:\Saves\Масик\фоны 1\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Объект 7" descr=""/>
          <p:cNvPicPr/>
          <p:nvPr/>
        </p:nvPicPr>
        <p:blipFill>
          <a:blip r:embed="rId3"/>
          <a:stretch/>
        </p:blipFill>
        <p:spPr>
          <a:xfrm>
            <a:off x="109440" y="152280"/>
            <a:ext cx="892512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-146160" y="695160"/>
            <a:ext cx="9631440" cy="61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324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Завдання першої групи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: визначити, кого або що захищають французькі лицарі (короля, Францію, Бога); довести це на прикладах із твор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Завдання другої групи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: показати, у чому виявився героїзм французьких лицарів; навести відповідні цитат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Завдання третьої групи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: з’ясувати, які якості лицарів прославляються у творі ( мужність, відвага, шляхетність, патріотизм); аргументувати свою думку прикладами з твор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Чому твір названо “Піснею про Роланда”, а не про іншого героя? Чи не було інших гідних героїв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324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Завдання першої групи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характеризуйте Роланд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Завдання другої групи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характеризувати Карла Великог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Завдання третьої групи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характеризувати Ганело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1"/>
          <a:stretch/>
        </p:blipFill>
        <p:spPr>
          <a:xfrm>
            <a:off x="712800" y="0"/>
            <a:ext cx="7772400" cy="1901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2"/>
          <a:srcRect l="0" t="0" r="0" b="87"/>
          <a:stretch/>
        </p:blipFill>
        <p:spPr>
          <a:xfrm>
            <a:off x="5000760" y="1785960"/>
            <a:ext cx="3168360" cy="3857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3"/>
          <a:stretch/>
        </p:blipFill>
        <p:spPr>
          <a:xfrm>
            <a:off x="642960" y="1643040"/>
            <a:ext cx="275904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1" descr=""/>
          <p:cNvPicPr/>
          <p:nvPr/>
        </p:nvPicPr>
        <p:blipFill>
          <a:blip r:embed="rId1"/>
          <a:stretch/>
        </p:blipFill>
        <p:spPr>
          <a:xfrm>
            <a:off x="-146160" y="0"/>
            <a:ext cx="9637920" cy="3475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2"/>
          <a:stretch/>
        </p:blipFill>
        <p:spPr>
          <a:xfrm>
            <a:off x="6227640" y="2924280"/>
            <a:ext cx="2428920" cy="3317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3"/>
          <a:stretch/>
        </p:blipFill>
        <p:spPr>
          <a:xfrm>
            <a:off x="2916360" y="4005360"/>
            <a:ext cx="2286000" cy="2316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4"/>
          <a:stretch/>
        </p:blipFill>
        <p:spPr>
          <a:xfrm>
            <a:off x="468360" y="3213000"/>
            <a:ext cx="169380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3T14:35:22Z</dcterms:created>
  <dc:creator>User</dc:creator>
  <dc:description/>
  <dc:language>en-US</dc:language>
  <cp:lastModifiedBy>User</cp:lastModifiedBy>
  <dcterms:modified xsi:type="dcterms:W3CDTF">2013-01-24T11:48:48Z</dcterms:modified>
  <cp:revision>7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c28000000000001024140</vt:lpwstr>
  </property>
</Properties>
</file>