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A48-3B96-4650-96CD-F775093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7AF-FAC7-495E-8C58-119A139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FC9-910F-468F-B512-FCE25B5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A57-81EF-43BD-B036-3E95A3C2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9FD-E026-478C-852C-A54318B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74A-C9E8-4919-8DBF-4EA607E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3D5-79D8-42B7-87BC-F7A536D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EA0-D091-4F8B-A743-EECB4C8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6F7-8339-4596-A787-5A132A34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5D4-40D4-4AFE-9ACD-727CDDC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95D-0B05-4DE7-B48F-4AE996D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6A6-6969-4796-A43B-EEE7854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142-BD91-4B36-A60E-EFD850F11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існя про Роланда”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– французький героїчний епос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сторична правда (похід Карла Великого 778 р. за Піренеї) та вигадка в поемі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Боротьба проти іноземців та іновірців за батьківщину – провідна тема пое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 основу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«Пісні про Роланда»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покладено реальні історичні події. Мова йде про далекі події 778 року, коли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Карл Великий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трутився у міжусобиці мусульманської Іспанії. Завоювавши декілька міст, Карл обложив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арагосу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, однак через декілька тижнів був змушений зняти облогу й повернутися за Піренеї внаслідок ускладнень у власній імперії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86280" y="3571920"/>
            <a:ext cx="2428920" cy="2919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714760" y="5786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Карл Вели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960" y="5660640"/>
            <a:ext cx="3951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14 год. Портрет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р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лик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Альбрехт Дюр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7320" y="5856120"/>
            <a:ext cx="403848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Бронзова статует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арл Великий на ко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859280" y="176040"/>
            <a:ext cx="3600360" cy="567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0" b="63"/>
          <a:stretch/>
        </p:blipFill>
        <p:spPr>
          <a:xfrm>
            <a:off x="971640" y="260280"/>
            <a:ext cx="280836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сторія та художній вимисел </a:t>
            </a:r>
            <a:br>
              <a:rPr sz="3200"/>
            </a:b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у „Пісні про Роланда”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600200"/>
          <a:ext cx="8291520" cy="489888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йсні історичні под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ожній вимисел по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охід Карла Великого до Іспанії 778 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вав кілька тижні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Уночі 15 серпня на ар’єргард війська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али християни-бас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гинув нікому невідомий марк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уотлан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Битва в Ронсевальському міжгір’ї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начний історичний епіз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6429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Пісня про Рол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-162" b="149"/>
          <a:stretch/>
        </p:blipFill>
        <p:spPr>
          <a:xfrm>
            <a:off x="6072120" y="157176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000240" y="4071960"/>
            <a:ext cx="2500560" cy="235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24289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1"/>
          <p:cNvSpPr/>
          <p:nvPr/>
        </p:nvSpPr>
        <p:spPr>
          <a:xfrm>
            <a:off x="7142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Пісня про Рол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357960" y="1643040"/>
            <a:ext cx="247320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0" t="0" r="231" b="-151"/>
          <a:stretch/>
        </p:blipFill>
        <p:spPr>
          <a:xfrm>
            <a:off x="357120" y="1857240"/>
            <a:ext cx="2374920" cy="3357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071880" y="321480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2142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Сараг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3571920" cy="236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4000680" y="3500280"/>
            <a:ext cx="42861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9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  <a:ea typeface="Arial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Продовжте речення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1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Справжній рицар завжди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2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Справжній рицар ніколи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3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Реальний історичний факт, покладений в основу “Пісні про Роланда” — це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4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Невідповідність змісту поеми історичним фактам полягає у..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ор в Аахе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71640" y="60926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якому стоїть трон Карла Вели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6582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58920" y="5229000"/>
            <a:ext cx="634824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Статуя Карла Великого кінця ХІІ 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оїть перед Шартрським  собор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0" b="-86"/>
          <a:stretch/>
        </p:blipFill>
        <p:spPr>
          <a:xfrm>
            <a:off x="1979640" y="380880"/>
            <a:ext cx="4572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5732280"/>
            <a:ext cx="403848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Шартрський  соб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724280"/>
            <a:ext cx="43876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Вітраж в із зображенням казкової подорожі Карла у Святу землю і міфічно витлумачена битва в Ронсевальській ущелині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200480" cy="43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28576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6520" cy="62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3640" y="188640"/>
            <a:ext cx="81356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„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існя про Роланда” – один з найкращ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ворів народної поезії... пам’ятка середньовічного епосу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Бобров, автор  вільного переказу « Пісні про Роланд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100" spc="-1" strike="noStrike">
                <a:solidFill>
                  <a:srgbClr val="17375e"/>
                </a:solidFill>
                <a:latin typeface="Calibri"/>
              </a:rPr>
              <a:t>Героїчне – одна з форм прояву величного, тобто такого, що викликає захоплення, повагу при найвищому виявленні мужності, відваги, самопожертви у боротьбі за перемогу найкращих людських ідеалів , які з вивчених творів розповідають про мужність та відвагу героїв, готових до самопожертви в ім’я Батьківщини, її незалежності та свободи, достойного життя народ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1"/>
          <p:cNvSpPr/>
          <p:nvPr/>
        </p:nvSpPr>
        <p:spPr>
          <a:xfrm>
            <a:off x="7142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Bookman Old Style"/>
              </a:rPr>
              <a:t>Середньовічний Риц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778120" cy="385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3732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3735"/>
                </a:solidFill>
                <a:latin typeface="Book Antiqua"/>
              </a:rPr>
              <a:t>Середньовічний героїчний еп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412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253f"/>
                </a:solidFill>
                <a:latin typeface="Calibri"/>
              </a:rPr>
              <a:t>це фольклорні твори різних народів, які були створені в добу Середньовічч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253f"/>
                </a:solidFill>
                <a:latin typeface="Calibri"/>
              </a:rPr>
              <a:t>Вони відображають в легендаризованій формі події загальнонаціонального значення, релігійну боротьбу, битви проти чужоземних загарбникі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044720"/>
            <a:ext cx="91440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авньофранцузький героїчний епос зберігся у вигляді по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їх майже 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ероїчні пісні називалися пісням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жесті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бо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існями про діяння героїв мину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Жести мали обсяг від 1000 до 20000 віршів і складалися зі строф різної довж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ни призначалися для співу під супровід маленької арф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конавцями та авторами були жонгл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оловні теми: захист батьківщини від зовнішніх ворогів; вірна служба королю; криваві феодальні міжусобиц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-55440" y="-176040"/>
            <a:ext cx="9218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560" y="4946760"/>
            <a:ext cx="84978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</a:rPr>
              <a:t>Жонгле́р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, жонґлер (давньофранцузька — «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ougleor», «jongleur»,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з «лат.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joculator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» — «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потішник») — мандрівний лицедій, професійний співак, часто музикант або фокусник. Як правило, такі музиканти були і композиторами, і виконавцями пісень, складених трубадурами, відмінно володіли мистецтвом гри на багатьох музичних інструмента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818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229600" cy="52135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826920" y="32446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826920" y="40464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Calibri"/>
              </a:rPr>
              <a:t>Шедевр французького героїчного епосу – «Пісня про Ролан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4"/>
          <p:cNvSpPr/>
          <p:nvPr/>
        </p:nvSpPr>
        <p:spPr>
          <a:xfrm>
            <a:off x="179280" y="134136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Історики називають Карла Великого «батьком Європи». Він був не лише військовим, а й державним діячем, зумівши навести лад в управлінні величезною державою – двічі на рік проводив рейхстаги(з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їзди) з обговоренням проблем та прийняття законів,  провів реформу письма, створив школи (майбутні університети)... Навіть ім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я Карла стало загальною назвою  монарха – «корол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10672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62360" y="2965320"/>
            <a:ext cx="3149640" cy="372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5661000"/>
            <a:ext cx="195264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18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78440" y="5732280"/>
            <a:ext cx="40384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ь Щур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633840" cy="49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34920"/>
            <a:ext cx="2857680" cy="317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1887480" y="2668680"/>
            <a:ext cx="2940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4:19Z</dcterms:created>
  <dc:creator>User</dc:creator>
  <dc:description/>
  <dc:language>en-US</dc:language>
  <cp:lastModifiedBy>User</cp:lastModifiedBy>
  <dcterms:modified xsi:type="dcterms:W3CDTF">2013-01-24T18:08:38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13000000000001024140</vt:lpwstr>
  </property>
</Properties>
</file>