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F6A-5669-42FF-90E8-3B5792BB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866-9EC2-4CD3-9E5E-3328ECA0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8D8-DACE-46CA-AFE8-EB8816BF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DDB-9136-47CF-B66D-CB6CFBEC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C43A-B9A1-4395-B81D-422A7FDC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7C06-48E4-4557-8179-4B10D131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EFB9-E9F3-42FB-A32E-08F97424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3B61-5E83-4ACE-9AE5-7F0819E8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9AC0-B36D-43E5-BF6A-320A6AF9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951C-46CF-42DD-BC46-98E28F08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96B6-574D-401A-9476-3A122BC8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1F7-EB08-46E9-9534-A89C409F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9DDD-AF9B-48A5-BD13-0AA8C77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43A3-EAD0-4255-9D0F-A6BAE643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8DC6-ECDF-4D5D-A2CC-287729BF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788A-E0A6-4AE1-928A-39A1284D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6101-D4D3-42BE-B733-40B67C5D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5592-DE41-4D7E-ABF4-E13B8F63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8C59-BEB0-4D01-9EC0-6E862757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72DE-BEC2-4B59-941E-75BC3118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9085-0773-4DB0-BB47-8F618E12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2087-AC04-4947-AA8A-2956BC5F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95C-24B6-4B36-B365-286FA078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A775-9697-493A-A706-D4CDE2B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286F4-D48C-4125-956C-FDBB36D5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3C11-5F3C-4565-8DDE-75B788CD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16CC-094A-4796-90AD-7C9E3A81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02FC-FF1A-42CE-BE8B-7462179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590D-E8FF-4861-A45F-74E24E50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D4EF-3172-49F8-8250-323FE1C4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8EF25-11E1-48AB-A4D8-80755E3B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A41C-AA14-4116-A731-4A291084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F0C9-3FBE-45BB-AE30-8998F0B7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8DA-8025-4176-9937-44D05F5D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73D3A-5CF5-48AE-A45E-4D138242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4691-A810-47B4-BA51-92572D83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A640-6B3C-4467-A71E-7D1FAEB7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350BB-6AF5-4D7A-BCB8-7392838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9F49-5642-4C28-8674-BF8B215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46EA-185B-4BB9-92BE-AB148E8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6229D-35A5-4D11-9BB0-1970B75D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AAC3-A705-4ED8-92BC-0E9A97C9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5C9AA-47FD-4F33-8633-0232B54D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B89FD-2303-46AD-9D11-6371354F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071-1895-4BD8-B159-E59F2AE6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E2A32-580F-4CD9-80D5-010881A0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A8E1F-508B-4DE2-B8C0-8E30D3DC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BB0E-6317-4A21-B386-7994B5FA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ED3E-4D62-4F38-8E99-9CA3C0B0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BEBD4-EBF6-4BC1-B51F-C0A4FE53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47C5C-169C-47FE-9576-DCA990DA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EE2D-E004-422B-812F-B271051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9532-0DF4-45A0-B200-632E9F9B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2279-9E40-4FA7-937D-0889F55F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C8CE-A057-4D18-9A80-06422064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089-3E7D-4116-BFD5-03350D43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50B1-0DC3-44FA-A0D6-649A6EC9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8F1-BA41-4165-B27D-81AA838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4BE-877B-43E7-B303-7FB64972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67B-737D-40E7-94CC-DAFDA82D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BDDB-8798-481D-A1E4-6431EE5079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09DD-E80F-4AEE-8EF8-49CDA72F2C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9970-E365-45B9-A749-FCA716D60A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9F74-72CA-4576-8DBF-48EAE73F42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6D81-8836-45AA-9CEB-D2AAA44C80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uk-UA" sz="41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uk-UA" sz="4100" spc="-1" strike="noStrike">
                <a:solidFill>
                  <a:srgbClr val="ff8d3e"/>
                </a:solidFill>
                <a:latin typeface="Verdana"/>
              </a:rPr>
              <a:t>Співзвучність </a:t>
            </a:r>
            <a:br>
              <a:rPr sz="4100"/>
            </a:br>
            <a:r>
              <a:rPr b="1" lang="uk-UA" sz="4100" spc="-1" strike="noStrike">
                <a:solidFill>
                  <a:srgbClr val="ff8d3e"/>
                </a:solidFill>
                <a:latin typeface="Verdana"/>
              </a:rPr>
              <a:t>„Пісні про Роланда” героїчним епосам інших народів світу. Роль автора у творі. Художня своєрідність героїчного народного епосу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Гроно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олнце 4"/>
          <p:cNvSpPr/>
          <p:nvPr/>
        </p:nvSpPr>
        <p:spPr>
          <a:xfrm>
            <a:off x="2340000" y="836640"/>
            <a:ext cx="4319640" cy="4321080"/>
          </a:xfrm>
          <a:prstGeom prst="sun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Народний гер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Блок-схема: внутренняя память 4"/>
          <p:cNvSpPr/>
          <p:nvPr/>
        </p:nvSpPr>
        <p:spPr>
          <a:xfrm>
            <a:off x="539640" y="620640"/>
            <a:ext cx="3888000" cy="2592360"/>
          </a:xfrm>
          <a:prstGeom prst="flowChartInternalStorag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d0d0d"/>
                </a:solidFill>
                <a:latin typeface="Verdana"/>
              </a:rPr>
              <a:t>« Слово про похід Ігоревім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сильніше виражені язичницькі настрої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внутренняя память 5"/>
          <p:cNvSpPr/>
          <p:nvPr/>
        </p:nvSpPr>
        <p:spPr>
          <a:xfrm>
            <a:off x="4859280" y="620640"/>
            <a:ext cx="3816360" cy="2592360"/>
          </a:xfrm>
          <a:prstGeom prst="flowChartInternalStorag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d0d0d"/>
                </a:solidFill>
                <a:latin typeface="Verdana"/>
              </a:rPr>
              <a:t>« Пісня про Роланд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Verdana"/>
              </a:rPr>
              <a:t>відображається християнська ідеологія у звертаннях до Бога, молитвах до святих, засуджуються поганські віруванн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оугольник с двумя вырезанными соседними углами 6"/>
          <p:cNvSpPr/>
          <p:nvPr/>
        </p:nvSpPr>
        <p:spPr>
          <a:xfrm>
            <a:off x="1692360" y="3357720"/>
            <a:ext cx="6192720" cy="331128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спільне ідейне звучанн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палке вболівання за долю, свободу й незалежність рідної землі, заклик до боротьби з внутрішніми й зовнішніми ворогами, уславлення патріотизму й воїнської звитяги її захисник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блемне запитанн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я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1412640"/>
            <a:ext cx="8291520" cy="4895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к ви можете оцінити, що в епосах різних народів, написаних у різний час, звучить одна й та сама ідея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тріотиз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к ви розумієте слово „патріотизм”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и може звичайна людина називатися патріотом? Що для цього вона повинна зробит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Кожен поетичний епос  - це значною мірою творче обличчя народу, вияв давності і зрілості його духовного життя, ознака того важливого етапу розвитку, який називають самосвідомістю, розумінням свого місця в світовій історії...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. Нудь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Скругленный прямоугольник 9"/>
          <p:cNvSpPr/>
          <p:nvPr/>
        </p:nvSpPr>
        <p:spPr>
          <a:xfrm>
            <a:off x="133200" y="0"/>
            <a:ext cx="8902800" cy="76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Скругленный прямоугольник 8"/>
          <p:cNvSpPr/>
          <p:nvPr/>
        </p:nvSpPr>
        <p:spPr>
          <a:xfrm>
            <a:off x="108000" y="5084640"/>
            <a:ext cx="5616360" cy="1297080"/>
          </a:xfrm>
          <a:prstGeom prst="roundRect">
            <a:avLst>
              <a:gd name="adj" fmla="val 16667"/>
            </a:avLst>
          </a:prstGeom>
          <a:solidFill>
            <a:srgbClr val="e6d6b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Скругленный прямоугольник 7"/>
          <p:cNvSpPr/>
          <p:nvPr/>
        </p:nvSpPr>
        <p:spPr>
          <a:xfrm>
            <a:off x="3924360" y="3933720"/>
            <a:ext cx="4895640" cy="1150920"/>
          </a:xfrm>
          <a:prstGeom prst="roundRect">
            <a:avLst>
              <a:gd name="adj" fmla="val 16667"/>
            </a:avLst>
          </a:prstGeom>
          <a:solidFill>
            <a:srgbClr val="89c3e5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Скругленный прямоугольник 6"/>
          <p:cNvSpPr/>
          <p:nvPr/>
        </p:nvSpPr>
        <p:spPr>
          <a:xfrm>
            <a:off x="108000" y="2852640"/>
            <a:ext cx="4608360" cy="1297080"/>
          </a:xfrm>
          <a:prstGeom prst="roundRect">
            <a:avLst>
              <a:gd name="adj" fmla="val 16667"/>
            </a:avLst>
          </a:prstGeom>
          <a:solidFill>
            <a:srgbClr val="baad8d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Скругленный прямоугольник 5"/>
          <p:cNvSpPr/>
          <p:nvPr/>
        </p:nvSpPr>
        <p:spPr>
          <a:xfrm>
            <a:off x="3780000" y="1844640"/>
            <a:ext cx="5040000" cy="1152720"/>
          </a:xfrm>
          <a:prstGeom prst="roundRect">
            <a:avLst>
              <a:gd name="adj" fmla="val 16667"/>
            </a:avLst>
          </a:prstGeom>
          <a:solidFill>
            <a:srgbClr val="f2ced2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Скругленный прямоугольник 4"/>
          <p:cNvSpPr/>
          <p:nvPr/>
        </p:nvSpPr>
        <p:spPr>
          <a:xfrm>
            <a:off x="133200" y="765000"/>
            <a:ext cx="4824720" cy="1079640"/>
          </a:xfrm>
          <a:prstGeom prst="roundRect">
            <a:avLst>
              <a:gd name="adj" fmla="val 16667"/>
            </a:avLst>
          </a:prstGeom>
          <a:solidFill>
            <a:srgbClr val="b3d6ac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715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uk-UA" sz="2500" spc="-1" strike="noStrike">
                <a:solidFill>
                  <a:srgbClr val="1b1810"/>
                </a:solidFill>
                <a:latin typeface="Verdana"/>
              </a:rPr>
              <a:t>Твори середньовічного героїчного епосу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83664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Пісня про Роланда”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uk-UA" sz="2600" spc="-1" strike="noStrike">
                <a:solidFill>
                  <a:srgbClr val="0000ff"/>
                </a:solidFill>
                <a:latin typeface="Verdana"/>
              </a:rPr>
              <a:t>1100р.   (1837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uk-UA" sz="2900" spc="-1" strike="noStrike">
                <a:solidFill>
                  <a:srgbClr val="000000"/>
                </a:solidFill>
                <a:latin typeface="Comic Sans MS"/>
              </a:rPr>
              <a:t>Пісня про Нібелунгів”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900" spc="-1" strike="noStrike">
                <a:solidFill>
                  <a:srgbClr val="0000ff"/>
                </a:solidFill>
                <a:latin typeface="Verdana"/>
              </a:rPr>
              <a:t>1220р.   (1779р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Пісня про мого Сіда”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uk-UA" sz="2600" spc="-1" strike="noStrike">
                <a:solidFill>
                  <a:srgbClr val="0000ff"/>
                </a:solidFill>
                <a:latin typeface="Verdana"/>
              </a:rPr>
              <a:t>1140р.   ( 1757р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«Пісня про Нібелунгів»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uk-UA" sz="2600" spc="-1" strike="noStrike">
                <a:solidFill>
                  <a:srgbClr val="0000ff"/>
                </a:solidFill>
                <a:latin typeface="Verdana"/>
              </a:rPr>
              <a:t>1200р.   (1757 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uk-UA" sz="2600" spc="-1" strike="noStrike">
                <a:solidFill>
                  <a:srgbClr val="000000"/>
                </a:solidFill>
                <a:latin typeface="Comic Sans MS"/>
              </a:rPr>
              <a:t>Слово о полку Ігоревім”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1" lang="uk-UA" sz="1900" spc="-1" strike="noStrike">
                <a:solidFill>
                  <a:srgbClr val="0000ff"/>
                </a:solidFill>
                <a:latin typeface="Verdana"/>
              </a:rPr>
              <a:t>1185-1187рр.   (1880  р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4000" y="530280"/>
            <a:ext cx="5472000" cy="6067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600" spc="-1" strike="noStrike">
                <a:solidFill>
                  <a:srgbClr val="000000"/>
                </a:solidFill>
                <a:latin typeface="Verdana"/>
              </a:rPr>
              <a:t>«Пі́сня про Нібелу́нгів»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(нім. 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as Nibelungenli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 — 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середньовічна німець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епічна поема, написана невідомим автором наприкінці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II — 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поч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III </a:t>
            </a:r>
            <a:r>
              <a:rPr b="0" lang="vi-VN" sz="2600" spc="-1" strike="noStrike">
                <a:solidFill>
                  <a:srgbClr val="000000"/>
                </a:solidFill>
                <a:latin typeface="Verdana"/>
              </a:rPr>
              <a:t>ст. У ній розповідається про одруження драконоборця Зігфрида з бургундською принцесою Кримхільдою, його смерть з причини конфлікту Кримхільди з Брунгільдою, дружиною її брата — Гунтера, а потім про помсту Кримхільди за смерть чолові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2498760" cy="3854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429240" y="4076640"/>
            <a:ext cx="18097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мерть Зігфрід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лач Крімхільд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371760" cy="4724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4859280" y="1289160"/>
            <a:ext cx="3313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«Пісня про мого Сіда»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 (ісп. 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Cantar de mío Ci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) —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ам'ятка іспанської літератури, анонімний героїчний епос.  Єдиний оригінал поеми про Сіда — рукопис 1207 року, вперше виданий не раніше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XVIII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толітт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Головним героєм епосу виступає доблесний Сід, борець проти маврів і захисник народних інтересів. Основна мета його життя — звільнення рідної землі від арабів. Історичним прототипом Сіда послужив Кастільський воєначальник, дворянин, герой Реконкісти 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одріґо (Руй) Діас де Бівар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1040—1099). Араби прозвали його Сідом. Всупереч історичній правді, Сід зображений лицарем, який має васалів і який не належить до вищої знаті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браз його ідеалізується в народному дусі. Він перетворений на справжнього народного героя, який терпить образи від несправедливого короля . Сід був вигнаний з Кастілії королем Альфонсом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.</a:t>
            </a: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 П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оте він збирає загін воїнів, бере ряд перемог над маврами, захоплює здобич, і відправляє в подарунок королеві, що вигнав його, чесно виконуючи свій васальний обов'язо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ороль прощає вигнанця і дає згоду на одруження Сіда зі своєю дочкою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«Пісня про мого Сіда» близька до історичної правди більшою мірою, ніж інші пам'ятники героїчного епосу, вона дає правдиву картину Іспанії і в дні миру, і в дні війни. Її відрізняє високий патріотиз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94920" y="259920"/>
            <a:ext cx="4537080" cy="6193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Слово о пол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Ігореві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ово о плъку   Игоревѣ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)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роїчна поема кінця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II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., одна з найвідоміши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м'яток давньоруської літератур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о невдалий похід кн. Ігоря Новгород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іверського на половц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5008680" y="404640"/>
            <a:ext cx="4167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87280" y="22320"/>
          <a:ext cx="8856720" cy="6719760"/>
        </p:xfrm>
        <a:graphic>
          <a:graphicData uri="http://schemas.openxmlformats.org/drawingml/2006/table">
            <a:tbl>
              <a:tblPr/>
              <a:tblGrid>
                <a:gridCol w="1440000"/>
                <a:gridCol w="1152360"/>
                <a:gridCol w="2629080"/>
                <a:gridCol w="1079280"/>
                <a:gridCol w="1584360"/>
                <a:gridCol w="97164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аї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зва тво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ас створ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Історична ос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ан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Іде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ер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ранц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 Пісня про Ролан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хід франкського короля Карла Великого в Іспані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пічна поема (пісн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ротьоба добра і зла, вірності і з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лан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иївська 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 Слово про похід Ігореві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5-18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вдалий похід кн.Ігоря Новгород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іверського 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овц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пічна поема (сло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днання руських зем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Іг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Іпан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існя про Сі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воювання прикордонних арабських земель лицарем Сі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пічна по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існя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ист рідної землі від кривдни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і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7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імеч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існя про Нібелунг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ищення гунами держави бургундів (нібелунгів) у 436 p., придворний і рицарський побут тієї епох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пічна по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пісня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іткнення добра і зла, помста Кріхміль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ігфрі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9520" y="28440"/>
            <a:ext cx="818496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Спільні рис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79280" y="31680"/>
            <a:ext cx="1440000" cy="1608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7407360" y="4721400"/>
            <a:ext cx="1736640" cy="2136600"/>
          </a:xfrm>
          <a:prstGeom prst="rect">
            <a:avLst/>
          </a:prstGeom>
          <a:ln w="0">
            <a:noFill/>
          </a:ln>
        </p:spPr>
      </p:pic>
      <p:sp>
        <p:nvSpPr>
          <p:cNvPr id="262" name="Табличка 5"/>
          <p:cNvSpPr/>
          <p:nvPr/>
        </p:nvSpPr>
        <p:spPr>
          <a:xfrm>
            <a:off x="1692360" y="1052640"/>
            <a:ext cx="6983280" cy="720720"/>
          </a:xfrm>
          <a:custGeom>
            <a:avLst/>
            <a:gdLst>
              <a:gd name="textAreaLeft" fmla="*/ 84960 w 6983280"/>
              <a:gd name="textAreaRight" fmla="*/ 6898320 w 69832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20919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5595" y="21600"/>
                </a:lnTo>
                <a:arcTo wR="3600" hR="3600" stAng="10800000" swAng="5400000"/>
                <a:lnTo>
                  <a:pt x="209195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Традиційна композиція, зачини, кінцівки, триразові повтор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Табличка 7"/>
          <p:cNvSpPr/>
          <p:nvPr/>
        </p:nvSpPr>
        <p:spPr>
          <a:xfrm>
            <a:off x="514440" y="1944720"/>
            <a:ext cx="6337080" cy="504720"/>
          </a:xfrm>
          <a:custGeom>
            <a:avLst/>
            <a:gdLst>
              <a:gd name="textAreaLeft" fmla="*/ 59400 w 6337080"/>
              <a:gd name="textAreaRight" fmla="*/ 6277680 w 6337080"/>
              <a:gd name="textAreaTop" fmla="*/ 59400 h 504720"/>
              <a:gd name="textAreaBottom" fmla="*/ 445320 h 504720"/>
            </a:gdLst>
            <a:ahLst/>
            <a:rect l="textAreaLeft" t="textAreaTop" r="textAreaRight" b="textAreaBottom"/>
            <a:pathLst>
              <a:path w="2710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7424" y="21600"/>
                </a:lnTo>
                <a:arcTo wR="3600" hR="3600" stAng="10800000" swAng="5400000"/>
                <a:lnTo>
                  <a:pt x="271024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Поширені діалоги й монолог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Табличка 8"/>
          <p:cNvSpPr/>
          <p:nvPr/>
        </p:nvSpPr>
        <p:spPr>
          <a:xfrm>
            <a:off x="2124000" y="2665440"/>
            <a:ext cx="6551640" cy="860400"/>
          </a:xfrm>
          <a:custGeom>
            <a:avLst/>
            <a:gdLst>
              <a:gd name="textAreaLeft" fmla="*/ 101160 w 6551640"/>
              <a:gd name="textAreaRight" fmla="*/ 6450480 w 6551640"/>
              <a:gd name="textAreaTop" fmla="*/ 101160 h 860400"/>
              <a:gd name="textAreaBottom" fmla="*/ 759240 h 860400"/>
            </a:gdLst>
            <a:ahLst/>
            <a:rect l="textAreaLeft" t="textAreaTop" r="textAreaRight" b="textAreaBottom"/>
            <a:pathLst>
              <a:path w="16441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0817" y="21600"/>
                </a:lnTo>
                <a:arcTo wR="3600" hR="3600" stAng="10800000" swAng="5400000"/>
                <a:lnTo>
                  <a:pt x="164417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Полярне групування персонажів: захисники рідного краю і ворог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Табличка 9"/>
          <p:cNvSpPr/>
          <p:nvPr/>
        </p:nvSpPr>
        <p:spPr>
          <a:xfrm>
            <a:off x="514440" y="3716280"/>
            <a:ext cx="6553080" cy="849240"/>
          </a:xfrm>
          <a:custGeom>
            <a:avLst/>
            <a:gdLst>
              <a:gd name="textAreaLeft" fmla="*/ 100080 w 6553080"/>
              <a:gd name="textAreaRight" fmla="*/ 6453000 w 6553080"/>
              <a:gd name="textAreaTop" fmla="*/ 100080 h 849240"/>
              <a:gd name="textAreaBottom" fmla="*/ 749160 h 849240"/>
            </a:gdLst>
            <a:ahLst/>
            <a:rect l="textAreaLeft" t="textAreaTop" r="textAreaRight" b="textAreaBottom"/>
            <a:pathLst>
              <a:path w="1666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3013" y="21600"/>
                </a:lnTo>
                <a:arcTo wR="3600" hR="3600" stAng="10800000" swAng="5400000"/>
                <a:lnTo>
                  <a:pt x="166613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Різке протиставлення головного героя і його суперник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Табличка 10"/>
          <p:cNvSpPr/>
          <p:nvPr/>
        </p:nvSpPr>
        <p:spPr>
          <a:xfrm>
            <a:off x="520560" y="4867200"/>
            <a:ext cx="6364440" cy="836640"/>
          </a:xfrm>
          <a:custGeom>
            <a:avLst/>
            <a:gdLst>
              <a:gd name="textAreaLeft" fmla="*/ 98640 w 6364440"/>
              <a:gd name="textAreaRight" fmla="*/ 6265800 w 6364440"/>
              <a:gd name="textAreaTop" fmla="*/ 98640 h 836640"/>
              <a:gd name="textAreaBottom" fmla="*/ 738000 h 836640"/>
            </a:gdLst>
            <a:ahLst/>
            <a:rect l="textAreaLeft" t="textAreaTop" r="textAreaRight" b="textAreaBottom"/>
            <a:pathLst>
              <a:path w="16425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0653" y="21600"/>
                </a:lnTo>
                <a:arcTo wR="3600" hR="3600" stAng="10800000" swAng="5400000"/>
                <a:lnTo>
                  <a:pt x="164253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Verdana"/>
              </a:rPr>
              <a:t>Осуд вчинків головних героїв ( Роланда, Ігоря), міжусобні сутич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Табличка 11"/>
          <p:cNvSpPr/>
          <p:nvPr/>
        </p:nvSpPr>
        <p:spPr>
          <a:xfrm>
            <a:off x="514440" y="5950080"/>
            <a:ext cx="6337080" cy="718920"/>
          </a:xfrm>
          <a:custGeom>
            <a:avLst/>
            <a:gdLst>
              <a:gd name="textAreaLeft" fmla="*/ 84600 w 6337080"/>
              <a:gd name="textAreaRight" fmla="*/ 6252480 w 6337080"/>
              <a:gd name="textAreaTop" fmla="*/ 84600 h 718920"/>
              <a:gd name="textAreaBottom" fmla="*/ 634320 h 718920"/>
            </a:gdLst>
            <a:ahLst/>
            <a:rect l="textAreaLeft" t="textAreaTop" r="textAreaRight" b="textAreaBottom"/>
            <a:pathLst>
              <a:path w="1903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6714" y="21600"/>
                </a:lnTo>
                <a:arcTo wR="3600" hR="3600" stAng="10800000" swAng="5400000"/>
                <a:lnTo>
                  <a:pt x="190314" y="3600"/>
                </a:lnTo>
                <a:arcTo wR="3600" hR="3600" stAng="5400000" swAng="5400000"/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Verdana"/>
              </a:rPr>
              <a:t>Головні герой – улюбленці народ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Verdana"/>
              </a:rPr>
              <a:t>(Роланд, Зігфрід, Сід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5:00:52Z</dcterms:created>
  <dc:creator>User</dc:creator>
  <dc:description/>
  <dc:language>en-US</dc:language>
  <cp:lastModifiedBy>User</cp:lastModifiedBy>
  <dcterms:modified xsi:type="dcterms:W3CDTF">2013-01-24T18:07:22Z</dcterms:modified>
  <cp:revision>1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b000000000001024140</vt:lpwstr>
  </property>
</Properties>
</file>