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A4F-1AB4-4B36-9936-4D8DE28A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5FB-1EDD-411C-8CBC-BD2E3A6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B24-F53C-44DF-BC49-DB8B7B53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3C7-161C-4938-A557-2B4418AE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85B-9019-4E14-8B0F-D46152A6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51E-83DA-4F5E-9502-7C25F722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20E6-04F8-4528-91BC-E5981F3D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D81-901A-4C58-B447-983A197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2605-E868-49F4-8575-FE61553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066-0C73-4A0D-9F54-1B17F9A7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9E1E-EB59-4E81-B602-FD14F536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FBA-7596-4341-A0F1-194C247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BD5-00AA-4BAB-8A19-D7D7F9A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716B-DB13-4D13-86CB-B702FC5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1081-D451-4E87-95C7-D1E4DDA5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BFAD-930F-4BF5-B427-ADB71DB8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2FBD-F40E-4D80-9619-A15D5A91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BD0-A136-4138-A877-AF732A3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8CE-A4EC-4B6E-9B7D-26D43BD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959-F985-4FAF-8368-0CB131E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790-1168-4E68-8F9E-B1F58D3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881-9FC2-4287-9953-8E597C8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CAD-54B7-473D-B9CC-323165AC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10D-048F-41D4-B6E3-147A63D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83C-C515-4D49-8F83-C0DF8DA5F2E7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940-AC59-4670-A6EA-8D94058A3742}" type="slidenum">
              <a:rPr b="0" lang="ru-RU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1847880" y="0"/>
            <a:ext cx="7581960" cy="621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150840" y="3429000"/>
            <a:ext cx="2009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-128520" y="0"/>
            <a:ext cx="9272520" cy="421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2514600" cy="334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9261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712800" y="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769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206880" y="785880"/>
            <a:ext cx="6076800" cy="535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2527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4327560" cy="481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Saves\Масик\фоны 1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7" descr=""/>
          <p:cNvPicPr/>
          <p:nvPr/>
        </p:nvPicPr>
        <p:blipFill>
          <a:blip r:embed="rId3"/>
          <a:stretch/>
        </p:blipFill>
        <p:spPr>
          <a:xfrm>
            <a:off x="109440" y="152280"/>
            <a:ext cx="8925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-146160" y="695160"/>
            <a:ext cx="9631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перш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визначити, кого або що захищають французькі лицарі (короля, Францію, Бога); довести це на прикладах із тв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друг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показати, у чому виявився героїзм французьких лицарів; навести відповідні цита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треть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з’ясувати, які якості лицарів прославляються у творі ( мужність, відвага, шляхетність, патріотизм); аргументувати свою думку прикладами з тв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ому твір названо “Піснею про Роланда”, а не про іншого героя? Чи не було інших гідних герої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перш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йте Ролан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друг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вати Карла Велико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вдання третьої груп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характеризувати Ганел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12800" y="0"/>
            <a:ext cx="7772400" cy="190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rcRect l="0" t="0" r="0" b="87"/>
          <a:stretch/>
        </p:blipFill>
        <p:spPr>
          <a:xfrm>
            <a:off x="5000760" y="1785960"/>
            <a:ext cx="3168360" cy="385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2759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-146160" y="0"/>
            <a:ext cx="9637920" cy="347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227640" y="2924280"/>
            <a:ext cx="2428920" cy="33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916360" y="4005360"/>
            <a:ext cx="2286000" cy="231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693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5:22Z</dcterms:created>
  <dc:creator>User</dc:creator>
  <dc:description/>
  <dc:language>en-US</dc:language>
  <cp:lastModifiedBy>User</cp:lastModifiedBy>
  <dcterms:modified xsi:type="dcterms:W3CDTF">2013-01-24T11:48:48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8000000000001024140</vt:lpwstr>
  </property>
</Properties>
</file>