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A803-4627-4C5C-8429-E2B8FE8F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BE44-175D-4A58-8E17-9D2D4577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A63C-22C3-4900-B789-9EDCFA23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8286-91CD-473C-8855-45C569A5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7921-576F-44F9-BFA1-7CA93E7C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3FC9-7FAE-450F-BBB3-9D4EF8DD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1CFE-25D3-408B-B6E8-8063B1D4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6871-9498-4C56-95EB-45BC30C8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4534-B249-40E4-983A-E2640001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9D66-DD04-4DDA-92C5-06423A32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BF51-D27E-48E7-A89F-9A72A509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AD85-FFF4-4B86-9F1D-E1AA551F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59C2-442B-451C-BEF0-564A68B13E0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675e47"/>
                </a:solidFill>
                <a:latin typeface="Cambria"/>
              </a:rPr>
              <a:t>Кросворд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47640" y="1628640"/>
          <a:ext cx="5407200" cy="4321440"/>
        </p:xfrm>
        <a:graphic>
          <a:graphicData uri="http://schemas.openxmlformats.org/drawingml/2006/table">
            <a:tbl>
              <a:tblPr/>
              <a:tblGrid>
                <a:gridCol w="506520"/>
                <a:gridCol w="507960"/>
                <a:gridCol w="506520"/>
                <a:gridCol w="639720"/>
                <a:gridCol w="704880"/>
                <a:gridCol w="512640"/>
                <a:gridCol w="506520"/>
                <a:gridCol w="507960"/>
                <a:gridCol w="506520"/>
                <a:gridCol w="507960"/>
              </a:tblGrid>
              <a:tr h="6937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68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f2b2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905120"/>
            <a:ext cx="7543800" cy="39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75e47"/>
                </a:solidFill>
                <a:latin typeface="Cambria"/>
              </a:rPr>
              <a:t>Роланд – головний герой епосу. Героїко-патріотичний та лицарський ідеал середньовіччя в образі Роланда</a:t>
            </a:r>
            <a:br>
              <a:rPr sz="4000"/>
            </a:b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2f2b20"/>
                </a:solidFill>
                <a:latin typeface="Calibri"/>
              </a:rPr>
              <a:t>Мужність - це безстрашність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2f2b20"/>
                </a:solidFill>
                <a:latin typeface="Calibri"/>
              </a:rPr>
              <a:t>розум – це розуміння добра і зла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2f2b20"/>
                </a:solidFill>
                <a:latin typeface="Calibri"/>
              </a:rPr>
              <a:t>сила – це здатність до дії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2f2b20"/>
                </a:solidFill>
                <a:latin typeface="Calibri"/>
              </a:rPr>
              <a:t>герой – це той, хто уособлює в собі всі ці три чесноти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2f2b20"/>
                </a:solidFill>
                <a:latin typeface="Calibri"/>
              </a:rPr>
              <a:t>Відьяпаті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2736720" cy="273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950760" y="3573360"/>
            <a:ext cx="40402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68360" y="5876640"/>
            <a:ext cx="3657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89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Calibri"/>
              </a:rPr>
              <a:t>Ронсевальська битв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89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Calibri"/>
              </a:rPr>
              <a:t>15 серпня 778 г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8928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5358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0526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лан порівняльної характеристики Роланда і Олівера</a:t>
            </a:r>
            <a:br>
              <a:rPr sz="4400"/>
            </a:br>
            <a:r>
              <a:rPr b="1" i="1" lang="uk-UA" sz="4400" spc="-1" strike="noStrike">
                <a:solidFill>
                  <a:srgbClr val="675e47"/>
                </a:solidFill>
                <a:latin typeface="Cambria"/>
              </a:rPr>
              <a:t>                         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2276640"/>
            <a:ext cx="782640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тавлення до Бога та короля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ірність кодексу лицарської честі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Сила та мужність герої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Моральні якості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Загибель двох славетних франкі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6. Роланд та Олівер – утілення  народних ідеалі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675e47"/>
                </a:solidFill>
                <a:latin typeface="Cambria"/>
              </a:rPr>
              <a:t>Коло Вен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544500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f2b20"/>
                </a:solidFill>
                <a:latin typeface="Calibri"/>
              </a:rPr>
              <a:t>Роланд та Олівер – два варіанти позитивного героя, різні втілення народного ідеалу. Кожний з них правий по-своєму, але обидва вони з честю служать Богові, Карлу, народу, Батьківщині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Полилиния 8"/>
          <p:cNvSpPr/>
          <p:nvPr/>
        </p:nvSpPr>
        <p:spPr>
          <a:xfrm>
            <a:off x="4438800" y="2550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7b78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60" name="Группа 23"/>
          <p:cNvGrpSpPr/>
          <p:nvPr/>
        </p:nvGrpSpPr>
        <p:grpSpPr>
          <a:xfrm>
            <a:off x="345960" y="888840"/>
            <a:ext cx="7682040" cy="4573800"/>
            <a:chOff x="345960" y="888840"/>
            <a:chExt cx="7682040" cy="4573800"/>
          </a:xfrm>
        </p:grpSpPr>
        <p:sp>
          <p:nvSpPr>
            <p:cNvPr id="61" name="Овал 3"/>
            <p:cNvSpPr/>
            <p:nvPr/>
          </p:nvSpPr>
          <p:spPr>
            <a:xfrm>
              <a:off x="345960" y="888840"/>
              <a:ext cx="5327640" cy="4573800"/>
            </a:xfrm>
            <a:prstGeom prst="ellipse">
              <a:avLst/>
            </a:prstGeom>
            <a:solidFill>
              <a:srgbClr val="ccccff">
                <a:alpha val="12000"/>
              </a:srgbClr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00000"/>
                  </a:solidFill>
                  <a:latin typeface="Calibri"/>
                </a:rPr>
                <a:t>Запальний, 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00000"/>
                  </a:solidFill>
                  <a:latin typeface="Calibri"/>
                </a:rPr>
                <a:t>відчайдушний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00000"/>
                  </a:solidFill>
                  <a:latin typeface="Calibri"/>
                </a:rPr>
                <a:t>нерозсудливий, 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00000"/>
                  </a:solidFill>
                  <a:latin typeface="Calibri"/>
                </a:rPr>
                <a:t>не знає міри 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00000"/>
                  </a:solidFill>
                  <a:latin typeface="Calibri"/>
                </a:rPr>
                <a:t>ні в чому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</p:txBody>
        </p:sp>
        <p:sp>
          <p:nvSpPr>
            <p:cNvPr id="62" name="Овал 4"/>
            <p:cNvSpPr/>
            <p:nvPr/>
          </p:nvSpPr>
          <p:spPr>
            <a:xfrm>
              <a:off x="2808000" y="925200"/>
              <a:ext cx="5220000" cy="4466160"/>
            </a:xfrm>
            <a:prstGeom prst="ellipse">
              <a:avLst/>
            </a:prstGeom>
            <a:noFill/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2f2b20"/>
                  </a:solidFill>
                  <a:latin typeface="Calibri"/>
                </a:rPr>
                <a:t> </a:t>
              </a: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Розважливий,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поміркований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поєднує 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хоробрість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lang="uk-UA" sz="2000" spc="-1" strike="noStrike">
                  <a:solidFill>
                    <a:srgbClr val="7030a0"/>
                  </a:solidFill>
                  <a:latin typeface="Calibri"/>
                </a:rPr>
                <a:t>із розумом</a:t>
              </a:r>
              <a:endParaRPr b="0" lang="en-US" sz="2000" spc="-1" strike="noStrike">
                <a:solidFill>
                  <a:srgbClr val="2f2b20"/>
                </a:solidFill>
                <a:latin typeface="Calibri"/>
              </a:endParaRPr>
            </a:p>
          </p:txBody>
        </p:sp>
        <p:sp>
          <p:nvSpPr>
            <p:cNvPr id="63" name="Выноска со стрелками влево/вправо 20"/>
            <p:cNvSpPr/>
            <p:nvPr/>
          </p:nvSpPr>
          <p:spPr>
            <a:xfrm>
              <a:off x="2808000" y="1242720"/>
              <a:ext cx="3245040" cy="3457800"/>
            </a:xfrm>
            <a:custGeom>
              <a:avLst/>
              <a:gdLst>
                <a:gd name="textAreaLeft" fmla="*/ 841680 w 3245040"/>
                <a:gd name="textAreaRight" fmla="*/ 2403360 w 3245040"/>
                <a:gd name="textAreaTop" fmla="*/ 0 h 3457800"/>
                <a:gd name="textAreaBottom" fmla="*/ 345816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603" y="0"/>
                  </a:moveTo>
                  <a:lnTo>
                    <a:pt x="15997" y="0"/>
                  </a:lnTo>
                  <a:lnTo>
                    <a:pt x="15997" y="10523"/>
                  </a:lnTo>
                  <a:lnTo>
                    <a:pt x="19093" y="10523"/>
                  </a:lnTo>
                  <a:lnTo>
                    <a:pt x="19093" y="9085"/>
                  </a:lnTo>
                  <a:lnTo>
                    <a:pt x="21600" y="10800"/>
                  </a:lnTo>
                  <a:lnTo>
                    <a:pt x="19093" y="12515"/>
                  </a:lnTo>
                  <a:lnTo>
                    <a:pt x="19093" y="11077"/>
                  </a:lnTo>
                  <a:lnTo>
                    <a:pt x="15997" y="11077"/>
                  </a:lnTo>
                  <a:lnTo>
                    <a:pt x="15997" y="21600"/>
                  </a:lnTo>
                  <a:lnTo>
                    <a:pt x="5603" y="21600"/>
                  </a:lnTo>
                  <a:lnTo>
                    <a:pt x="5603" y="11077"/>
                  </a:lnTo>
                  <a:lnTo>
                    <a:pt x="2507" y="11077"/>
                  </a:lnTo>
                  <a:lnTo>
                    <a:pt x="2507" y="12515"/>
                  </a:lnTo>
                  <a:lnTo>
                    <a:pt x="0" y="10800"/>
                  </a:lnTo>
                  <a:lnTo>
                    <a:pt x="2507" y="9085"/>
                  </a:lnTo>
                  <a:lnTo>
                    <a:pt x="2507" y="10523"/>
                  </a:lnTo>
                  <a:lnTo>
                    <a:pt x="5603" y="10523"/>
                  </a:lnTo>
                  <a:close/>
                </a:path>
              </a:pathLst>
            </a:custGeom>
            <a:noFill/>
            <a:ln w="25560">
              <a:solidFill>
                <a:srgbClr val="7b7859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2f2b20"/>
                  </a:solidFill>
                  <a:latin typeface="Calibri"/>
                </a:rPr>
                <a:t>      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2f2b2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2f2b20"/>
                  </a:solidFill>
                  <a:latin typeface="Calibri"/>
                </a:rPr>
                <a:t>Вірні  християни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2f2b20"/>
                  </a:solidFill>
                  <a:latin typeface="Calibri"/>
                </a:rPr>
                <a:t>Віддані Карлові й Батьківщині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2f2b20"/>
                  </a:solidFill>
                  <a:latin typeface="Calibri"/>
                </a:rPr>
                <a:t>Сильні й мужні воїни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2f2b20"/>
                  </a:solidFill>
                  <a:latin typeface="Calibri"/>
                </a:rPr>
                <a:t>Обидва гинуть героїчно, боючись безславної загибелі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</p:txBody>
        </p:sp>
        <p:sp>
          <p:nvSpPr>
            <p:cNvPr id="64" name="Скругленный прямоугольник 21"/>
            <p:cNvSpPr/>
            <p:nvPr/>
          </p:nvSpPr>
          <p:spPr>
            <a:xfrm>
              <a:off x="755280" y="1750680"/>
              <a:ext cx="2336760" cy="463320"/>
            </a:xfrm>
            <a:prstGeom prst="roundRect">
              <a:avLst>
                <a:gd name="adj" fmla="val 50000"/>
              </a:avLst>
            </a:prstGeom>
            <a:solidFill>
              <a:srgbClr val="a9a57c"/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c00000"/>
                  </a:solidFill>
                  <a:latin typeface="Calibri"/>
                </a:rPr>
                <a:t>Роланд</a:t>
              </a:r>
              <a:endParaRPr b="0" lang="en-US" sz="3200" spc="-1" strike="noStrike">
                <a:solidFill>
                  <a:srgbClr val="2f2b20"/>
                </a:solidFill>
                <a:latin typeface="Calibri"/>
              </a:endParaRPr>
            </a:p>
          </p:txBody>
        </p:sp>
        <p:sp>
          <p:nvSpPr>
            <p:cNvPr id="65" name="Скругленный прямоугольник 22"/>
            <p:cNvSpPr/>
            <p:nvPr/>
          </p:nvSpPr>
          <p:spPr>
            <a:xfrm>
              <a:off x="5219640" y="1807920"/>
              <a:ext cx="2448000" cy="406440"/>
            </a:xfrm>
            <a:prstGeom prst="roundRect">
              <a:avLst>
                <a:gd name="adj" fmla="val 50000"/>
              </a:avLst>
            </a:prstGeom>
            <a:solidFill>
              <a:srgbClr val="a9a57c"/>
            </a:solidFill>
            <a:ln w="25560">
              <a:solidFill>
                <a:srgbClr val="7b7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7030a0"/>
                  </a:solidFill>
                  <a:latin typeface="Calibri"/>
                </a:rPr>
                <a:t>Олівер</a:t>
              </a:r>
              <a:endParaRPr b="0" lang="en-US" sz="3200" spc="-1" strike="noStrike">
                <a:solidFill>
                  <a:srgbClr val="2f2b2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75e47"/>
                </a:solidFill>
                <a:latin typeface="Cambria"/>
              </a:rPr>
              <a:t>Складання плану характеристики Роланда</a:t>
            </a:r>
            <a:br>
              <a:rPr sz="3600"/>
            </a:b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8000" y="1599840"/>
            <a:ext cx="8136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1. Роланд – відданий васал короля Карла Великого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2. Мужність і сила лицаря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3. Роланд – шляхетний лицар і вірний друг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4. Героїзм і відваг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5. Ставлення друзів і ворогів до героя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6. Місце „милої Франції” і бога в серці Роланда.</a:t>
            </a:r>
            <a:r>
              <a:rPr b="0" lang="uk-UA" sz="32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5444640"/>
            <a:ext cx="762012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Карл Великий между </a:t>
            </a: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Роландом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 и Оливером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3732120" cy="5160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0760" y="3887640"/>
            <a:ext cx="135252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6443640" y="3784680"/>
            <a:ext cx="14382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36:20Z</dcterms:created>
  <dc:creator>User</dc:creator>
  <dc:description/>
  <dc:language>en-US</dc:language>
  <cp:lastModifiedBy>User</cp:lastModifiedBy>
  <dcterms:modified xsi:type="dcterms:W3CDTF">2013-01-24T18:11:08Z</dcterms:modified>
  <cp:revision>1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a000000000001024140</vt:lpwstr>
  </property>
</Properties>
</file>