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DBE-6C57-4E07-936D-B804BD3B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E5E-E74F-45AB-ACB8-4574BD5D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BC7-CDE6-4F29-9939-18553249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5A2-41FD-4045-94F7-68C968E1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B6C-73CE-4C54-B436-BDDF6C47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861-32A4-453F-A63E-ABD5E5FE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2F2-2302-4D2E-A124-83D8131C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941-F635-4BD8-A785-6974B8E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651-BE4E-4AD5-9C20-A2E69FA3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F74-FB9B-489F-8E11-0E47070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06F-CD4B-4A71-8AAF-84EBFC1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3A8-E3EB-4466-88FD-44888780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396-B11A-447B-839C-C2E42141E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Пісня про Роланда”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– французький героїчний епос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сторична правда (похід Карла Великого 778 р. за Піренеї) та вигадка в поемі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Боротьба проти іноземців та іновірців за батьківщину – провідна тема пое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 основу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«Пісні про Роланда»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покладено реальні історичні події. Мова йде про далекі події 778 року, коли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Карл Великий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трутився у міжусобиці мусульманської Іспанії. Завоювавши декілька міст, Карл обложив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арагосу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, однак через декілька тижнів був змушений зняти облогу й повернутися за Піренеї внаслідок ускладнень у власній імперії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786280" y="3571920"/>
            <a:ext cx="2428920" cy="2919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714760" y="5786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Карл Вели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960" y="5660640"/>
            <a:ext cx="3951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14 год. Портрет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р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лик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Альбрехт Дюр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7320" y="5856120"/>
            <a:ext cx="403848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Бронзова статует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Карл Великий на кон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859280" y="176040"/>
            <a:ext cx="3600360" cy="567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0" b="63"/>
          <a:stretch/>
        </p:blipFill>
        <p:spPr>
          <a:xfrm>
            <a:off x="971640" y="260280"/>
            <a:ext cx="280836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сторія та художній вимисел </a:t>
            </a:r>
            <a:br>
              <a:rPr sz="3200"/>
            </a:b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у „Пісні про Роланда”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1600200"/>
          <a:ext cx="8291520" cy="489888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йсні історичні под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дожній вимисел по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охід Карла Великого до Іспанії 778 ро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вав кілька тижні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Уночі 15 серпня на ар’єргард війська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али християни-бас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гинув нікому невідомий марк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уотлан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Битва в Ронсевальському міжгір’ї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значний історичний епіз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6429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man Old Style"/>
              </a:rPr>
              <a:t>Пісня про Рол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-162" b="149"/>
          <a:stretch/>
        </p:blipFill>
        <p:spPr>
          <a:xfrm>
            <a:off x="6072120" y="157176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000240" y="4071960"/>
            <a:ext cx="2500560" cy="235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24289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1"/>
          <p:cNvSpPr/>
          <p:nvPr/>
        </p:nvSpPr>
        <p:spPr>
          <a:xfrm>
            <a:off x="7142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man Old Style"/>
              </a:rPr>
              <a:t>Пісня про Рола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357960" y="1643040"/>
            <a:ext cx="247320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0" t="0" r="231" b="-151"/>
          <a:stretch/>
        </p:blipFill>
        <p:spPr>
          <a:xfrm>
            <a:off x="357120" y="1857240"/>
            <a:ext cx="2374920" cy="3357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071880" y="321480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2960" y="21420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Bookman Old Style"/>
              </a:rPr>
              <a:t>Сараг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3571920" cy="236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4000680" y="3500280"/>
            <a:ext cx="42861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9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  <a:ea typeface="Arial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Продовжте речення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1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Справжній рицар завжди...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2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Справжній рицар ніколи...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3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Реальний історичний факт, покладений в основу “Пісні про Роланда” — це...»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4. </a:t>
            </a:r>
            <a:r>
              <a:rPr b="0" lang="ru-RU" sz="2400" spc="-1" strike="noStrike">
                <a:solidFill>
                  <a:srgbClr val="003300"/>
                </a:solidFill>
                <a:latin typeface="Bookman Old Style"/>
                <a:ea typeface="Arial"/>
              </a:rPr>
              <a:t>«Невідповідність змісту поеми історичним фактам полягає у..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ор в Аахен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71640" y="60926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 якому стоїть трон Карла Вели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6582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58920" y="5229000"/>
            <a:ext cx="634824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Статуя Карла Великого кінця ХІІ 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тоїть перед Шартрським  собор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0" b="-86"/>
          <a:stretch/>
        </p:blipFill>
        <p:spPr>
          <a:xfrm>
            <a:off x="1979640" y="380880"/>
            <a:ext cx="4572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5732280"/>
            <a:ext cx="4038480" cy="3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Шартрський  собо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4724280"/>
            <a:ext cx="43876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Вітраж в із зображенням казкової подорожі Карла у Святу землю і міфічно витлумачена битва в Ронсевальській ущелині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200480" cy="43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28576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68360" y="378000"/>
            <a:ext cx="8426520" cy="62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3640" y="188640"/>
            <a:ext cx="81356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476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„</a:t>
            </a: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існя про Роланда” – один з найкращ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ворів народної поезії... пам’ятка середньовічного епосу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uk-UA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Бобров, автор  вільного переказу « Пісні про Роланд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100" spc="-1" strike="noStrike">
                <a:solidFill>
                  <a:srgbClr val="17375e"/>
                </a:solidFill>
                <a:latin typeface="Calibri"/>
              </a:rPr>
              <a:t>Героїчне – одна з форм прояву величного, тобто такого, що викликає захоплення, повагу при найвищому виявленні мужності, відваги, самопожертви у боротьбі за перемогу найкращих людських ідеалів , які з вивчених творів розповідають про мужність та відвагу героїв, готових до самопожертви в ім’я Батьківщини, її незалежності та свободи, достойного життя народ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1"/>
          <p:cNvSpPr/>
          <p:nvPr/>
        </p:nvSpPr>
        <p:spPr>
          <a:xfrm>
            <a:off x="7142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Bookman Old Style"/>
              </a:rPr>
              <a:t>Середньовічний Риц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2778120" cy="385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37321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3735"/>
                </a:solidFill>
                <a:latin typeface="Book Antiqua"/>
              </a:rPr>
              <a:t>Середньовічний героїчний епо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412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253f"/>
                </a:solidFill>
                <a:latin typeface="Calibri"/>
              </a:rPr>
              <a:t>це фольклорні твори різних народів, які були створені в добу Середньовічч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0253f"/>
                </a:solidFill>
                <a:latin typeface="Calibri"/>
              </a:rPr>
              <a:t>Вони відображають в легендаризованій формі події загальнонаціонального значення, релігійну боротьбу, битви проти чужоземних загарбникі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044720"/>
            <a:ext cx="91440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авньофранцузький героїчний епос зберігся у вигляді по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їх майже 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ероїчні пісні називалися пісням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жесті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бо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існями про діяння героїв мину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Жести мали обсяг від 1000 до 20000 віршів і складалися зі строф різної довж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ни призначалися для співу під супровід маленької арф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конавцями та авторами були жонгл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оловні теми: захист батьківщини від зовнішніх ворогів; вірна служба королю; криваві феодальні міжусобиц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-55440" y="-176040"/>
            <a:ext cx="9218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560" y="4946760"/>
            <a:ext cx="84978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1900" spc="-1" strike="noStrike">
                <a:solidFill>
                  <a:srgbClr val="000000"/>
                </a:solidFill>
                <a:latin typeface="Arial"/>
              </a:rPr>
              <a:t>Жонгле́р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</a:rPr>
              <a:t>, жонґлер (давньофранцузька — «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ougleor», «jongleur», 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</a:rPr>
              <a:t>з «лат.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joculator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» — «</a:t>
            </a:r>
            <a:r>
              <a:rPr b="0" lang="vi-VN" sz="1900" spc="-1" strike="noStrike">
                <a:solidFill>
                  <a:srgbClr val="000000"/>
                </a:solidFill>
                <a:latin typeface="Arial"/>
              </a:rPr>
              <a:t>потішник») — мандрівний лицедій, професійний співак, часто музикант або фокусник. Як правило, такі музиканти були і композиторами, і виконавцями пісень, складених трубадурами, відмінно володіли мистецтвом гри на багатьох музичних інструмента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818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457200" y="1468440"/>
            <a:ext cx="8229600" cy="52135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826920" y="32446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826920" y="40464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Calibri"/>
              </a:rPr>
              <a:t>Шедевр французького героїчного епосу – «Пісня про Ролан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4"/>
          <p:cNvSpPr/>
          <p:nvPr/>
        </p:nvSpPr>
        <p:spPr>
          <a:xfrm>
            <a:off x="179280" y="134136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Історики називають Карла Великого «батьком Європи». Він був не лише військовим, а й державним діячем, зумівши навести лад в управлінні величезною державою – двічі на рік проводив рейхстаги(з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їзди) з обговоренням проблем та прийняття законів,  провів реформу письма, створив школи (майбутні університети)... Навіть ім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я Карла стало загальною назвою  монарха – «корол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443640" y="115920"/>
            <a:ext cx="210672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62360" y="2965320"/>
            <a:ext cx="3149640" cy="372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5661000"/>
            <a:ext cx="195264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18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78440" y="5732280"/>
            <a:ext cx="40384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ь Щур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633840" cy="490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34920"/>
            <a:ext cx="2857680" cy="317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1887480" y="2668680"/>
            <a:ext cx="2940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34:19Z</dcterms:created>
  <dc:creator>User</dc:creator>
  <dc:description/>
  <dc:language>en-US</dc:language>
  <cp:lastModifiedBy>User</cp:lastModifiedBy>
  <dcterms:modified xsi:type="dcterms:W3CDTF">2013-01-24T18:08:38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13000000000001024140</vt:lpwstr>
  </property>
</Properties>
</file>