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723B-DA21-4F09-963D-A272A0627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5846-A013-454A-BBB0-CF9CC9AC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77BC-3BC3-4B96-8472-988754DF8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82CE-F143-4675-BFED-57C98BDD7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D239-3377-4AD0-B992-FF80BC5B3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3227-5477-4FEA-8799-77288310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2BF7-707E-4CFD-8E37-92E8687B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B760-1166-4AE7-B077-BEC7311B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A12F-70D6-47E2-BDEC-740FCFB5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8E98-4667-4015-B423-D96475DF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2A96-E4AE-4F5B-820B-BD7334CE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7ACF-CDC3-4B44-A86D-4A51916A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A060-5EA3-452A-A79B-094CDA52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4080-7CE5-4BB5-93F9-B95D10C5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F40A-F82C-4A17-A153-42DD5364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9B71-E654-4AD2-996B-A4B521360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CFF5-61D5-47F1-A132-11F018EE2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2FE9-F576-44FC-B3D5-E3102A31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81F0-8956-4260-A81D-7257585C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C0A7-7440-4F36-8ED1-9891AFF5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169F-5365-44E3-920A-0C685600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52F4-D809-4862-96DE-A24A8CED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1D91-F652-4230-AF5D-67E5536C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6160-9AF2-4251-B5F7-0FA89C72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6A1F-AD14-434A-A107-572BAB33E7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708B-CE46-4176-88CE-54B0FDAF7D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 rot="20173200">
            <a:off x="755280" y="1413000"/>
            <a:ext cx="7848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рина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Цветаев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 rot="21273600">
            <a:off x="468000" y="189000"/>
            <a:ext cx="3840120" cy="57610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 rot="804600">
            <a:off x="4960800" y="2133360"/>
            <a:ext cx="373248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104840" y="1557360"/>
            <a:ext cx="3471840" cy="4896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267160" y="549360"/>
            <a:ext cx="368316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Мур (Георгий Эфрон), Марина Цветаева, Ариадна Эфрон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1928.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74600" y="404640"/>
            <a:ext cx="4316400" cy="604872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ева направо (сидят): Анастасия Цветаева с сыном Андреем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Марина Цветаева с дочерью Ариадной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тоят сзади: Сергей Эфрон (слева) и второй муж Анастасии - Маврикий Минц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Александров, 191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очери Марины Цветаевой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рина Эфрон (слева) и Ариадна Эфрон (Аля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919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836960" y="333360"/>
            <a:ext cx="40863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Сергей Эфрон, Марина Цветаева с Георгием (Муром) и Ариадна Эфрон.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Вшеноры (Чехия), 1925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30200" y="333360"/>
            <a:ext cx="4548240" cy="61200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арина Цветаева и дочь Ариадна (Аля). Москва, 19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9T17:05:06Z</dcterms:created>
  <dc:creator>Admin</dc:creator>
  <dc:description/>
  <dc:language>en-US</dc:language>
  <cp:lastModifiedBy>Admin</cp:lastModifiedBy>
  <dcterms:modified xsi:type="dcterms:W3CDTF">2013-06-03T11:08:05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04000000000001024140</vt:lpwstr>
  </property>
</Properties>
</file>