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205-4956-45ED-981C-FDBBC880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FFB-0D47-4864-9236-55146C78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DAF-CFDF-4E5A-A5D5-ED4567D3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BD0-4C87-4C3F-8C82-F7CD22E4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DCBA-B919-46E0-BF7A-A65F40E9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8674-1106-4736-AB26-5F59DDA6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1F51-856A-439C-8C31-E74D7DC3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49C9-985D-4A73-A27A-9668336F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6A89-6234-48AB-AA03-FFF1F61D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A281-0718-4ED2-AC14-28E9215A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12EA-38B2-4893-AE1E-77255503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947-44D1-4FE7-897A-650B8103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9D99-25F5-4021-8DB8-5D816AF7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FE9E-3A38-4D87-8231-1443E6F4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E96D-6BE6-4040-860D-09F7C349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F40A-8606-4F14-8124-9C5BC72F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5F39-5022-4F3F-9A4B-98CCE548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2BF-3164-44DF-AD30-379E8277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B38-0B19-460F-A423-BFE3E61B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7A1-4602-41C0-94C3-F68674CE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4FF-763C-45E0-8B62-96709952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B71-3E2A-488E-B33E-EF882A9F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7CE-7C6D-4266-BE92-892EE570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9A7-33FC-4A6E-B382-980FA5C2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BB81-73D7-4573-BAEE-04D213872D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3906-BFB4-428C-ACB2-36BD8E600A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 rot="20173200">
            <a:off x="755280" y="1413000"/>
            <a:ext cx="784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рин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Цветае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 rot="21273600">
            <a:off x="468000" y="189000"/>
            <a:ext cx="3840120" cy="5761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rot="804600">
            <a:off x="4960800" y="2133360"/>
            <a:ext cx="37324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04840" y="1557360"/>
            <a:ext cx="3471840" cy="489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267160" y="549360"/>
            <a:ext cx="3683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Мур (Георгий Эфрон), Марина Цветаева, Ариадна Эфрон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1928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4600" y="404640"/>
            <a:ext cx="4316400" cy="60487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ева направо (сидят): Анастасия Цветаева с сыном Андреем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Марина Цветаева с дочерью Ариадно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тоят сзади: Сергей Эфрон (слева) и второй муж Анастасии - Маврикий Минц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Александров, 191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чери Марины Цветаевой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рина Эфрон (слева) и Ариадна Эфрон (Аля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91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36960" y="333360"/>
            <a:ext cx="4086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Сергей Эфрон, Марина Цветаева с Георгием (Муром) и Ариадна Эфрон.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шеноры (Чехия), 1925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30200" y="333360"/>
            <a:ext cx="4548240" cy="6120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рина Цветаева и дочь Ариадна (Аля). Москва, 19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7:05:06Z</dcterms:created>
  <dc:creator>Admin</dc:creator>
  <dc:description/>
  <dc:language>en-US</dc:language>
  <cp:lastModifiedBy>Admin</cp:lastModifiedBy>
  <dcterms:modified xsi:type="dcterms:W3CDTF">2013-06-03T11:08:05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4000000000001024140</vt:lpwstr>
  </property>
</Properties>
</file>