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DC4A-0E99-4FAB-AFB5-6D65304D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95B-F6B7-4526-8389-FA1DF2A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8D4-55A0-46B1-AB33-F266E13D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4F0-7F9A-484D-805F-3D2BEED7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71EF-E5A4-4A6D-AF83-D60F9F96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C6A5-901F-465D-A3F5-020BCCC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6F01-42EF-4F9A-A532-80242B0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EC1B-6963-4C8B-8744-C5EA4AF1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0BCD-62F1-4AF5-99F5-34E13E19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8F82-795C-4841-822E-EEAB15B3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4A5C-C916-4C97-8859-07EFFF4D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B06-E605-4B34-BC22-35F7F607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8BF9-A6F2-4D55-BA67-C6D568C4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958D-3B0B-4562-A5BC-5B290AC9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7F63-0C92-4E01-A011-1C98B131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1A49-9F8A-4098-A7A7-965E0E95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0576-DF96-4157-AD85-2D0151D2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B4F11-4F35-4D95-871C-0BBC0A75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71F7-5ED5-4AEC-9973-0A9CBAD7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F6DF-0AF7-4320-9D72-9B0145C0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08A3-065D-44A5-AF4B-45F92F2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912F-878A-4FCA-90AA-09E6A43C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FFE8-F60F-4D97-95F0-F1ED1BAB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9CCC-F48A-4697-814C-EEED2F29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E4631-30B8-42E4-92B1-99E94DC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967F-50E6-4458-BC6F-A87CB86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008F-544C-4662-8436-C7F9CA38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308B-6419-4230-B204-B3C9FFCB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2B92-F65D-4DBF-8B71-7135B3A7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9295-4E73-4757-90FB-F23301D1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1E6B-17B4-4B9D-95E8-96330AA3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73C6-2AC1-41EC-9A3D-50990400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B931C-BFB9-4AD1-BA0B-0FC860FD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FAB-EF2C-4641-A6FF-5DF77AD7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98C0B-3171-4613-961D-D9C977B0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CE6A3-0F6E-4789-9EFC-8A1A3A83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694D-B702-450C-B02F-74ACA3C9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82A9-B475-4312-90F3-CE4C42BF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D29F-E5B6-4C12-B0D6-EA3E7D26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6A790-D384-471D-952F-ECBC866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3A48-9769-46D5-9712-D86D3730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3F40-2FD7-4009-B5F6-CF9F3BD9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BEA2-0A89-4D18-BF40-3BDCAE52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5C827-C707-4CE4-B7AD-55FA95B9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FBF-13B1-40E4-94E1-AFF7194E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F049-B001-4F87-8511-D547CF1D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A18BA-3262-4420-83AF-54E24732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09F2D-B9CB-4097-A604-C3546BA7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0B0F-2F35-4BDD-B76D-8206A80E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77F69-4CBD-4835-AB24-7B605005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30A05-5535-41AD-A8F7-623DE92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3A0A-888A-4987-A65C-F91888F6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1BEFE-2E4A-42AA-BF54-109B17E7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3AB98-3373-4F81-98AD-89B94FF4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3577-4464-4459-ADB9-66158BC7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BB2-340A-4F42-B5D9-7DFFA1B5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55662-6842-4FA5-9967-3C12F533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4C7C7-05A7-4CAA-A112-880A0819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66FE-B999-4853-BB2A-ED41A75B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C87D-CA02-4914-9B3A-F441EF01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EA83D-9DD4-494C-9F39-5281008A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6BB95-0651-4143-BAA6-92F3C12D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5C3A7-D450-4921-8BD6-615D12A5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9BE00-AC51-4E3E-BDE8-2310DA62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F2823-AB00-472D-B5FB-2CA5210B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37752-59E2-44AA-9E7F-1FE6F0E5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26C-01F8-42EF-9896-40C7690D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864E2-F6A5-462C-AF45-80E691E3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74706-9503-416F-B4D7-6BCB984B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50670-45D5-4E62-9005-AFB42933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DA5FC-F631-463E-A8EC-19010165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1CA46-7EBB-4A80-9594-D20D680F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E27E-8D3B-4F39-A81A-6B96C0D0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BA3AC-754A-4EB2-8CF2-5F024DBE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BE5F4-49B2-42CB-A510-C82B0033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60DC9-559D-43FD-88B2-D425345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B5D6F-3D35-4DFD-BE0D-895AFB63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717-CAB1-4A56-8E77-6F3D8A7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19B4-C6CF-4115-9835-7762CDA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11F4E-9A3B-4F73-BED1-8D0601E6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9659F-C6E7-4E42-9B1C-E151FFBB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E514A-2F72-4334-B97D-F9174CF8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1572A-920E-4C0B-ACDA-E71B162D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8FD-447F-470E-A029-2817C0F4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93E7-FC9D-4025-8DA1-747A0AA2EBD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56A7-FF77-4F7B-8D3A-9A30ADD8EAA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6316-433B-48A5-AADB-B7FF2CDA143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>
                <a:gd name="textAreaLeft" fmla="*/ 0 w 5544720"/>
                <a:gd name="textAreaRight" fmla="*/ 5545080 w 55447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>
                <a:gd name="textAreaLeft" fmla="*/ 0 w 5468040"/>
                <a:gd name="textAreaRight" fmla="*/ 5468400 w 54680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>
                <a:gd name="textAreaLeft" fmla="*/ 0 w 3308040"/>
                <a:gd name="textAreaRight" fmla="*/ 3308400 w 330804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A221-3BE7-443A-9D57-5BA5CAE9C01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928B-337B-47FA-90DE-8086A147B8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0320"/>
                <a:gd name="textAreaBottom" fmla="*/ 850680 h 85032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4360"/>
                <a:gd name="textAreaBottom" fmla="*/ 774720 h 77436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1600"/>
                <a:gd name="textAreaBottom" fmla="*/ 651600 h 65160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EBB8-A79C-477C-B3F3-4C4BB5F6876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>
                <a:gd name="textAreaLeft" fmla="*/ 0 w 2880000"/>
                <a:gd name="textAreaRight" fmla="*/ 2880000 w 2880000"/>
                <a:gd name="textAreaTop" fmla="*/ 0 h 715320"/>
                <a:gd name="textAreaBottom" fmla="*/ 715680 h 7153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>
                <a:gd name="textAreaLeft" fmla="*/ 0 w 5551920"/>
                <a:gd name="textAreaRight" fmla="*/ 5552280 w 5551920"/>
                <a:gd name="textAreaTop" fmla="*/ 0 h 851400"/>
                <a:gd name="textAreaBottom" fmla="*/ 851760 h 8514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>
                <a:gd name="textAreaLeft" fmla="*/ 0 w 5475240"/>
                <a:gd name="textAreaRight" fmla="*/ 5475600 w 5475240"/>
                <a:gd name="textAreaTop" fmla="*/ 0 h 775440"/>
                <a:gd name="textAreaBottom" fmla="*/ 775800 h 77544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3F8E-F253-4348-AA00-B7CF873E301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3" descr=""/>
          <p:cNvPicPr/>
          <p:nvPr/>
        </p:nvPicPr>
        <p:blipFill>
          <a:blip r:embed="rId1"/>
          <a:srcRect l="0" t="0" r="0" b="89"/>
          <a:stretch/>
        </p:blipFill>
        <p:spPr>
          <a:xfrm>
            <a:off x="684360" y="765000"/>
            <a:ext cx="799128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ndara"/>
              </a:rPr>
              <a:t>Історичні особи      Вигадані</a:t>
            </a:r>
            <a:br>
              <a:rPr sz="4400"/>
            </a:br>
            <a:br>
              <a:rPr sz="4400"/>
            </a:br>
            <a:r>
              <a:rPr b="0" lang="uk-UA" sz="3600" spc="-1" strike="noStrike">
                <a:solidFill>
                  <a:srgbClr val="000000"/>
                </a:solidFill>
                <a:latin typeface="Candara"/>
              </a:rPr>
              <a:t> Річард І                                  Ательстан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ndara"/>
              </a:rPr>
              <a:t>   Джон                                     Ровена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ndara"/>
              </a:rPr>
              <a:t>                                                   Фрон де Беф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ndara"/>
              </a:rPr>
              <a:t>                                                   Айвенго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ndara"/>
              </a:rPr>
              <a:t>                                                   Седрик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ndara"/>
              </a:rPr>
              <a:t>                                         Бріан де Буагільбер       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90480" y="2924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ndara"/>
              </a:rPr>
              <a:t>1. Доведіть, що роман В.Скотта « Айвенго» –історичний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ndara"/>
              </a:rPr>
              <a:t>2.Розкрийте суть національного конфлікту в творі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ndara"/>
              </a:rPr>
              <a:t> 3.Розкрити суть соціального та релігійного конфлікту в творі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ndara"/>
              </a:rPr>
              <a:t>4.Розкрити суть політичного конфлікту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5640" y="620280"/>
            <a:ext cx="68770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Конкурс « Розвідка боєм»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Завдання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575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Candara"/>
              </a:rPr>
              <a:t>Чисте світло лицарства вчить нас </a:t>
            </a:r>
            <a:br>
              <a:rPr sz="4800"/>
            </a:br>
            <a:r>
              <a:rPr b="1" lang="ru-RU" sz="4800" spc="-1" strike="noStrike">
                <a:solidFill>
                  <a:srgbClr val="cc00cc"/>
                </a:solidFill>
                <a:latin typeface="Candara"/>
              </a:rPr>
              <a:t>не боятися нічого, окрім ганьби.</a:t>
            </a:r>
            <a:br>
              <a:rPr sz="4800"/>
            </a:br>
            <a:r>
              <a:rPr b="1" lang="ru-RU" sz="4800" spc="-1" strike="noStrike">
                <a:solidFill>
                  <a:srgbClr val="cc00cc"/>
                </a:solidFill>
                <a:latin typeface="Candara"/>
              </a:rPr>
              <a:t>                                                                                                         В. Скотт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23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4000" spc="-1" strike="noStrike">
                <a:solidFill>
                  <a:srgbClr val="c00000"/>
                </a:solidFill>
                <a:latin typeface="Candara"/>
              </a:rPr>
              <a:t>Тема:</a:t>
            </a:r>
            <a:br>
              <a:rPr sz="4000"/>
            </a:br>
            <a:r>
              <a:rPr b="1" lang="uk-UA" sz="4000" spc="-1" strike="noStrike">
                <a:solidFill>
                  <a:srgbClr val="ff0000"/>
                </a:solidFill>
                <a:latin typeface="Candara"/>
              </a:rPr>
              <a:t>Лицарський турнір  за твором </a:t>
            </a:r>
            <a:br>
              <a:rPr sz="4000"/>
            </a:br>
            <a:r>
              <a:rPr b="1" lang="uk-UA" sz="4000" spc="-1" strike="noStrike">
                <a:solidFill>
                  <a:srgbClr val="ff0000"/>
                </a:solidFill>
                <a:latin typeface="Candara"/>
              </a:rPr>
              <a:t>В. Скотта « Айвенго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971640" y="2997360"/>
            <a:ext cx="748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00000"/>
                </a:solidFill>
                <a:latin typeface="Candara"/>
              </a:rPr>
              <a:t>Мета:</a:t>
            </a:r>
            <a:r>
              <a:rPr b="1" i="1" lang="uk-UA" sz="2800" spc="-1" strike="noStrike">
                <a:solidFill>
                  <a:srgbClr val="000000"/>
                </a:solidFill>
                <a:latin typeface="Candara"/>
              </a:rPr>
              <a:t>систематизувати знання учнів про твір, його героїв, події, що відображають життя Англії ХІІ ст.; розвивати зв</a:t>
            </a:r>
            <a:r>
              <a:rPr b="1" i="1" lang="en-US" sz="2800" spc="-1" strike="noStrike">
                <a:solidFill>
                  <a:srgbClr val="000000"/>
                </a:solidFill>
                <a:latin typeface="Candara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Candara"/>
              </a:rPr>
              <a:t> язне мовлення учнів, вміння висловити власну думку щодо прочитаного;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ndara"/>
              </a:rPr>
              <a:t>виховувати почуття гідності, людяності, чест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Прямоугольник 3" descr=""/>
          <p:cNvPicPr/>
          <p:nvPr/>
        </p:nvPicPr>
        <p:blipFill>
          <a:blip r:embed="rId1"/>
          <a:stretch/>
        </p:blipFill>
        <p:spPr>
          <a:xfrm>
            <a:off x="1468440" y="1011240"/>
            <a:ext cx="649908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Середньовічна Англія.</a:t>
            </a:r>
            <a:br>
              <a:rPr sz="4000"/>
            </a:br>
            <a:r>
              <a:rPr b="0" lang="uk-UA" sz="4000" spc="-1" strike="noStrike">
                <a:solidFill>
                  <a:srgbClr val="ffffff"/>
                </a:solidFill>
                <a:latin typeface="Candara"/>
              </a:rPr>
              <a:t>Лицарські турнір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Рисунок 3" descr=""/>
          <p:cNvPicPr/>
          <p:nvPr/>
        </p:nvPicPr>
        <p:blipFill>
          <a:blip r:embed="rId1"/>
          <a:stretch/>
        </p:blipFill>
        <p:spPr>
          <a:xfrm>
            <a:off x="684360" y="2252520"/>
            <a:ext cx="3465360" cy="348012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4" descr=""/>
          <p:cNvPicPr/>
          <p:nvPr/>
        </p:nvPicPr>
        <p:blipFill>
          <a:blip r:embed="rId2"/>
          <a:stretch/>
        </p:blipFill>
        <p:spPr>
          <a:xfrm>
            <a:off x="4932360" y="2181240"/>
            <a:ext cx="3816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873680" y="338040"/>
            <a:ext cx="3813120" cy="243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andara"/>
              </a:rPr>
              <a:t>- Кінний воїн з важким озброєнням;</a:t>
            </a:r>
            <a:br>
              <a:rPr sz="2500"/>
            </a:br>
            <a:br>
              <a:rPr sz="2500"/>
            </a:br>
            <a:r>
              <a:rPr b="1" i="1" lang="uk-UA" sz="2500" spc="-1" strike="noStrike">
                <a:solidFill>
                  <a:srgbClr val="000000"/>
                </a:solidFill>
                <a:latin typeface="Candara"/>
              </a:rPr>
              <a:t>- самовіддана, благородна людина, що захищає когось або щось; 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87640" y="2707920"/>
            <a:ext cx="3817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- той, хто самовіддано і безкорисливо служить на якійсь ниві, захищає ідею,</a:t>
            </a:r>
            <a:r>
              <a:rPr b="1" i="1" lang="uk-UA" sz="26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етичні засади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- вихований, шляхетний, витончено чемний чоловік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Рисунок 3" descr=""/>
          <p:cNvPicPr/>
          <p:nvPr/>
        </p:nvPicPr>
        <p:blipFill>
          <a:blip r:embed="rId1"/>
          <a:stretch/>
        </p:blipFill>
        <p:spPr>
          <a:xfrm>
            <a:off x="1011240" y="1322280"/>
            <a:ext cx="3152880" cy="601668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3" descr=""/>
          <p:cNvPicPr/>
          <p:nvPr/>
        </p:nvPicPr>
        <p:blipFill>
          <a:blip r:embed="rId2"/>
          <a:stretch/>
        </p:blipFill>
        <p:spPr>
          <a:xfrm>
            <a:off x="1000080" y="1292400"/>
            <a:ext cx="3157560" cy="6016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6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345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71280" y="764640"/>
            <a:ext cx="7337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cc"/>
                </a:solidFill>
                <a:latin typeface="Candara"/>
              </a:rPr>
              <a:t>Кодекс честі лицаря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Candara"/>
              </a:rPr>
              <a:t>1. Бути сміливим і хоробрим;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Candara"/>
              </a:rPr>
              <a:t>   </a:t>
            </a:r>
            <a:r>
              <a:rPr b="1" lang="uk-UA" sz="3600" spc="-1" strike="noStrike">
                <a:solidFill>
                  <a:srgbClr val="ffff00"/>
                </a:solidFill>
                <a:latin typeface="Candara"/>
              </a:rPr>
              <a:t>2. Бути вірним своєму королю;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Candara"/>
              </a:rPr>
              <a:t>3. Захищати віру й церкву;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Candara"/>
              </a:rPr>
              <a:t>4. Заступатися за бідних і скривджених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00cc"/>
                </a:solidFill>
                <a:latin typeface="Candara"/>
              </a:rPr>
              <a:t>Правила лицарського                      турніру</a:t>
            </a:r>
            <a:br>
              <a:rPr sz="5400"/>
            </a:br>
            <a:br>
              <a:rPr sz="4000"/>
            </a:br>
            <a:r>
              <a:rPr b="0" lang="uk-UA" sz="3600" spc="-1" strike="noStrike">
                <a:solidFill>
                  <a:srgbClr val="03706d"/>
                </a:solidFill>
                <a:latin typeface="Candara"/>
              </a:rPr>
              <a:t>1.  Працювати старанно,згуртовано</a:t>
            </a:r>
            <a:br>
              <a:rPr sz="3600"/>
            </a:br>
            <a:r>
              <a:rPr b="0" lang="uk-UA" sz="3600" spc="-1" strike="noStrike">
                <a:solidFill>
                  <a:srgbClr val="03706d"/>
                </a:solidFill>
                <a:latin typeface="Candara"/>
              </a:rPr>
              <a:t>2. Поважати думку товариша</a:t>
            </a:r>
            <a:br>
              <a:rPr sz="3600"/>
            </a:br>
            <a:r>
              <a:rPr b="0" lang="uk-UA" sz="3600" spc="-1" strike="noStrike">
                <a:solidFill>
                  <a:srgbClr val="03706d"/>
                </a:solidFill>
                <a:latin typeface="Candara"/>
              </a:rPr>
              <a:t>3.З повагою ставитися до співрозмовника</a:t>
            </a:r>
            <a:br>
              <a:rPr sz="3600"/>
            </a:br>
            <a:r>
              <a:rPr b="0" lang="uk-UA" sz="3600" spc="-1" strike="noStrike">
                <a:solidFill>
                  <a:srgbClr val="03706d"/>
                </a:solidFill>
                <a:latin typeface="Candara"/>
              </a:rPr>
              <a:t>4.Доводити свою думку конкретними епізодами твору.</a:t>
            </a:r>
            <a:br>
              <a:rPr sz="3600"/>
            </a:br>
            <a:r>
              <a:rPr b="0" lang="uk-UA" sz="3200" spc="-1" strike="noStrike">
                <a:solidFill>
                  <a:srgbClr val="ffffff"/>
                </a:solidFill>
                <a:latin typeface="Candara"/>
              </a:rPr>
              <a:t>Вміт</a:t>
            </a:r>
            <a:r>
              <a:rPr b="0" lang="uk-UA" sz="2900" spc="-1" strike="noStrike">
                <a:solidFill>
                  <a:srgbClr val="ffffff"/>
                </a:solidFill>
                <a:latin typeface="Candara"/>
              </a:rPr>
              <a:t>Доводити свою думку конкретними  епізодами твору.</a:t>
            </a:r>
            <a:br>
              <a:rPr sz="2900"/>
            </a:br>
            <a:r>
              <a:rPr b="0" lang="uk-UA" sz="3200" spc="-1" strike="noStrike">
                <a:solidFill>
                  <a:srgbClr val="ffffff"/>
                </a:solidFill>
                <a:latin typeface="Candara"/>
              </a:rPr>
              <a:t>и вислухати думку товариш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ndara"/>
              </a:rPr>
              <a:t>Історичний роман </a:t>
            </a:r>
            <a:r>
              <a:rPr b="0" lang="uk-UA" sz="5400" spc="-1" strike="noStrike">
                <a:solidFill>
                  <a:srgbClr val="002060"/>
                </a:solidFill>
                <a:latin typeface="Candara"/>
              </a:rPr>
              <a:t>-це твір, який побудований на історичних подіях. Він відтворює в художній формі якусь епоху, певний період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90480" y="2924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2060"/>
                </a:solidFill>
                <a:latin typeface="Candara"/>
              </a:rPr>
              <a:t>Ательстан, Ровена, Фрон де Беф, Бріан де Буагільбер, Айвенго, Седрик, Річард , Джон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66920" y="980640"/>
            <a:ext cx="6418080" cy="20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Candara"/>
              </a:rPr>
              <a:t>Виписати у дві колонки  реальні історичні постаті  та вигадані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7:32:05Z</dcterms:created>
  <dc:creator>User</dc:creator>
  <dc:description/>
  <dc:language>en-US</dc:language>
  <cp:lastModifiedBy>Admin</cp:lastModifiedBy>
  <dcterms:modified xsi:type="dcterms:W3CDTF">2014-04-23T15:05:09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2000000000001024140</vt:lpwstr>
  </property>
</Properties>
</file>