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827-B9AE-4EFA-A7C9-A0978D84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131-4552-415C-AE2C-C70E24B3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DB4-799D-497A-8F45-DFABBF45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974-ADAF-42E7-A61F-4E047424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2118-676A-4B37-8F39-C09DA33E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C2E9-9C3E-4224-AE15-347B20C1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F57-68D7-4FED-AEA4-A3ED39B8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3729-3EA8-46F5-A68B-5CD1CAE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BD70-E828-494B-993B-35510CEC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9148-BB80-48E1-9D78-CB9EC38B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A6B3-3932-496A-990D-F1749964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5EA-53D4-4232-9340-E7639B89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604-305D-4E0D-9589-3E44759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0800-F586-486E-BAB5-B535C501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F190-659D-4A46-A419-D03922A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5751-4DC7-4F33-833F-B6AD3A32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1F9A-7CBC-438D-8C48-58807BD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D616-392B-4E70-9F82-7F696FCC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49F0-D1D6-4EFF-92D3-C54C98D5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FEFCD-DCE8-49A8-BBC1-1D2279C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32CC-B598-470F-8A77-88B364BD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3A7A-6347-4734-ABB5-916329E0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652-DCCD-4A3E-B980-31F60FF9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E813-67C5-4906-A526-E03D17F0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6B3AC-834B-496B-8AA6-512279D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7B467-F3FF-44C6-9502-D07045D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A0BB-3085-4027-926A-04C46A0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2258-E114-43FF-AF21-3EC9E533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A828-54D8-4025-A93C-D62F9519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9FA59-2BE1-4F48-B415-559EAC92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B3D07-08B6-442D-96EB-219C4230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EAC5-9ABB-496A-BCC2-58A31EFF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CBEE4-249D-4F29-B4B0-8CC11F6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D11-7C9F-4ECF-9AE1-127E7385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F5581-F19E-4992-B052-47F96D3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BFE57-0FEE-4A89-8B6C-97C3A6B9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A2000-17CB-4EAC-8A79-02FC460C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6D56-4965-4E8D-8023-E6C1DADE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247CB-459D-4FB6-AF03-78747C6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BB3D8-D0A6-4960-A9BA-48FACEAA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F732-0B05-4F9E-A12F-66B12177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5E73-342F-4392-8154-1E16DDC7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3058-6A10-4CF0-AC22-842165A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3B70-B9C2-4FBD-A89E-94C505E7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D8C-5746-415A-A77F-2B2E1EE9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666E7-DAC9-45BC-B5FC-B0107899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DCA3-9AFE-4A65-ADC3-49E04535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A45D-E401-44EB-8196-9F87A9F7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2466-AF00-43BD-80B9-F9B2EAE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D39D-8BE9-48CB-ACD3-61B6FE0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E93AF-D5E3-4446-9A06-9B13CCC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20C2E-2897-4A7F-AA66-65B4770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5D11A-541E-49D7-BFA3-D1D1D95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BCAD-FA61-49D5-91DE-6481F12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7C939-8F8C-4C82-AF8B-CDDA880E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36F-D4DE-4300-A5CD-B1CD255B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146A8-E1B9-46A6-9E40-44950327A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8CA2-BC9B-43DA-9D84-CBFC0465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94F6-7AD0-4E4C-83B0-95748BC9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E86BA-EA78-41CE-AF6B-197488BE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1EC3-7044-4685-996E-D39AEB32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ECE5B-D60C-437E-A794-7B69D753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A921-258F-4965-B38E-476F6193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85CED-E05F-4521-AB5C-3439048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337F-24C7-4D41-B642-A86AE03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44346-3026-442A-97E0-A706F68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60C-509A-40CA-A34C-B5FCD16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540FB-C477-4CBD-B927-6F332898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43586-0038-4BCF-A4ED-09496537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82AC2-BE58-4A74-B844-9954C59A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228-AECF-451A-8660-731D0E39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32B-E1A6-415C-8F17-88E626C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20E6-3013-49D1-98BF-C09E9E44D6D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CAD1-02FF-4FA2-B578-4119DA82119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19E3-1DBE-4930-B2B5-38AA9842BA7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3330-6148-4F43-87BC-C30E8B07645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90F-8F55-48E8-8985-594D841954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44D8-E0A9-46C5-93C7-D733E3C203D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500400" y="0"/>
            <a:ext cx="707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ЕМА  УРОКУ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.  Й.В.ГЕТЕ. “ФАУСТ”. ТРАГІЧ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КОХАННЯ  ФАУСТА І МАРГАРИТИ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ПІГРАФ  У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 –ВАЖКО ХОДИТЬ ПОПІДТИНН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А ЩЕ ДО ТОГО З НЕЧИСТИМ СУМЛІННЯ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-ВАЖКО В ЧУЖИНІ БЛУК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І ЩОГОДИНИ ЖДАТИ РОЗ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ТЕ. “ФАУС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43974231_ray_lago_faust"/>
          <p:cNvPicPr/>
          <p:nvPr/>
        </p:nvPicPr>
        <p:blipFill>
          <a:blip r:embed="rId2"/>
          <a:stretch/>
        </p:blipFill>
        <p:spPr>
          <a:xfrm>
            <a:off x="5857920" y="2928960"/>
            <a:ext cx="27241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Домашнє завд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Написати твори-порівня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“Фауст” Гете і “Гамлет” Шекспіра. Проблема пошуку іст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Прометей. Життя зарад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Мефістофель. Філософський закон єдності і боротьби протилеж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V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 група – “Фауст” Гете і “Катерина” Шевченка. Доля жінки в цих тв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Кохання – велика загадка </a:t>
            </a:r>
            <a:br>
              <a:rPr sz="4100"/>
            </a:b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                     життя                   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264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і клопоти, солодкий гні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е зло, солодка зваба й зг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жар, солодка про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відгомін солодких сн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. Петр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Кохання – найсильніше з усіх пристрастей, тому що воно одночасно володіє головою, серцем і ті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ль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Обери  пар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1. Ромео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А. Дульсін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2. Петрарка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Б. Сент-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3. Дон Кіхот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В. Джульєт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4. Данте 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Г. Лау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5. Простак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Д. Беатриче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391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Проблемне пит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іховне кохання.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      Яке  воно?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Чи є кохання Фауста і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Маргарити гріховним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Врубель"/>
          <p:cNvPicPr/>
          <p:nvPr/>
        </p:nvPicPr>
        <p:blipFill>
          <a:blip r:embed="rId1"/>
          <a:stretch/>
        </p:blipFill>
        <p:spPr>
          <a:xfrm>
            <a:off x="22502880" y="-2714760"/>
            <a:ext cx="5610240" cy="903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Врубель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56240" y="8571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Завдання для</a:t>
            </a:r>
            <a:br>
              <a:rPr sz="2800"/>
            </a:b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  </a:t>
            </a: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I  </a:t>
            </a: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груп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4" descr="27010168_Lourens_AlmaTadema_Faust_i_Margarita_1857_SZH"/>
          <p:cNvPicPr/>
          <p:nvPr/>
        </p:nvPicPr>
        <p:blipFill>
          <a:blip r:embed="rId1"/>
          <a:stretch/>
        </p:blipFill>
        <p:spPr>
          <a:xfrm>
            <a:off x="811080" y="1238400"/>
            <a:ext cx="4199040" cy="54482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57880" y="2428560"/>
            <a:ext cx="3571920" cy="323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Де познайомились  Фауст і Маргари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ими спочатку були наміри Фауста до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 змінилися його наміри після відвідин кімнати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е було перше враження Маргарити від Фаус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Чи були ці почуття взаємни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92d050"/>
                </a:solidFill>
                <a:latin typeface="Arial"/>
              </a:rPr>
              <a:t>Характеристика  літературного персонажа його очима  (ФАУСТ  ПРО  СЕБЕ)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5000" y="928440"/>
            <a:ext cx="3054240" cy="124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із двох закоханих бореться зі своїм почуттям та з самим собою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На чиї плечі лягає відповідальність за наслідки цих стосунк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м закінчується кохання Фауста та Маргарити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ому Маргарита не погоджується на пропозицію Фауста тікати із в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зниці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спокутує свої гріхи Маргарита</a:t>
            </a:r>
            <a:r>
              <a:rPr b="1" lang="uk-UA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Характеристика літературного персонажа  його очима (МАРГАРИТА ПРО СЕБ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0_30a70_b043720_L"/>
          <p:cNvPicPr/>
          <p:nvPr/>
        </p:nvPicPr>
        <p:blipFill>
          <a:blip r:embed="rId1"/>
          <a:stretch/>
        </p:blipFill>
        <p:spPr>
          <a:xfrm>
            <a:off x="596880" y="974880"/>
            <a:ext cx="462744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00800" y="999720"/>
            <a:ext cx="3054240" cy="8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им було ставлення в суспільстві до жінки, яка порушила норми моралі в Німеччині за часів Гете? В інших народ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Хто простив Маргариту  - Бог чи люди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ВРЯТОВАНА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Е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Як почувалася б Маргарита в сучасному суспільстві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Рисунок 9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7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5" name="Picture 8" descr="kulturmomente-faust"/>
          <p:cNvPicPr/>
          <p:nvPr/>
        </p:nvPicPr>
        <p:blipFill>
          <a:blip r:embed="rId2"/>
          <a:stretch/>
        </p:blipFill>
        <p:spPr>
          <a:xfrm>
            <a:off x="557280" y="1019160"/>
            <a:ext cx="4622760" cy="462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0800" y="857160"/>
            <a:ext cx="3054240" cy="74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000"/>
            </a:br>
            <a:r>
              <a:rPr b="1" lang="en-US" sz="2000" spc="-1" strike="noStrike">
                <a:solidFill>
                  <a:srgbClr val="6ea0b0"/>
                </a:solidFill>
                <a:latin typeface="Franklin Gothic Book"/>
              </a:rPr>
              <a:t>IV</a:t>
            </a: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56240" y="1928520"/>
            <a:ext cx="305424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з письменників і в яких творах досліджував тему позашлюбного кохання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 письменники вирішували долю жінки в своїх творах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відрізняється  бачення  Гете цієї проблеми  у творі “Фауст”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Зацікавте майбутніх    дев</a:t>
            </a:r>
            <a:r>
              <a:rPr b="1" lang="en-US" sz="1300" spc="-1" strike="noStrike">
                <a:solidFill>
                  <a:srgbClr val="92d05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яти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класників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Створіть рекламу для цього твор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5" descr="1239722888.jpg"/>
          <p:cNvPicPr/>
          <p:nvPr/>
        </p:nvPicPr>
        <p:blipFill>
          <a:blip r:embed="rId1"/>
          <a:stretch/>
        </p:blipFill>
        <p:spPr>
          <a:xfrm>
            <a:off x="622440" y="1000080"/>
            <a:ext cx="4254480" cy="59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      </a:t>
            </a: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ffff00"/>
                </a:solidFill>
                <a:latin typeface="Franklin Gothic Book"/>
              </a:rPr>
              <a:t>Міні- диспу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 Як ви оцінюєте вчинки героїв? Що, на вашу     думку, чекає Маргариту за межею життя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"/>
          <p:cNvPicPr/>
          <p:nvPr/>
        </p:nvPicPr>
        <p:blipFill>
          <a:blip r:embed="rId3"/>
          <a:stretch/>
        </p:blipFill>
        <p:spPr>
          <a:xfrm>
            <a:off x="142920" y="1714680"/>
            <a:ext cx="3929040" cy="428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878"/>
          <p:cNvPicPr/>
          <p:nvPr/>
        </p:nvPicPr>
        <p:blipFill>
          <a:blip r:embed="rId4"/>
          <a:stretch/>
        </p:blipFill>
        <p:spPr>
          <a:xfrm>
            <a:off x="4429080" y="164304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20:59:00Z</dcterms:created>
  <dc:creator>WOLF 32</dc:creator>
  <dc:description/>
  <dc:language>en-US</dc:language>
  <cp:lastModifiedBy>u1</cp:lastModifiedBy>
  <dcterms:modified xsi:type="dcterms:W3CDTF">2011-11-28T07:49:0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e000000000001024140</vt:lpwstr>
  </property>
</Properties>
</file>