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3B1-00A1-4985-B1FF-58D55E1D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E7F-5D6E-4255-AE3B-326FA9FE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5C0-A9E3-417C-948F-91A06323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7D2-4458-4653-9121-F0851F7B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3084-EBE5-4F9B-8423-7E220934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6264-7DD3-4560-8042-FC51AACA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48BD-418E-4C33-A9C1-A08FC323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FFE4-E87E-4D9F-A580-9359144E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849D-D703-48B7-B7F6-6E49D6D8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C81E-C76E-4192-9AD0-16F9E499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C65C-3A89-43D0-82BD-F163AB95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E45A-D320-4846-8D27-63B66223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44DE-DF21-4ED5-AACD-36237690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358A-6F82-404A-9364-B045CE70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C7B5-529A-410C-8E8C-16BCF70A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C1B5-9E84-4ABA-A61C-3B0051D9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444D-468D-483F-B639-857E3BD7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8BB3-4BDE-4663-98A8-F90B1E59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5FAE3-42F4-4B66-839F-EDB69755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4481-1207-4324-BE99-08A71461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CD790-618E-46E2-A4E3-DDF6670E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183DF-6ADE-4FB1-B7A2-DFED7DBF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543-86F3-45BD-BAA9-25CD199A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59D97-F78F-4B0D-9D90-7EE52930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49663-9E47-4FED-BD49-1E60B208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9F9DA-E486-4A83-9E29-41FD3C3D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A4C1-945B-4824-94AB-9D130EF9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E4392-AB7D-4C43-B937-BB8D99FA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388F3-56EF-431F-9293-7BB318F5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B4D10-0A8A-4D0C-AAAE-A6529DD1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31F75-8CCE-425B-9770-D8D67807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8B377-A9DA-4D7F-B72C-75EF899B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A6416-3AAC-41ED-B14A-7B5E885B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15F-3E39-4EBA-91F3-5862CCCB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7FF2B-9892-44DC-B095-E2AFA4EE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A908-14FC-4EEB-8FE2-02258594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52E73-3EF8-427B-B392-297AB9F3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8A8A5-6815-4AAD-ABAC-86838BBA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7E4A-BE88-4A5F-AEC2-0F9F31FA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5C696-FC6E-4322-B43E-5912CA39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14AA1-164B-4401-9180-F6C40CB8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2E072-83D7-42D4-BD65-51485FEF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67E40-6484-4FE5-928E-91BD49F6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E1EFE-0470-488E-8FF1-CA9CD0C1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6443-4106-4609-A24F-01273FF7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C7D05-D181-4006-BAFB-0D71D005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76A64-F690-4952-93B5-84DA1682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81A5D-72C2-473A-86BB-CC3770E9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D0616-26A6-4EA9-A549-30F5C22A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A5323-0F67-44FB-8195-2907D98B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357CC-8490-49E9-BFF0-DC979829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F16AC-66D4-4FDE-8C65-5FAF72AF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46EF3-BC1D-4803-A347-3706556D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ED858-4880-4E23-AC04-072C7E88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DDEC6-4A93-4D55-B61F-A288FA6A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85F-E7E1-41D7-BB1E-7A1205E2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80B14-E026-4B67-962F-B9F896A2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222D1-8136-4488-80F7-E0D54DC1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B2165-DA0F-40DE-86F5-8C38BFD4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F5DA3-A8B9-4406-94EA-F08C99F2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0F38D-2CFC-400F-901C-06A8DD88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9B898-753E-4E90-AAE0-26D5F92D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FD766-649C-4303-AEAF-0A94B86B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90352-48E5-4964-8CA8-83B3BF1A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08A18-15F2-4DAB-BFD8-043647B3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FEDDA-D20B-46DD-B36E-33353020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B00-DB7B-45C8-A099-6E1FF214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DB23-8DD8-45EE-8487-96BFE7DC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3ADF5-84C5-441E-A554-0C111422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0A153-E12D-4C97-8C88-E93ACE51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D43-BA01-4AF5-BBA2-75EEE784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53F-FDA8-40C9-ACFF-05F6CB66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B55F-9FEF-4B00-87F1-0DE9E29ADE0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D23A-7605-4CD4-8C35-BFEA7F47CB4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360B-9A3E-433D-B845-383A04DB983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12C2-AD45-4B5A-B9E4-24001E1969D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219D-431F-4623-9766-0BEBC1018CE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1FF1-A3E8-4D7D-A757-BFA6F91F812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20840" y="3333600"/>
            <a:ext cx="6492600" cy="2311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-500400" y="0"/>
            <a:ext cx="707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ТЕМА  УРОКУ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.  Й.В.ГЕТЕ. “ФАУСТ”. ТРАГІЧ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КОХАННЯ  ФАУСТА І МАРГАРИТИ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ЕПІГРАФ  УР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ОЙ ТЯЖКО –ВАЖКО ХОДИТЬ ПОПІДТИННЯ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А ЩЕ ДО ТОГО З НЕЧИСТИМ СУМЛІННЯМ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ОЙ ТЯЖКО-ВАЖКО В ЧУЖИНІ БЛУК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І ЩОГОДИНИ ЖДАТИ РОЗПЛ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Arial"/>
              </a:rPr>
              <a:t>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ГЕТЕ. “ФАУСТ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43974231_ray_lago_faust"/>
          <p:cNvPicPr/>
          <p:nvPr/>
        </p:nvPicPr>
        <p:blipFill>
          <a:blip r:embed="rId2"/>
          <a:stretch/>
        </p:blipFill>
        <p:spPr>
          <a:xfrm>
            <a:off x="5857920" y="2928960"/>
            <a:ext cx="272412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00"/>
                </a:solidFill>
                <a:latin typeface="Franklin Gothic Book"/>
              </a:rPr>
              <a:t>Домашнє завданн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Написати твори-порівнянн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група – “Фауст” Гете і “Гамлет” Шекспіра. Проблема пошуку іст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I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група – Фауст і Прометей. Життя заради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II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група – Фауст і Мефістофель. Філософський закон єдності і боротьби протилежн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V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 група – “Фауст” Гете і “Катерина” Шевченка. Доля жінки в цих тво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Franklin Gothic Book"/>
              </a:rPr>
              <a:t>     </a:t>
            </a:r>
            <a:r>
              <a:rPr b="0" lang="uk-UA" sz="4100" spc="-1" strike="noStrike">
                <a:solidFill>
                  <a:srgbClr val="ffff00"/>
                </a:solidFill>
                <a:latin typeface="Franklin Gothic Book"/>
              </a:rPr>
              <a:t>Кохання – велика загадка </a:t>
            </a:r>
            <a:br>
              <a:rPr sz="4100"/>
            </a:br>
            <a:r>
              <a:rPr b="0" lang="uk-UA" sz="4100" spc="-1" strike="noStrike">
                <a:solidFill>
                  <a:srgbClr val="ffff00"/>
                </a:solidFill>
                <a:latin typeface="Franklin Gothic Book"/>
              </a:rPr>
              <a:t>                     життя                    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42640" y="16430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і клопоти, солодкий гні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е зло, солодка зваба й зго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ий жар, солодка прохоло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ий відгомін солодких сн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Ф. Петра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000"/>
                </a:solidFill>
                <a:latin typeface="Arial"/>
              </a:rPr>
              <a:t>Кохання – найсильніше з усіх пристрастей, тому що воно одночасно володіє головою, серцем і ті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оль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</a:rPr>
              <a:t>           </a:t>
            </a:r>
            <a:r>
              <a:rPr b="0" lang="uk-UA" sz="4600" spc="-1" strike="noStrike">
                <a:solidFill>
                  <a:srgbClr val="ffff00"/>
                </a:solidFill>
                <a:latin typeface="Franklin Gothic Book"/>
              </a:rPr>
              <a:t>Обери  пар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1. Ромео     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А. Дульсіне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2. Петрарка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Б. Сент-І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3. Дон Кіхот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В. Джульєт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4. Данте      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Г. Лау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5. Простак  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Д. Беатриче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7539120" cy="471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uk-UA" sz="2800" spc="-1" strike="noStrike">
                <a:solidFill>
                  <a:srgbClr val="ffff00"/>
                </a:solidFill>
                <a:latin typeface="Franklin Gothic Book"/>
              </a:rPr>
              <a:t>Проблемне питання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ffff00"/>
                </a:solidFill>
                <a:latin typeface="Franklin Gothic Book"/>
              </a:rPr>
              <a:t>   </a:t>
            </a: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Гріховне кохання.</a:t>
            </a:r>
            <a:br>
              <a:rPr sz="2800"/>
            </a:b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       Яке  воно?</a:t>
            </a:r>
            <a:br>
              <a:rPr sz="2800"/>
            </a:b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 Чи є кохання Фауста і</a:t>
            </a:r>
            <a:br>
              <a:rPr sz="2800"/>
            </a:b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 Маргарити гріховним?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4" descr="Врубель"/>
          <p:cNvPicPr/>
          <p:nvPr/>
        </p:nvPicPr>
        <p:blipFill>
          <a:blip r:embed="rId1"/>
          <a:stretch/>
        </p:blipFill>
        <p:spPr>
          <a:xfrm>
            <a:off x="22502880" y="-2714760"/>
            <a:ext cx="5610240" cy="9039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Врубель"/>
          <p:cNvPicPr/>
          <p:nvPr/>
        </p:nvPicPr>
        <p:blipFill>
          <a:blip r:embed="rId2"/>
          <a:stretch/>
        </p:blipFill>
        <p:spPr>
          <a:xfrm>
            <a:off x="4886280" y="0"/>
            <a:ext cx="42577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56240" y="857160"/>
            <a:ext cx="3054240" cy="125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ea0b0"/>
                </a:solidFill>
                <a:latin typeface="Franklin Gothic Book"/>
              </a:rPr>
              <a:t>Завдання для</a:t>
            </a:r>
            <a:br>
              <a:rPr sz="2800"/>
            </a:br>
            <a:r>
              <a:rPr b="1" lang="uk-UA" sz="2800" spc="-1" strike="noStrike">
                <a:solidFill>
                  <a:srgbClr val="6ea0b0"/>
                </a:solidFill>
                <a:latin typeface="Franklin Gothic Book"/>
              </a:rPr>
              <a:t>  </a:t>
            </a:r>
            <a:r>
              <a:rPr b="1" lang="en-US" sz="2800" spc="-1" strike="noStrike">
                <a:solidFill>
                  <a:srgbClr val="6ea0b0"/>
                </a:solidFill>
                <a:latin typeface="Franklin Gothic Book"/>
              </a:rPr>
              <a:t>I  </a:t>
            </a:r>
            <a:r>
              <a:rPr b="1" lang="uk-UA" sz="2800" spc="-1" strike="noStrike">
                <a:solidFill>
                  <a:srgbClr val="6ea0b0"/>
                </a:solidFill>
                <a:latin typeface="Franklin Gothic Book"/>
              </a:rPr>
              <a:t>груп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4" descr="27010168_Lourens_AlmaTadema_Faust_i_Margarita_1857_SZH"/>
          <p:cNvPicPr/>
          <p:nvPr/>
        </p:nvPicPr>
        <p:blipFill>
          <a:blip r:embed="rId1"/>
          <a:stretch/>
        </p:blipFill>
        <p:spPr>
          <a:xfrm>
            <a:off x="811080" y="1238400"/>
            <a:ext cx="4199040" cy="54482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57880" y="2428560"/>
            <a:ext cx="3571920" cy="3235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Де познайомились  Фауст і Маргарит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Якими спочатку були наміри Фауста до Маргарит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Як змінилися його наміри після відвідин кімнати Маргарит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Яке було перше враження Маргарити від Фауст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Чи були ці почуття взаємним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92d050"/>
                </a:solidFill>
                <a:latin typeface="Arial"/>
              </a:rPr>
              <a:t>Характеристика  літературного персонажа його очима  (ФАУСТ  ПРО  СЕБЕ)</a:t>
            </a:r>
            <a:r>
              <a:rPr b="1" lang="uk-UA" sz="11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5000" y="928440"/>
            <a:ext cx="3054240" cy="1244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Завдання для </a:t>
            </a:r>
            <a:br>
              <a:rPr sz="2200"/>
            </a:br>
            <a:r>
              <a:rPr b="1" lang="en-US" sz="2200" spc="-1" strike="noStrike">
                <a:solidFill>
                  <a:srgbClr val="6ea0b0"/>
                </a:solidFill>
                <a:latin typeface="Franklin Gothic Book"/>
              </a:rPr>
              <a:t>II</a:t>
            </a: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 групи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556240" y="2356920"/>
            <a:ext cx="3054240" cy="330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Хто із двох закоханих бореться зі своїм почуттям та з самим собою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На чиї плечі лягає відповідальність за наслідки цих стосунків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им закінчується кохання Фауста та Маргарити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ому Маргарита не погоджується на пропозицію Фауста тікати із в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язниці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и спокутує свої гріхи Маргарита</a:t>
            </a:r>
            <a:r>
              <a:rPr b="1" lang="uk-UA" sz="1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Характеристика літературного персонажа  його очима (МАРГАРИТА ПРО СЕБЕ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7" descr="0_30a70_b043720_L"/>
          <p:cNvPicPr/>
          <p:nvPr/>
        </p:nvPicPr>
        <p:blipFill>
          <a:blip r:embed="rId1"/>
          <a:stretch/>
        </p:blipFill>
        <p:spPr>
          <a:xfrm>
            <a:off x="596880" y="974880"/>
            <a:ext cx="462744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500800" y="999720"/>
            <a:ext cx="3054240" cy="81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Завдання для </a:t>
            </a:r>
            <a:br>
              <a:rPr sz="2200"/>
            </a:br>
            <a:r>
              <a:rPr b="1" lang="en-US" sz="2200" spc="-1" strike="noStrike">
                <a:solidFill>
                  <a:srgbClr val="6ea0b0"/>
                </a:solidFill>
                <a:latin typeface="Franklin Gothic Book"/>
              </a:rPr>
              <a:t>III</a:t>
            </a: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 групи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556240" y="2356920"/>
            <a:ext cx="3054240" cy="330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Яким було ставлення в суспільстві до жінки, яка порушила норми моралі в Німеччині за часів Гете? В інших народів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Хто простив Маргариту  - Бог чи люди</a:t>
            </a:r>
            <a:r>
              <a:rPr b="1" lang="uk-UA" sz="11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uk-UA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uk-UA" sz="1600" spc="-1" strike="noStrike">
                <a:solidFill>
                  <a:srgbClr val="ff0000"/>
                </a:solidFill>
                <a:latin typeface="Arial"/>
              </a:rPr>
              <a:t>ВРЯТОВАНА!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92d050"/>
                </a:solidFill>
                <a:latin typeface="Arial"/>
              </a:rPr>
              <a:t>Ес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92d050"/>
                </a:solidFill>
                <a:latin typeface="Arial"/>
              </a:rPr>
              <a:t>“</a:t>
            </a:r>
            <a:r>
              <a:rPr b="1" lang="uk-UA" sz="1400" spc="-1" strike="noStrike">
                <a:solidFill>
                  <a:srgbClr val="92d050"/>
                </a:solidFill>
                <a:latin typeface="Arial"/>
              </a:rPr>
              <a:t>Як почувалася б Маргарита в сучасному суспільстві?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Рисунок 9"/>
          <p:cNvGrpSpPr/>
          <p:nvPr/>
        </p:nvGrpSpPr>
        <p:grpSpPr>
          <a:xfrm>
            <a:off x="1017720" y="974880"/>
            <a:ext cx="4206600" cy="5445000"/>
            <a:chOff x="1017720" y="974880"/>
            <a:chExt cx="4206600" cy="5445000"/>
          </a:xfrm>
        </p:grpSpPr>
        <p:pic>
          <p:nvPicPr>
            <p:cNvPr id="273" name="Рисунок 9" descr=""/>
            <p:cNvPicPr/>
            <p:nvPr/>
          </p:nvPicPr>
          <p:blipFill>
            <a:blip r:embed="rId1"/>
            <a:stretch/>
          </p:blipFill>
          <p:spPr>
            <a:xfrm>
              <a:off x="1017720" y="974880"/>
              <a:ext cx="4206600" cy="54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668600" y="1622520"/>
              <a:ext cx="2909880" cy="29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5" name="Picture 8" descr="kulturmomente-faust"/>
          <p:cNvPicPr/>
          <p:nvPr/>
        </p:nvPicPr>
        <p:blipFill>
          <a:blip r:embed="rId2"/>
          <a:stretch/>
        </p:blipFill>
        <p:spPr>
          <a:xfrm>
            <a:off x="557280" y="1019160"/>
            <a:ext cx="4622760" cy="462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500800" y="857160"/>
            <a:ext cx="3054240" cy="74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ea0b0"/>
                </a:solidFill>
                <a:latin typeface="Franklin Gothic Book"/>
              </a:rPr>
              <a:t>Завдання для </a:t>
            </a:r>
            <a:br>
              <a:rPr sz="2000"/>
            </a:br>
            <a:r>
              <a:rPr b="1" lang="en-US" sz="2000" spc="-1" strike="noStrike">
                <a:solidFill>
                  <a:srgbClr val="6ea0b0"/>
                </a:solidFill>
                <a:latin typeface="Franklin Gothic Book"/>
              </a:rPr>
              <a:t>IV</a:t>
            </a:r>
            <a:r>
              <a:rPr b="1" lang="uk-UA" sz="2000" spc="-1" strike="noStrike">
                <a:solidFill>
                  <a:srgbClr val="6ea0b0"/>
                </a:solidFill>
                <a:latin typeface="Franklin Gothic Book"/>
              </a:rPr>
              <a:t> групи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556240" y="1928520"/>
            <a:ext cx="3054240" cy="373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Хто з письменників і в яких творах досліджував тему позашлюбного кохання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Як письменники вирішували долю жінки в своїх творах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и відрізняється  бачення  Гете цієї проблеми  у творі “Фауст”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Зацікавте майбутніх    дев</a:t>
            </a:r>
            <a:r>
              <a:rPr b="1" lang="en-US" sz="1300" spc="-1" strike="noStrike">
                <a:solidFill>
                  <a:srgbClr val="92d050"/>
                </a:solidFill>
                <a:latin typeface="Arial"/>
              </a:rPr>
              <a:t>’</a:t>
            </a: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яти-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класників!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Створіть рекламу для цього твору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5" descr="1239722888.jpg"/>
          <p:cNvPicPr/>
          <p:nvPr/>
        </p:nvPicPr>
        <p:blipFill>
          <a:blip r:embed="rId1"/>
          <a:stretch/>
        </p:blipFill>
        <p:spPr>
          <a:xfrm>
            <a:off x="622440" y="1000080"/>
            <a:ext cx="4254480" cy="598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Franklin Gothic Book"/>
              </a:rPr>
              <a:t>      </a:t>
            </a:r>
            <a:r>
              <a:rPr b="1" lang="uk-UA" sz="3600" spc="-1" strike="noStrike">
                <a:solidFill>
                  <a:srgbClr val="ff0000"/>
                </a:solidFill>
                <a:latin typeface="Franklin Gothic Book"/>
              </a:rPr>
              <a:t>           </a:t>
            </a:r>
            <a:r>
              <a:rPr b="1" lang="uk-UA" sz="2400" spc="-1" strike="noStrike">
                <a:solidFill>
                  <a:srgbClr val="ffff00"/>
                </a:solidFill>
                <a:latin typeface="Franklin Gothic Book"/>
              </a:rPr>
              <a:t>Міні- диспут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Franklin Gothic Book"/>
              </a:rPr>
              <a:t>  Як ви оцінюєте вчинки героїв? Що, на вашу     думку, чекає Маргариту за межею життя?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525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3657600" cy="4525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2"/>
          <p:cNvPicPr/>
          <p:nvPr/>
        </p:nvPicPr>
        <p:blipFill>
          <a:blip r:embed="rId3"/>
          <a:stretch/>
        </p:blipFill>
        <p:spPr>
          <a:xfrm>
            <a:off x="142920" y="1714680"/>
            <a:ext cx="3929040" cy="4286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878"/>
          <p:cNvPicPr/>
          <p:nvPr/>
        </p:nvPicPr>
        <p:blipFill>
          <a:blip r:embed="rId4"/>
          <a:stretch/>
        </p:blipFill>
        <p:spPr>
          <a:xfrm>
            <a:off x="4429080" y="1643040"/>
            <a:ext cx="450072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20:59:00Z</dcterms:created>
  <dc:creator>WOLF 32</dc:creator>
  <dc:description/>
  <dc:language>en-US</dc:language>
  <cp:lastModifiedBy>u1</cp:lastModifiedBy>
  <dcterms:modified xsi:type="dcterms:W3CDTF">2011-11-28T07:49:01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1e000000000001024140</vt:lpwstr>
  </property>
</Properties>
</file>