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E2E-18AD-4A9E-9AF6-ACE23564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B1F-99BD-448F-8CF3-E1490E70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2D8-905F-44BE-AFF0-0D4D73F7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99CA-FF86-4D95-965D-631571D5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0E7EF-C51C-4A29-9737-D5AAF7D9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831F-9F15-4B7F-A13B-114EC5B9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72A9-68B6-4DB0-AA06-6D466E7A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7CE0C-7FEF-42D3-A3FA-DBAFFDEC0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C934-ADCD-4668-AB08-D252F272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2163-A429-484B-B391-8BE291446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84443-6F29-4F9F-8E12-C8F56F17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A1A8-A8CE-4BD7-8902-0644BE06B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0DE6-7196-4424-964E-E47BAE7F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DA29-BB2A-498B-9A41-B29CCAF0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B2DC-3038-4A76-B705-8446AA98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F93E-0C51-4BD8-A73C-699DD71D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C690-256A-4A19-A4C2-65D6FF68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59E43-0726-4803-BF12-963A3D91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6C979-1105-4439-8CF3-E74B4840F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BD577-8FF6-4C80-866A-148D3911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8A676-F5A8-4F5C-951A-56E89DAF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4B467-49A6-4FEA-8E06-82066F8A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769B-D286-42AE-B7CB-5055C754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BBD2B-56F3-42C5-BE53-9CF4338D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3BA4A-AB67-4E9C-B20B-B5C0C356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1400C-54AE-43D1-9978-B12C82D8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09576-0520-4ACB-AD3D-E8B853D2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5B61D-A789-4198-A3AA-17C368D8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ACA1B-AABF-4DB3-B5B5-3D2407EE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D268FC-0F81-47F5-9E75-2D72B209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687EE-3739-4407-BEF5-24B6FF5E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D74D4-B08D-49D9-9E37-E4FEE4E3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09A3F-C705-462D-8798-EB3902BA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AAA7-AF76-4AFC-A7D9-D268F798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F1E1F-E8A9-4767-85AB-C1257ED9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81859-41FC-4E84-8FA7-A8D55DE8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26780-BD81-4111-93D0-4C705F58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46DE1-77EE-4979-A3BD-E47DB9F6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99176-6F42-4ABE-9CF1-7BE95513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EA636-7770-4F8A-BD8C-4C776929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B911A-FC0F-4215-B92E-77811265F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6E0CD-BA94-4274-A7F2-A1A8AEEBC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54757-E882-4BF0-A589-D95D40B61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C0A24-2E63-4994-B40C-88A0B2AA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175C-CE5D-457C-9FA4-FCB9B80A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078F9-4FF8-4759-851F-38FDB7AA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071A4-3E2E-4891-8CC1-4B8F3FD4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32D1B-F634-4C62-8AEA-7B43378B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B2572-0DAD-40C6-BADF-C5EF6EA86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465FB-EDE3-41A7-A751-5046A635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8BA4F9-C13E-45FE-9BAB-4A5F8C4B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30F32-B7C6-4D1B-8FB7-35970641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70784-C1A0-456A-A31C-06940F77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31BBF-7E07-4C5E-A884-1F1FBE09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40556-2560-4CFB-882A-470F5AEFE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7EFB-B55D-428E-B3F9-A3059667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D71C9-4CC8-4A13-87AF-A27954347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4FF63-696B-4F85-9441-DAB58B8F9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2CDAC-EECD-4233-A96A-9F00C868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48F52-D500-4007-B423-7F84057C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F4082-BFBC-4636-8147-C3E5F194C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B028D-2A35-4416-A82D-4D59CCB3E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FC829-4F73-4AB9-85AB-D39524FD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7C6C1-A5A7-4F92-A7FB-620CEB7E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623A8-5EA3-4280-B71A-36CAEF98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0869C-D18B-4E63-A64C-192F7F53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E2D-CEF8-4867-B03E-5091E554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9E19C-7DCF-4568-8FEA-B3F8E1E4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4FDF5-AC3A-4DE5-8DD2-B755A781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43A0D-1D5A-4011-88AF-F0FE2822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6715-81EA-4981-9DDA-17B840FF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EAA3-D088-479C-A968-3B609885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1FDD-A82A-4B6D-8D90-D485057EAEF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BAC6-1880-40C2-B7A4-0CD56022859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76932-07C0-49A3-986A-48525DF45DF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6421-5F11-4764-9F84-47B79830EB7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C15C-6BD1-4DBD-B385-65D94238D71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6618-D1A7-45B5-B876-2D2FA309A40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20840" y="3333600"/>
            <a:ext cx="6492600" cy="2311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-500400" y="0"/>
            <a:ext cx="707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ТЕМА  УРОКУ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.  Й.В.ГЕТЕ. “ФАУСТ”. ТРАГІЧ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КОХАННЯ  ФАУСТА І МАРГАРИТИ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ЕПІГРАФ  УРО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ОЙ ТЯЖКО –ВАЖКО ХОДИТЬ ПОПІДТИННЯ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А ЩЕ ДО ТОГО З НЕЧИСТИМ СУМЛІННЯМ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ОЙ ТЯЖКО-ВАЖКО В ЧУЖИНІ БЛУК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І ЩОГОДИНИ ЖДАТИ РОЗПЛ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Arial"/>
              </a:rPr>
              <a:t>              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ГЕТЕ. “ФАУСТ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" descr="43974231_ray_lago_faust"/>
          <p:cNvPicPr/>
          <p:nvPr/>
        </p:nvPicPr>
        <p:blipFill>
          <a:blip r:embed="rId2"/>
          <a:stretch/>
        </p:blipFill>
        <p:spPr>
          <a:xfrm>
            <a:off x="5857920" y="2928960"/>
            <a:ext cx="272412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00"/>
                </a:solidFill>
                <a:latin typeface="Franklin Gothic Book"/>
              </a:rPr>
              <a:t>Домашнє завданн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Написати твори-порівнянн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I</a:t>
            </a:r>
            <a:r>
              <a:rPr b="1" lang="uk-UA" sz="2800" spc="-1" strike="noStrike">
                <a:solidFill>
                  <a:srgbClr val="92d050"/>
                </a:solidFill>
                <a:latin typeface="Arial"/>
              </a:rPr>
              <a:t> група – “Фауст” Гете і “Гамлет” Шекспіра. Проблема пошуку іст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II</a:t>
            </a:r>
            <a:r>
              <a:rPr b="1" lang="uk-UA" sz="2800" spc="-1" strike="noStrike">
                <a:solidFill>
                  <a:srgbClr val="92d050"/>
                </a:solidFill>
                <a:latin typeface="Arial"/>
              </a:rPr>
              <a:t> група – Фауст і Прометей. Життя заради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III</a:t>
            </a:r>
            <a:r>
              <a:rPr b="1" lang="uk-UA" sz="2800" spc="-1" strike="noStrike">
                <a:solidFill>
                  <a:srgbClr val="92d050"/>
                </a:solidFill>
                <a:latin typeface="Arial"/>
              </a:rPr>
              <a:t> група – Фауст і Мефістофель. Філософський закон єдності і боротьби протилежн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IV</a:t>
            </a:r>
            <a:r>
              <a:rPr b="1" lang="uk-UA" sz="2800" spc="-1" strike="noStrike">
                <a:solidFill>
                  <a:srgbClr val="92d050"/>
                </a:solidFill>
                <a:latin typeface="Arial"/>
              </a:rPr>
              <a:t>  група – “Фауст” Гете і “Катерина” Шевченка. Доля жінки в цих твор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Franklin Gothic Book"/>
              </a:rPr>
              <a:t>     </a:t>
            </a:r>
            <a:r>
              <a:rPr b="0" lang="uk-UA" sz="4100" spc="-1" strike="noStrike">
                <a:solidFill>
                  <a:srgbClr val="ffff00"/>
                </a:solidFill>
                <a:latin typeface="Franklin Gothic Book"/>
              </a:rPr>
              <a:t>Кохання – велика загадка </a:t>
            </a:r>
            <a:br>
              <a:rPr sz="4100"/>
            </a:br>
            <a:r>
              <a:rPr b="0" lang="uk-UA" sz="4100" spc="-1" strike="noStrike">
                <a:solidFill>
                  <a:srgbClr val="ffff00"/>
                </a:solidFill>
                <a:latin typeface="Franklin Gothic Book"/>
              </a:rPr>
              <a:t>                     життя                    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42640" y="16430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f0"/>
                </a:solidFill>
                <a:latin typeface="Arial"/>
              </a:rPr>
              <a:t>Солодкі клопоти, солодкий гні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f0"/>
                </a:solidFill>
                <a:latin typeface="Arial"/>
              </a:rPr>
              <a:t>Солодке зло, солодка зваба й згод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f0"/>
                </a:solidFill>
                <a:latin typeface="Arial"/>
              </a:rPr>
              <a:t>Солодкий жар, солодка прохолод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f0"/>
                </a:solidFill>
                <a:latin typeface="Arial"/>
              </a:rPr>
              <a:t>Солодкий відгомін солодких сн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Ф. Петрар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000"/>
                </a:solidFill>
                <a:latin typeface="Arial"/>
              </a:rPr>
              <a:t>Кохання – найсильніше з усіх пристрастей, тому що воно одночасно володіє головою, серцем і ті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оль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</a:rPr>
              <a:t>           </a:t>
            </a:r>
            <a:r>
              <a:rPr b="0" lang="uk-UA" sz="4600" spc="-1" strike="noStrike">
                <a:solidFill>
                  <a:srgbClr val="ffff00"/>
                </a:solidFill>
                <a:latin typeface="Franklin Gothic Book"/>
              </a:rPr>
              <a:t>Обери  пар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1. Ромео     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А. Дульсіне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2. Петрарка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Б. Сент-І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3. Дон Кіхот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В. Джульєт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4. Данте      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Г. Лау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5. Простак  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Д. Беатриче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7539120" cy="471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uk-UA" sz="2800" spc="-1" strike="noStrike">
                <a:solidFill>
                  <a:srgbClr val="ffff00"/>
                </a:solidFill>
                <a:latin typeface="Franklin Gothic Book"/>
              </a:rPr>
              <a:t>Проблемне питання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ffff00"/>
                </a:solidFill>
                <a:latin typeface="Franklin Gothic Book"/>
              </a:rPr>
              <a:t>   </a:t>
            </a: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Гріховне кохання.</a:t>
            </a:r>
            <a:br>
              <a:rPr sz="2800"/>
            </a:b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        Яке  воно?</a:t>
            </a:r>
            <a:br>
              <a:rPr sz="2800"/>
            </a:b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  Чи є кохання Фауста і</a:t>
            </a:r>
            <a:br>
              <a:rPr sz="2800"/>
            </a:b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  Маргарити гріховним?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4" descr="Врубель"/>
          <p:cNvPicPr/>
          <p:nvPr/>
        </p:nvPicPr>
        <p:blipFill>
          <a:blip r:embed="rId1"/>
          <a:stretch/>
        </p:blipFill>
        <p:spPr>
          <a:xfrm>
            <a:off x="22502880" y="-2714760"/>
            <a:ext cx="5610240" cy="9039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Врубель"/>
          <p:cNvPicPr/>
          <p:nvPr/>
        </p:nvPicPr>
        <p:blipFill>
          <a:blip r:embed="rId2"/>
          <a:stretch/>
        </p:blipFill>
        <p:spPr>
          <a:xfrm>
            <a:off x="4886280" y="0"/>
            <a:ext cx="42577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556240" y="857160"/>
            <a:ext cx="3054240" cy="125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ea0b0"/>
                </a:solidFill>
                <a:latin typeface="Franklin Gothic Book"/>
              </a:rPr>
              <a:t>Завдання для</a:t>
            </a:r>
            <a:br>
              <a:rPr sz="2800"/>
            </a:br>
            <a:r>
              <a:rPr b="1" lang="uk-UA" sz="2800" spc="-1" strike="noStrike">
                <a:solidFill>
                  <a:srgbClr val="6ea0b0"/>
                </a:solidFill>
                <a:latin typeface="Franklin Gothic Book"/>
              </a:rPr>
              <a:t>  </a:t>
            </a:r>
            <a:r>
              <a:rPr b="1" lang="en-US" sz="2800" spc="-1" strike="noStrike">
                <a:solidFill>
                  <a:srgbClr val="6ea0b0"/>
                </a:solidFill>
                <a:latin typeface="Franklin Gothic Book"/>
              </a:rPr>
              <a:t>I  </a:t>
            </a:r>
            <a:r>
              <a:rPr b="1" lang="uk-UA" sz="2800" spc="-1" strike="noStrike">
                <a:solidFill>
                  <a:srgbClr val="6ea0b0"/>
                </a:solidFill>
                <a:latin typeface="Franklin Gothic Book"/>
              </a:rPr>
              <a:t>груп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Picture 4" descr="27010168_Lourens_AlmaTadema_Faust_i_Margarita_1857_SZH"/>
          <p:cNvPicPr/>
          <p:nvPr/>
        </p:nvPicPr>
        <p:blipFill>
          <a:blip r:embed="rId1"/>
          <a:stretch/>
        </p:blipFill>
        <p:spPr>
          <a:xfrm>
            <a:off x="811080" y="1238400"/>
            <a:ext cx="4199040" cy="54482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57880" y="2428560"/>
            <a:ext cx="3571920" cy="3235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Де познайомились  Фауст і Маргарит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Якими спочатку були наміри Фауста до Маргарит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Як змінилися його наміри після відвідин кімнати Маргарит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Яке було перше враження Маргарити від Фауст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Чи були ці почуття взаємним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92d050"/>
                </a:solidFill>
                <a:latin typeface="Arial"/>
              </a:rPr>
              <a:t>Характеристика  літературного персонажа його очима  (ФАУСТ  ПРО  СЕБЕ)</a:t>
            </a:r>
            <a:r>
              <a:rPr b="1" lang="uk-UA" sz="11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5000" y="928440"/>
            <a:ext cx="3054240" cy="1244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6ea0b0"/>
                </a:solidFill>
                <a:latin typeface="Franklin Gothic Book"/>
              </a:rPr>
              <a:t>Завдання для </a:t>
            </a:r>
            <a:br>
              <a:rPr sz="2200"/>
            </a:br>
            <a:r>
              <a:rPr b="1" lang="en-US" sz="2200" spc="-1" strike="noStrike">
                <a:solidFill>
                  <a:srgbClr val="6ea0b0"/>
                </a:solidFill>
                <a:latin typeface="Franklin Gothic Book"/>
              </a:rPr>
              <a:t>II</a:t>
            </a:r>
            <a:r>
              <a:rPr b="1" lang="uk-UA" sz="2200" spc="-1" strike="noStrike">
                <a:solidFill>
                  <a:srgbClr val="6ea0b0"/>
                </a:solidFill>
                <a:latin typeface="Franklin Gothic Book"/>
              </a:rPr>
              <a:t> групи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556240" y="2356920"/>
            <a:ext cx="3054240" cy="330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Хто із двох закоханих бореться зі своїм почуттям та з самим собою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На чиї плечі лягає відповідальність за наслідки цих стосунків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Чим закінчується кохання Фауста та Маргарити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Чому Маргарита не погоджується на пропозицію Фауста тікати із в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язниці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Чи спокутує свої гріхи Маргарита</a:t>
            </a:r>
            <a:r>
              <a:rPr b="1" lang="uk-UA" sz="1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Характеристика літературного персонажа  його очима (МАРГАРИТА ПРО СЕБЕ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7" descr="0_30a70_b043720_L"/>
          <p:cNvPicPr/>
          <p:nvPr/>
        </p:nvPicPr>
        <p:blipFill>
          <a:blip r:embed="rId1"/>
          <a:stretch/>
        </p:blipFill>
        <p:spPr>
          <a:xfrm>
            <a:off x="596880" y="974880"/>
            <a:ext cx="462744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500800" y="999720"/>
            <a:ext cx="3054240" cy="81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6ea0b0"/>
                </a:solidFill>
                <a:latin typeface="Franklin Gothic Book"/>
              </a:rPr>
              <a:t>Завдання для </a:t>
            </a:r>
            <a:br>
              <a:rPr sz="2200"/>
            </a:br>
            <a:r>
              <a:rPr b="1" lang="en-US" sz="2200" spc="-1" strike="noStrike">
                <a:solidFill>
                  <a:srgbClr val="6ea0b0"/>
                </a:solidFill>
                <a:latin typeface="Franklin Gothic Book"/>
              </a:rPr>
              <a:t>III</a:t>
            </a:r>
            <a:r>
              <a:rPr b="1" lang="uk-UA" sz="2200" spc="-1" strike="noStrike">
                <a:solidFill>
                  <a:srgbClr val="6ea0b0"/>
                </a:solidFill>
                <a:latin typeface="Franklin Gothic Book"/>
              </a:rPr>
              <a:t> групи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556240" y="2356920"/>
            <a:ext cx="3054240" cy="330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Яким було ставлення в суспільстві до жінки, яка порушила норми моралі в Німеччині за часів Гете? В інших народів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Хто простив Маргариту  - Бог чи люди</a:t>
            </a:r>
            <a:r>
              <a:rPr b="1" lang="uk-UA" sz="11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uk-UA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uk-UA" sz="1600" spc="-1" strike="noStrike">
                <a:solidFill>
                  <a:srgbClr val="ff0000"/>
                </a:solidFill>
                <a:latin typeface="Arial"/>
              </a:rPr>
              <a:t>ВРЯТОВАНА!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92d050"/>
                </a:solidFill>
                <a:latin typeface="Arial"/>
              </a:rPr>
              <a:t>Ес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92d050"/>
                </a:solidFill>
                <a:latin typeface="Arial"/>
              </a:rPr>
              <a:t>“</a:t>
            </a:r>
            <a:r>
              <a:rPr b="1" lang="uk-UA" sz="1400" spc="-1" strike="noStrike">
                <a:solidFill>
                  <a:srgbClr val="92d050"/>
                </a:solidFill>
                <a:latin typeface="Arial"/>
              </a:rPr>
              <a:t>Як почувалася б Маргарита в сучасному суспільстві?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Рисунок 9"/>
          <p:cNvGrpSpPr/>
          <p:nvPr/>
        </p:nvGrpSpPr>
        <p:grpSpPr>
          <a:xfrm>
            <a:off x="1017720" y="974880"/>
            <a:ext cx="4206600" cy="5445000"/>
            <a:chOff x="1017720" y="974880"/>
            <a:chExt cx="4206600" cy="5445000"/>
          </a:xfrm>
        </p:grpSpPr>
        <p:pic>
          <p:nvPicPr>
            <p:cNvPr id="273" name="Рисунок 9" descr=""/>
            <p:cNvPicPr/>
            <p:nvPr/>
          </p:nvPicPr>
          <p:blipFill>
            <a:blip r:embed="rId1"/>
            <a:stretch/>
          </p:blipFill>
          <p:spPr>
            <a:xfrm>
              <a:off x="1017720" y="974880"/>
              <a:ext cx="4206600" cy="54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668600" y="1622520"/>
              <a:ext cx="2909880" cy="29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5" name="Picture 8" descr="kulturmomente-faust"/>
          <p:cNvPicPr/>
          <p:nvPr/>
        </p:nvPicPr>
        <p:blipFill>
          <a:blip r:embed="rId2"/>
          <a:stretch/>
        </p:blipFill>
        <p:spPr>
          <a:xfrm>
            <a:off x="557280" y="1019160"/>
            <a:ext cx="4622760" cy="4624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500800" y="857160"/>
            <a:ext cx="3054240" cy="74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ea0b0"/>
                </a:solidFill>
                <a:latin typeface="Franklin Gothic Book"/>
              </a:rPr>
              <a:t>Завдання для </a:t>
            </a:r>
            <a:br>
              <a:rPr sz="2000"/>
            </a:br>
            <a:r>
              <a:rPr b="1" lang="en-US" sz="2000" spc="-1" strike="noStrike">
                <a:solidFill>
                  <a:srgbClr val="6ea0b0"/>
                </a:solidFill>
                <a:latin typeface="Franklin Gothic Book"/>
              </a:rPr>
              <a:t>IV</a:t>
            </a:r>
            <a:r>
              <a:rPr b="1" lang="uk-UA" sz="2000" spc="-1" strike="noStrike">
                <a:solidFill>
                  <a:srgbClr val="6ea0b0"/>
                </a:solidFill>
                <a:latin typeface="Franklin Gothic Book"/>
              </a:rPr>
              <a:t> групи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556240" y="1928520"/>
            <a:ext cx="3054240" cy="3733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Хто з письменників і в яких творах досліджував тему позашлюбного кохання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Як письменники вирішували долю жінки в своїх творах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Чи відрізняється  бачення  Гете цієї проблеми  у творі “Фауст”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Зацікавте майбутніх    дев</a:t>
            </a:r>
            <a:r>
              <a:rPr b="1" lang="en-US" sz="1300" spc="-1" strike="noStrike">
                <a:solidFill>
                  <a:srgbClr val="92d050"/>
                </a:solidFill>
                <a:latin typeface="Arial"/>
              </a:rPr>
              <a:t>’</a:t>
            </a: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яти-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класників!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Створіть рекламу для цього твору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Рисунок 5" descr="1239722888.jpg"/>
          <p:cNvPicPr/>
          <p:nvPr/>
        </p:nvPicPr>
        <p:blipFill>
          <a:blip r:embed="rId1"/>
          <a:stretch/>
        </p:blipFill>
        <p:spPr>
          <a:xfrm>
            <a:off x="622440" y="1000080"/>
            <a:ext cx="4254480" cy="598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Franklin Gothic Book"/>
              </a:rPr>
              <a:t>      </a:t>
            </a:r>
            <a:r>
              <a:rPr b="1" lang="uk-UA" sz="3600" spc="-1" strike="noStrike">
                <a:solidFill>
                  <a:srgbClr val="ff0000"/>
                </a:solidFill>
                <a:latin typeface="Franklin Gothic Book"/>
              </a:rPr>
              <a:t>           </a:t>
            </a:r>
            <a:r>
              <a:rPr b="1" lang="uk-UA" sz="2400" spc="-1" strike="noStrike">
                <a:solidFill>
                  <a:srgbClr val="ffff00"/>
                </a:solidFill>
                <a:latin typeface="Franklin Gothic Book"/>
              </a:rPr>
              <a:t>Міні- диспут</a:t>
            </a:r>
            <a:br>
              <a:rPr sz="2400"/>
            </a:br>
            <a:r>
              <a:rPr b="1" lang="uk-UA" sz="2400" spc="-1" strike="noStrike">
                <a:solidFill>
                  <a:srgbClr val="ff0000"/>
                </a:solidFill>
                <a:latin typeface="Franklin Gothic Book"/>
              </a:rPr>
              <a:t>  Як ви оцінюєте вчинки героїв? Що, на вашу     думку, чекає Маргариту за межею життя?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57600" cy="4525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3657600" cy="4525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2"/>
          <p:cNvPicPr/>
          <p:nvPr/>
        </p:nvPicPr>
        <p:blipFill>
          <a:blip r:embed="rId3"/>
          <a:stretch/>
        </p:blipFill>
        <p:spPr>
          <a:xfrm>
            <a:off x="142920" y="1714680"/>
            <a:ext cx="3929040" cy="4286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878"/>
          <p:cNvPicPr/>
          <p:nvPr/>
        </p:nvPicPr>
        <p:blipFill>
          <a:blip r:embed="rId4"/>
          <a:stretch/>
        </p:blipFill>
        <p:spPr>
          <a:xfrm>
            <a:off x="4429080" y="1643040"/>
            <a:ext cx="450072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20:59:00Z</dcterms:created>
  <dc:creator>WOLF 32</dc:creator>
  <dc:description/>
  <dc:language>en-US</dc:language>
  <cp:lastModifiedBy>u1</cp:lastModifiedBy>
  <dcterms:modified xsi:type="dcterms:W3CDTF">2011-11-28T07:49:01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1e000000000001024140</vt:lpwstr>
  </property>
</Properties>
</file>