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AB4C-FEA2-4712-B01D-539DC71D5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20C3-CC20-4211-8C71-CF33065A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9A0D-F046-4F5E-8EC8-8D66F3D77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AC72-818C-457F-B56E-FD25E789D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BCFD-0E89-4592-8E62-B0B6D2176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44BA-F382-4469-8E67-179B3F29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1A01-FF62-40BB-AA0B-2CF81397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4233-6EDA-416D-9C6B-ACDBD6F7D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C794-7D95-4618-9977-89E9AA3E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3DC3-A001-4676-985A-E1673D95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84FD4-7B11-42AD-9E14-6433484D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0920-E2CC-4816-8BD8-74ADEB2C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D9D9F-CB98-48F1-9C16-5687B07E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77B3-FF63-42A6-91A6-8586D1E4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679B-0F85-4F47-8406-6E19DD79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C649-4858-4A10-98ED-DCCD4C6E3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32F0-443F-4E68-A5A3-0BEF1C4C9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70265-59ED-4616-BBB6-B3411695B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E0780-A279-42F8-8B33-8078D290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8F531-FB3C-4E15-B954-2F6D3811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59C42-1504-40AD-8456-7D0305AB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930BB-AE41-4836-BE22-1B77FBD7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6267-1944-47A6-A8ED-E4073882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5AA11-2991-4A12-A089-DAE41EC0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EB6E1-A22B-4B06-9856-33B3D7A0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A40DE-AC89-45BB-A531-5406ABF4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73F29-9A3F-47A7-AC90-B74164D4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C3623-790E-4EB1-9DAB-1A95F4F9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FE578-C320-4FCA-BEBB-B7FDAE4D2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B2177-A633-4710-853C-083F44149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ED598-02C9-46AB-B8E4-3C9C6AB17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78449-7D3A-458F-B280-E2FF7E8D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83DA5-D84C-485A-BCD4-4CEC2EAD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061E-14CE-40BD-9300-3FD83391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45DC82-DFBB-481E-AD1A-A67D84E6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42875-8D20-463C-B899-E0546D67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57FB2-2549-4B9A-8D97-DB434E95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F775E-B7D5-4FA3-B8FB-3FF0C897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2B822-53E6-4557-8025-39B8BDB6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0B2CE-B47C-4847-9804-79F0CF62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370369-9FE8-4F42-8D9B-D2DDC36DB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4F88D-E6FC-4315-A98E-F4796A58C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6526E-90A8-4EDF-8E72-F22BF15AA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1673C-22DD-46BC-9908-E4019355A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222B-6C20-4160-B99B-86122E37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D2BB6-C322-468B-8761-C1C75833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C754C-C7B8-4F1D-AB93-C0A6D78B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61E94-3F34-47BB-A90D-FCB74668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0DDE0-A063-4974-958B-CBCCA573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8CBBB-AE6F-4331-98B2-423AD0A9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05AC5-DF86-454B-9644-1557796F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56FEC-88F4-4A59-AA42-B5F2DC6F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F3EB4-E574-4F39-A7C4-5156F509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9D48B-3D1A-4911-B37C-0C751B18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C0086-026C-4B1E-8224-80AD26E19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EB9A-66D0-4FB1-8E1B-D9802410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7BA1C-8782-4061-A2C8-ED807855B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02319-0825-4625-A2BB-0EB7DCC37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263A9-51E1-4E6D-B2E6-253583060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E2C7C8-69B7-45A8-959B-BBD34852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47972-A816-4153-9B72-0060D6271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A6FCD-3ED8-428A-BADA-5D1E3936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FEC16-6BF7-4D40-84A8-A80CFFE7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51827-3DDD-4F0F-AB60-FCDF522D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CBC9B-6393-4F8E-8B59-E65415B1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AC8ED-B897-46E5-B269-E95315B2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E718-A8B4-4E0D-952B-E533E3BF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F085A-D3F5-4D24-B721-12061606A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01158-0A34-4977-A327-664E767B8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DA8B0-7049-4102-88FA-922A0CE44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8B10-EB67-498D-8A3E-F5F1C69B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5E19-71E7-41B6-82DB-3D7D176E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CFDA-F61F-4F03-83B3-F3AC444E40B7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7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ADD4-4956-42BE-8285-1BDDEE28DEC0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8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3103-1C28-4414-9321-CBB9BACF7EC1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50A6-896C-4DE8-8380-5AF9BA51B38B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65FF-651A-4B17-B878-976889B8C89D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001B-1836-4DB1-82DE-B718FBA266A8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420840" y="3333600"/>
            <a:ext cx="6492600" cy="23115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-500400" y="0"/>
            <a:ext cx="7072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ТЕМА  УРОКУ</a:t>
            </a: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.  Й.В.ГЕТЕ. “ФАУСТ”. ТРАГІЧН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КОХАННЯ  ФАУСТА І МАРГАРИТИ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ЕПІГРАФ  УРОК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2d050"/>
                </a:solidFill>
                <a:latin typeface="Arial"/>
              </a:rPr>
              <a:t>       </a:t>
            </a:r>
            <a:r>
              <a:rPr b="1" lang="uk-UA" sz="2000" spc="-1" strike="noStrike">
                <a:solidFill>
                  <a:srgbClr val="92d050"/>
                </a:solidFill>
                <a:latin typeface="Arial"/>
              </a:rPr>
              <a:t>ОЙ ТЯЖКО –ВАЖКО ХОДИТЬ ПОПІДТИННЯМ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2d050"/>
                </a:solidFill>
                <a:latin typeface="Arial"/>
              </a:rPr>
              <a:t>       </a:t>
            </a:r>
            <a:r>
              <a:rPr b="1" lang="uk-UA" sz="2000" spc="-1" strike="noStrike">
                <a:solidFill>
                  <a:srgbClr val="92d050"/>
                </a:solidFill>
                <a:latin typeface="Arial"/>
              </a:rPr>
              <a:t>А ЩЕ ДО ТОГО З НЕЧИСТИМ СУМЛІННЯМ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2d050"/>
                </a:solidFill>
                <a:latin typeface="Arial"/>
              </a:rPr>
              <a:t>       </a:t>
            </a:r>
            <a:r>
              <a:rPr b="1" lang="uk-UA" sz="2000" spc="-1" strike="noStrike">
                <a:solidFill>
                  <a:srgbClr val="92d050"/>
                </a:solidFill>
                <a:latin typeface="Arial"/>
              </a:rPr>
              <a:t>ОЙ ТЯЖКО-ВАЖКО В ЧУЖИНІ БЛУКА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2d050"/>
                </a:solidFill>
                <a:latin typeface="Arial"/>
              </a:rPr>
              <a:t>       </a:t>
            </a:r>
            <a:r>
              <a:rPr b="1" lang="uk-UA" sz="2000" spc="-1" strike="noStrike">
                <a:solidFill>
                  <a:srgbClr val="92d050"/>
                </a:solidFill>
                <a:latin typeface="Arial"/>
              </a:rPr>
              <a:t>І ЩОГОДИНИ ЖДАТИ РОЗПЛА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00"/>
                </a:solidFill>
                <a:latin typeface="Arial"/>
              </a:rPr>
              <a:t>                                    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ГЕТЕ. “ФАУСТ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4" descr="43974231_ray_lago_faust"/>
          <p:cNvPicPr/>
          <p:nvPr/>
        </p:nvPicPr>
        <p:blipFill>
          <a:blip r:embed="rId2"/>
          <a:stretch/>
        </p:blipFill>
        <p:spPr>
          <a:xfrm>
            <a:off x="5857920" y="2928960"/>
            <a:ext cx="2724120" cy="3714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ffff00"/>
                </a:solidFill>
                <a:latin typeface="Franklin Gothic Book"/>
              </a:rPr>
              <a:t>Домашнє завдання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Arial"/>
              </a:rPr>
              <a:t>Написати твори-порівнянн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I</a:t>
            </a:r>
            <a:r>
              <a:rPr b="1" lang="uk-UA" sz="2800" spc="-1" strike="noStrike">
                <a:solidFill>
                  <a:srgbClr val="92d050"/>
                </a:solidFill>
                <a:latin typeface="Arial"/>
              </a:rPr>
              <a:t> група – “Фауст” Гете і “Гамлет” Шекспіра. Проблема пошуку істи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II</a:t>
            </a:r>
            <a:r>
              <a:rPr b="1" lang="uk-UA" sz="2800" spc="-1" strike="noStrike">
                <a:solidFill>
                  <a:srgbClr val="92d050"/>
                </a:solidFill>
                <a:latin typeface="Arial"/>
              </a:rPr>
              <a:t> група – Фауст і Прометей. Життя заради люд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III</a:t>
            </a:r>
            <a:r>
              <a:rPr b="1" lang="uk-UA" sz="2800" spc="-1" strike="noStrike">
                <a:solidFill>
                  <a:srgbClr val="92d050"/>
                </a:solidFill>
                <a:latin typeface="Arial"/>
              </a:rPr>
              <a:t> група – Фауст і Мефістофель. Філософський закон єдності і боротьби протилежност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IV</a:t>
            </a:r>
            <a:r>
              <a:rPr b="1" lang="uk-UA" sz="2800" spc="-1" strike="noStrike">
                <a:solidFill>
                  <a:srgbClr val="92d050"/>
                </a:solidFill>
                <a:latin typeface="Arial"/>
              </a:rPr>
              <a:t>  група – “Фауст” Гете і “Катерина” Шевченка. Доля жінки в цих твор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28480" y="213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100" spc="-1" strike="noStrike">
                <a:solidFill>
                  <a:srgbClr val="ffffff"/>
                </a:solidFill>
                <a:latin typeface="Franklin Gothic Book"/>
              </a:rPr>
              <a:t>     </a:t>
            </a:r>
            <a:r>
              <a:rPr b="0" lang="uk-UA" sz="4100" spc="-1" strike="noStrike">
                <a:solidFill>
                  <a:srgbClr val="ffff00"/>
                </a:solidFill>
                <a:latin typeface="Franklin Gothic Book"/>
              </a:rPr>
              <a:t>Кохання – велика загадка </a:t>
            </a:r>
            <a:br>
              <a:rPr sz="4100"/>
            </a:br>
            <a:r>
              <a:rPr b="0" lang="uk-UA" sz="4100" spc="-1" strike="noStrike">
                <a:solidFill>
                  <a:srgbClr val="ffff00"/>
                </a:solidFill>
                <a:latin typeface="Franklin Gothic Book"/>
              </a:rPr>
              <a:t>                     життя                     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142640" y="16430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b0f0"/>
                </a:solidFill>
                <a:latin typeface="Arial"/>
              </a:rPr>
              <a:t>Солодкі клопоти, солодкий гнів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b0f0"/>
                </a:solidFill>
                <a:latin typeface="Arial"/>
              </a:rPr>
              <a:t>Солодке зло, солодка зваба й згод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b0f0"/>
                </a:solidFill>
                <a:latin typeface="Arial"/>
              </a:rPr>
              <a:t>Солодкий жар, солодка прохолод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b0f0"/>
                </a:solidFill>
                <a:latin typeface="Arial"/>
              </a:rPr>
              <a:t>Солодкий відгомін солодких сні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Ф. Петрар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c000"/>
                </a:solidFill>
                <a:latin typeface="Arial"/>
              </a:rPr>
              <a:t>Кохання – найсильніше з усіх пристрастей, тому що воно одночасно володіє головою, серцем і тіл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ольт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ffffff"/>
                </a:solidFill>
                <a:latin typeface="Franklin Gothic Book"/>
              </a:rPr>
              <a:t>           </a:t>
            </a:r>
            <a:r>
              <a:rPr b="0" lang="uk-UA" sz="4600" spc="-1" strike="noStrike">
                <a:solidFill>
                  <a:srgbClr val="ffff00"/>
                </a:solidFill>
                <a:latin typeface="Franklin Gothic Book"/>
              </a:rPr>
              <a:t>Обери  пару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uk-UA" sz="3000" spc="-1" strike="noStrike">
                <a:solidFill>
                  <a:srgbClr val="92d050"/>
                </a:solidFill>
                <a:latin typeface="Arial"/>
              </a:rPr>
              <a:t>1. Ромео                 </a:t>
            </a:r>
            <a:r>
              <a:rPr b="0" lang="uk-UA" sz="3000" spc="-1" strike="noStrike">
                <a:solidFill>
                  <a:srgbClr val="ff0000"/>
                </a:solidFill>
                <a:latin typeface="Arial"/>
              </a:rPr>
              <a:t>А. Дульсіне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uk-UA" sz="3000" spc="-1" strike="noStrike">
                <a:solidFill>
                  <a:srgbClr val="92d050"/>
                </a:solidFill>
                <a:latin typeface="Arial"/>
              </a:rPr>
              <a:t>2. Петрарка            </a:t>
            </a:r>
            <a:r>
              <a:rPr b="0" lang="uk-UA" sz="3000" spc="-1" strike="noStrike">
                <a:solidFill>
                  <a:srgbClr val="ff0000"/>
                </a:solidFill>
                <a:latin typeface="Arial"/>
              </a:rPr>
              <a:t>Б. Сент-Ів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uk-UA" sz="3000" spc="-1" strike="noStrike">
                <a:solidFill>
                  <a:srgbClr val="92d050"/>
                </a:solidFill>
                <a:latin typeface="Arial"/>
              </a:rPr>
              <a:t>3. Дон Кіхот            </a:t>
            </a:r>
            <a:r>
              <a:rPr b="0" lang="uk-UA" sz="3000" spc="-1" strike="noStrike">
                <a:solidFill>
                  <a:srgbClr val="ff0000"/>
                </a:solidFill>
                <a:latin typeface="Arial"/>
              </a:rPr>
              <a:t>В. Джульєтт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92d050"/>
                </a:solidFill>
                <a:latin typeface="Arial"/>
              </a:rPr>
              <a:t>  </a:t>
            </a:r>
            <a:r>
              <a:rPr b="0" lang="uk-UA" sz="3000" spc="-1" strike="noStrike">
                <a:solidFill>
                  <a:srgbClr val="92d050"/>
                </a:solidFill>
                <a:latin typeface="Arial"/>
              </a:rPr>
              <a:t>4. Данте                  </a:t>
            </a:r>
            <a:r>
              <a:rPr b="0" lang="uk-UA" sz="3000" spc="-1" strike="noStrike">
                <a:solidFill>
                  <a:srgbClr val="ff0000"/>
                </a:solidFill>
                <a:latin typeface="Arial"/>
              </a:rPr>
              <a:t>Г. Лаур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92d050"/>
                </a:solidFill>
                <a:latin typeface="Arial"/>
              </a:rPr>
              <a:t>  </a:t>
            </a:r>
            <a:r>
              <a:rPr b="0" lang="uk-UA" sz="3000" spc="-1" strike="noStrike">
                <a:solidFill>
                  <a:srgbClr val="92d050"/>
                </a:solidFill>
                <a:latin typeface="Arial"/>
              </a:rPr>
              <a:t>5. Простак              </a:t>
            </a:r>
            <a:r>
              <a:rPr b="0" lang="uk-UA" sz="3000" spc="-1" strike="noStrike">
                <a:solidFill>
                  <a:srgbClr val="ff0000"/>
                </a:solidFill>
                <a:latin typeface="Arial"/>
              </a:rPr>
              <a:t>Д. Беатриче</a:t>
            </a: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5840" y="642600"/>
            <a:ext cx="7539120" cy="4714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uk-UA" sz="2800" spc="-1" strike="noStrike">
                <a:solidFill>
                  <a:srgbClr val="ffff00"/>
                </a:solidFill>
                <a:latin typeface="Franklin Gothic Book"/>
              </a:rPr>
              <a:t>Проблемне питання</a:t>
            </a:r>
            <a:br>
              <a:rPr sz="2800"/>
            </a:br>
            <a:br>
              <a:rPr sz="2800"/>
            </a:br>
            <a:r>
              <a:rPr b="0" lang="uk-UA" sz="2800" spc="-1" strike="noStrike">
                <a:solidFill>
                  <a:srgbClr val="ffff00"/>
                </a:solidFill>
                <a:latin typeface="Franklin Gothic Book"/>
              </a:rPr>
              <a:t>   </a:t>
            </a:r>
            <a:r>
              <a:rPr b="0" i="1" lang="uk-UA" sz="2800" spc="-1" strike="noStrike">
                <a:solidFill>
                  <a:srgbClr val="ff0000"/>
                </a:solidFill>
                <a:latin typeface="Franklin Gothic Book"/>
              </a:rPr>
              <a:t>Гріховне кохання.</a:t>
            </a:r>
            <a:br>
              <a:rPr sz="2800"/>
            </a:br>
            <a:r>
              <a:rPr b="0" i="1" lang="uk-UA" sz="2800" spc="-1" strike="noStrike">
                <a:solidFill>
                  <a:srgbClr val="ff0000"/>
                </a:solidFill>
                <a:latin typeface="Franklin Gothic Book"/>
              </a:rPr>
              <a:t>        Яке  воно?</a:t>
            </a:r>
            <a:br>
              <a:rPr sz="2800"/>
            </a:br>
            <a:r>
              <a:rPr b="0" i="1" lang="uk-UA" sz="2800" spc="-1" strike="noStrike">
                <a:solidFill>
                  <a:srgbClr val="ff0000"/>
                </a:solidFill>
                <a:latin typeface="Franklin Gothic Book"/>
              </a:rPr>
              <a:t>  Чи є кохання Фауста і</a:t>
            </a:r>
            <a:br>
              <a:rPr sz="2800"/>
            </a:br>
            <a:r>
              <a:rPr b="0" i="1" lang="uk-UA" sz="2800" spc="-1" strike="noStrike">
                <a:solidFill>
                  <a:srgbClr val="ff0000"/>
                </a:solidFill>
                <a:latin typeface="Franklin Gothic Book"/>
              </a:rPr>
              <a:t>  Маргарити гріховним?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2" name="Picture 4" descr="Врубель"/>
          <p:cNvPicPr/>
          <p:nvPr/>
        </p:nvPicPr>
        <p:blipFill>
          <a:blip r:embed="rId1"/>
          <a:stretch/>
        </p:blipFill>
        <p:spPr>
          <a:xfrm>
            <a:off x="22502880" y="-2714760"/>
            <a:ext cx="5610240" cy="90392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Врубель"/>
          <p:cNvPicPr/>
          <p:nvPr/>
        </p:nvPicPr>
        <p:blipFill>
          <a:blip r:embed="rId2"/>
          <a:stretch/>
        </p:blipFill>
        <p:spPr>
          <a:xfrm>
            <a:off x="4886280" y="0"/>
            <a:ext cx="425772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556240" y="857160"/>
            <a:ext cx="3054240" cy="1254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ea0b0"/>
                </a:solidFill>
                <a:latin typeface="Franklin Gothic Book"/>
              </a:rPr>
              <a:t>Завдання для</a:t>
            </a:r>
            <a:br>
              <a:rPr sz="2800"/>
            </a:br>
            <a:r>
              <a:rPr b="1" lang="uk-UA" sz="2800" spc="-1" strike="noStrike">
                <a:solidFill>
                  <a:srgbClr val="6ea0b0"/>
                </a:solidFill>
                <a:latin typeface="Franklin Gothic Book"/>
              </a:rPr>
              <a:t>  </a:t>
            </a:r>
            <a:r>
              <a:rPr b="1" lang="en-US" sz="2800" spc="-1" strike="noStrike">
                <a:solidFill>
                  <a:srgbClr val="6ea0b0"/>
                </a:solidFill>
                <a:latin typeface="Franklin Gothic Book"/>
              </a:rPr>
              <a:t>I  </a:t>
            </a:r>
            <a:r>
              <a:rPr b="1" lang="uk-UA" sz="2800" spc="-1" strike="noStrike">
                <a:solidFill>
                  <a:srgbClr val="6ea0b0"/>
                </a:solidFill>
                <a:latin typeface="Franklin Gothic Book"/>
              </a:rPr>
              <a:t>групи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5" name="Picture 4" descr="27010168_Lourens_AlmaTadema_Faust_i_Margarita_1857_SZH"/>
          <p:cNvPicPr/>
          <p:nvPr/>
        </p:nvPicPr>
        <p:blipFill>
          <a:blip r:embed="rId1"/>
          <a:stretch/>
        </p:blipFill>
        <p:spPr>
          <a:xfrm>
            <a:off x="811080" y="1238400"/>
            <a:ext cx="4199040" cy="544824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57880" y="2428560"/>
            <a:ext cx="3571920" cy="3235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Arial"/>
              </a:rPr>
              <a:t>Де познайомились  Фауст і Маргарита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Arial"/>
              </a:rPr>
              <a:t>Якими спочатку були наміри Фауста до Маргарити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Arial"/>
              </a:rPr>
              <a:t>Як змінилися його наміри після відвідин кімнати Маргарити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Arial"/>
              </a:rPr>
              <a:t>Яке було перше враження Маргарити від Фауста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Arial"/>
              </a:rPr>
              <a:t>Чи були ці почуття взаємними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92d050"/>
                </a:solidFill>
                <a:latin typeface="Arial"/>
              </a:rPr>
              <a:t>Характеристика  літературного персонажа його очима  (ФАУСТ  ПРО  СЕБЕ)</a:t>
            </a:r>
            <a:r>
              <a:rPr b="1" lang="uk-UA" sz="11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5000" y="928440"/>
            <a:ext cx="3054240" cy="1244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6ea0b0"/>
                </a:solidFill>
                <a:latin typeface="Franklin Gothic Book"/>
              </a:rPr>
              <a:t>Завдання для </a:t>
            </a:r>
            <a:br>
              <a:rPr sz="2200"/>
            </a:br>
            <a:r>
              <a:rPr b="1" lang="en-US" sz="2200" spc="-1" strike="noStrike">
                <a:solidFill>
                  <a:srgbClr val="6ea0b0"/>
                </a:solidFill>
                <a:latin typeface="Franklin Gothic Book"/>
              </a:rPr>
              <a:t>II</a:t>
            </a:r>
            <a:r>
              <a:rPr b="1" lang="uk-UA" sz="2200" spc="-1" strike="noStrike">
                <a:solidFill>
                  <a:srgbClr val="6ea0b0"/>
                </a:solidFill>
                <a:latin typeface="Franklin Gothic Book"/>
              </a:rPr>
              <a:t> групи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556240" y="2356920"/>
            <a:ext cx="3054240" cy="3305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>
              <a:lnSpc>
                <a:spcPct val="9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ffff00"/>
                </a:solidFill>
                <a:latin typeface="Arial"/>
              </a:rPr>
              <a:t>Хто із двох закоханих бореться зі своїм почуттям та з самим собою?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ffff00"/>
                </a:solidFill>
                <a:latin typeface="Arial"/>
              </a:rPr>
              <a:t>На чиї плечі лягає відповідальність за наслідки цих стосунків?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ffff00"/>
                </a:solidFill>
                <a:latin typeface="Arial"/>
              </a:rPr>
              <a:t>Чим закінчується кохання Фауста та Маргарити?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ffff00"/>
                </a:solidFill>
                <a:latin typeface="Arial"/>
              </a:rPr>
              <a:t>Чому Маргарита не погоджується на пропозицію Фауста тікати із в</a:t>
            </a:r>
            <a:r>
              <a:rPr b="1" lang="en-US" sz="13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uk-UA" sz="1300" spc="-1" strike="noStrike">
                <a:solidFill>
                  <a:srgbClr val="ffff00"/>
                </a:solidFill>
                <a:latin typeface="Arial"/>
              </a:rPr>
              <a:t>язниці?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ffff00"/>
                </a:solidFill>
                <a:latin typeface="Arial"/>
              </a:rPr>
              <a:t>Чи спокутує свої гріхи Маргарита</a:t>
            </a:r>
            <a:r>
              <a:rPr b="1" lang="uk-UA" sz="1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92d050"/>
                </a:solidFill>
                <a:latin typeface="Arial"/>
              </a:rPr>
              <a:t>Характеристика літературного персонажа  його очима (МАРГАРИТА ПРО СЕБЕ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7" descr="0_30a70_b043720_L"/>
          <p:cNvPicPr/>
          <p:nvPr/>
        </p:nvPicPr>
        <p:blipFill>
          <a:blip r:embed="rId1"/>
          <a:stretch/>
        </p:blipFill>
        <p:spPr>
          <a:xfrm>
            <a:off x="596880" y="974880"/>
            <a:ext cx="4627440" cy="59436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500800" y="999720"/>
            <a:ext cx="3054240" cy="816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6ea0b0"/>
                </a:solidFill>
                <a:latin typeface="Franklin Gothic Book"/>
              </a:rPr>
              <a:t>Завдання для </a:t>
            </a:r>
            <a:br>
              <a:rPr sz="2200"/>
            </a:br>
            <a:r>
              <a:rPr b="1" lang="en-US" sz="2200" spc="-1" strike="noStrike">
                <a:solidFill>
                  <a:srgbClr val="6ea0b0"/>
                </a:solidFill>
                <a:latin typeface="Franklin Gothic Book"/>
              </a:rPr>
              <a:t>III</a:t>
            </a:r>
            <a:r>
              <a:rPr b="1" lang="uk-UA" sz="2200" spc="-1" strike="noStrike">
                <a:solidFill>
                  <a:srgbClr val="6ea0b0"/>
                </a:solidFill>
                <a:latin typeface="Franklin Gothic Book"/>
              </a:rPr>
              <a:t> групи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556240" y="2356920"/>
            <a:ext cx="3054240" cy="3305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>
              <a:lnSpc>
                <a:spcPct val="9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uk-UA" sz="1300" spc="-1" strike="noStrike">
                <a:solidFill>
                  <a:srgbClr val="ffff00"/>
                </a:solidFill>
                <a:latin typeface="Arial"/>
              </a:rPr>
              <a:t>Яким було ставлення в суспільстві до жінки, яка порушила норми моралі в Німеччині за часів Гете? В інших народів?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Arial"/>
              </a:rPr>
              <a:t>Хто простив Маргариту  - Бог чи люди</a:t>
            </a:r>
            <a:r>
              <a:rPr b="1" lang="uk-UA" sz="11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uk-UA" sz="1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uk-UA" sz="1600" spc="-1" strike="noStrike">
                <a:solidFill>
                  <a:srgbClr val="ff0000"/>
                </a:solidFill>
                <a:latin typeface="Arial"/>
              </a:rPr>
              <a:t>ВРЯТОВАНА!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92d050"/>
                </a:solidFill>
                <a:latin typeface="Arial"/>
              </a:rPr>
              <a:t>Ес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92d050"/>
                </a:solidFill>
                <a:latin typeface="Arial"/>
              </a:rPr>
              <a:t>“</a:t>
            </a:r>
            <a:r>
              <a:rPr b="1" lang="uk-UA" sz="1400" spc="-1" strike="noStrike">
                <a:solidFill>
                  <a:srgbClr val="92d050"/>
                </a:solidFill>
                <a:latin typeface="Arial"/>
              </a:rPr>
              <a:t>Як почувалася б Маргарита в сучасному суспільстві?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2" name="Рисунок 9"/>
          <p:cNvGrpSpPr/>
          <p:nvPr/>
        </p:nvGrpSpPr>
        <p:grpSpPr>
          <a:xfrm>
            <a:off x="1017720" y="974880"/>
            <a:ext cx="4206600" cy="5445000"/>
            <a:chOff x="1017720" y="974880"/>
            <a:chExt cx="4206600" cy="5445000"/>
          </a:xfrm>
        </p:grpSpPr>
        <p:pic>
          <p:nvPicPr>
            <p:cNvPr id="273" name="Рисунок 9" descr=""/>
            <p:cNvPicPr/>
            <p:nvPr/>
          </p:nvPicPr>
          <p:blipFill>
            <a:blip r:embed="rId1"/>
            <a:stretch/>
          </p:blipFill>
          <p:spPr>
            <a:xfrm>
              <a:off x="1017720" y="974880"/>
              <a:ext cx="4206600" cy="544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668600" y="1622520"/>
              <a:ext cx="2909880" cy="29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75" name="Picture 8" descr="kulturmomente-faust"/>
          <p:cNvPicPr/>
          <p:nvPr/>
        </p:nvPicPr>
        <p:blipFill>
          <a:blip r:embed="rId2"/>
          <a:stretch/>
        </p:blipFill>
        <p:spPr>
          <a:xfrm>
            <a:off x="557280" y="1019160"/>
            <a:ext cx="4622760" cy="4624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500800" y="857160"/>
            <a:ext cx="3054240" cy="744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6ea0b0"/>
                </a:solidFill>
                <a:latin typeface="Franklin Gothic Book"/>
              </a:rPr>
              <a:t>Завдання для </a:t>
            </a:r>
            <a:br>
              <a:rPr sz="2000"/>
            </a:br>
            <a:r>
              <a:rPr b="1" lang="en-US" sz="2000" spc="-1" strike="noStrike">
                <a:solidFill>
                  <a:srgbClr val="6ea0b0"/>
                </a:solidFill>
                <a:latin typeface="Franklin Gothic Book"/>
              </a:rPr>
              <a:t>IV</a:t>
            </a:r>
            <a:r>
              <a:rPr b="1" lang="uk-UA" sz="2000" spc="-1" strike="noStrike">
                <a:solidFill>
                  <a:srgbClr val="6ea0b0"/>
                </a:solidFill>
                <a:latin typeface="Franklin Gothic Book"/>
              </a:rPr>
              <a:t> групи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556240" y="1928520"/>
            <a:ext cx="3054240" cy="3733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>
              <a:lnSpc>
                <a:spcPct val="9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1300" spc="-1" strike="noStrike">
                <a:solidFill>
                  <a:srgbClr val="ffff00"/>
                </a:solidFill>
                <a:latin typeface="Arial"/>
              </a:rPr>
              <a:t>Хто з письменників і в яких творах досліджував тему позашлюбного кохання?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ffff00"/>
                </a:solidFill>
                <a:latin typeface="Arial"/>
              </a:rPr>
              <a:t>Як письменники вирішували долю жінки в своїх творах?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uk-UA" sz="1300" spc="-1" strike="noStrike">
                <a:solidFill>
                  <a:srgbClr val="ffff00"/>
                </a:solidFill>
                <a:latin typeface="Arial"/>
              </a:rPr>
              <a:t>Чи відрізняється  бачення  Гете цієї проблеми  у творі “Фауст”?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1" lang="uk-UA" sz="1300" spc="-1" strike="noStrike">
                <a:solidFill>
                  <a:srgbClr val="92d050"/>
                </a:solidFill>
                <a:latin typeface="Arial"/>
              </a:rPr>
              <a:t>Зацікавте майбутніх    дев</a:t>
            </a:r>
            <a:r>
              <a:rPr b="1" lang="en-US" sz="1300" spc="-1" strike="noStrike">
                <a:solidFill>
                  <a:srgbClr val="92d050"/>
                </a:solidFill>
                <a:latin typeface="Arial"/>
              </a:rPr>
              <a:t>’</a:t>
            </a:r>
            <a:r>
              <a:rPr b="1" lang="uk-UA" sz="1300" spc="-1" strike="noStrike">
                <a:solidFill>
                  <a:srgbClr val="92d050"/>
                </a:solidFill>
                <a:latin typeface="Arial"/>
              </a:rPr>
              <a:t>яти-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92d050"/>
                </a:solidFill>
                <a:latin typeface="Arial"/>
              </a:rPr>
              <a:t>класників!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1300" spc="-1" strike="noStrike">
                <a:solidFill>
                  <a:srgbClr val="92d050"/>
                </a:solidFill>
                <a:latin typeface="Arial"/>
              </a:rPr>
              <a:t>Створіть рекламу для цього твору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Рисунок 5" descr="1239722888.jpg"/>
          <p:cNvPicPr/>
          <p:nvPr/>
        </p:nvPicPr>
        <p:blipFill>
          <a:blip r:embed="rId1"/>
          <a:stretch/>
        </p:blipFill>
        <p:spPr>
          <a:xfrm>
            <a:off x="622440" y="1000080"/>
            <a:ext cx="4254480" cy="5986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00"/>
                </a:solidFill>
                <a:latin typeface="Franklin Gothic Book"/>
              </a:rPr>
              <a:t>      </a:t>
            </a:r>
            <a:r>
              <a:rPr b="1" lang="uk-UA" sz="3600" spc="-1" strike="noStrike">
                <a:solidFill>
                  <a:srgbClr val="ff0000"/>
                </a:solidFill>
                <a:latin typeface="Franklin Gothic Book"/>
              </a:rPr>
              <a:t>           </a:t>
            </a:r>
            <a:r>
              <a:rPr b="1" lang="uk-UA" sz="2400" spc="-1" strike="noStrike">
                <a:solidFill>
                  <a:srgbClr val="ffff00"/>
                </a:solidFill>
                <a:latin typeface="Franklin Gothic Book"/>
              </a:rPr>
              <a:t>Міні- диспут</a:t>
            </a:r>
            <a:br>
              <a:rPr sz="2400"/>
            </a:br>
            <a:r>
              <a:rPr b="1" lang="uk-UA" sz="2400" spc="-1" strike="noStrike">
                <a:solidFill>
                  <a:srgbClr val="ff0000"/>
                </a:solidFill>
                <a:latin typeface="Franklin Gothic Book"/>
              </a:rPr>
              <a:t>  Як ви оцінюєте вчинки героїв? Що, на вашу     думку, чекає Маргариту за межею життя?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657600" cy="45259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4267080" y="1600200"/>
            <a:ext cx="3657600" cy="45259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2"/>
          <p:cNvPicPr/>
          <p:nvPr/>
        </p:nvPicPr>
        <p:blipFill>
          <a:blip r:embed="rId3"/>
          <a:stretch/>
        </p:blipFill>
        <p:spPr>
          <a:xfrm>
            <a:off x="142920" y="1714680"/>
            <a:ext cx="3929040" cy="42861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" descr="878"/>
          <p:cNvPicPr/>
          <p:nvPr/>
        </p:nvPicPr>
        <p:blipFill>
          <a:blip r:embed="rId4"/>
          <a:stretch/>
        </p:blipFill>
        <p:spPr>
          <a:xfrm>
            <a:off x="4429080" y="1643040"/>
            <a:ext cx="4500720" cy="442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5T20:59:00Z</dcterms:created>
  <dc:creator>WOLF 32</dc:creator>
  <dc:description/>
  <dc:language>en-US</dc:language>
  <cp:lastModifiedBy>u1</cp:lastModifiedBy>
  <dcterms:modified xsi:type="dcterms:W3CDTF">2011-11-28T07:49:01Z</dcterms:modified>
  <cp:revision>2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1e000000000001024140</vt:lpwstr>
  </property>
</Properties>
</file>