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44EAB-617A-4006-A4D4-95B14B533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99B4-2656-4CDC-8D09-B8D8A52D6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2E30-ED84-4801-A943-0B69A0EF3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10C5-55F4-4EB8-B3E0-F970828E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55FE-D8E3-4538-8A8A-102BAE1F0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2D3C7-CAD2-4654-89E9-7929021BE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9A9EF-980C-4D82-B742-F1A06871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4E2DB-F255-474B-9929-24BFCA485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DDDFC-5A53-4888-82D0-DF3706B5D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0FD9E-B3DA-4C09-BA3A-3E738EB6D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42E74-048F-4F04-9B52-1829E987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2A239-E67A-4E51-A1EC-8B3E51DD4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46D0-23C8-4F9A-B537-CBBFCFC5E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C437E-09B3-475C-9D53-2D081366C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CCEBF-98D6-49DC-81C6-5E6E6E3C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F0365-B190-4FDE-9BAE-119A1928E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00C15-C7BC-485B-9008-CF8EB2C79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716438-7500-45E8-99AB-26A3EE553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C65D48-C35B-456F-B14E-01CAF8C7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BB737-8F0D-4A65-87B2-D7A8E1189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94FA3D-F0EA-40D8-AF8D-E7E3DC5F8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6B4AB0-D961-4AF4-B1FF-2D641341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9E194-BB31-4A41-ADBD-1BE15E334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78EA59-3DB1-4358-9247-68978C18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B4C875-3ACD-47D1-98B8-582F5024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533CA8-52B9-48F9-83F0-991A8867A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5D58F3-D27E-431D-86C1-91D4D4A8B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575D9F-D3D6-4CEF-A9DC-1089FC8AE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E34665-BBE4-47E4-99F3-A327946B5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FB6D90-1BF4-44C8-82BD-A4DDCCEB4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9B297-2987-4EB7-A417-21320E15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A28A4C-2B32-45AA-8C8D-C3586AE0E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8A9DBD-8860-4EEA-B090-4C62F59B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4D61-1CFE-4020-930C-3DCBE47F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648DB6-0987-487B-9531-E1B6AA746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D08C29-DCE3-4ED0-A4A6-600EA88F5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9CB6F4-3D3C-4A2A-9696-6B6E4738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BB819-80FA-421E-8383-874DA6205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210D08-2C6A-444D-ABEA-9E6DF1373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81F7A-3AB4-46E0-9774-B3DCCC70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B7361-63D0-4C67-B9CF-61A31CE31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F11211-F29F-46BF-8EA8-F862C268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F71B14-4D62-485F-A147-C3313B7C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693AED-FB78-4E27-8BEE-FBAA6CB10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EEDA-D780-4864-A867-382EE6161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E97F37-6E2A-4054-B701-2B4120DA4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D063C-6668-4573-AD79-2BBE32A1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3B0232-85C2-4761-A39C-CDBCD8E08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58A889-138B-447D-B460-EB5A532B2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848015-83BE-4B70-AB90-91BF927F4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B8E12F-A5C3-4D91-8BFD-27D543FD5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DA2BB-81B0-4431-BF10-30C49C052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4BA93-DAF0-4E11-853B-85B2C7250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587A73-AFA2-4180-AA8E-54B745E4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87039-07AB-40C6-AAB0-DA1F3E81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4070-DF30-400E-BD51-29A51D1E4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4307B8-5806-41E3-9F2C-2869E8CF0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CF6D40-6649-4B10-B150-5B15DD61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EBFFE3-AD71-42D3-9095-76236C11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D63952-2D33-4E56-991C-9D5B3A20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F5D32-1B52-41F0-B603-3B19D4BFB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4DD928-1985-4E09-91FA-A809B809D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3C4431-1F9A-42CF-8B37-C9B155E9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3A122-5585-4E0B-84C0-6E710023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6383F4-50E2-4A15-8393-F1D081DC0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33AB57-D419-4E2E-8160-129F2DC1C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24159-08C9-4BE9-9E41-EC00D826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480C1-6BB3-4584-AA94-3DF6278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DBEABF-3A81-4B64-BBA8-B4D898BA9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98203-16B6-4EC3-86C2-D3FA91476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90ACB-5B66-4931-9DCE-7F1B0940A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C546-8839-48B1-9450-A0AF670EC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639BD-51CC-4467-A9C8-57A76E4AFF4D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7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9CB51-DDDE-414B-8707-377C338FFE7A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6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8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EEB1-D7BA-45C2-9CE7-C88C3C65BF0C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9F00E-509A-4A87-A025-35B16C06DD5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ACA7C-B41A-4694-8290-8A174A493EB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2B54-7163-451E-8DCF-62E4B49715B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Заголовок 1" descr=""/>
          <p:cNvPicPr/>
          <p:nvPr/>
        </p:nvPicPr>
        <p:blipFill>
          <a:blip r:embed="rId1"/>
          <a:stretch/>
        </p:blipFill>
        <p:spPr>
          <a:xfrm>
            <a:off x="420840" y="3333600"/>
            <a:ext cx="6492600" cy="2311560"/>
          </a:xfrm>
          <a:prstGeom prst="rect">
            <a:avLst/>
          </a:prstGeom>
          <a:ln w="0">
            <a:noFill/>
          </a:ln>
        </p:spPr>
      </p:pic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-500400" y="0"/>
            <a:ext cx="7072200" cy="45007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0" bIns="0" anchor="b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ТЕМА  УРОКУ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.  Й.В.ГЕТЕ. “ФАУСТ”. ТРАГІЧН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uk-UA" sz="2000" spc="-1" strike="noStrike">
                <a:solidFill>
                  <a:srgbClr val="ffff00"/>
                </a:solidFill>
                <a:latin typeface="Arial"/>
              </a:rPr>
              <a:t>КОХАННЯ  ФАУСТА І МАРГАРИТИ 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ЕПІГРАФ  УРОК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 –ВАЖКО ХОДИТЬ ПОПІДТИННЯМ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А ЩЕ ДО ТОГО З НЕЧИСТИМ СУМЛІННЯМ.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ОЙ ТЯЖКО-ВАЖКО В ЧУЖИНІ БЛУК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       </a:t>
            </a:r>
            <a:r>
              <a:rPr b="1" lang="uk-UA" sz="2000" spc="-1" strike="noStrike">
                <a:solidFill>
                  <a:srgbClr val="92d050"/>
                </a:solidFill>
                <a:latin typeface="Arial"/>
              </a:rPr>
              <a:t>І ЩОГОДИНИ ЖДАТИ РОЗПЛАТ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ffff00"/>
                </a:solidFill>
                <a:latin typeface="Arial"/>
              </a:rPr>
              <a:t>                                           </a:t>
            </a:r>
            <a:r>
              <a:rPr b="0" lang="uk-UA" sz="2000" spc="-1" strike="noStrike">
                <a:solidFill>
                  <a:srgbClr val="ffffff"/>
                </a:solidFill>
                <a:latin typeface="Arial"/>
              </a:rPr>
              <a:t>ГЕТЕ. “ФАУСТ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Picture 4" descr="43974231_ray_lago_faust"/>
          <p:cNvPicPr/>
          <p:nvPr/>
        </p:nvPicPr>
        <p:blipFill>
          <a:blip r:embed="rId2"/>
          <a:stretch/>
        </p:blipFill>
        <p:spPr>
          <a:xfrm>
            <a:off x="5857920" y="2928960"/>
            <a:ext cx="2724120" cy="3714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Домашнє завдання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0000"/>
                </a:solidFill>
                <a:latin typeface="Arial"/>
              </a:rPr>
              <a:t>Написати твори-порівнянн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“Фауст” Гете і “Гамлет” Шекспіра. Проблема пошуку іст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Прометей. Життя заради люд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II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група – Фауст і Мефістофель. Філософський закон єдності і боротьби протилежносте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2d050"/>
                </a:solidFill>
                <a:latin typeface="Arial"/>
              </a:rPr>
              <a:t>IV</a:t>
            </a:r>
            <a:r>
              <a:rPr b="1" lang="uk-UA" sz="2800" spc="-1" strike="noStrike">
                <a:solidFill>
                  <a:srgbClr val="92d050"/>
                </a:solidFill>
                <a:latin typeface="Arial"/>
              </a:rPr>
              <a:t>  група – “Фауст” Гете і “Катерина” Шевченка. Доля жінки в цих творах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1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Кохання – велика загадка </a:t>
            </a:r>
            <a:br>
              <a:rPr sz="4100"/>
            </a:br>
            <a:r>
              <a:rPr b="0" lang="uk-UA" sz="4100" spc="-1" strike="noStrike">
                <a:solidFill>
                  <a:srgbClr val="ffff00"/>
                </a:solidFill>
                <a:latin typeface="Franklin Gothic Book"/>
              </a:rPr>
              <a:t>                     життя                     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142640" y="164304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і клопоти, солодкий гнів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е зло, солодка зваба й зг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жар, солодка прохолода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b0f0"/>
                </a:solidFill>
                <a:latin typeface="Arial"/>
              </a:rPr>
              <a:t>Солодкий відгомін солодких сн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Ф. Петрар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000"/>
                </a:solidFill>
                <a:latin typeface="Arial"/>
              </a:rPr>
              <a:t>Кохання – найсильніше з усіх пристрастей, тому що воно одночасно володіє головою, серцем і тіло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ольте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600" spc="-1" strike="noStrike">
                <a:solidFill>
                  <a:srgbClr val="ffffff"/>
                </a:solidFill>
                <a:latin typeface="Franklin Gothic Book"/>
              </a:rPr>
              <a:t>           </a:t>
            </a:r>
            <a:r>
              <a:rPr b="0" lang="uk-UA" sz="4600" spc="-1" strike="noStrike">
                <a:solidFill>
                  <a:srgbClr val="ffff00"/>
                </a:solidFill>
                <a:latin typeface="Franklin Gothic Book"/>
              </a:rPr>
              <a:t>Обери  пар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1. Ромео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А. Дульсінея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2. Петрарка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Б. Сент-Ів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3. Дон Кіхот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В. Джульєтт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4. Данте    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Г. Лаур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  </a:t>
            </a:r>
            <a:r>
              <a:rPr b="0" lang="uk-UA" sz="3000" spc="-1" strike="noStrike">
                <a:solidFill>
                  <a:srgbClr val="92d050"/>
                </a:solidFill>
                <a:latin typeface="Arial"/>
              </a:rPr>
              <a:t>5. Простак              </a:t>
            </a:r>
            <a:r>
              <a:rPr b="0" lang="uk-UA" sz="3000" spc="-1" strike="noStrike">
                <a:solidFill>
                  <a:srgbClr val="ff0000"/>
                </a:solidFill>
                <a:latin typeface="Arial"/>
              </a:rPr>
              <a:t>Д. Беатриче</a:t>
            </a: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85840" y="642600"/>
            <a:ext cx="7539120" cy="4714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Проблемне питання</a:t>
            </a:r>
            <a:br>
              <a:rPr sz="2800"/>
            </a:br>
            <a:br>
              <a:rPr sz="2800"/>
            </a:br>
            <a:r>
              <a:rPr b="0" lang="uk-UA" sz="2800" spc="-1" strike="noStrike">
                <a:solidFill>
                  <a:srgbClr val="ffff00"/>
                </a:solidFill>
                <a:latin typeface="Franklin Gothic Book"/>
              </a:rPr>
              <a:t>   </a:t>
            </a: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Гріховне кохання.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      Яке  воно?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Чи є кохання Фауста і</a:t>
            </a:r>
            <a:br>
              <a:rPr sz="2800"/>
            </a:br>
            <a:r>
              <a:rPr b="0" i="1" lang="uk-UA" sz="2800" spc="-1" strike="noStrike">
                <a:solidFill>
                  <a:srgbClr val="ff0000"/>
                </a:solidFill>
                <a:latin typeface="Franklin Gothic Book"/>
              </a:rPr>
              <a:t>  Маргарити гріховним?</a:t>
            </a:r>
            <a:br>
              <a:rPr sz="2800"/>
            </a:b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2" name="Picture 4" descr="Врубель"/>
          <p:cNvPicPr/>
          <p:nvPr/>
        </p:nvPicPr>
        <p:blipFill>
          <a:blip r:embed="rId1"/>
          <a:stretch/>
        </p:blipFill>
        <p:spPr>
          <a:xfrm>
            <a:off x="22502880" y="-2714760"/>
            <a:ext cx="5610240" cy="90392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4" descr="Врубель"/>
          <p:cNvPicPr/>
          <p:nvPr/>
        </p:nvPicPr>
        <p:blipFill>
          <a:blip r:embed="rId2"/>
          <a:stretch/>
        </p:blipFill>
        <p:spPr>
          <a:xfrm>
            <a:off x="4886280" y="0"/>
            <a:ext cx="425772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556240" y="857160"/>
            <a:ext cx="3054240" cy="12542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Завдання для</a:t>
            </a:r>
            <a:br>
              <a:rPr sz="2800"/>
            </a:b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  </a:t>
            </a:r>
            <a:r>
              <a:rPr b="1" lang="en-US" sz="2800" spc="-1" strike="noStrike">
                <a:solidFill>
                  <a:srgbClr val="6ea0b0"/>
                </a:solidFill>
                <a:latin typeface="Franklin Gothic Book"/>
              </a:rPr>
              <a:t>I  </a:t>
            </a:r>
            <a:r>
              <a:rPr b="1" lang="uk-UA" sz="2800" spc="-1" strike="noStrike">
                <a:solidFill>
                  <a:srgbClr val="6ea0b0"/>
                </a:solidFill>
                <a:latin typeface="Franklin Gothic Book"/>
              </a:rPr>
              <a:t>групи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5" name="Picture 4" descr="27010168_Lourens_AlmaTadema_Faust_i_Margarita_1857_SZH"/>
          <p:cNvPicPr/>
          <p:nvPr/>
        </p:nvPicPr>
        <p:blipFill>
          <a:blip r:embed="rId1"/>
          <a:stretch/>
        </p:blipFill>
        <p:spPr>
          <a:xfrm>
            <a:off x="811080" y="1238400"/>
            <a:ext cx="4199040" cy="544824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57880" y="2428560"/>
            <a:ext cx="3571920" cy="3235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Де познайомились  Фауст і Маргари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ими спочатку були наміри Фауста до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 змінилися його наміри після відвідин кімнати Маргарит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Яке було перше враження Маргарити від Фауста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Чи були ці почуття взаємними?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lvl="1"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00" spc="-1" strike="noStrike">
                <a:solidFill>
                  <a:srgbClr val="92d050"/>
                </a:solidFill>
                <a:latin typeface="Arial"/>
              </a:rPr>
              <a:t>Характеристика  літературного персонажа його очима  (ФАУСТ  ПРО  СЕБЕ)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15000" y="928440"/>
            <a:ext cx="3054240" cy="1244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із двох закоханих бореться зі своїм почуттям та з самим собою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На чиї плечі лягає відповідальність за наслідки цих стосунк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м закінчується кохання Фауста та Маргарити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ому Маргарита не погоджується на пропозицію Фауста тікати із в</a:t>
            </a:r>
            <a:r>
              <a:rPr b="1" lang="en-US" sz="1300" spc="-1" strike="noStrike">
                <a:solidFill>
                  <a:srgbClr val="ffff0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зниці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спокутує свої гріхи Маргарита</a:t>
            </a:r>
            <a:r>
              <a:rPr b="1" lang="uk-UA" sz="10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Характеристика літературного персонажа  його очима (МАРГАРИТА ПРО СЕБЕ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7" descr="0_30a70_b043720_L"/>
          <p:cNvPicPr/>
          <p:nvPr/>
        </p:nvPicPr>
        <p:blipFill>
          <a:blip r:embed="rId1"/>
          <a:stretch/>
        </p:blipFill>
        <p:spPr>
          <a:xfrm>
            <a:off x="596880" y="974880"/>
            <a:ext cx="4627440" cy="5943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500800" y="999720"/>
            <a:ext cx="3054240" cy="816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200"/>
            </a:br>
            <a:r>
              <a:rPr b="1" lang="en-US" sz="2200" spc="-1" strike="noStrike">
                <a:solidFill>
                  <a:srgbClr val="6ea0b0"/>
                </a:solidFill>
                <a:latin typeface="Franklin Gothic Book"/>
              </a:rPr>
              <a:t>III</a:t>
            </a:r>
            <a:r>
              <a:rPr b="1" lang="uk-UA" sz="22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556240" y="2356920"/>
            <a:ext cx="3054240" cy="33051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им було ставлення в суспільстві до жінки, яка порушила норми моралі в Німеччині за часів Гете? В інших народів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Arial"/>
              </a:rPr>
              <a:t>Хто простив Маргариту  - Бог чи люди</a:t>
            </a:r>
            <a:r>
              <a:rPr b="1" lang="uk-UA" sz="1100" spc="-1" strike="noStrike">
                <a:solidFill>
                  <a:srgbClr val="ffff00"/>
                </a:solidFill>
                <a:latin typeface="Arial"/>
              </a:rPr>
              <a:t>?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ff0000"/>
                </a:solidFill>
                <a:latin typeface="Arial"/>
              </a:rPr>
              <a:t>           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uk-UA" sz="1600" spc="-1" strike="noStrike">
                <a:solidFill>
                  <a:srgbClr val="ff0000"/>
                </a:solidFill>
                <a:latin typeface="Arial"/>
              </a:rPr>
              <a:t>ВРЯТОВАНА!”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Есе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“</a:t>
            </a:r>
            <a:r>
              <a:rPr b="1" lang="uk-UA" sz="1400" spc="-1" strike="noStrike">
                <a:solidFill>
                  <a:srgbClr val="92d050"/>
                </a:solidFill>
                <a:latin typeface="Arial"/>
              </a:rPr>
              <a:t>Як почувалася б Маргарита в сучасному суспільстві?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Рисунок 9"/>
          <p:cNvGrpSpPr/>
          <p:nvPr/>
        </p:nvGrpSpPr>
        <p:grpSpPr>
          <a:xfrm>
            <a:off x="1017720" y="974880"/>
            <a:ext cx="4206600" cy="5445000"/>
            <a:chOff x="1017720" y="974880"/>
            <a:chExt cx="4206600" cy="5445000"/>
          </a:xfrm>
        </p:grpSpPr>
        <p:pic>
          <p:nvPicPr>
            <p:cNvPr id="273" name="Рисунок 9" descr=""/>
            <p:cNvPicPr/>
            <p:nvPr/>
          </p:nvPicPr>
          <p:blipFill>
            <a:blip r:embed="rId1"/>
            <a:stretch/>
          </p:blipFill>
          <p:spPr>
            <a:xfrm>
              <a:off x="1017720" y="974880"/>
              <a:ext cx="4206600" cy="544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1668600" y="1622520"/>
              <a:ext cx="2909880" cy="29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75" name="Picture 8" descr="kulturmomente-faust"/>
          <p:cNvPicPr/>
          <p:nvPr/>
        </p:nvPicPr>
        <p:blipFill>
          <a:blip r:embed="rId2"/>
          <a:stretch/>
        </p:blipFill>
        <p:spPr>
          <a:xfrm>
            <a:off x="557280" y="1019160"/>
            <a:ext cx="4622760" cy="46245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500800" y="857160"/>
            <a:ext cx="3054240" cy="744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Завдання для </a:t>
            </a:r>
            <a:br>
              <a:rPr sz="2000"/>
            </a:br>
            <a:r>
              <a:rPr b="1" lang="en-US" sz="2000" spc="-1" strike="noStrike">
                <a:solidFill>
                  <a:srgbClr val="6ea0b0"/>
                </a:solidFill>
                <a:latin typeface="Franklin Gothic Book"/>
              </a:rPr>
              <a:t>IV</a:t>
            </a:r>
            <a:r>
              <a:rPr b="1" lang="uk-UA" sz="2000" spc="-1" strike="noStrike">
                <a:solidFill>
                  <a:srgbClr val="6ea0b0"/>
                </a:solidFill>
                <a:latin typeface="Franklin Gothic Book"/>
              </a:rPr>
              <a:t> групи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556240" y="1928520"/>
            <a:ext cx="3054240" cy="37335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Хто з письменників і в яких творах досліджував тему позашлюбного кохання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Як письменники вирішували долю жінки в своїх творах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ffff00"/>
                </a:solidFill>
                <a:latin typeface="Arial"/>
              </a:rPr>
              <a:t>Чи відрізняється  бачення  Гете цієї проблеми  у творі “Фауст”?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92d050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Зацікавте майбутніх    дев</a:t>
            </a:r>
            <a:r>
              <a:rPr b="1" lang="en-US" sz="1300" spc="-1" strike="noStrike">
                <a:solidFill>
                  <a:srgbClr val="92d050"/>
                </a:solidFill>
                <a:latin typeface="Arial"/>
              </a:rPr>
              <a:t>’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яти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26"/>
              </a:spcBef>
              <a:buClr>
                <a:srgbClr val="6ea0b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класників!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3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1300" spc="-1" strike="noStrike">
                <a:solidFill>
                  <a:srgbClr val="92d050"/>
                </a:solidFill>
                <a:latin typeface="Arial"/>
              </a:rPr>
              <a:t>Створіть рекламу для цього твору.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Рисунок 5" descr="1239722888.jpg"/>
          <p:cNvPicPr/>
          <p:nvPr/>
        </p:nvPicPr>
        <p:blipFill>
          <a:blip r:embed="rId1"/>
          <a:stretch/>
        </p:blipFill>
        <p:spPr>
          <a:xfrm>
            <a:off x="622440" y="1000080"/>
            <a:ext cx="4254480" cy="5986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28400" y="28548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00"/>
                </a:solidFill>
                <a:latin typeface="Franklin Gothic Book"/>
              </a:rPr>
              <a:t>      </a:t>
            </a:r>
            <a:r>
              <a:rPr b="1" lang="uk-UA" sz="3600" spc="-1" strike="noStrike">
                <a:solidFill>
                  <a:srgbClr val="ff0000"/>
                </a:solidFill>
                <a:latin typeface="Franklin Gothic Book"/>
              </a:rPr>
              <a:t>           </a:t>
            </a:r>
            <a:r>
              <a:rPr b="1" lang="uk-UA" sz="2400" spc="-1" strike="noStrike">
                <a:solidFill>
                  <a:srgbClr val="ffff00"/>
                </a:solidFill>
                <a:latin typeface="Franklin Gothic Book"/>
              </a:rPr>
              <a:t>Міні- диспут</a:t>
            </a:r>
            <a:br>
              <a:rPr sz="2400"/>
            </a:br>
            <a:r>
              <a:rPr b="1" lang="uk-UA" sz="2400" spc="-1" strike="noStrike">
                <a:solidFill>
                  <a:srgbClr val="ff0000"/>
                </a:solidFill>
                <a:latin typeface="Franklin Gothic Book"/>
              </a:rPr>
              <a:t>  Як ви оцінюєте вчинки героїв? Що, на вашу     думку, чекає Маргариту за межею життя?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4267080" y="1600200"/>
            <a:ext cx="3657600" cy="45259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4" descr="2"/>
          <p:cNvPicPr/>
          <p:nvPr/>
        </p:nvPicPr>
        <p:blipFill>
          <a:blip r:embed="rId3"/>
          <a:stretch/>
        </p:blipFill>
        <p:spPr>
          <a:xfrm>
            <a:off x="142920" y="1714680"/>
            <a:ext cx="3929040" cy="428616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4" descr="878"/>
          <p:cNvPicPr/>
          <p:nvPr/>
        </p:nvPicPr>
        <p:blipFill>
          <a:blip r:embed="rId4"/>
          <a:stretch/>
        </p:blipFill>
        <p:spPr>
          <a:xfrm>
            <a:off x="4429080" y="1643040"/>
            <a:ext cx="4500720" cy="44290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5T20:59:00Z</dcterms:created>
  <dc:creator>WOLF 32</dc:creator>
  <dc:description/>
  <dc:language>en-US</dc:language>
  <cp:lastModifiedBy>u1</cp:lastModifiedBy>
  <dcterms:modified xsi:type="dcterms:W3CDTF">2011-11-28T07:49:01Z</dcterms:modified>
  <cp:revision>27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a1e000000000001024140</vt:lpwstr>
  </property>
</Properties>
</file>