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0E6-3DD5-4363-B808-85561194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493-7828-40F1-9848-B8E6619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BE9-EEC8-46D7-8F8E-950B0FDF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451-B50A-4832-8FFA-F5D5424A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B8C82-82BF-4065-800B-9F64D83A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077E3-DCF3-4229-91BA-0636A2E2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14BF-BFE7-4E96-B2A8-1F37CF1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AF9C-A421-4AC9-9BED-2817F27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4C7C7-E32E-4BCF-BEFC-DD046221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ADA1A-ECF4-4677-BA70-F6C23D64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C2336-02A2-41D0-B3C5-D7D926D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141-3B02-4002-93B9-539A8FFA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7452F-3136-4AAF-B6DE-347098F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60AA-17CF-4298-8101-44DD257B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D7F8D-45C5-44A3-B343-121F10F5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77DE6-8A17-4D92-A547-7104389B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B7679-A49E-482D-BE3F-B1314676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384-6A1A-43F0-A40C-B8089832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E88-3927-4C8B-BC71-303EE5FD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A50-3790-4D08-B34D-9569D21E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444-8979-4DF3-8CA0-BA8200C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5AF-5D6F-476B-9E7D-9816558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A2F-4530-42F9-8C75-D3792B9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C3C-DC76-4D1F-B9C5-E62ADA7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2589-0E36-40CD-93E2-FAC31271B101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97E-0664-4CD9-A498-BCE0905A29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BF4-061F-4F18-AD03-DE2F4B5EEC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1D6-7B81-4719-8AA9-23C5B36F8AEE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80000" y="1844280"/>
            <a:ext cx="338472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Рисунок8"/>
          <p:cNvPicPr/>
          <p:nvPr/>
        </p:nvPicPr>
        <p:blipFill>
          <a:blip r:embed="rId1"/>
          <a:stretch/>
        </p:blipFill>
        <p:spPr>
          <a:xfrm>
            <a:off x="179280" y="0"/>
            <a:ext cx="5832720" cy="659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WordArt 5"/>
          <p:cNvSpPr txBox="1"/>
          <p:nvPr/>
        </p:nvSpPr>
        <p:spPr>
          <a:xfrm>
            <a:off x="395280" y="5084640"/>
            <a:ext cx="511344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анс Християн Андерс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940360" y="2852640"/>
            <a:ext cx="3203640" cy="577800"/>
          </a:xfrm>
          <a:prstGeom prst="flowChartAlternateProcess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6012000" y="2997360"/>
            <a:ext cx="288576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02.04.1805-04.08.1875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156360" y="6381720"/>
            <a:ext cx="298764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24"/>
          <p:cNvSpPr/>
          <p:nvPr/>
        </p:nvSpPr>
        <p:spPr>
          <a:xfrm>
            <a:off x="6084720" y="3500280"/>
            <a:ext cx="3024360" cy="266544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1905" h="1679">
                <a:moveTo>
                  <a:pt x="94" y="92"/>
                </a:moveTo>
                <a:cubicBezTo>
                  <a:pt x="747" y="118"/>
                  <a:pt x="329" y="106"/>
                  <a:pt x="1351" y="106"/>
                </a:cubicBezTo>
                <a:lnTo>
                  <a:pt x="1270" y="273"/>
                </a:lnTo>
                <a:lnTo>
                  <a:pt x="861" y="273"/>
                </a:lnTo>
                <a:lnTo>
                  <a:pt x="1406" y="635"/>
                </a:lnTo>
                <a:lnTo>
                  <a:pt x="1542" y="0"/>
                </a:lnTo>
                <a:lnTo>
                  <a:pt x="1905" y="363"/>
                </a:lnTo>
                <a:lnTo>
                  <a:pt x="1587" y="771"/>
                </a:lnTo>
                <a:lnTo>
                  <a:pt x="1814" y="1225"/>
                </a:lnTo>
                <a:lnTo>
                  <a:pt x="1315" y="1134"/>
                </a:lnTo>
                <a:lnTo>
                  <a:pt x="1678" y="1679"/>
                </a:lnTo>
                <a:lnTo>
                  <a:pt x="1043" y="1633"/>
                </a:lnTo>
                <a:lnTo>
                  <a:pt x="1723" y="998"/>
                </a:lnTo>
                <a:lnTo>
                  <a:pt x="1088" y="908"/>
                </a:lnTo>
                <a:lnTo>
                  <a:pt x="1224" y="1679"/>
                </a:lnTo>
                <a:lnTo>
                  <a:pt x="544" y="1679"/>
                </a:lnTo>
                <a:lnTo>
                  <a:pt x="1043" y="1134"/>
                </a:lnTo>
                <a:lnTo>
                  <a:pt x="272" y="1452"/>
                </a:lnTo>
                <a:lnTo>
                  <a:pt x="272" y="1679"/>
                </a:lnTo>
                <a:lnTo>
                  <a:pt x="771" y="1679"/>
                </a:lnTo>
                <a:lnTo>
                  <a:pt x="136" y="1134"/>
                </a:lnTo>
                <a:lnTo>
                  <a:pt x="816" y="953"/>
                </a:lnTo>
                <a:lnTo>
                  <a:pt x="952" y="1452"/>
                </a:lnTo>
                <a:lnTo>
                  <a:pt x="45" y="862"/>
                </a:lnTo>
                <a:lnTo>
                  <a:pt x="45" y="91"/>
                </a:lnTo>
                <a:lnTo>
                  <a:pt x="544" y="862"/>
                </a:lnTo>
                <a:lnTo>
                  <a:pt x="725" y="91"/>
                </a:lnTo>
                <a:lnTo>
                  <a:pt x="0" y="998"/>
                </a:lnTo>
                <a:lnTo>
                  <a:pt x="0" y="1588"/>
                </a:lnTo>
                <a:lnTo>
                  <a:pt x="680" y="817"/>
                </a:lnTo>
                <a:lnTo>
                  <a:pt x="1088" y="1225"/>
                </a:lnTo>
                <a:lnTo>
                  <a:pt x="1360" y="771"/>
                </a:lnTo>
                <a:lnTo>
                  <a:pt x="499" y="635"/>
                </a:lnTo>
                <a:lnTo>
                  <a:pt x="952" y="318"/>
                </a:lnTo>
                <a:lnTo>
                  <a:pt x="1088" y="726"/>
                </a:lnTo>
                <a:lnTo>
                  <a:pt x="1542" y="862"/>
                </a:lnTo>
                <a:lnTo>
                  <a:pt x="1769" y="136"/>
                </a:lnTo>
                <a:lnTo>
                  <a:pt x="1769" y="1588"/>
                </a:lnTo>
                <a:lnTo>
                  <a:pt x="1315" y="227"/>
                </a:lnTo>
              </a:path>
            </a:pathLst>
          </a:custGeom>
          <a:solidFill>
            <a:srgbClr val="000000"/>
          </a:solidFill>
          <a:ln w="9360">
            <a:solidFill>
              <a:srgbClr val="bcd4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25"/>
          <p:cNvSpPr/>
          <p:nvPr/>
        </p:nvSpPr>
        <p:spPr>
          <a:xfrm>
            <a:off x="5997600" y="36360"/>
            <a:ext cx="3228840" cy="281304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2813040"/>
              <a:gd name="textAreaBottom" fmla="*/ 2813400 h 2813040"/>
            </a:gdLst>
            <a:ahLst/>
            <a:rect l="textAreaLeft" t="textAreaTop" r="textAreaRight" b="textAreaBottom"/>
            <a:pathLst>
              <a:path w="2034" h="1772">
                <a:moveTo>
                  <a:pt x="261" y="104"/>
                </a:moveTo>
                <a:cubicBezTo>
                  <a:pt x="288" y="146"/>
                  <a:pt x="325" y="163"/>
                  <a:pt x="374" y="171"/>
                </a:cubicBezTo>
                <a:cubicBezTo>
                  <a:pt x="474" y="244"/>
                  <a:pt x="663" y="315"/>
                  <a:pt x="733" y="418"/>
                </a:cubicBezTo>
                <a:cubicBezTo>
                  <a:pt x="754" y="509"/>
                  <a:pt x="799" y="678"/>
                  <a:pt x="695" y="710"/>
                </a:cubicBezTo>
                <a:cubicBezTo>
                  <a:pt x="629" y="689"/>
                  <a:pt x="564" y="642"/>
                  <a:pt x="508" y="605"/>
                </a:cubicBezTo>
                <a:cubicBezTo>
                  <a:pt x="485" y="590"/>
                  <a:pt x="457" y="583"/>
                  <a:pt x="434" y="568"/>
                </a:cubicBezTo>
                <a:cubicBezTo>
                  <a:pt x="392" y="541"/>
                  <a:pt x="354" y="508"/>
                  <a:pt x="314" y="478"/>
                </a:cubicBezTo>
                <a:cubicBezTo>
                  <a:pt x="299" y="466"/>
                  <a:pt x="280" y="457"/>
                  <a:pt x="269" y="441"/>
                </a:cubicBezTo>
                <a:cubicBezTo>
                  <a:pt x="246" y="406"/>
                  <a:pt x="227" y="370"/>
                  <a:pt x="202" y="336"/>
                </a:cubicBezTo>
                <a:cubicBezTo>
                  <a:pt x="199" y="316"/>
                  <a:pt x="193" y="296"/>
                  <a:pt x="194" y="276"/>
                </a:cubicBezTo>
                <a:cubicBezTo>
                  <a:pt x="200" y="181"/>
                  <a:pt x="318" y="179"/>
                  <a:pt x="389" y="171"/>
                </a:cubicBezTo>
                <a:cubicBezTo>
                  <a:pt x="497" y="145"/>
                  <a:pt x="590" y="136"/>
                  <a:pt x="703" y="127"/>
                </a:cubicBezTo>
                <a:cubicBezTo>
                  <a:pt x="822" y="132"/>
                  <a:pt x="947" y="129"/>
                  <a:pt x="1062" y="164"/>
                </a:cubicBezTo>
                <a:cubicBezTo>
                  <a:pt x="1085" y="202"/>
                  <a:pt x="1114" y="261"/>
                  <a:pt x="1144" y="291"/>
                </a:cubicBezTo>
                <a:cubicBezTo>
                  <a:pt x="1165" y="344"/>
                  <a:pt x="1177" y="396"/>
                  <a:pt x="1212" y="441"/>
                </a:cubicBezTo>
                <a:cubicBezTo>
                  <a:pt x="1221" y="478"/>
                  <a:pt x="1235" y="505"/>
                  <a:pt x="1271" y="523"/>
                </a:cubicBezTo>
                <a:cubicBezTo>
                  <a:pt x="1295" y="535"/>
                  <a:pt x="1346" y="553"/>
                  <a:pt x="1346" y="553"/>
                </a:cubicBezTo>
                <a:cubicBezTo>
                  <a:pt x="1471" y="530"/>
                  <a:pt x="1394" y="548"/>
                  <a:pt x="1466" y="501"/>
                </a:cubicBezTo>
                <a:cubicBezTo>
                  <a:pt x="1516" y="424"/>
                  <a:pt x="1605" y="391"/>
                  <a:pt x="1653" y="314"/>
                </a:cubicBezTo>
                <a:cubicBezTo>
                  <a:pt x="1677" y="234"/>
                  <a:pt x="1617" y="211"/>
                  <a:pt x="1556" y="186"/>
                </a:cubicBezTo>
                <a:cubicBezTo>
                  <a:pt x="1489" y="158"/>
                  <a:pt x="1426" y="137"/>
                  <a:pt x="1354" y="127"/>
                </a:cubicBezTo>
                <a:cubicBezTo>
                  <a:pt x="1222" y="142"/>
                  <a:pt x="1123" y="144"/>
                  <a:pt x="1084" y="291"/>
                </a:cubicBezTo>
                <a:cubicBezTo>
                  <a:pt x="1087" y="343"/>
                  <a:pt x="1086" y="396"/>
                  <a:pt x="1092" y="448"/>
                </a:cubicBezTo>
                <a:cubicBezTo>
                  <a:pt x="1098" y="502"/>
                  <a:pt x="1173" y="581"/>
                  <a:pt x="1197" y="613"/>
                </a:cubicBezTo>
                <a:cubicBezTo>
                  <a:pt x="1271" y="711"/>
                  <a:pt x="1445" y="804"/>
                  <a:pt x="1563" y="830"/>
                </a:cubicBezTo>
                <a:cubicBezTo>
                  <a:pt x="1602" y="855"/>
                  <a:pt x="1590" y="882"/>
                  <a:pt x="1615" y="920"/>
                </a:cubicBezTo>
                <a:cubicBezTo>
                  <a:pt x="1632" y="998"/>
                  <a:pt x="1620" y="967"/>
                  <a:pt x="1645" y="1017"/>
                </a:cubicBezTo>
                <a:cubicBezTo>
                  <a:pt x="1659" y="1080"/>
                  <a:pt x="1675" y="1142"/>
                  <a:pt x="1690" y="1204"/>
                </a:cubicBezTo>
                <a:cubicBezTo>
                  <a:pt x="1686" y="1273"/>
                  <a:pt x="1692" y="1346"/>
                  <a:pt x="1653" y="1406"/>
                </a:cubicBezTo>
                <a:cubicBezTo>
                  <a:pt x="1645" y="1456"/>
                  <a:pt x="1630" y="1540"/>
                  <a:pt x="1586" y="1570"/>
                </a:cubicBezTo>
                <a:cubicBezTo>
                  <a:pt x="1460" y="1560"/>
                  <a:pt x="1348" y="1549"/>
                  <a:pt x="1226" y="1525"/>
                </a:cubicBezTo>
                <a:cubicBezTo>
                  <a:pt x="1179" y="1489"/>
                  <a:pt x="1174" y="1484"/>
                  <a:pt x="1159" y="1428"/>
                </a:cubicBezTo>
                <a:cubicBezTo>
                  <a:pt x="1273" y="1362"/>
                  <a:pt x="1419" y="1356"/>
                  <a:pt x="1548" y="1346"/>
                </a:cubicBezTo>
                <a:cubicBezTo>
                  <a:pt x="1634" y="1327"/>
                  <a:pt x="1713" y="1321"/>
                  <a:pt x="1802" y="1316"/>
                </a:cubicBezTo>
                <a:cubicBezTo>
                  <a:pt x="1917" y="1321"/>
                  <a:pt x="1985" y="1293"/>
                  <a:pt x="2034" y="1391"/>
                </a:cubicBezTo>
                <a:cubicBezTo>
                  <a:pt x="2023" y="1506"/>
                  <a:pt x="1976" y="1612"/>
                  <a:pt x="1937" y="1720"/>
                </a:cubicBezTo>
                <a:cubicBezTo>
                  <a:pt x="1866" y="1705"/>
                  <a:pt x="1879" y="1683"/>
                  <a:pt x="1855" y="1623"/>
                </a:cubicBezTo>
                <a:cubicBezTo>
                  <a:pt x="1824" y="1329"/>
                  <a:pt x="1892" y="1028"/>
                  <a:pt x="1825" y="740"/>
                </a:cubicBezTo>
                <a:cubicBezTo>
                  <a:pt x="1734" y="761"/>
                  <a:pt x="1642" y="818"/>
                  <a:pt x="1563" y="867"/>
                </a:cubicBezTo>
                <a:cubicBezTo>
                  <a:pt x="1535" y="884"/>
                  <a:pt x="1511" y="908"/>
                  <a:pt x="1481" y="920"/>
                </a:cubicBezTo>
                <a:cubicBezTo>
                  <a:pt x="1423" y="943"/>
                  <a:pt x="1368" y="980"/>
                  <a:pt x="1324" y="1024"/>
                </a:cubicBezTo>
                <a:cubicBezTo>
                  <a:pt x="1294" y="1110"/>
                  <a:pt x="1346" y="1177"/>
                  <a:pt x="1391" y="1241"/>
                </a:cubicBezTo>
                <a:cubicBezTo>
                  <a:pt x="1443" y="1315"/>
                  <a:pt x="1367" y="1231"/>
                  <a:pt x="1428" y="1294"/>
                </a:cubicBezTo>
                <a:cubicBezTo>
                  <a:pt x="1483" y="1446"/>
                  <a:pt x="1332" y="1598"/>
                  <a:pt x="1212" y="1660"/>
                </a:cubicBezTo>
                <a:cubicBezTo>
                  <a:pt x="1066" y="1652"/>
                  <a:pt x="924" y="1623"/>
                  <a:pt x="778" y="1608"/>
                </a:cubicBezTo>
                <a:cubicBezTo>
                  <a:pt x="743" y="1601"/>
                  <a:pt x="708" y="1594"/>
                  <a:pt x="673" y="1585"/>
                </a:cubicBezTo>
                <a:cubicBezTo>
                  <a:pt x="634" y="1560"/>
                  <a:pt x="629" y="1578"/>
                  <a:pt x="606" y="1533"/>
                </a:cubicBezTo>
                <a:cubicBezTo>
                  <a:pt x="608" y="1511"/>
                  <a:pt x="599" y="1483"/>
                  <a:pt x="613" y="1466"/>
                </a:cubicBezTo>
                <a:cubicBezTo>
                  <a:pt x="667" y="1400"/>
                  <a:pt x="778" y="1386"/>
                  <a:pt x="852" y="1361"/>
                </a:cubicBezTo>
                <a:cubicBezTo>
                  <a:pt x="878" y="1352"/>
                  <a:pt x="900" y="1335"/>
                  <a:pt x="927" y="1331"/>
                </a:cubicBezTo>
                <a:cubicBezTo>
                  <a:pt x="984" y="1322"/>
                  <a:pt x="1042" y="1326"/>
                  <a:pt x="1099" y="1323"/>
                </a:cubicBezTo>
                <a:cubicBezTo>
                  <a:pt x="1178" y="1349"/>
                  <a:pt x="1163" y="1363"/>
                  <a:pt x="1152" y="1458"/>
                </a:cubicBezTo>
                <a:cubicBezTo>
                  <a:pt x="1151" y="1468"/>
                  <a:pt x="1149" y="1479"/>
                  <a:pt x="1144" y="1488"/>
                </a:cubicBezTo>
                <a:cubicBezTo>
                  <a:pt x="1087" y="1590"/>
                  <a:pt x="981" y="1660"/>
                  <a:pt x="867" y="1675"/>
                </a:cubicBezTo>
                <a:cubicBezTo>
                  <a:pt x="799" y="1698"/>
                  <a:pt x="735" y="1684"/>
                  <a:pt x="665" y="1668"/>
                </a:cubicBezTo>
                <a:cubicBezTo>
                  <a:pt x="646" y="1658"/>
                  <a:pt x="624" y="1655"/>
                  <a:pt x="606" y="1645"/>
                </a:cubicBezTo>
                <a:cubicBezTo>
                  <a:pt x="573" y="1627"/>
                  <a:pt x="547" y="1591"/>
                  <a:pt x="516" y="1570"/>
                </a:cubicBezTo>
                <a:cubicBezTo>
                  <a:pt x="488" y="1529"/>
                  <a:pt x="462" y="1458"/>
                  <a:pt x="516" y="1421"/>
                </a:cubicBezTo>
                <a:cubicBezTo>
                  <a:pt x="532" y="1410"/>
                  <a:pt x="551" y="1406"/>
                  <a:pt x="568" y="1398"/>
                </a:cubicBezTo>
                <a:cubicBezTo>
                  <a:pt x="670" y="1405"/>
                  <a:pt x="736" y="1409"/>
                  <a:pt x="808" y="1481"/>
                </a:cubicBezTo>
                <a:cubicBezTo>
                  <a:pt x="791" y="1547"/>
                  <a:pt x="796" y="1555"/>
                  <a:pt x="770" y="1600"/>
                </a:cubicBezTo>
                <a:cubicBezTo>
                  <a:pt x="724" y="1681"/>
                  <a:pt x="600" y="1738"/>
                  <a:pt x="516" y="1772"/>
                </a:cubicBezTo>
                <a:cubicBezTo>
                  <a:pt x="456" y="1758"/>
                  <a:pt x="421" y="1718"/>
                  <a:pt x="366" y="1698"/>
                </a:cubicBezTo>
                <a:cubicBezTo>
                  <a:pt x="346" y="1671"/>
                  <a:pt x="341" y="1649"/>
                  <a:pt x="314" y="1630"/>
                </a:cubicBezTo>
                <a:cubicBezTo>
                  <a:pt x="305" y="1589"/>
                  <a:pt x="288" y="1559"/>
                  <a:pt x="276" y="1518"/>
                </a:cubicBezTo>
                <a:cubicBezTo>
                  <a:pt x="279" y="1481"/>
                  <a:pt x="269" y="1440"/>
                  <a:pt x="284" y="1406"/>
                </a:cubicBezTo>
                <a:cubicBezTo>
                  <a:pt x="310" y="1349"/>
                  <a:pt x="357" y="1352"/>
                  <a:pt x="404" y="1346"/>
                </a:cubicBezTo>
                <a:cubicBezTo>
                  <a:pt x="598" y="1373"/>
                  <a:pt x="522" y="1337"/>
                  <a:pt x="598" y="1413"/>
                </a:cubicBezTo>
                <a:cubicBezTo>
                  <a:pt x="595" y="1466"/>
                  <a:pt x="616" y="1551"/>
                  <a:pt x="553" y="1570"/>
                </a:cubicBezTo>
                <a:cubicBezTo>
                  <a:pt x="515" y="1608"/>
                  <a:pt x="533" y="1599"/>
                  <a:pt x="478" y="1615"/>
                </a:cubicBezTo>
                <a:cubicBezTo>
                  <a:pt x="459" y="1621"/>
                  <a:pt x="419" y="1630"/>
                  <a:pt x="419" y="1630"/>
                </a:cubicBezTo>
                <a:cubicBezTo>
                  <a:pt x="320" y="1621"/>
                  <a:pt x="222" y="1589"/>
                  <a:pt x="164" y="1503"/>
                </a:cubicBezTo>
                <a:cubicBezTo>
                  <a:pt x="154" y="1461"/>
                  <a:pt x="138" y="1425"/>
                  <a:pt x="127" y="1383"/>
                </a:cubicBezTo>
                <a:cubicBezTo>
                  <a:pt x="133" y="1330"/>
                  <a:pt x="138" y="1276"/>
                  <a:pt x="194" y="1256"/>
                </a:cubicBezTo>
                <a:cubicBezTo>
                  <a:pt x="225" y="1226"/>
                  <a:pt x="265" y="1211"/>
                  <a:pt x="306" y="1196"/>
                </a:cubicBezTo>
                <a:cubicBezTo>
                  <a:pt x="381" y="1245"/>
                  <a:pt x="355" y="1435"/>
                  <a:pt x="269" y="1466"/>
                </a:cubicBezTo>
                <a:cubicBezTo>
                  <a:pt x="259" y="1463"/>
                  <a:pt x="248" y="1464"/>
                  <a:pt x="239" y="1458"/>
                </a:cubicBezTo>
                <a:cubicBezTo>
                  <a:pt x="218" y="1444"/>
                  <a:pt x="178" y="1346"/>
                  <a:pt x="157" y="1316"/>
                </a:cubicBezTo>
                <a:cubicBezTo>
                  <a:pt x="147" y="1286"/>
                  <a:pt x="137" y="1256"/>
                  <a:pt x="127" y="1226"/>
                </a:cubicBezTo>
                <a:cubicBezTo>
                  <a:pt x="118" y="1200"/>
                  <a:pt x="112" y="1144"/>
                  <a:pt x="112" y="1144"/>
                </a:cubicBezTo>
                <a:cubicBezTo>
                  <a:pt x="114" y="1099"/>
                  <a:pt x="111" y="1053"/>
                  <a:pt x="119" y="1009"/>
                </a:cubicBezTo>
                <a:cubicBezTo>
                  <a:pt x="120" y="1004"/>
                  <a:pt x="155" y="937"/>
                  <a:pt x="164" y="920"/>
                </a:cubicBezTo>
                <a:cubicBezTo>
                  <a:pt x="194" y="861"/>
                  <a:pt x="211" y="809"/>
                  <a:pt x="232" y="747"/>
                </a:cubicBezTo>
                <a:cubicBezTo>
                  <a:pt x="226" y="681"/>
                  <a:pt x="226" y="622"/>
                  <a:pt x="179" y="575"/>
                </a:cubicBezTo>
                <a:cubicBezTo>
                  <a:pt x="168" y="517"/>
                  <a:pt x="138" y="486"/>
                  <a:pt x="104" y="441"/>
                </a:cubicBezTo>
                <a:cubicBezTo>
                  <a:pt x="83" y="413"/>
                  <a:pt x="71" y="385"/>
                  <a:pt x="45" y="359"/>
                </a:cubicBezTo>
                <a:cubicBezTo>
                  <a:pt x="32" y="323"/>
                  <a:pt x="12" y="291"/>
                  <a:pt x="0" y="254"/>
                </a:cubicBezTo>
                <a:cubicBezTo>
                  <a:pt x="2" y="244"/>
                  <a:pt x="1" y="233"/>
                  <a:pt x="7" y="224"/>
                </a:cubicBezTo>
                <a:cubicBezTo>
                  <a:pt x="27" y="193"/>
                  <a:pt x="154" y="189"/>
                  <a:pt x="179" y="186"/>
                </a:cubicBezTo>
                <a:cubicBezTo>
                  <a:pt x="224" y="189"/>
                  <a:pt x="269" y="190"/>
                  <a:pt x="314" y="194"/>
                </a:cubicBezTo>
                <a:cubicBezTo>
                  <a:pt x="367" y="199"/>
                  <a:pt x="472" y="285"/>
                  <a:pt x="508" y="321"/>
                </a:cubicBezTo>
                <a:cubicBezTo>
                  <a:pt x="511" y="329"/>
                  <a:pt x="517" y="336"/>
                  <a:pt x="516" y="344"/>
                </a:cubicBezTo>
                <a:cubicBezTo>
                  <a:pt x="512" y="367"/>
                  <a:pt x="495" y="368"/>
                  <a:pt x="478" y="373"/>
                </a:cubicBezTo>
                <a:cubicBezTo>
                  <a:pt x="443" y="383"/>
                  <a:pt x="413" y="394"/>
                  <a:pt x="381" y="411"/>
                </a:cubicBezTo>
                <a:lnTo>
                  <a:pt x="372" y="822"/>
                </a:lnTo>
                <a:lnTo>
                  <a:pt x="599" y="1184"/>
                </a:lnTo>
                <a:lnTo>
                  <a:pt x="554" y="1275"/>
                </a:lnTo>
                <a:cubicBezTo>
                  <a:pt x="1023" y="1217"/>
                  <a:pt x="795" y="1270"/>
                  <a:pt x="957" y="1211"/>
                </a:cubicBezTo>
                <a:cubicBezTo>
                  <a:pt x="985" y="1190"/>
                  <a:pt x="1006" y="1163"/>
                  <a:pt x="1039" y="1151"/>
                </a:cubicBezTo>
                <a:cubicBezTo>
                  <a:pt x="1094" y="1098"/>
                  <a:pt x="1084" y="1046"/>
                  <a:pt x="1084" y="972"/>
                </a:cubicBezTo>
                <a:cubicBezTo>
                  <a:pt x="1073" y="937"/>
                  <a:pt x="1071" y="898"/>
                  <a:pt x="1052" y="867"/>
                </a:cubicBezTo>
                <a:cubicBezTo>
                  <a:pt x="1047" y="859"/>
                  <a:pt x="1033" y="877"/>
                  <a:pt x="1024" y="875"/>
                </a:cubicBezTo>
                <a:cubicBezTo>
                  <a:pt x="995" y="868"/>
                  <a:pt x="971" y="845"/>
                  <a:pt x="942" y="837"/>
                </a:cubicBezTo>
                <a:cubicBezTo>
                  <a:pt x="839" y="808"/>
                  <a:pt x="738" y="774"/>
                  <a:pt x="636" y="740"/>
                </a:cubicBezTo>
                <a:cubicBezTo>
                  <a:pt x="505" y="697"/>
                  <a:pt x="612" y="746"/>
                  <a:pt x="463" y="665"/>
                </a:cubicBezTo>
                <a:cubicBezTo>
                  <a:pt x="451" y="659"/>
                  <a:pt x="426" y="650"/>
                  <a:pt x="426" y="650"/>
                </a:cubicBezTo>
                <a:cubicBezTo>
                  <a:pt x="423" y="632"/>
                  <a:pt x="412" y="613"/>
                  <a:pt x="417" y="595"/>
                </a:cubicBezTo>
                <a:cubicBezTo>
                  <a:pt x="426" y="565"/>
                  <a:pt x="473" y="567"/>
                  <a:pt x="501" y="553"/>
                </a:cubicBezTo>
                <a:cubicBezTo>
                  <a:pt x="594" y="507"/>
                  <a:pt x="690" y="482"/>
                  <a:pt x="785" y="441"/>
                </a:cubicBezTo>
                <a:cubicBezTo>
                  <a:pt x="813" y="429"/>
                  <a:pt x="839" y="413"/>
                  <a:pt x="867" y="403"/>
                </a:cubicBezTo>
                <a:cubicBezTo>
                  <a:pt x="889" y="395"/>
                  <a:pt x="935" y="388"/>
                  <a:pt x="935" y="388"/>
                </a:cubicBezTo>
                <a:cubicBezTo>
                  <a:pt x="1004" y="381"/>
                  <a:pt x="1074" y="363"/>
                  <a:pt x="1143" y="368"/>
                </a:cubicBezTo>
                <a:cubicBezTo>
                  <a:pt x="1155" y="369"/>
                  <a:pt x="1140" y="392"/>
                  <a:pt x="1144" y="403"/>
                </a:cubicBezTo>
                <a:cubicBezTo>
                  <a:pt x="1151" y="424"/>
                  <a:pt x="1160" y="445"/>
                  <a:pt x="1174" y="463"/>
                </a:cubicBezTo>
                <a:cubicBezTo>
                  <a:pt x="1198" y="495"/>
                  <a:pt x="1217" y="528"/>
                  <a:pt x="1241" y="560"/>
                </a:cubicBezTo>
                <a:cubicBezTo>
                  <a:pt x="1236" y="603"/>
                  <a:pt x="1233" y="646"/>
                  <a:pt x="1226" y="688"/>
                </a:cubicBezTo>
                <a:cubicBezTo>
                  <a:pt x="1224" y="701"/>
                  <a:pt x="1212" y="725"/>
                  <a:pt x="1212" y="725"/>
                </a:cubicBezTo>
                <a:cubicBezTo>
                  <a:pt x="1174" y="803"/>
                  <a:pt x="1154" y="892"/>
                  <a:pt x="1098" y="958"/>
                </a:cubicBezTo>
                <a:cubicBezTo>
                  <a:pt x="1075" y="985"/>
                  <a:pt x="1029" y="971"/>
                  <a:pt x="995" y="979"/>
                </a:cubicBezTo>
                <a:cubicBezTo>
                  <a:pt x="929" y="994"/>
                  <a:pt x="868" y="1003"/>
                  <a:pt x="800" y="1009"/>
                </a:cubicBezTo>
                <a:cubicBezTo>
                  <a:pt x="673" y="1037"/>
                  <a:pt x="572" y="1047"/>
                  <a:pt x="441" y="1047"/>
                </a:cubicBezTo>
                <a:cubicBezTo>
                  <a:pt x="427" y="1102"/>
                  <a:pt x="413" y="1139"/>
                  <a:pt x="396" y="1189"/>
                </a:cubicBezTo>
                <a:cubicBezTo>
                  <a:pt x="382" y="1291"/>
                  <a:pt x="399" y="1193"/>
                  <a:pt x="374" y="1286"/>
                </a:cubicBezTo>
                <a:cubicBezTo>
                  <a:pt x="371" y="1296"/>
                  <a:pt x="370" y="1307"/>
                  <a:pt x="366" y="1316"/>
                </a:cubicBezTo>
                <a:cubicBezTo>
                  <a:pt x="362" y="1324"/>
                  <a:pt x="351" y="1338"/>
                  <a:pt x="351" y="1338"/>
                </a:cubicBezTo>
                <a:lnTo>
                  <a:pt x="327" y="1547"/>
                </a:lnTo>
                <a:lnTo>
                  <a:pt x="236" y="1683"/>
                </a:lnTo>
                <a:cubicBezTo>
                  <a:pt x="221" y="1487"/>
                  <a:pt x="197" y="1291"/>
                  <a:pt x="191" y="1094"/>
                </a:cubicBezTo>
                <a:cubicBezTo>
                  <a:pt x="191" y="1082"/>
                  <a:pt x="211" y="1079"/>
                  <a:pt x="217" y="1069"/>
                </a:cubicBezTo>
                <a:cubicBezTo>
                  <a:pt x="222" y="1060"/>
                  <a:pt x="222" y="1049"/>
                  <a:pt x="224" y="1039"/>
                </a:cubicBezTo>
                <a:cubicBezTo>
                  <a:pt x="230" y="974"/>
                  <a:pt x="227" y="961"/>
                  <a:pt x="247" y="905"/>
                </a:cubicBezTo>
                <a:cubicBezTo>
                  <a:pt x="255" y="882"/>
                  <a:pt x="266" y="859"/>
                  <a:pt x="276" y="837"/>
                </a:cubicBezTo>
                <a:cubicBezTo>
                  <a:pt x="283" y="822"/>
                  <a:pt x="299" y="792"/>
                  <a:pt x="299" y="792"/>
                </a:cubicBezTo>
                <a:cubicBezTo>
                  <a:pt x="323" y="757"/>
                  <a:pt x="339" y="713"/>
                  <a:pt x="372" y="686"/>
                </a:cubicBezTo>
                <a:cubicBezTo>
                  <a:pt x="395" y="668"/>
                  <a:pt x="481" y="698"/>
                  <a:pt x="508" y="703"/>
                </a:cubicBezTo>
                <a:cubicBezTo>
                  <a:pt x="684" y="735"/>
                  <a:pt x="869" y="740"/>
                  <a:pt x="1047" y="740"/>
                </a:cubicBezTo>
                <a:lnTo>
                  <a:pt x="1143" y="1139"/>
                </a:lnTo>
                <a:lnTo>
                  <a:pt x="1370" y="1638"/>
                </a:lnTo>
                <a:cubicBezTo>
                  <a:pt x="1448" y="1664"/>
                  <a:pt x="1524" y="1689"/>
                  <a:pt x="1600" y="1720"/>
                </a:cubicBezTo>
                <a:cubicBezTo>
                  <a:pt x="1654" y="1716"/>
                  <a:pt x="1709" y="1721"/>
                  <a:pt x="1758" y="1698"/>
                </a:cubicBezTo>
                <a:lnTo>
                  <a:pt x="1869" y="1593"/>
                </a:lnTo>
                <a:cubicBezTo>
                  <a:pt x="1884" y="1578"/>
                  <a:pt x="1907" y="1567"/>
                  <a:pt x="1914" y="1547"/>
                </a:cubicBezTo>
                <a:cubicBezTo>
                  <a:pt x="1919" y="1532"/>
                  <a:pt x="1902" y="1518"/>
                  <a:pt x="1900" y="1503"/>
                </a:cubicBezTo>
                <a:cubicBezTo>
                  <a:pt x="1889" y="1399"/>
                  <a:pt x="1889" y="1293"/>
                  <a:pt x="1877" y="1189"/>
                </a:cubicBezTo>
                <a:cubicBezTo>
                  <a:pt x="1874" y="1166"/>
                  <a:pt x="1861" y="1145"/>
                  <a:pt x="1855" y="1122"/>
                </a:cubicBezTo>
                <a:cubicBezTo>
                  <a:pt x="1849" y="1100"/>
                  <a:pt x="1840" y="1054"/>
                  <a:pt x="1840" y="1054"/>
                </a:cubicBezTo>
                <a:cubicBezTo>
                  <a:pt x="1834" y="979"/>
                  <a:pt x="1816" y="905"/>
                  <a:pt x="1817" y="830"/>
                </a:cubicBezTo>
                <a:cubicBezTo>
                  <a:pt x="1818" y="784"/>
                  <a:pt x="1870" y="728"/>
                  <a:pt x="1892" y="688"/>
                </a:cubicBezTo>
                <a:cubicBezTo>
                  <a:pt x="1926" y="626"/>
                  <a:pt x="1906" y="662"/>
                  <a:pt x="1930" y="598"/>
                </a:cubicBezTo>
                <a:cubicBezTo>
                  <a:pt x="1939" y="573"/>
                  <a:pt x="1960" y="523"/>
                  <a:pt x="1960" y="523"/>
                </a:cubicBezTo>
                <a:lnTo>
                  <a:pt x="1960" y="232"/>
                </a:lnTo>
                <a:cubicBezTo>
                  <a:pt x="1930" y="202"/>
                  <a:pt x="1903" y="167"/>
                  <a:pt x="1869" y="141"/>
                </a:cubicBezTo>
                <a:cubicBezTo>
                  <a:pt x="1852" y="128"/>
                  <a:pt x="1793" y="159"/>
                  <a:pt x="1780" y="164"/>
                </a:cubicBezTo>
                <a:cubicBezTo>
                  <a:pt x="1668" y="204"/>
                  <a:pt x="1609" y="201"/>
                  <a:pt x="1481" y="201"/>
                </a:cubicBezTo>
                <a:cubicBezTo>
                  <a:pt x="1444" y="257"/>
                  <a:pt x="1396" y="306"/>
                  <a:pt x="1370" y="368"/>
                </a:cubicBezTo>
                <a:cubicBezTo>
                  <a:pt x="1347" y="423"/>
                  <a:pt x="1440" y="444"/>
                  <a:pt x="1466" y="448"/>
                </a:cubicBezTo>
                <a:cubicBezTo>
                  <a:pt x="1582" y="487"/>
                  <a:pt x="1687" y="516"/>
                  <a:pt x="1810" y="516"/>
                </a:cubicBezTo>
                <a:lnTo>
                  <a:pt x="1869" y="640"/>
                </a:lnTo>
                <a:cubicBezTo>
                  <a:pt x="1543" y="780"/>
                  <a:pt x="1542" y="800"/>
                  <a:pt x="1219" y="807"/>
                </a:cubicBezTo>
                <a:cubicBezTo>
                  <a:pt x="1187" y="808"/>
                  <a:pt x="1154" y="807"/>
                  <a:pt x="1122" y="807"/>
                </a:cubicBezTo>
                <a:lnTo>
                  <a:pt x="1007" y="1048"/>
                </a:lnTo>
                <a:cubicBezTo>
                  <a:pt x="1068" y="1109"/>
                  <a:pt x="1134" y="1164"/>
                  <a:pt x="1189" y="1230"/>
                </a:cubicBezTo>
                <a:cubicBezTo>
                  <a:pt x="1224" y="1272"/>
                  <a:pt x="1112" y="1230"/>
                  <a:pt x="1197" y="1256"/>
                </a:cubicBezTo>
                <a:cubicBezTo>
                  <a:pt x="1217" y="1254"/>
                  <a:pt x="1285" y="1254"/>
                  <a:pt x="1316" y="1241"/>
                </a:cubicBezTo>
                <a:cubicBezTo>
                  <a:pt x="1339" y="1231"/>
                  <a:pt x="1384" y="1211"/>
                  <a:pt x="1384" y="1211"/>
                </a:cubicBezTo>
                <a:cubicBezTo>
                  <a:pt x="1424" y="1155"/>
                  <a:pt x="1421" y="1180"/>
                  <a:pt x="1421" y="1144"/>
                </a:cubicBezTo>
                <a:cubicBezTo>
                  <a:pt x="1419" y="1112"/>
                  <a:pt x="1424" y="1079"/>
                  <a:pt x="1415" y="1048"/>
                </a:cubicBezTo>
                <a:cubicBezTo>
                  <a:pt x="1413" y="1040"/>
                  <a:pt x="1399" y="1042"/>
                  <a:pt x="1391" y="1039"/>
                </a:cubicBezTo>
                <a:cubicBezTo>
                  <a:pt x="1381" y="1034"/>
                  <a:pt x="1370" y="1030"/>
                  <a:pt x="1361" y="1024"/>
                </a:cubicBezTo>
                <a:cubicBezTo>
                  <a:pt x="1288" y="978"/>
                  <a:pt x="1335" y="994"/>
                  <a:pt x="1264" y="972"/>
                </a:cubicBezTo>
                <a:cubicBezTo>
                  <a:pt x="1254" y="969"/>
                  <a:pt x="1234" y="964"/>
                  <a:pt x="1234" y="964"/>
                </a:cubicBezTo>
                <a:cubicBezTo>
                  <a:pt x="1173" y="962"/>
                  <a:pt x="1112" y="968"/>
                  <a:pt x="1052" y="958"/>
                </a:cubicBezTo>
                <a:cubicBezTo>
                  <a:pt x="1044" y="957"/>
                  <a:pt x="1060" y="940"/>
                  <a:pt x="1054" y="935"/>
                </a:cubicBezTo>
                <a:cubicBezTo>
                  <a:pt x="1045" y="927"/>
                  <a:pt x="1029" y="930"/>
                  <a:pt x="1017" y="927"/>
                </a:cubicBezTo>
                <a:cubicBezTo>
                  <a:pt x="928" y="874"/>
                  <a:pt x="808" y="862"/>
                  <a:pt x="710" y="845"/>
                </a:cubicBezTo>
                <a:cubicBezTo>
                  <a:pt x="680" y="840"/>
                  <a:pt x="621" y="830"/>
                  <a:pt x="621" y="830"/>
                </a:cubicBezTo>
                <a:lnTo>
                  <a:pt x="508" y="822"/>
                </a:lnTo>
                <a:cubicBezTo>
                  <a:pt x="614" y="792"/>
                  <a:pt x="722" y="769"/>
                  <a:pt x="826" y="731"/>
                </a:cubicBezTo>
                <a:cubicBezTo>
                  <a:pt x="835" y="728"/>
                  <a:pt x="832" y="712"/>
                  <a:pt x="837" y="703"/>
                </a:cubicBezTo>
                <a:cubicBezTo>
                  <a:pt x="854" y="674"/>
                  <a:pt x="857" y="675"/>
                  <a:pt x="882" y="658"/>
                </a:cubicBezTo>
                <a:cubicBezTo>
                  <a:pt x="915" y="607"/>
                  <a:pt x="953" y="559"/>
                  <a:pt x="987" y="508"/>
                </a:cubicBezTo>
                <a:cubicBezTo>
                  <a:pt x="999" y="490"/>
                  <a:pt x="1012" y="473"/>
                  <a:pt x="1024" y="456"/>
                </a:cubicBezTo>
                <a:cubicBezTo>
                  <a:pt x="1032" y="444"/>
                  <a:pt x="1054" y="426"/>
                  <a:pt x="1054" y="426"/>
                </a:cubicBezTo>
                <a:lnTo>
                  <a:pt x="1189" y="277"/>
                </a:lnTo>
                <a:lnTo>
                  <a:pt x="1415" y="141"/>
                </a:lnTo>
                <a:cubicBezTo>
                  <a:pt x="1430" y="126"/>
                  <a:pt x="1449" y="114"/>
                  <a:pt x="1461" y="96"/>
                </a:cubicBezTo>
                <a:cubicBezTo>
                  <a:pt x="1481" y="65"/>
                  <a:pt x="1406" y="60"/>
                  <a:pt x="1399" y="59"/>
                </a:cubicBezTo>
                <a:cubicBezTo>
                  <a:pt x="1339" y="55"/>
                  <a:pt x="1279" y="54"/>
                  <a:pt x="1219" y="52"/>
                </a:cubicBezTo>
                <a:cubicBezTo>
                  <a:pt x="1103" y="29"/>
                  <a:pt x="993" y="22"/>
                  <a:pt x="875" y="22"/>
                </a:cubicBezTo>
                <a:cubicBezTo>
                  <a:pt x="584" y="108"/>
                  <a:pt x="892" y="41"/>
                  <a:pt x="740" y="29"/>
                </a:cubicBezTo>
                <a:cubicBezTo>
                  <a:pt x="601" y="18"/>
                  <a:pt x="321" y="14"/>
                  <a:pt x="321" y="14"/>
                </a:cubicBezTo>
                <a:cubicBezTo>
                  <a:pt x="278" y="11"/>
                  <a:pt x="234" y="0"/>
                  <a:pt x="191" y="5"/>
                </a:cubicBezTo>
                <a:cubicBezTo>
                  <a:pt x="183" y="6"/>
                  <a:pt x="191" y="22"/>
                  <a:pt x="187" y="29"/>
                </a:cubicBezTo>
                <a:cubicBezTo>
                  <a:pt x="181" y="40"/>
                  <a:pt x="170" y="48"/>
                  <a:pt x="164" y="59"/>
                </a:cubicBezTo>
                <a:cubicBezTo>
                  <a:pt x="131" y="118"/>
                  <a:pt x="104" y="210"/>
                  <a:pt x="104" y="276"/>
                </a:cubicBezTo>
                <a:cubicBezTo>
                  <a:pt x="196" y="435"/>
                  <a:pt x="270" y="597"/>
                  <a:pt x="448" y="665"/>
                </a:cubicBezTo>
                <a:cubicBezTo>
                  <a:pt x="511" y="689"/>
                  <a:pt x="598" y="701"/>
                  <a:pt x="665" y="710"/>
                </a:cubicBezTo>
                <a:cubicBezTo>
                  <a:pt x="707" y="715"/>
                  <a:pt x="793" y="718"/>
                  <a:pt x="793" y="718"/>
                </a:cubicBezTo>
                <a:cubicBezTo>
                  <a:pt x="849" y="768"/>
                  <a:pt x="915" y="809"/>
                  <a:pt x="962" y="867"/>
                </a:cubicBezTo>
                <a:cubicBezTo>
                  <a:pt x="971" y="878"/>
                  <a:pt x="933" y="868"/>
                  <a:pt x="920" y="875"/>
                </a:cubicBezTo>
                <a:cubicBezTo>
                  <a:pt x="912" y="879"/>
                  <a:pt x="912" y="892"/>
                  <a:pt x="905" y="897"/>
                </a:cubicBezTo>
                <a:cubicBezTo>
                  <a:pt x="883" y="912"/>
                  <a:pt x="834" y="926"/>
                  <a:pt x="808" y="935"/>
                </a:cubicBezTo>
                <a:cubicBezTo>
                  <a:pt x="689" y="977"/>
                  <a:pt x="558" y="972"/>
                  <a:pt x="434" y="972"/>
                </a:cubicBezTo>
                <a:lnTo>
                  <a:pt x="554" y="1094"/>
                </a:lnTo>
                <a:lnTo>
                  <a:pt x="1143" y="1139"/>
                </a:lnTo>
              </a:path>
            </a:pathLst>
          </a:custGeom>
          <a:solidFill>
            <a:srgbClr val="000000"/>
          </a:solidFill>
          <a:ln w="9360">
            <a:solidFill>
              <a:srgbClr val="bcd4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A76-CB33-4988-B9AC-1E5A9DDA3D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205-6F2B-4441-8849-0E52607D77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495792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«У самій  чашечці квітки опинилася маленька людина, така світла і прозора, ніби вона була з кришталю чи ранкової роси. За плечима у нього тремтіли легенькі крила. А на голові блищала маленька золота корона…»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12" descr="Image_5"/>
          <p:cNvPicPr/>
          <p:nvPr/>
        </p:nvPicPr>
        <p:blipFill>
          <a:blip r:embed="rId1"/>
          <a:stretch/>
        </p:blipFill>
        <p:spPr>
          <a:xfrm>
            <a:off x="5786280" y="1000080"/>
            <a:ext cx="2982960" cy="453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Image_5"/>
          <p:cNvPicPr/>
          <p:nvPr/>
        </p:nvPicPr>
        <p:blipFill>
          <a:blip r:embed="rId2"/>
          <a:stretch/>
        </p:blipFill>
        <p:spPr>
          <a:xfrm>
            <a:off x="5715000" y="907920"/>
            <a:ext cx="3143160" cy="473580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3D05-1D1B-41E4-9AF8-35994A504D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04000" y="-150840"/>
            <a:ext cx="196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428760"/>
            <a:ext cx="50720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ни вже ходили до школи, на груді у кожного красувалась зірка,  а збоку  гриміла шабля; писали вони на золотих дошках  діамантовими грифелями  і чудово вміли читати – бодай по книжках, чи нап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ть все одно. Одразу було чутно, що читають справжні принци!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Image_2"/>
          <p:cNvPicPr/>
          <p:nvPr/>
        </p:nvPicPr>
        <p:blipFill>
          <a:blip r:embed="rId1"/>
          <a:stretch/>
        </p:blipFill>
        <p:spPr>
          <a:xfrm>
            <a:off x="5643720" y="620640"/>
            <a:ext cx="3143160" cy="4753080"/>
          </a:xfrm>
          <a:prstGeom prst="rect">
            <a:avLst/>
          </a:prstGeom>
          <a:ln w="0">
            <a:noFill/>
          </a:ln>
        </p:spPr>
      </p:pic>
      <p:sp>
        <p:nvSpPr>
          <p:cNvPr id="13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230-9102-4B64-89B4-50C0D6BFA6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Чудові у тебе дітки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сь тільки один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сь цей не вдався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уло б добре його переробити!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8" descr="Image_19"/>
          <p:cNvPicPr/>
          <p:nvPr/>
        </p:nvPicPr>
        <p:blipFill>
          <a:blip r:embed="rId1"/>
          <a:stretch/>
        </p:blipFill>
        <p:spPr>
          <a:xfrm>
            <a:off x="4929120" y="2571840"/>
            <a:ext cx="3014640" cy="362880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5051-6D29-4D26-921B-5C4FEDC7C6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459280" y="-5234040"/>
            <a:ext cx="2271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071720"/>
            <a:ext cx="5043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У неї не тільки дві ніжки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ивитися шкода! – казали одні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она не має вусик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, - казали інші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Фі, яка в неї тонка талія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а  вона бридка! – говорили всі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5" descr="Image_6"/>
          <p:cNvPicPr/>
          <p:nvPr/>
        </p:nvPicPr>
        <p:blipFill>
          <a:blip r:embed="rId1"/>
          <a:stretch/>
        </p:blipFill>
        <p:spPr>
          <a:xfrm>
            <a:off x="5357880" y="1143000"/>
            <a:ext cx="3430440" cy="4643280"/>
          </a:xfrm>
          <a:prstGeom prst="rect">
            <a:avLst/>
          </a:prstGeom>
          <a:ln w="0">
            <a:noFill/>
          </a:ln>
        </p:spPr>
      </p:pic>
      <p:sp>
        <p:nvSpPr>
          <p:cNvPr id="14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505-0D79-4C96-A2B6-0A64D47344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580000" y="1844280"/>
            <a:ext cx="338472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4" descr="Рисунок8"/>
          <p:cNvPicPr/>
          <p:nvPr/>
        </p:nvPicPr>
        <p:blipFill>
          <a:blip r:embed="rId1"/>
          <a:stretch/>
        </p:blipFill>
        <p:spPr>
          <a:xfrm>
            <a:off x="179280" y="0"/>
            <a:ext cx="5832720" cy="659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7" name="WordArt 5"/>
          <p:cNvSpPr txBox="1"/>
          <p:nvPr/>
        </p:nvSpPr>
        <p:spPr>
          <a:xfrm>
            <a:off x="395280" y="5084640"/>
            <a:ext cx="511344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анс Християн Андерс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5940360" y="2852640"/>
            <a:ext cx="3203640" cy="577800"/>
          </a:xfrm>
          <a:prstGeom prst="flowChartAlternateProcess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6012000" y="2997360"/>
            <a:ext cx="288576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02.04.1805-04.08.1875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156360" y="6381720"/>
            <a:ext cx="298764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6084720" y="3500280"/>
            <a:ext cx="3024360" cy="266544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1905" h="1679">
                <a:moveTo>
                  <a:pt x="94" y="92"/>
                </a:moveTo>
                <a:cubicBezTo>
                  <a:pt x="747" y="118"/>
                  <a:pt x="329" y="106"/>
                  <a:pt x="1351" y="106"/>
                </a:cubicBezTo>
                <a:lnTo>
                  <a:pt x="1270" y="273"/>
                </a:lnTo>
                <a:lnTo>
                  <a:pt x="861" y="273"/>
                </a:lnTo>
                <a:lnTo>
                  <a:pt x="1406" y="635"/>
                </a:lnTo>
                <a:lnTo>
                  <a:pt x="1542" y="0"/>
                </a:lnTo>
                <a:lnTo>
                  <a:pt x="1905" y="363"/>
                </a:lnTo>
                <a:lnTo>
                  <a:pt x="1587" y="771"/>
                </a:lnTo>
                <a:lnTo>
                  <a:pt x="1814" y="1225"/>
                </a:lnTo>
                <a:lnTo>
                  <a:pt x="1315" y="1134"/>
                </a:lnTo>
                <a:lnTo>
                  <a:pt x="1678" y="1679"/>
                </a:lnTo>
                <a:lnTo>
                  <a:pt x="1043" y="1633"/>
                </a:lnTo>
                <a:lnTo>
                  <a:pt x="1723" y="998"/>
                </a:lnTo>
                <a:lnTo>
                  <a:pt x="1088" y="908"/>
                </a:lnTo>
                <a:lnTo>
                  <a:pt x="1224" y="1679"/>
                </a:lnTo>
                <a:lnTo>
                  <a:pt x="544" y="1679"/>
                </a:lnTo>
                <a:lnTo>
                  <a:pt x="1043" y="1134"/>
                </a:lnTo>
                <a:lnTo>
                  <a:pt x="272" y="1452"/>
                </a:lnTo>
                <a:lnTo>
                  <a:pt x="272" y="1679"/>
                </a:lnTo>
                <a:lnTo>
                  <a:pt x="771" y="1679"/>
                </a:lnTo>
                <a:lnTo>
                  <a:pt x="136" y="1134"/>
                </a:lnTo>
                <a:lnTo>
                  <a:pt x="816" y="953"/>
                </a:lnTo>
                <a:lnTo>
                  <a:pt x="952" y="1452"/>
                </a:lnTo>
                <a:lnTo>
                  <a:pt x="45" y="862"/>
                </a:lnTo>
                <a:lnTo>
                  <a:pt x="45" y="91"/>
                </a:lnTo>
                <a:lnTo>
                  <a:pt x="544" y="862"/>
                </a:lnTo>
                <a:lnTo>
                  <a:pt x="725" y="91"/>
                </a:lnTo>
                <a:lnTo>
                  <a:pt x="0" y="998"/>
                </a:lnTo>
                <a:lnTo>
                  <a:pt x="0" y="1588"/>
                </a:lnTo>
                <a:lnTo>
                  <a:pt x="680" y="817"/>
                </a:lnTo>
                <a:lnTo>
                  <a:pt x="1088" y="1225"/>
                </a:lnTo>
                <a:lnTo>
                  <a:pt x="1360" y="771"/>
                </a:lnTo>
                <a:lnTo>
                  <a:pt x="499" y="635"/>
                </a:lnTo>
                <a:lnTo>
                  <a:pt x="952" y="318"/>
                </a:lnTo>
                <a:lnTo>
                  <a:pt x="1088" y="726"/>
                </a:lnTo>
                <a:lnTo>
                  <a:pt x="1542" y="862"/>
                </a:lnTo>
                <a:lnTo>
                  <a:pt x="1769" y="136"/>
                </a:lnTo>
                <a:lnTo>
                  <a:pt x="1769" y="1588"/>
                </a:lnTo>
                <a:lnTo>
                  <a:pt x="1315" y="227"/>
                </a:lnTo>
              </a:path>
            </a:pathLst>
          </a:custGeom>
          <a:solidFill>
            <a:srgbClr val="000000"/>
          </a:solidFill>
          <a:ln w="9360">
            <a:solidFill>
              <a:srgbClr val="bcd4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997600" y="36360"/>
            <a:ext cx="3228840" cy="281304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2813040"/>
              <a:gd name="textAreaBottom" fmla="*/ 2813400 h 2813040"/>
            </a:gdLst>
            <a:ahLst/>
            <a:rect l="textAreaLeft" t="textAreaTop" r="textAreaRight" b="textAreaBottom"/>
            <a:pathLst>
              <a:path w="2034" h="1772">
                <a:moveTo>
                  <a:pt x="261" y="104"/>
                </a:moveTo>
                <a:cubicBezTo>
                  <a:pt x="288" y="146"/>
                  <a:pt x="325" y="163"/>
                  <a:pt x="374" y="171"/>
                </a:cubicBezTo>
                <a:cubicBezTo>
                  <a:pt x="474" y="244"/>
                  <a:pt x="663" y="315"/>
                  <a:pt x="733" y="418"/>
                </a:cubicBezTo>
                <a:cubicBezTo>
                  <a:pt x="754" y="509"/>
                  <a:pt x="799" y="678"/>
                  <a:pt x="695" y="710"/>
                </a:cubicBezTo>
                <a:cubicBezTo>
                  <a:pt x="629" y="689"/>
                  <a:pt x="564" y="642"/>
                  <a:pt x="508" y="605"/>
                </a:cubicBezTo>
                <a:cubicBezTo>
                  <a:pt x="485" y="590"/>
                  <a:pt x="457" y="583"/>
                  <a:pt x="434" y="568"/>
                </a:cubicBezTo>
                <a:cubicBezTo>
                  <a:pt x="392" y="541"/>
                  <a:pt x="354" y="508"/>
                  <a:pt x="314" y="478"/>
                </a:cubicBezTo>
                <a:cubicBezTo>
                  <a:pt x="299" y="466"/>
                  <a:pt x="280" y="457"/>
                  <a:pt x="269" y="441"/>
                </a:cubicBezTo>
                <a:cubicBezTo>
                  <a:pt x="246" y="406"/>
                  <a:pt x="227" y="370"/>
                  <a:pt x="202" y="336"/>
                </a:cubicBezTo>
                <a:cubicBezTo>
                  <a:pt x="199" y="316"/>
                  <a:pt x="193" y="296"/>
                  <a:pt x="194" y="276"/>
                </a:cubicBezTo>
                <a:cubicBezTo>
                  <a:pt x="200" y="181"/>
                  <a:pt x="318" y="179"/>
                  <a:pt x="389" y="171"/>
                </a:cubicBezTo>
                <a:cubicBezTo>
                  <a:pt x="497" y="145"/>
                  <a:pt x="590" y="136"/>
                  <a:pt x="703" y="127"/>
                </a:cubicBezTo>
                <a:cubicBezTo>
                  <a:pt x="822" y="132"/>
                  <a:pt x="947" y="129"/>
                  <a:pt x="1062" y="164"/>
                </a:cubicBezTo>
                <a:cubicBezTo>
                  <a:pt x="1085" y="202"/>
                  <a:pt x="1114" y="261"/>
                  <a:pt x="1144" y="291"/>
                </a:cubicBezTo>
                <a:cubicBezTo>
                  <a:pt x="1165" y="344"/>
                  <a:pt x="1177" y="396"/>
                  <a:pt x="1212" y="441"/>
                </a:cubicBezTo>
                <a:cubicBezTo>
                  <a:pt x="1221" y="478"/>
                  <a:pt x="1235" y="505"/>
                  <a:pt x="1271" y="523"/>
                </a:cubicBezTo>
                <a:cubicBezTo>
                  <a:pt x="1295" y="535"/>
                  <a:pt x="1346" y="553"/>
                  <a:pt x="1346" y="553"/>
                </a:cubicBezTo>
                <a:cubicBezTo>
                  <a:pt x="1471" y="530"/>
                  <a:pt x="1394" y="548"/>
                  <a:pt x="1466" y="501"/>
                </a:cubicBezTo>
                <a:cubicBezTo>
                  <a:pt x="1516" y="424"/>
                  <a:pt x="1605" y="391"/>
                  <a:pt x="1653" y="314"/>
                </a:cubicBezTo>
                <a:cubicBezTo>
                  <a:pt x="1677" y="234"/>
                  <a:pt x="1617" y="211"/>
                  <a:pt x="1556" y="186"/>
                </a:cubicBezTo>
                <a:cubicBezTo>
                  <a:pt x="1489" y="158"/>
                  <a:pt x="1426" y="137"/>
                  <a:pt x="1354" y="127"/>
                </a:cubicBezTo>
                <a:cubicBezTo>
                  <a:pt x="1222" y="142"/>
                  <a:pt x="1123" y="144"/>
                  <a:pt x="1084" y="291"/>
                </a:cubicBezTo>
                <a:cubicBezTo>
                  <a:pt x="1087" y="343"/>
                  <a:pt x="1086" y="396"/>
                  <a:pt x="1092" y="448"/>
                </a:cubicBezTo>
                <a:cubicBezTo>
                  <a:pt x="1098" y="502"/>
                  <a:pt x="1173" y="581"/>
                  <a:pt x="1197" y="613"/>
                </a:cubicBezTo>
                <a:cubicBezTo>
                  <a:pt x="1271" y="711"/>
                  <a:pt x="1445" y="804"/>
                  <a:pt x="1563" y="830"/>
                </a:cubicBezTo>
                <a:cubicBezTo>
                  <a:pt x="1602" y="855"/>
                  <a:pt x="1590" y="882"/>
                  <a:pt x="1615" y="920"/>
                </a:cubicBezTo>
                <a:cubicBezTo>
                  <a:pt x="1632" y="998"/>
                  <a:pt x="1620" y="967"/>
                  <a:pt x="1645" y="1017"/>
                </a:cubicBezTo>
                <a:cubicBezTo>
                  <a:pt x="1659" y="1080"/>
                  <a:pt x="1675" y="1142"/>
                  <a:pt x="1690" y="1204"/>
                </a:cubicBezTo>
                <a:cubicBezTo>
                  <a:pt x="1686" y="1273"/>
                  <a:pt x="1692" y="1346"/>
                  <a:pt x="1653" y="1406"/>
                </a:cubicBezTo>
                <a:cubicBezTo>
                  <a:pt x="1645" y="1456"/>
                  <a:pt x="1630" y="1540"/>
                  <a:pt x="1586" y="1570"/>
                </a:cubicBezTo>
                <a:cubicBezTo>
                  <a:pt x="1460" y="1560"/>
                  <a:pt x="1348" y="1549"/>
                  <a:pt x="1226" y="1525"/>
                </a:cubicBezTo>
                <a:cubicBezTo>
                  <a:pt x="1179" y="1489"/>
                  <a:pt x="1174" y="1484"/>
                  <a:pt x="1159" y="1428"/>
                </a:cubicBezTo>
                <a:cubicBezTo>
                  <a:pt x="1273" y="1362"/>
                  <a:pt x="1419" y="1356"/>
                  <a:pt x="1548" y="1346"/>
                </a:cubicBezTo>
                <a:cubicBezTo>
                  <a:pt x="1634" y="1327"/>
                  <a:pt x="1713" y="1321"/>
                  <a:pt x="1802" y="1316"/>
                </a:cubicBezTo>
                <a:cubicBezTo>
                  <a:pt x="1917" y="1321"/>
                  <a:pt x="1985" y="1293"/>
                  <a:pt x="2034" y="1391"/>
                </a:cubicBezTo>
                <a:cubicBezTo>
                  <a:pt x="2023" y="1506"/>
                  <a:pt x="1976" y="1612"/>
                  <a:pt x="1937" y="1720"/>
                </a:cubicBezTo>
                <a:cubicBezTo>
                  <a:pt x="1866" y="1705"/>
                  <a:pt x="1879" y="1683"/>
                  <a:pt x="1855" y="1623"/>
                </a:cubicBezTo>
                <a:cubicBezTo>
                  <a:pt x="1824" y="1329"/>
                  <a:pt x="1892" y="1028"/>
                  <a:pt x="1825" y="740"/>
                </a:cubicBezTo>
                <a:cubicBezTo>
                  <a:pt x="1734" y="761"/>
                  <a:pt x="1642" y="818"/>
                  <a:pt x="1563" y="867"/>
                </a:cubicBezTo>
                <a:cubicBezTo>
                  <a:pt x="1535" y="884"/>
                  <a:pt x="1511" y="908"/>
                  <a:pt x="1481" y="920"/>
                </a:cubicBezTo>
                <a:cubicBezTo>
                  <a:pt x="1423" y="943"/>
                  <a:pt x="1368" y="980"/>
                  <a:pt x="1324" y="1024"/>
                </a:cubicBezTo>
                <a:cubicBezTo>
                  <a:pt x="1294" y="1110"/>
                  <a:pt x="1346" y="1177"/>
                  <a:pt x="1391" y="1241"/>
                </a:cubicBezTo>
                <a:cubicBezTo>
                  <a:pt x="1443" y="1315"/>
                  <a:pt x="1367" y="1231"/>
                  <a:pt x="1428" y="1294"/>
                </a:cubicBezTo>
                <a:cubicBezTo>
                  <a:pt x="1483" y="1446"/>
                  <a:pt x="1332" y="1598"/>
                  <a:pt x="1212" y="1660"/>
                </a:cubicBezTo>
                <a:cubicBezTo>
                  <a:pt x="1066" y="1652"/>
                  <a:pt x="924" y="1623"/>
                  <a:pt x="778" y="1608"/>
                </a:cubicBezTo>
                <a:cubicBezTo>
                  <a:pt x="743" y="1601"/>
                  <a:pt x="708" y="1594"/>
                  <a:pt x="673" y="1585"/>
                </a:cubicBezTo>
                <a:cubicBezTo>
                  <a:pt x="634" y="1560"/>
                  <a:pt x="629" y="1578"/>
                  <a:pt x="606" y="1533"/>
                </a:cubicBezTo>
                <a:cubicBezTo>
                  <a:pt x="608" y="1511"/>
                  <a:pt x="599" y="1483"/>
                  <a:pt x="613" y="1466"/>
                </a:cubicBezTo>
                <a:cubicBezTo>
                  <a:pt x="667" y="1400"/>
                  <a:pt x="778" y="1386"/>
                  <a:pt x="852" y="1361"/>
                </a:cubicBezTo>
                <a:cubicBezTo>
                  <a:pt x="878" y="1352"/>
                  <a:pt x="900" y="1335"/>
                  <a:pt x="927" y="1331"/>
                </a:cubicBezTo>
                <a:cubicBezTo>
                  <a:pt x="984" y="1322"/>
                  <a:pt x="1042" y="1326"/>
                  <a:pt x="1099" y="1323"/>
                </a:cubicBezTo>
                <a:cubicBezTo>
                  <a:pt x="1178" y="1349"/>
                  <a:pt x="1163" y="1363"/>
                  <a:pt x="1152" y="1458"/>
                </a:cubicBezTo>
                <a:cubicBezTo>
                  <a:pt x="1151" y="1468"/>
                  <a:pt x="1149" y="1479"/>
                  <a:pt x="1144" y="1488"/>
                </a:cubicBezTo>
                <a:cubicBezTo>
                  <a:pt x="1087" y="1590"/>
                  <a:pt x="981" y="1660"/>
                  <a:pt x="867" y="1675"/>
                </a:cubicBezTo>
                <a:cubicBezTo>
                  <a:pt x="799" y="1698"/>
                  <a:pt x="735" y="1684"/>
                  <a:pt x="665" y="1668"/>
                </a:cubicBezTo>
                <a:cubicBezTo>
                  <a:pt x="646" y="1658"/>
                  <a:pt x="624" y="1655"/>
                  <a:pt x="606" y="1645"/>
                </a:cubicBezTo>
                <a:cubicBezTo>
                  <a:pt x="573" y="1627"/>
                  <a:pt x="547" y="1591"/>
                  <a:pt x="516" y="1570"/>
                </a:cubicBezTo>
                <a:cubicBezTo>
                  <a:pt x="488" y="1529"/>
                  <a:pt x="462" y="1458"/>
                  <a:pt x="516" y="1421"/>
                </a:cubicBezTo>
                <a:cubicBezTo>
                  <a:pt x="532" y="1410"/>
                  <a:pt x="551" y="1406"/>
                  <a:pt x="568" y="1398"/>
                </a:cubicBezTo>
                <a:cubicBezTo>
                  <a:pt x="670" y="1405"/>
                  <a:pt x="736" y="1409"/>
                  <a:pt x="808" y="1481"/>
                </a:cubicBezTo>
                <a:cubicBezTo>
                  <a:pt x="791" y="1547"/>
                  <a:pt x="796" y="1555"/>
                  <a:pt x="770" y="1600"/>
                </a:cubicBezTo>
                <a:cubicBezTo>
                  <a:pt x="724" y="1681"/>
                  <a:pt x="600" y="1738"/>
                  <a:pt x="516" y="1772"/>
                </a:cubicBezTo>
                <a:cubicBezTo>
                  <a:pt x="456" y="1758"/>
                  <a:pt x="421" y="1718"/>
                  <a:pt x="366" y="1698"/>
                </a:cubicBezTo>
                <a:cubicBezTo>
                  <a:pt x="346" y="1671"/>
                  <a:pt x="341" y="1649"/>
                  <a:pt x="314" y="1630"/>
                </a:cubicBezTo>
                <a:cubicBezTo>
                  <a:pt x="305" y="1589"/>
                  <a:pt x="288" y="1559"/>
                  <a:pt x="276" y="1518"/>
                </a:cubicBezTo>
                <a:cubicBezTo>
                  <a:pt x="279" y="1481"/>
                  <a:pt x="269" y="1440"/>
                  <a:pt x="284" y="1406"/>
                </a:cubicBezTo>
                <a:cubicBezTo>
                  <a:pt x="310" y="1349"/>
                  <a:pt x="357" y="1352"/>
                  <a:pt x="404" y="1346"/>
                </a:cubicBezTo>
                <a:cubicBezTo>
                  <a:pt x="598" y="1373"/>
                  <a:pt x="522" y="1337"/>
                  <a:pt x="598" y="1413"/>
                </a:cubicBezTo>
                <a:cubicBezTo>
                  <a:pt x="595" y="1466"/>
                  <a:pt x="616" y="1551"/>
                  <a:pt x="553" y="1570"/>
                </a:cubicBezTo>
                <a:cubicBezTo>
                  <a:pt x="515" y="1608"/>
                  <a:pt x="533" y="1599"/>
                  <a:pt x="478" y="1615"/>
                </a:cubicBezTo>
                <a:cubicBezTo>
                  <a:pt x="459" y="1621"/>
                  <a:pt x="419" y="1630"/>
                  <a:pt x="419" y="1630"/>
                </a:cubicBezTo>
                <a:cubicBezTo>
                  <a:pt x="320" y="1621"/>
                  <a:pt x="222" y="1589"/>
                  <a:pt x="164" y="1503"/>
                </a:cubicBezTo>
                <a:cubicBezTo>
                  <a:pt x="154" y="1461"/>
                  <a:pt x="138" y="1425"/>
                  <a:pt x="127" y="1383"/>
                </a:cubicBezTo>
                <a:cubicBezTo>
                  <a:pt x="133" y="1330"/>
                  <a:pt x="138" y="1276"/>
                  <a:pt x="194" y="1256"/>
                </a:cubicBezTo>
                <a:cubicBezTo>
                  <a:pt x="225" y="1226"/>
                  <a:pt x="265" y="1211"/>
                  <a:pt x="306" y="1196"/>
                </a:cubicBezTo>
                <a:cubicBezTo>
                  <a:pt x="381" y="1245"/>
                  <a:pt x="355" y="1435"/>
                  <a:pt x="269" y="1466"/>
                </a:cubicBezTo>
                <a:cubicBezTo>
                  <a:pt x="259" y="1463"/>
                  <a:pt x="248" y="1464"/>
                  <a:pt x="239" y="1458"/>
                </a:cubicBezTo>
                <a:cubicBezTo>
                  <a:pt x="218" y="1444"/>
                  <a:pt x="178" y="1346"/>
                  <a:pt x="157" y="1316"/>
                </a:cubicBezTo>
                <a:cubicBezTo>
                  <a:pt x="147" y="1286"/>
                  <a:pt x="137" y="1256"/>
                  <a:pt x="127" y="1226"/>
                </a:cubicBezTo>
                <a:cubicBezTo>
                  <a:pt x="118" y="1200"/>
                  <a:pt x="112" y="1144"/>
                  <a:pt x="112" y="1144"/>
                </a:cubicBezTo>
                <a:cubicBezTo>
                  <a:pt x="114" y="1099"/>
                  <a:pt x="111" y="1053"/>
                  <a:pt x="119" y="1009"/>
                </a:cubicBezTo>
                <a:cubicBezTo>
                  <a:pt x="120" y="1004"/>
                  <a:pt x="155" y="937"/>
                  <a:pt x="164" y="920"/>
                </a:cubicBezTo>
                <a:cubicBezTo>
                  <a:pt x="194" y="861"/>
                  <a:pt x="211" y="809"/>
                  <a:pt x="232" y="747"/>
                </a:cubicBezTo>
                <a:cubicBezTo>
                  <a:pt x="226" y="681"/>
                  <a:pt x="226" y="622"/>
                  <a:pt x="179" y="575"/>
                </a:cubicBezTo>
                <a:cubicBezTo>
                  <a:pt x="168" y="517"/>
                  <a:pt x="138" y="486"/>
                  <a:pt x="104" y="441"/>
                </a:cubicBezTo>
                <a:cubicBezTo>
                  <a:pt x="83" y="413"/>
                  <a:pt x="71" y="385"/>
                  <a:pt x="45" y="359"/>
                </a:cubicBezTo>
                <a:cubicBezTo>
                  <a:pt x="32" y="323"/>
                  <a:pt x="12" y="291"/>
                  <a:pt x="0" y="254"/>
                </a:cubicBezTo>
                <a:cubicBezTo>
                  <a:pt x="2" y="244"/>
                  <a:pt x="1" y="233"/>
                  <a:pt x="7" y="224"/>
                </a:cubicBezTo>
                <a:cubicBezTo>
                  <a:pt x="27" y="193"/>
                  <a:pt x="154" y="189"/>
                  <a:pt x="179" y="186"/>
                </a:cubicBezTo>
                <a:cubicBezTo>
                  <a:pt x="224" y="189"/>
                  <a:pt x="269" y="190"/>
                  <a:pt x="314" y="194"/>
                </a:cubicBezTo>
                <a:cubicBezTo>
                  <a:pt x="367" y="199"/>
                  <a:pt x="472" y="285"/>
                  <a:pt x="508" y="321"/>
                </a:cubicBezTo>
                <a:cubicBezTo>
                  <a:pt x="511" y="329"/>
                  <a:pt x="517" y="336"/>
                  <a:pt x="516" y="344"/>
                </a:cubicBezTo>
                <a:cubicBezTo>
                  <a:pt x="512" y="367"/>
                  <a:pt x="495" y="368"/>
                  <a:pt x="478" y="373"/>
                </a:cubicBezTo>
                <a:cubicBezTo>
                  <a:pt x="443" y="383"/>
                  <a:pt x="413" y="394"/>
                  <a:pt x="381" y="411"/>
                </a:cubicBezTo>
                <a:lnTo>
                  <a:pt x="372" y="822"/>
                </a:lnTo>
                <a:lnTo>
                  <a:pt x="599" y="1184"/>
                </a:lnTo>
                <a:lnTo>
                  <a:pt x="554" y="1275"/>
                </a:lnTo>
                <a:cubicBezTo>
                  <a:pt x="1023" y="1217"/>
                  <a:pt x="795" y="1270"/>
                  <a:pt x="957" y="1211"/>
                </a:cubicBezTo>
                <a:cubicBezTo>
                  <a:pt x="985" y="1190"/>
                  <a:pt x="1006" y="1163"/>
                  <a:pt x="1039" y="1151"/>
                </a:cubicBezTo>
                <a:cubicBezTo>
                  <a:pt x="1094" y="1098"/>
                  <a:pt x="1084" y="1046"/>
                  <a:pt x="1084" y="972"/>
                </a:cubicBezTo>
                <a:cubicBezTo>
                  <a:pt x="1073" y="937"/>
                  <a:pt x="1071" y="898"/>
                  <a:pt x="1052" y="867"/>
                </a:cubicBezTo>
                <a:cubicBezTo>
                  <a:pt x="1047" y="859"/>
                  <a:pt x="1033" y="877"/>
                  <a:pt x="1024" y="875"/>
                </a:cubicBezTo>
                <a:cubicBezTo>
                  <a:pt x="995" y="868"/>
                  <a:pt x="971" y="845"/>
                  <a:pt x="942" y="837"/>
                </a:cubicBezTo>
                <a:cubicBezTo>
                  <a:pt x="839" y="808"/>
                  <a:pt x="738" y="774"/>
                  <a:pt x="636" y="740"/>
                </a:cubicBezTo>
                <a:cubicBezTo>
                  <a:pt x="505" y="697"/>
                  <a:pt x="612" y="746"/>
                  <a:pt x="463" y="665"/>
                </a:cubicBezTo>
                <a:cubicBezTo>
                  <a:pt x="451" y="659"/>
                  <a:pt x="426" y="650"/>
                  <a:pt x="426" y="650"/>
                </a:cubicBezTo>
                <a:cubicBezTo>
                  <a:pt x="423" y="632"/>
                  <a:pt x="412" y="613"/>
                  <a:pt x="417" y="595"/>
                </a:cubicBezTo>
                <a:cubicBezTo>
                  <a:pt x="426" y="565"/>
                  <a:pt x="473" y="567"/>
                  <a:pt x="501" y="553"/>
                </a:cubicBezTo>
                <a:cubicBezTo>
                  <a:pt x="594" y="507"/>
                  <a:pt x="690" y="482"/>
                  <a:pt x="785" y="441"/>
                </a:cubicBezTo>
                <a:cubicBezTo>
                  <a:pt x="813" y="429"/>
                  <a:pt x="839" y="413"/>
                  <a:pt x="867" y="403"/>
                </a:cubicBezTo>
                <a:cubicBezTo>
                  <a:pt x="889" y="395"/>
                  <a:pt x="935" y="388"/>
                  <a:pt x="935" y="388"/>
                </a:cubicBezTo>
                <a:cubicBezTo>
                  <a:pt x="1004" y="381"/>
                  <a:pt x="1074" y="363"/>
                  <a:pt x="1143" y="368"/>
                </a:cubicBezTo>
                <a:cubicBezTo>
                  <a:pt x="1155" y="369"/>
                  <a:pt x="1140" y="392"/>
                  <a:pt x="1144" y="403"/>
                </a:cubicBezTo>
                <a:cubicBezTo>
                  <a:pt x="1151" y="424"/>
                  <a:pt x="1160" y="445"/>
                  <a:pt x="1174" y="463"/>
                </a:cubicBezTo>
                <a:cubicBezTo>
                  <a:pt x="1198" y="495"/>
                  <a:pt x="1217" y="528"/>
                  <a:pt x="1241" y="560"/>
                </a:cubicBezTo>
                <a:cubicBezTo>
                  <a:pt x="1236" y="603"/>
                  <a:pt x="1233" y="646"/>
                  <a:pt x="1226" y="688"/>
                </a:cubicBezTo>
                <a:cubicBezTo>
                  <a:pt x="1224" y="701"/>
                  <a:pt x="1212" y="725"/>
                  <a:pt x="1212" y="725"/>
                </a:cubicBezTo>
                <a:cubicBezTo>
                  <a:pt x="1174" y="803"/>
                  <a:pt x="1154" y="892"/>
                  <a:pt x="1098" y="958"/>
                </a:cubicBezTo>
                <a:cubicBezTo>
                  <a:pt x="1075" y="985"/>
                  <a:pt x="1029" y="971"/>
                  <a:pt x="995" y="979"/>
                </a:cubicBezTo>
                <a:cubicBezTo>
                  <a:pt x="929" y="994"/>
                  <a:pt x="868" y="1003"/>
                  <a:pt x="800" y="1009"/>
                </a:cubicBezTo>
                <a:cubicBezTo>
                  <a:pt x="673" y="1037"/>
                  <a:pt x="572" y="1047"/>
                  <a:pt x="441" y="1047"/>
                </a:cubicBezTo>
                <a:cubicBezTo>
                  <a:pt x="427" y="1102"/>
                  <a:pt x="413" y="1139"/>
                  <a:pt x="396" y="1189"/>
                </a:cubicBezTo>
                <a:cubicBezTo>
                  <a:pt x="382" y="1291"/>
                  <a:pt x="399" y="1193"/>
                  <a:pt x="374" y="1286"/>
                </a:cubicBezTo>
                <a:cubicBezTo>
                  <a:pt x="371" y="1296"/>
                  <a:pt x="370" y="1307"/>
                  <a:pt x="366" y="1316"/>
                </a:cubicBezTo>
                <a:cubicBezTo>
                  <a:pt x="362" y="1324"/>
                  <a:pt x="351" y="1338"/>
                  <a:pt x="351" y="1338"/>
                </a:cubicBezTo>
                <a:lnTo>
                  <a:pt x="327" y="1547"/>
                </a:lnTo>
                <a:lnTo>
                  <a:pt x="236" y="1683"/>
                </a:lnTo>
                <a:cubicBezTo>
                  <a:pt x="221" y="1487"/>
                  <a:pt x="197" y="1291"/>
                  <a:pt x="191" y="1094"/>
                </a:cubicBezTo>
                <a:cubicBezTo>
                  <a:pt x="191" y="1082"/>
                  <a:pt x="211" y="1079"/>
                  <a:pt x="217" y="1069"/>
                </a:cubicBezTo>
                <a:cubicBezTo>
                  <a:pt x="222" y="1060"/>
                  <a:pt x="222" y="1049"/>
                  <a:pt x="224" y="1039"/>
                </a:cubicBezTo>
                <a:cubicBezTo>
                  <a:pt x="230" y="974"/>
                  <a:pt x="227" y="961"/>
                  <a:pt x="247" y="905"/>
                </a:cubicBezTo>
                <a:cubicBezTo>
                  <a:pt x="255" y="882"/>
                  <a:pt x="266" y="859"/>
                  <a:pt x="276" y="837"/>
                </a:cubicBezTo>
                <a:cubicBezTo>
                  <a:pt x="283" y="822"/>
                  <a:pt x="299" y="792"/>
                  <a:pt x="299" y="792"/>
                </a:cubicBezTo>
                <a:cubicBezTo>
                  <a:pt x="323" y="757"/>
                  <a:pt x="339" y="713"/>
                  <a:pt x="372" y="686"/>
                </a:cubicBezTo>
                <a:cubicBezTo>
                  <a:pt x="395" y="668"/>
                  <a:pt x="481" y="698"/>
                  <a:pt x="508" y="703"/>
                </a:cubicBezTo>
                <a:cubicBezTo>
                  <a:pt x="684" y="735"/>
                  <a:pt x="869" y="740"/>
                  <a:pt x="1047" y="740"/>
                </a:cubicBezTo>
                <a:lnTo>
                  <a:pt x="1143" y="1139"/>
                </a:lnTo>
                <a:lnTo>
                  <a:pt x="1370" y="1638"/>
                </a:lnTo>
                <a:cubicBezTo>
                  <a:pt x="1448" y="1664"/>
                  <a:pt x="1524" y="1689"/>
                  <a:pt x="1600" y="1720"/>
                </a:cubicBezTo>
                <a:cubicBezTo>
                  <a:pt x="1654" y="1716"/>
                  <a:pt x="1709" y="1721"/>
                  <a:pt x="1758" y="1698"/>
                </a:cubicBezTo>
                <a:lnTo>
                  <a:pt x="1869" y="1593"/>
                </a:lnTo>
                <a:cubicBezTo>
                  <a:pt x="1884" y="1578"/>
                  <a:pt x="1907" y="1567"/>
                  <a:pt x="1914" y="1547"/>
                </a:cubicBezTo>
                <a:cubicBezTo>
                  <a:pt x="1919" y="1532"/>
                  <a:pt x="1902" y="1518"/>
                  <a:pt x="1900" y="1503"/>
                </a:cubicBezTo>
                <a:cubicBezTo>
                  <a:pt x="1889" y="1399"/>
                  <a:pt x="1889" y="1293"/>
                  <a:pt x="1877" y="1189"/>
                </a:cubicBezTo>
                <a:cubicBezTo>
                  <a:pt x="1874" y="1166"/>
                  <a:pt x="1861" y="1145"/>
                  <a:pt x="1855" y="1122"/>
                </a:cubicBezTo>
                <a:cubicBezTo>
                  <a:pt x="1849" y="1100"/>
                  <a:pt x="1840" y="1054"/>
                  <a:pt x="1840" y="1054"/>
                </a:cubicBezTo>
                <a:cubicBezTo>
                  <a:pt x="1834" y="979"/>
                  <a:pt x="1816" y="905"/>
                  <a:pt x="1817" y="830"/>
                </a:cubicBezTo>
                <a:cubicBezTo>
                  <a:pt x="1818" y="784"/>
                  <a:pt x="1870" y="728"/>
                  <a:pt x="1892" y="688"/>
                </a:cubicBezTo>
                <a:cubicBezTo>
                  <a:pt x="1926" y="626"/>
                  <a:pt x="1906" y="662"/>
                  <a:pt x="1930" y="598"/>
                </a:cubicBezTo>
                <a:cubicBezTo>
                  <a:pt x="1939" y="573"/>
                  <a:pt x="1960" y="523"/>
                  <a:pt x="1960" y="523"/>
                </a:cubicBezTo>
                <a:lnTo>
                  <a:pt x="1960" y="232"/>
                </a:lnTo>
                <a:cubicBezTo>
                  <a:pt x="1930" y="202"/>
                  <a:pt x="1903" y="167"/>
                  <a:pt x="1869" y="141"/>
                </a:cubicBezTo>
                <a:cubicBezTo>
                  <a:pt x="1852" y="128"/>
                  <a:pt x="1793" y="159"/>
                  <a:pt x="1780" y="164"/>
                </a:cubicBezTo>
                <a:cubicBezTo>
                  <a:pt x="1668" y="204"/>
                  <a:pt x="1609" y="201"/>
                  <a:pt x="1481" y="201"/>
                </a:cubicBezTo>
                <a:cubicBezTo>
                  <a:pt x="1444" y="257"/>
                  <a:pt x="1396" y="306"/>
                  <a:pt x="1370" y="368"/>
                </a:cubicBezTo>
                <a:cubicBezTo>
                  <a:pt x="1347" y="423"/>
                  <a:pt x="1440" y="444"/>
                  <a:pt x="1466" y="448"/>
                </a:cubicBezTo>
                <a:cubicBezTo>
                  <a:pt x="1582" y="487"/>
                  <a:pt x="1687" y="516"/>
                  <a:pt x="1810" y="516"/>
                </a:cubicBezTo>
                <a:lnTo>
                  <a:pt x="1869" y="640"/>
                </a:lnTo>
                <a:cubicBezTo>
                  <a:pt x="1543" y="780"/>
                  <a:pt x="1542" y="800"/>
                  <a:pt x="1219" y="807"/>
                </a:cubicBezTo>
                <a:cubicBezTo>
                  <a:pt x="1187" y="808"/>
                  <a:pt x="1154" y="807"/>
                  <a:pt x="1122" y="807"/>
                </a:cubicBezTo>
                <a:lnTo>
                  <a:pt x="1007" y="1048"/>
                </a:lnTo>
                <a:cubicBezTo>
                  <a:pt x="1068" y="1109"/>
                  <a:pt x="1134" y="1164"/>
                  <a:pt x="1189" y="1230"/>
                </a:cubicBezTo>
                <a:cubicBezTo>
                  <a:pt x="1224" y="1272"/>
                  <a:pt x="1112" y="1230"/>
                  <a:pt x="1197" y="1256"/>
                </a:cubicBezTo>
                <a:cubicBezTo>
                  <a:pt x="1217" y="1254"/>
                  <a:pt x="1285" y="1254"/>
                  <a:pt x="1316" y="1241"/>
                </a:cubicBezTo>
                <a:cubicBezTo>
                  <a:pt x="1339" y="1231"/>
                  <a:pt x="1384" y="1211"/>
                  <a:pt x="1384" y="1211"/>
                </a:cubicBezTo>
                <a:cubicBezTo>
                  <a:pt x="1424" y="1155"/>
                  <a:pt x="1421" y="1180"/>
                  <a:pt x="1421" y="1144"/>
                </a:cubicBezTo>
                <a:cubicBezTo>
                  <a:pt x="1419" y="1112"/>
                  <a:pt x="1424" y="1079"/>
                  <a:pt x="1415" y="1048"/>
                </a:cubicBezTo>
                <a:cubicBezTo>
                  <a:pt x="1413" y="1040"/>
                  <a:pt x="1399" y="1042"/>
                  <a:pt x="1391" y="1039"/>
                </a:cubicBezTo>
                <a:cubicBezTo>
                  <a:pt x="1381" y="1034"/>
                  <a:pt x="1370" y="1030"/>
                  <a:pt x="1361" y="1024"/>
                </a:cubicBezTo>
                <a:cubicBezTo>
                  <a:pt x="1288" y="978"/>
                  <a:pt x="1335" y="994"/>
                  <a:pt x="1264" y="972"/>
                </a:cubicBezTo>
                <a:cubicBezTo>
                  <a:pt x="1254" y="969"/>
                  <a:pt x="1234" y="964"/>
                  <a:pt x="1234" y="964"/>
                </a:cubicBezTo>
                <a:cubicBezTo>
                  <a:pt x="1173" y="962"/>
                  <a:pt x="1112" y="968"/>
                  <a:pt x="1052" y="958"/>
                </a:cubicBezTo>
                <a:cubicBezTo>
                  <a:pt x="1044" y="957"/>
                  <a:pt x="1060" y="940"/>
                  <a:pt x="1054" y="935"/>
                </a:cubicBezTo>
                <a:cubicBezTo>
                  <a:pt x="1045" y="927"/>
                  <a:pt x="1029" y="930"/>
                  <a:pt x="1017" y="927"/>
                </a:cubicBezTo>
                <a:cubicBezTo>
                  <a:pt x="928" y="874"/>
                  <a:pt x="808" y="862"/>
                  <a:pt x="710" y="845"/>
                </a:cubicBezTo>
                <a:cubicBezTo>
                  <a:pt x="680" y="840"/>
                  <a:pt x="621" y="830"/>
                  <a:pt x="621" y="830"/>
                </a:cubicBezTo>
                <a:lnTo>
                  <a:pt x="508" y="822"/>
                </a:lnTo>
                <a:cubicBezTo>
                  <a:pt x="614" y="792"/>
                  <a:pt x="722" y="769"/>
                  <a:pt x="826" y="731"/>
                </a:cubicBezTo>
                <a:cubicBezTo>
                  <a:pt x="835" y="728"/>
                  <a:pt x="832" y="712"/>
                  <a:pt x="837" y="703"/>
                </a:cubicBezTo>
                <a:cubicBezTo>
                  <a:pt x="854" y="674"/>
                  <a:pt x="857" y="675"/>
                  <a:pt x="882" y="658"/>
                </a:cubicBezTo>
                <a:cubicBezTo>
                  <a:pt x="915" y="607"/>
                  <a:pt x="953" y="559"/>
                  <a:pt x="987" y="508"/>
                </a:cubicBezTo>
                <a:cubicBezTo>
                  <a:pt x="999" y="490"/>
                  <a:pt x="1012" y="473"/>
                  <a:pt x="1024" y="456"/>
                </a:cubicBezTo>
                <a:cubicBezTo>
                  <a:pt x="1032" y="444"/>
                  <a:pt x="1054" y="426"/>
                  <a:pt x="1054" y="426"/>
                </a:cubicBezTo>
                <a:lnTo>
                  <a:pt x="1189" y="277"/>
                </a:lnTo>
                <a:lnTo>
                  <a:pt x="1415" y="141"/>
                </a:lnTo>
                <a:cubicBezTo>
                  <a:pt x="1430" y="126"/>
                  <a:pt x="1449" y="114"/>
                  <a:pt x="1461" y="96"/>
                </a:cubicBezTo>
                <a:cubicBezTo>
                  <a:pt x="1481" y="65"/>
                  <a:pt x="1406" y="60"/>
                  <a:pt x="1399" y="59"/>
                </a:cubicBezTo>
                <a:cubicBezTo>
                  <a:pt x="1339" y="55"/>
                  <a:pt x="1279" y="54"/>
                  <a:pt x="1219" y="52"/>
                </a:cubicBezTo>
                <a:cubicBezTo>
                  <a:pt x="1103" y="29"/>
                  <a:pt x="993" y="22"/>
                  <a:pt x="875" y="22"/>
                </a:cubicBezTo>
                <a:cubicBezTo>
                  <a:pt x="584" y="108"/>
                  <a:pt x="892" y="41"/>
                  <a:pt x="740" y="29"/>
                </a:cubicBezTo>
                <a:cubicBezTo>
                  <a:pt x="601" y="18"/>
                  <a:pt x="321" y="14"/>
                  <a:pt x="321" y="14"/>
                </a:cubicBezTo>
                <a:cubicBezTo>
                  <a:pt x="278" y="11"/>
                  <a:pt x="234" y="0"/>
                  <a:pt x="191" y="5"/>
                </a:cubicBezTo>
                <a:cubicBezTo>
                  <a:pt x="183" y="6"/>
                  <a:pt x="191" y="22"/>
                  <a:pt x="187" y="29"/>
                </a:cubicBezTo>
                <a:cubicBezTo>
                  <a:pt x="181" y="40"/>
                  <a:pt x="170" y="48"/>
                  <a:pt x="164" y="59"/>
                </a:cubicBezTo>
                <a:cubicBezTo>
                  <a:pt x="131" y="118"/>
                  <a:pt x="104" y="210"/>
                  <a:pt x="104" y="276"/>
                </a:cubicBezTo>
                <a:cubicBezTo>
                  <a:pt x="196" y="435"/>
                  <a:pt x="270" y="597"/>
                  <a:pt x="448" y="665"/>
                </a:cubicBezTo>
                <a:cubicBezTo>
                  <a:pt x="511" y="689"/>
                  <a:pt x="598" y="701"/>
                  <a:pt x="665" y="710"/>
                </a:cubicBezTo>
                <a:cubicBezTo>
                  <a:pt x="707" y="715"/>
                  <a:pt x="793" y="718"/>
                  <a:pt x="793" y="718"/>
                </a:cubicBezTo>
                <a:cubicBezTo>
                  <a:pt x="849" y="768"/>
                  <a:pt x="915" y="809"/>
                  <a:pt x="962" y="867"/>
                </a:cubicBezTo>
                <a:cubicBezTo>
                  <a:pt x="971" y="878"/>
                  <a:pt x="933" y="868"/>
                  <a:pt x="920" y="875"/>
                </a:cubicBezTo>
                <a:cubicBezTo>
                  <a:pt x="912" y="879"/>
                  <a:pt x="912" y="892"/>
                  <a:pt x="905" y="897"/>
                </a:cubicBezTo>
                <a:cubicBezTo>
                  <a:pt x="883" y="912"/>
                  <a:pt x="834" y="926"/>
                  <a:pt x="808" y="935"/>
                </a:cubicBezTo>
                <a:cubicBezTo>
                  <a:pt x="689" y="977"/>
                  <a:pt x="558" y="972"/>
                  <a:pt x="434" y="972"/>
                </a:cubicBezTo>
                <a:lnTo>
                  <a:pt x="554" y="1094"/>
                </a:lnTo>
                <a:lnTo>
                  <a:pt x="1143" y="1139"/>
                </a:lnTo>
              </a:path>
            </a:pathLst>
          </a:custGeom>
          <a:solidFill>
            <a:srgbClr val="000000"/>
          </a:solidFill>
          <a:ln w="9360">
            <a:solidFill>
              <a:srgbClr val="bcd4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B1A-363D-444E-AAFF-04A365D2DC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4" descr="Рисунок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6D46-6B80-4DD5-9D33-BC49E94A2E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10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7093080" cy="6562800"/>
          </a:xfrm>
          <a:prstGeom prst="rect">
            <a:avLst/>
          </a:prstGeom>
          <a:ln w="0">
            <a:noFill/>
          </a:ln>
        </p:spPr>
      </p:pic>
      <p:sp>
        <p:nvSpPr>
          <p:cNvPr id="1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4876-ADDB-4B48-990B-C83AECCFC8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0" y="333360"/>
            <a:ext cx="9144000" cy="5686560"/>
          </a:xfrm>
          <a:prstGeom prst="flowChartAlternateProcess">
            <a:avLst/>
          </a:prstGeom>
          <a:solidFill>
            <a:srgbClr val="abf98f"/>
          </a:solidFill>
          <a:ln w="1494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Вони були дуже щасливі, як добралися дод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Адже саме добро - це все, що слугує житт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а зло-все,що слугує смерті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Недарма так говорять люди,тому щ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добро-завжди перемагає зл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Так само в казці «Снігова Королева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5D21-1D7B-4788-B42C-CA8E77A720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ам </a:t>
            </a: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народжуються казки… Данія – батьківщина відомого письменника Ганса Хрістіана Андерсена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. Його казки розкрили історію, культуру та традиції країни.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 У Данії майже все пройняте духом  чарів – королівські палаци, маленькі кольорові будинки, канали та вулички, парки розваг і пам'ятники героям казок, які оживають уночі  і живуть своїм казковим життям.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 це щиро вірять  жителі найменьшого королівства  у Європі, розташованого на 406 остров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HomeUSER\Мои документы\Мои рисунки\Снежная королева\img466.jpg"/>
          <p:cNvPicPr/>
          <p:nvPr/>
        </p:nvPicPr>
        <p:blipFill>
          <a:blip r:embed="rId2"/>
          <a:srcRect l="0" t="0" r="55" b="-32"/>
          <a:stretch/>
        </p:blipFill>
        <p:spPr>
          <a:xfrm>
            <a:off x="500040" y="3000240"/>
            <a:ext cx="3087720" cy="314352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F58-8D3E-4916-ABC9-66D6FF0ED9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00320" y="642600"/>
            <a:ext cx="468612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День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родженн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Г.Х. Андерсена - 2 </a:t>
            </a: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квітн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(1805-1875)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 1967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року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чали святкувати  цей день як  міжнародний день дитячої книг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3714840" cy="492912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8A40-03F9-4863-A0D6-37D7C9047A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2880" y="285840"/>
            <a:ext cx="45975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1956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оці була заснована міжнародна премія імені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Г.Х. Андерсена,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яку часто називають «Малою нобелівською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мією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3857760"/>
            <a:ext cx="799308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рисуджується вона раз на два рок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Спочатку премія Андерсена присуджувалас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тільки автору найкращої дитячої книги, а з 1966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оку її присуджують ще й і найкращому художнику-ілюстратору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7" descr="Nochnaya_ulitsa"/>
          <p:cNvPicPr/>
          <p:nvPr/>
        </p:nvPicPr>
        <p:blipFill>
          <a:blip r:embed="rId1"/>
          <a:stretch/>
        </p:blipFill>
        <p:spPr>
          <a:xfrm>
            <a:off x="500040" y="285840"/>
            <a:ext cx="3616200" cy="350028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17D-BE13-48A7-98A0-AA1EB5C25C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05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я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Г.Х. Андерсена 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олота медаль,  якою нагороджуються найкращі в світі  дитячі письменники  і художники-ілюстратори дитячих книжок. Отримати цю медаль  така ж велика шана, як і  отримати Нобелівську премі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9" descr="Медаль Андерсена"/>
          <p:cNvPicPr/>
          <p:nvPr/>
        </p:nvPicPr>
        <p:blipFill>
          <a:blip r:embed="rId1"/>
          <a:stretch/>
        </p:blipFill>
        <p:spPr>
          <a:xfrm>
            <a:off x="3203640" y="4076640"/>
            <a:ext cx="2520720" cy="2486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8710560" y="6021360"/>
            <a:ext cx="4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430C-E591-473E-9821-D56F67FBED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ам'ятник Русалоньц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000320" y="1143000"/>
            <a:ext cx="4686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Є однією з головних  п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то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анії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віть у Криму на березі Чорного моря встановили  копію цього памятника – так всім сподобалась  героїня Андерсен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C:\Documents and Settings\HomeUSER\Мои документы\Мои рисунки\Анимация-картинки\Арт гиф анимация - анимированные Gif картинки.files\6499019.gif"/>
          <p:cNvPicPr/>
          <p:nvPr/>
        </p:nvPicPr>
        <p:blipFill>
          <a:blip r:embed="rId2"/>
          <a:stretch/>
        </p:blipFill>
        <p:spPr>
          <a:xfrm>
            <a:off x="6588000" y="4653000"/>
            <a:ext cx="1428840" cy="185724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2E15-5476-4C25-9A75-A70734DFCF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0" b="21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5960" y="5367240"/>
            <a:ext cx="54928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Пам'ятник Дюймовочці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998-D93E-4F10-9128-4E207F5C80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071720" y="15717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Жив собі принц і прийшов йому час одружитися. Він хотів взяти собі за дружину неодмінно принцесу, да не яку-небудь, а справжню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571920" y="471492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Жила на світі одна жіночка. Вона не мала дітей. А йї дуже хотілося дитину. Ось пішла вона до старої ворож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chb_1"/>
          <p:cNvPicPr/>
          <p:nvPr/>
        </p:nvPicPr>
        <p:blipFill>
          <a:blip r:embed="rId1"/>
          <a:stretch/>
        </p:blipFill>
        <p:spPr>
          <a:xfrm>
            <a:off x="6792840" y="285840"/>
            <a:ext cx="2351160" cy="417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785880" y="3214800"/>
            <a:ext cx="2428920" cy="335736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64B5-20D8-41BD-B2DA-60A211C832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чка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  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яйце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мрія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леб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дь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5EF-4BB8-4F9E-AE65-81905A86CF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25:34Z</dcterms:created>
  <dc:creator>WIN7XP</dc:creator>
  <dc:description/>
  <dc:language>en-US</dc:language>
  <cp:lastModifiedBy>ruslan</cp:lastModifiedBy>
  <dcterms:modified xsi:type="dcterms:W3CDTF">2014-02-28T08:41:19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13000000000001024140</vt:lpwstr>
  </property>
</Properties>
</file>