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3318-AC26-4F9F-A46E-47F27D914D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5A7E-0843-42DD-85D9-13DEC675E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C68-9D79-4D72-9DF1-64D9D9DB73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CA2C-A84F-4DE3-AE9C-A9BE318FBF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2190-3085-4CEE-B017-DF44666A2E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A50C-1F7D-4D89-8CE2-CD332AD34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2505-005F-4BF7-8B67-8558BABAA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17D-503B-4319-B196-B8E05134D2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5400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2516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1040" y="10526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7892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2516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8054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4360" y="39110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360" y="1052640"/>
            <a:ext cx="42523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3911040"/>
            <a:ext cx="8713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Japan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Japan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Japan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Japan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Japan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Japan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commons/a/a7/Tea_ceremony_performing_2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92360" y="1447920"/>
            <a:ext cx="540072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НАТХНЕННЯ В</a:t>
            </a:r>
            <a:r>
              <a:rPr b="0" lang="uk-UA" sz="4400" spc="-1" strike="noStrike">
                <a:solidFill>
                  <a:srgbClr val="800000"/>
                </a:solidFill>
                <a:latin typeface="Arial"/>
              </a:rPr>
              <a:t>ІЧНОЮ КРАСОЮ</a:t>
            </a:r>
            <a:br>
              <a:rPr sz="4400"/>
            </a:br>
            <a:r>
              <a:rPr b="0" lang="uk-UA" sz="4400" spc="-1" strike="noStrike">
                <a:solidFill>
                  <a:srgbClr val="800000"/>
                </a:solidFill>
                <a:latin typeface="Arial"/>
              </a:rPr>
              <a:t>ТВОРЧІСТЬ</a:t>
            </a:r>
            <a:br>
              <a:rPr sz="4400"/>
            </a:br>
            <a:r>
              <a:rPr b="0" lang="uk-UA" sz="4400" spc="-1" strike="noStrike">
                <a:solidFill>
                  <a:srgbClr val="800000"/>
                </a:solidFill>
                <a:latin typeface="Arial"/>
              </a:rPr>
              <a:t>МАЦУО БАСЬО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34920" y="659124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92360" y="1523880"/>
            <a:ext cx="5400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ХОКУ (ХАЙКУ) – 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трирядковий неримований вірш 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(“ початкова фраза ”)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17 рядків діляться на </a:t>
            </a:r>
            <a:br>
              <a:rPr sz="2800"/>
            </a:br>
            <a:r>
              <a:rPr b="0" lang="uk-UA" sz="2800" spc="-1" strike="noStrike">
                <a:solidFill>
                  <a:srgbClr val="800000"/>
                </a:solidFill>
                <a:latin typeface="Arial"/>
              </a:rPr>
              <a:t>3 ритмічних відрізки: 5 – 7 - 5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634920" y="659124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8640" y="1915920"/>
            <a:ext cx="5715000" cy="44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00"/>
                </a:solidFill>
                <a:latin typeface="Arial"/>
              </a:rPr>
              <a:t>Старий ставок.</a:t>
            </a:r>
            <a:br>
              <a:rPr sz="4800"/>
            </a:br>
            <a:r>
              <a:rPr b="1" lang="uk-UA" sz="4800" spc="-1" strike="noStrike">
                <a:solidFill>
                  <a:srgbClr val="800000"/>
                </a:solidFill>
                <a:latin typeface="Arial"/>
              </a:rPr>
              <a:t>Жабка стрибне -</a:t>
            </a:r>
            <a:br>
              <a:rPr sz="4800"/>
            </a:br>
            <a:r>
              <a:rPr b="1" lang="uk-UA" sz="4800" spc="-1" strike="noStrike">
                <a:solidFill>
                  <a:srgbClr val="800000"/>
                </a:solidFill>
                <a:latin typeface="Arial"/>
              </a:rPr>
              <a:t>Сплеск пролунає.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34920" y="524808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42840" y="1371600"/>
            <a:ext cx="614988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Степу рівнина - </a:t>
            </a:r>
            <a:br>
              <a:rPr sz="4400"/>
            </a:b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Ніде оку зачепитись.</a:t>
            </a:r>
            <a:br>
              <a:rPr sz="4400"/>
            </a:b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Жайворон співа.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634920" y="527148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71800" y="1371600"/>
            <a:ext cx="59212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Під час квітування сакур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Горам краси не додасть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Навіть ранкова зоря.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 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І зимування - свято,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Якщо в твоєму серці - 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Квітуча слива!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 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Соловей улітку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В заростях молодого бамбука</a:t>
            </a: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Оплакує старість свою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634920" y="6591240"/>
            <a:ext cx="52498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D:\Users\user\Favorites\Pictures\Картинки\Пейзажи\Природа гор\75.jpg"/>
          <p:cNvPicPr/>
          <p:nvPr/>
        </p:nvPicPr>
        <p:blipFill>
          <a:blip r:embed="rId1"/>
          <a:stretch/>
        </p:blipFill>
        <p:spPr>
          <a:xfrm>
            <a:off x="152280" y="870120"/>
            <a:ext cx="8763120" cy="5541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-28800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5" name="Японская музыка - Вечность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D:\Users\user\Favorites\Pictures\Картинки\Пейзажи\Природа гор\75.jpg"/>
          <p:cNvPicPr/>
          <p:nvPr/>
        </p:nvPicPr>
        <p:blipFill>
          <a:blip r:embed="rId3"/>
          <a:stretch/>
        </p:blipFill>
        <p:spPr>
          <a:xfrm>
            <a:off x="152280" y="914400"/>
            <a:ext cx="8763120" cy="5541840"/>
          </a:xfrm>
          <a:prstGeom prst="rect">
            <a:avLst/>
          </a:prstGeom>
          <a:ln w="0">
            <a:noFill/>
          </a:ln>
        </p:spPr>
      </p:pic>
      <p:pic>
        <p:nvPicPr>
          <p:cNvPr id="247" name="Японская музыка - Вечность.mp3" descr=""/>
          <p:cNvPicPr/>
          <p:nvPr/>
        </p:nvPicPr>
        <p:blipFill>
          <a:blip r:embed="rId4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56386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ІКЕБАНА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655308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БОНСА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phytodesign.itop.net/uplImg/photo/pfyto/%D0%98%D0%BA%D0%B5%D0%B1%D0%B0%D0%BD%D0%B0%20%D1%86%D0%B2%20%D1%81%D0%B0%D0%BA%D1%83%D1%80%D0%B0%20.jpg"/>
          <p:cNvPicPr/>
          <p:nvPr/>
        </p:nvPicPr>
        <p:blipFill>
          <a:blip r:embed="rId1"/>
          <a:stretch/>
        </p:blipFill>
        <p:spPr>
          <a:xfrm>
            <a:off x="0" y="4140360"/>
            <a:ext cx="4343400" cy="271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www.bonsad.ru/images/bon01.jpg"/>
          <p:cNvPicPr/>
          <p:nvPr/>
        </p:nvPicPr>
        <p:blipFill>
          <a:blip r:embed="rId2"/>
          <a:stretch/>
        </p:blipFill>
        <p:spPr>
          <a:xfrm>
            <a:off x="2666880" y="83808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http://www.vashsad.ua/downloads/image/7683/bonsai_3.jpg"/>
          <p:cNvPicPr/>
          <p:nvPr/>
        </p:nvPicPr>
        <p:blipFill>
          <a:blip r:embed="rId3"/>
          <a:stretch/>
        </p:blipFill>
        <p:spPr>
          <a:xfrm>
            <a:off x="6095880" y="2057400"/>
            <a:ext cx="3048120" cy="4800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http://www.zen-images.com/Resources/ikebana042c.jpeg"/>
          <p:cNvPicPr/>
          <p:nvPr/>
        </p:nvPicPr>
        <p:blipFill>
          <a:blip r:embed="rId4"/>
          <a:stretch/>
        </p:blipFill>
        <p:spPr>
          <a:xfrm>
            <a:off x="0" y="0"/>
            <a:ext cx="2666880" cy="4138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9504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0" y="990720"/>
            <a:ext cx="4876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4572000" y="3276720"/>
            <a:ext cx="457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sasorisushi.com/uploads/posts/2010-11/1290393803_chaynaya_tseremoniya_v_yaponii.jpg"/>
          <p:cNvPicPr/>
          <p:nvPr/>
        </p:nvPicPr>
        <p:blipFill>
          <a:blip r:embed="rId1"/>
          <a:stretch/>
        </p:blipFill>
        <p:spPr>
          <a:xfrm>
            <a:off x="5105520" y="-46080"/>
            <a:ext cx="3581280" cy="46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Чайная церемония"/>
          <p:cNvPicPr/>
          <p:nvPr/>
        </p:nvPicPr>
        <p:blipFill>
          <a:blip r:embed="rId2"/>
          <a:stretch/>
        </p:blipFill>
        <p:spPr>
          <a:xfrm>
            <a:off x="0" y="0"/>
            <a:ext cx="4551480" cy="46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Изображение:Tea ceremony performing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38160" y="-152280"/>
            <a:ext cx="9182160" cy="70102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-288000"/>
            <a:ext cx="540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1" name="Picture 3" descr="D:\Новая папка\Анаит\Картинки\История\Японская культура\60066.jpg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://interest-planet.ru/uploads/images/d/6/7/4/71/be4bb34b9a.jpg"/>
          <p:cNvPicPr/>
          <p:nvPr/>
        </p:nvPicPr>
        <p:blipFill>
          <a:blip r:embed="rId1"/>
          <a:stretch/>
        </p:blipFill>
        <p:spPr>
          <a:xfrm>
            <a:off x="0" y="914400"/>
            <a:ext cx="4437000" cy="35053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4" name="02. WAVE II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5" name="05. FLOWERS.MP3" descr=""/>
          <p:cNvPicPr/>
          <p:nvPr/>
        </p:nvPicPr>
        <p:blipFill>
          <a:blip r:embed="rId3"/>
          <a:stretch/>
        </p:blipFill>
        <p:spPr>
          <a:xfrm>
            <a:off x="44197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leit.ru/for_content/Noh/Noh1.jpg"/>
          <p:cNvPicPr/>
          <p:nvPr/>
        </p:nvPicPr>
        <p:blipFill>
          <a:blip r:embed="rId4"/>
          <a:stretch/>
        </p:blipFill>
        <p:spPr>
          <a:xfrm>
            <a:off x="4788000" y="914400"/>
            <a:ext cx="4356000" cy="3352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web-japan.org/nipponia/nipponia25/images/interview/main.jpg"/>
          <p:cNvPicPr/>
          <p:nvPr/>
        </p:nvPicPr>
        <p:blipFill>
          <a:blip r:embed="rId5"/>
          <a:stretch/>
        </p:blipFill>
        <p:spPr>
          <a:xfrm>
            <a:off x="1905120" y="3200400"/>
            <a:ext cx="4141800" cy="340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5602680"/>
            <a:ext cx="179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81120" y="1447560"/>
            <a:ext cx="350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РІГАМ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http://usmishka.com/assets/images/origami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http://t3.gstatic.com/images?q=tbn:ANd9GcRfByoHyt07L1yF-aT68wdh1_4CDuoCypLag2xB3SI1YNBVd5P_Uw"/>
          <p:cNvPicPr/>
          <p:nvPr/>
        </p:nvPicPr>
        <p:blipFill>
          <a:blip r:embed="rId2"/>
          <a:stretch/>
        </p:blipFill>
        <p:spPr>
          <a:xfrm>
            <a:off x="4648320" y="3174840"/>
            <a:ext cx="4495680" cy="345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http://samodelki.com.ua/files/u1/origami9.jpg"/>
          <p:cNvPicPr/>
          <p:nvPr/>
        </p:nvPicPr>
        <p:blipFill>
          <a:blip r:embed="rId3"/>
          <a:stretch/>
        </p:blipFill>
        <p:spPr>
          <a:xfrm>
            <a:off x="0" y="3124080"/>
            <a:ext cx="4572000" cy="354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92360" y="1915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634920" y="3716280"/>
            <a:ext cx="5249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75" name="Picture 4" descr="JapanPrint2"/>
          <p:cNvPicPr/>
          <p:nvPr/>
        </p:nvPicPr>
        <p:blipFill>
          <a:blip r:embed="rId1"/>
          <a:stretch/>
        </p:blipFill>
        <p:spPr>
          <a:xfrm>
            <a:off x="-152280" y="685800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277" name="Японская музыка - Вечность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92360" y="1915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8120" y="137124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Любіть природу, любіть квіти, любіть дерева, небо, красу у великому й малому 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ви навчитеся любити життя, берегти люди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Японський висл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6:32:04Z</dcterms:created>
  <dc:creator>Annetta</dc:creator>
  <dc:description/>
  <dc:language>en-US</dc:language>
  <cp:lastModifiedBy>Ирина</cp:lastModifiedBy>
  <dcterms:modified xsi:type="dcterms:W3CDTF">2013-02-15T00:50:40Z</dcterms:modified>
  <cp:revision>46</cp:revision>
  <dc:subject/>
  <dc:title>Культура Япо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e000000000001024140</vt:lpwstr>
  </property>
</Properties>
</file>