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8547-55C9-45C1-8C83-F0DB745BD2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0814-3983-4C7D-A30F-B359ABDA3B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879E-30F0-4C57-9145-98D7B09BDE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933D-43B5-497B-87A0-D32845965F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D007-A542-40B5-AF9E-37783AF601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C606-93A9-4903-BCA7-412CE4F434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4A6F-2738-4040-9AA5-284E725A69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087D-FE92-4FF1-AA99-304CD110C0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2516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104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892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2516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104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540072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2516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104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892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2516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104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540072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2516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7104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7892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2516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7104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540072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12516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7104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7892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12516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7104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540072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540072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12516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7104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7892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12516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7104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540072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12516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7104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7892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12516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7104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Japan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Japan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Japan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Japan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Japan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7" descr="Japan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upload.wikimedia.org/wikipedia/commons/a/a7/Tea_ceremony_performing_2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92360" y="1447920"/>
            <a:ext cx="540072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НАТХНЕННЯ В</a:t>
            </a:r>
            <a:r>
              <a:rPr b="0" lang="uk-UA" sz="4400" spc="-1" strike="noStrike">
                <a:solidFill>
                  <a:srgbClr val="800000"/>
                </a:solidFill>
                <a:latin typeface="Arial"/>
              </a:rPr>
              <a:t>ІЧНОЮ КРАСОЮ</a:t>
            </a:r>
            <a:br>
              <a:rPr sz="4400"/>
            </a:br>
            <a:r>
              <a:rPr b="0" lang="uk-UA" sz="4400" spc="-1" strike="noStrike">
                <a:solidFill>
                  <a:srgbClr val="800000"/>
                </a:solidFill>
                <a:latin typeface="Arial"/>
              </a:rPr>
              <a:t>ТВОРЧІСТЬ</a:t>
            </a:r>
            <a:br>
              <a:rPr sz="4400"/>
            </a:br>
            <a:r>
              <a:rPr b="0" lang="uk-UA" sz="4400" spc="-1" strike="noStrike">
                <a:solidFill>
                  <a:srgbClr val="800000"/>
                </a:solidFill>
                <a:latin typeface="Arial"/>
              </a:rPr>
              <a:t>МАЦУО БАСЬО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34920" y="6591240"/>
            <a:ext cx="52498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92360" y="1523880"/>
            <a:ext cx="54007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ХОКУ (ХАЙКУ) – </a:t>
            </a:r>
            <a:br>
              <a:rPr sz="2800"/>
            </a:br>
            <a:r>
              <a:rPr b="0" lang="uk-UA" sz="2800" spc="-1" strike="noStrike">
                <a:solidFill>
                  <a:srgbClr val="800000"/>
                </a:solidFill>
                <a:latin typeface="Arial"/>
              </a:rPr>
              <a:t>трирядковий неримований вірш </a:t>
            </a:r>
            <a:br>
              <a:rPr sz="2800"/>
            </a:br>
            <a:r>
              <a:rPr b="0" lang="uk-UA" sz="2800" spc="-1" strike="noStrike">
                <a:solidFill>
                  <a:srgbClr val="800000"/>
                </a:solidFill>
                <a:latin typeface="Arial"/>
              </a:rPr>
              <a:t>(“ початкова фраза ”)</a:t>
            </a:r>
            <a:br>
              <a:rPr sz="2800"/>
            </a:br>
            <a:r>
              <a:rPr b="0" lang="uk-UA" sz="2800" spc="-1" strike="noStrike">
                <a:solidFill>
                  <a:srgbClr val="800000"/>
                </a:solidFill>
                <a:latin typeface="Arial"/>
              </a:rPr>
              <a:t>17 рядків діляться на </a:t>
            </a:r>
            <a:br>
              <a:rPr sz="2800"/>
            </a:br>
            <a:r>
              <a:rPr b="0" lang="uk-UA" sz="2800" spc="-1" strike="noStrike">
                <a:solidFill>
                  <a:srgbClr val="800000"/>
                </a:solidFill>
                <a:latin typeface="Arial"/>
              </a:rPr>
              <a:t>3 ритмічних відрізки: 5 – 7 - 5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3634920" y="6591240"/>
            <a:ext cx="52498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28640" y="1915920"/>
            <a:ext cx="5715000" cy="44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800000"/>
                </a:solidFill>
                <a:latin typeface="Arial"/>
              </a:rPr>
              <a:t>Старий ставок.</a:t>
            </a:r>
            <a:br>
              <a:rPr sz="4800"/>
            </a:br>
            <a:r>
              <a:rPr b="1" lang="uk-UA" sz="4800" spc="-1" strike="noStrike">
                <a:solidFill>
                  <a:srgbClr val="800000"/>
                </a:solidFill>
                <a:latin typeface="Arial"/>
              </a:rPr>
              <a:t>Жабка стрибне -</a:t>
            </a:r>
            <a:br>
              <a:rPr sz="4800"/>
            </a:br>
            <a:r>
              <a:rPr b="1" lang="uk-UA" sz="4800" spc="-1" strike="noStrike">
                <a:solidFill>
                  <a:srgbClr val="800000"/>
                </a:solidFill>
                <a:latin typeface="Arial"/>
              </a:rPr>
              <a:t>Сплеск пролунає.</a:t>
            </a:r>
            <a:endParaRPr b="0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34920" y="5248080"/>
            <a:ext cx="52498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742840" y="1371600"/>
            <a:ext cx="614988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00000"/>
                </a:solidFill>
                <a:latin typeface="Arial"/>
              </a:rPr>
              <a:t>Степу рівнина - </a:t>
            </a:r>
            <a:br>
              <a:rPr sz="4400"/>
            </a:br>
            <a:r>
              <a:rPr b="1" lang="uk-UA" sz="4400" spc="-1" strike="noStrike">
                <a:solidFill>
                  <a:srgbClr val="800000"/>
                </a:solidFill>
                <a:latin typeface="Arial"/>
              </a:rPr>
              <a:t>Ніде оку зачепитись.</a:t>
            </a:r>
            <a:br>
              <a:rPr sz="4400"/>
            </a:br>
            <a:r>
              <a:rPr b="1" lang="uk-UA" sz="4400" spc="-1" strike="noStrike">
                <a:solidFill>
                  <a:srgbClr val="800000"/>
                </a:solidFill>
                <a:latin typeface="Arial"/>
              </a:rPr>
              <a:t>Жайворон співа.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634920" y="5271480"/>
            <a:ext cx="52498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971800" y="1371600"/>
            <a:ext cx="592128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Під час квітування сакур</a:t>
            </a:r>
            <a:br>
              <a:rPr sz="2800"/>
            </a:b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Горам краси не додасть</a:t>
            </a:r>
            <a:br>
              <a:rPr sz="2800"/>
            </a:b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Навіть ранкова зоря.</a:t>
            </a:r>
            <a:br>
              <a:rPr sz="2800"/>
            </a:b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 </a:t>
            </a:r>
            <a:br>
              <a:rPr sz="2800"/>
            </a:b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І зимування - свято,</a:t>
            </a:r>
            <a:br>
              <a:rPr sz="2800"/>
            </a:b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Якщо в твоєму серці - </a:t>
            </a:r>
            <a:br>
              <a:rPr sz="2800"/>
            </a:b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Квітуча слива!</a:t>
            </a:r>
            <a:br>
              <a:rPr sz="2800"/>
            </a:b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 </a:t>
            </a:r>
            <a:br>
              <a:rPr sz="2800"/>
            </a:b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Соловей улітку</a:t>
            </a:r>
            <a:br>
              <a:rPr sz="2800"/>
            </a:b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В заростях молодого бамбука</a:t>
            </a:r>
            <a:br>
              <a:rPr sz="2800"/>
            </a:b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Оплакує старість свою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634920" y="6591240"/>
            <a:ext cx="52498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D:\Users\user\Favorites\Pictures\Картинки\Пейзажи\Природа гор\75.jpg"/>
          <p:cNvPicPr/>
          <p:nvPr/>
        </p:nvPicPr>
        <p:blipFill>
          <a:blip r:embed="rId1"/>
          <a:stretch/>
        </p:blipFill>
        <p:spPr>
          <a:xfrm>
            <a:off x="152280" y="870120"/>
            <a:ext cx="8763120" cy="55418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-28800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5" name="Японская музыка - Вечность.mp3" descr=""/>
          <p:cNvPicPr/>
          <p:nvPr/>
        </p:nvPicPr>
        <p:blipFill>
          <a:blip r:embed="rId2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D:\Users\user\Favorites\Pictures\Картинки\Пейзажи\Природа гор\75.jpg"/>
          <p:cNvPicPr/>
          <p:nvPr/>
        </p:nvPicPr>
        <p:blipFill>
          <a:blip r:embed="rId3"/>
          <a:stretch/>
        </p:blipFill>
        <p:spPr>
          <a:xfrm>
            <a:off x="152280" y="914400"/>
            <a:ext cx="8763120" cy="5541840"/>
          </a:xfrm>
          <a:prstGeom prst="rect">
            <a:avLst/>
          </a:prstGeom>
          <a:ln w="0">
            <a:noFill/>
          </a:ln>
        </p:spPr>
      </p:pic>
      <p:pic>
        <p:nvPicPr>
          <p:cNvPr id="247" name="Японская музыка - Вечность.mp3" descr=""/>
          <p:cNvPicPr/>
          <p:nvPr/>
        </p:nvPicPr>
        <p:blipFill>
          <a:blip r:embed="rId4"/>
          <a:stretch/>
        </p:blipFill>
        <p:spPr>
          <a:xfrm>
            <a:off x="85345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56386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                </a:t>
            </a: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ІКЕБАНА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6553080" y="1066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БОНСА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http://phytodesign.itop.net/uplImg/photo/pfyto/%D0%98%D0%BA%D0%B5%D0%B1%D0%B0%D0%BD%D0%B0%20%D1%86%D0%B2%20%D1%81%D0%B0%D0%BA%D1%83%D1%80%D0%B0%20.jpg"/>
          <p:cNvPicPr/>
          <p:nvPr/>
        </p:nvPicPr>
        <p:blipFill>
          <a:blip r:embed="rId1"/>
          <a:stretch/>
        </p:blipFill>
        <p:spPr>
          <a:xfrm>
            <a:off x="0" y="4140360"/>
            <a:ext cx="4343400" cy="2717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http://www.bonsad.ru/images/bon01.jpg"/>
          <p:cNvPicPr/>
          <p:nvPr/>
        </p:nvPicPr>
        <p:blipFill>
          <a:blip r:embed="rId2"/>
          <a:stretch/>
        </p:blipFill>
        <p:spPr>
          <a:xfrm>
            <a:off x="2666880" y="838080"/>
            <a:ext cx="3886200" cy="3276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http://www.vashsad.ua/downloads/image/7683/bonsai_3.jpg"/>
          <p:cNvPicPr/>
          <p:nvPr/>
        </p:nvPicPr>
        <p:blipFill>
          <a:blip r:embed="rId3"/>
          <a:stretch/>
        </p:blipFill>
        <p:spPr>
          <a:xfrm>
            <a:off x="6095880" y="2057400"/>
            <a:ext cx="3048120" cy="4800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http://www.zen-images.com/Resources/ikebana042c.jpeg"/>
          <p:cNvPicPr/>
          <p:nvPr/>
        </p:nvPicPr>
        <p:blipFill>
          <a:blip r:embed="rId4"/>
          <a:stretch/>
        </p:blipFill>
        <p:spPr>
          <a:xfrm>
            <a:off x="0" y="0"/>
            <a:ext cx="2666880" cy="4138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0" y="990720"/>
            <a:ext cx="48769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6"/>
          <p:cNvSpPr/>
          <p:nvPr/>
        </p:nvSpPr>
        <p:spPr>
          <a:xfrm>
            <a:off x="4572000" y="3276720"/>
            <a:ext cx="4572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http://sasorisushi.com/uploads/posts/2010-11/1290393803_chaynaya_tseremoniya_v_yaponii.jpg"/>
          <p:cNvPicPr/>
          <p:nvPr/>
        </p:nvPicPr>
        <p:blipFill>
          <a:blip r:embed="rId1"/>
          <a:stretch/>
        </p:blipFill>
        <p:spPr>
          <a:xfrm>
            <a:off x="5105520" y="-46080"/>
            <a:ext cx="3581280" cy="46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Чайная церемония"/>
          <p:cNvPicPr/>
          <p:nvPr/>
        </p:nvPicPr>
        <p:blipFill>
          <a:blip r:embed="rId2"/>
          <a:stretch/>
        </p:blipFill>
        <p:spPr>
          <a:xfrm>
            <a:off x="0" y="0"/>
            <a:ext cx="4551480" cy="46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Изображение:Tea ceremony performing 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38160" y="-152280"/>
            <a:ext cx="9182160" cy="70102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280" y="-28800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61" name="Picture 3" descr="D:\Новая папка\Анаит\Картинки\История\Японская культура\60066.jpg"/>
          <p:cNvPicPr/>
          <p:nvPr/>
        </p:nvPicPr>
        <p:blipFill>
          <a:blip r:embed="rId1"/>
          <a:stretch/>
        </p:blipFill>
        <p:spPr>
          <a:xfrm>
            <a:off x="228600" y="1066680"/>
            <a:ext cx="876312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6" descr="http://interest-planet.ru/uploads/images/d/6/7/4/71/be4bb34b9a.jpg"/>
          <p:cNvPicPr/>
          <p:nvPr/>
        </p:nvPicPr>
        <p:blipFill>
          <a:blip r:embed="rId1"/>
          <a:stretch/>
        </p:blipFill>
        <p:spPr>
          <a:xfrm>
            <a:off x="0" y="914400"/>
            <a:ext cx="4437000" cy="35053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Театр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64" name="02. WAVE III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65" name="05. FLOWERS.MP3" descr=""/>
          <p:cNvPicPr/>
          <p:nvPr/>
        </p:nvPicPr>
        <p:blipFill>
          <a:blip r:embed="rId3"/>
          <a:stretch/>
        </p:blipFill>
        <p:spPr>
          <a:xfrm>
            <a:off x="441972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http://leit.ru/for_content/Noh/Noh1.jpg"/>
          <p:cNvPicPr/>
          <p:nvPr/>
        </p:nvPicPr>
        <p:blipFill>
          <a:blip r:embed="rId4"/>
          <a:stretch/>
        </p:blipFill>
        <p:spPr>
          <a:xfrm>
            <a:off x="4788000" y="914400"/>
            <a:ext cx="4356000" cy="3352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http://web-japan.org/nipponia/nipponia25/images/interview/main.jpg"/>
          <p:cNvPicPr/>
          <p:nvPr/>
        </p:nvPicPr>
        <p:blipFill>
          <a:blip r:embed="rId5"/>
          <a:stretch/>
        </p:blipFill>
        <p:spPr>
          <a:xfrm>
            <a:off x="1905120" y="3200400"/>
            <a:ext cx="4141800" cy="3402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5602680"/>
            <a:ext cx="179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181120" y="1447560"/>
            <a:ext cx="3505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РІГАМ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http://usmishka.com/assets/images/origami1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http://t3.gstatic.com/images?q=tbn:ANd9GcRfByoHyt07L1yF-aT68wdh1_4CDuoCypLag2xB3SI1YNBVd5P_Uw"/>
          <p:cNvPicPr/>
          <p:nvPr/>
        </p:nvPicPr>
        <p:blipFill>
          <a:blip r:embed="rId2"/>
          <a:stretch/>
        </p:blipFill>
        <p:spPr>
          <a:xfrm>
            <a:off x="4648320" y="3174840"/>
            <a:ext cx="4495680" cy="3454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http://samodelki.com.ua/files/u1/origami9.jpg"/>
          <p:cNvPicPr/>
          <p:nvPr/>
        </p:nvPicPr>
        <p:blipFill>
          <a:blip r:embed="rId3"/>
          <a:stretch/>
        </p:blipFill>
        <p:spPr>
          <a:xfrm>
            <a:off x="0" y="3124080"/>
            <a:ext cx="4572000" cy="3543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92360" y="1915920"/>
            <a:ext cx="54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634920" y="3716280"/>
            <a:ext cx="5249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75" name="Picture 4" descr="JapanPrint2"/>
          <p:cNvPicPr/>
          <p:nvPr/>
        </p:nvPicPr>
        <p:blipFill>
          <a:blip r:embed="rId1"/>
          <a:stretch/>
        </p:blipFill>
        <p:spPr>
          <a:xfrm>
            <a:off x="-152280" y="6858000"/>
            <a:ext cx="152280" cy="114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2"/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pic>
        <p:nvPicPr>
          <p:cNvPr id="277" name="Японская музыка - Вечность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492360" y="1915920"/>
            <a:ext cx="54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8120" y="1371240"/>
            <a:ext cx="6324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00"/>
                </a:solidFill>
                <a:latin typeface="Arial"/>
              </a:rPr>
              <a:t>Любіть природу, любіть квіти, любіть дерева, небо, красу у великому й малому і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00"/>
                </a:solidFill>
                <a:latin typeface="Arial"/>
              </a:rPr>
              <a:t>ви навчитеся любити життя, берегти людин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00"/>
                </a:solidFill>
                <a:latin typeface="Arial"/>
              </a:rPr>
              <a:t>          </a:t>
            </a:r>
            <a:r>
              <a:rPr b="1" lang="uk-UA" sz="4000" spc="-1" strike="noStrike">
                <a:solidFill>
                  <a:srgbClr val="800000"/>
                </a:solidFill>
                <a:latin typeface="Arial"/>
              </a:rPr>
              <a:t>Японський висл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06:32:04Z</dcterms:created>
  <dc:creator>Annetta</dc:creator>
  <dc:description/>
  <dc:language>en-US</dc:language>
  <cp:lastModifiedBy>Ирина</cp:lastModifiedBy>
  <dcterms:modified xsi:type="dcterms:W3CDTF">2013-02-15T00:50:40Z</dcterms:modified>
  <cp:revision>46</cp:revision>
  <dc:subject/>
  <dc:title>Культура Япон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e000000000001024140</vt:lpwstr>
  </property>
</Properties>
</file>