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18.jpeg" ContentType="image/jpeg"/>
  <Override PartName="/ppt/media/image13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ABD9-B289-43C3-8865-DB9D7227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79A-1700-46CC-8766-A7454036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83D5-F91F-47DD-A42C-ADF09358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1FD-BBCA-45CA-93DB-C5FB8801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-28008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AE3-9C43-4178-A891-D5923E9D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CA4-0131-42A5-B00B-4C5DBC8E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C02-D9A4-4553-8C8F-57933820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3D53-B345-40C9-B623-62D8D809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121932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5052-EA6B-4DC7-87B2-5538C3E8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347-8C54-4C0E-9B54-B914CF68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D3A-7D37-4981-9E0E-5DE8DE3F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03F-3EE3-455D-8A5A-E24378D3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101621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-279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852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20E4-00E1-44E0-8F59-44C04B66D2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4292280"/>
            <a:ext cx="5904000" cy="23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6000" spc="-1" strike="noStrike">
                <a:solidFill>
                  <a:srgbClr val="0000cc"/>
                </a:solidFill>
                <a:latin typeface="Century Schoolbook"/>
              </a:rPr>
              <a:t>Світова   літератур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ject 14" descr=""/>
          <p:cNvPicPr/>
          <p:nvPr/>
        </p:nvPicPr>
        <p:blipFill>
          <a:blip r:embed="rId2"/>
          <a:stretch/>
        </p:blipFill>
        <p:spPr>
          <a:xfrm>
            <a:off x="7839000" y="2997360"/>
            <a:ext cx="1305000" cy="1304640"/>
          </a:xfrm>
          <a:prstGeom prst="rect">
            <a:avLst/>
          </a:prstGeom>
          <a:ln w="0">
            <a:noFill/>
          </a:ln>
        </p:spPr>
      </p:pic>
      <p:pic>
        <p:nvPicPr>
          <p:cNvPr id="44" name="Object 16" descr=""/>
          <p:cNvPicPr/>
          <p:nvPr/>
        </p:nvPicPr>
        <p:blipFill>
          <a:blip r:embed="rId3"/>
          <a:stretch/>
        </p:blipFill>
        <p:spPr>
          <a:xfrm>
            <a:off x="7164360" y="306864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45" name="Object 17" descr=""/>
          <p:cNvPicPr/>
          <p:nvPr/>
        </p:nvPicPr>
        <p:blipFill>
          <a:blip r:embed="rId4"/>
          <a:stretch/>
        </p:blipFill>
        <p:spPr>
          <a:xfrm>
            <a:off x="6300720" y="3068640"/>
            <a:ext cx="655560" cy="655560"/>
          </a:xfrm>
          <a:prstGeom prst="rect">
            <a:avLst/>
          </a:prstGeom>
          <a:ln w="0">
            <a:noFill/>
          </a:ln>
        </p:spPr>
      </p:pic>
      <p:pic>
        <p:nvPicPr>
          <p:cNvPr id="46" name="Object 18" descr=""/>
          <p:cNvPicPr/>
          <p:nvPr/>
        </p:nvPicPr>
        <p:blipFill>
          <a:blip r:embed="rId5"/>
          <a:stretch/>
        </p:blipFill>
        <p:spPr>
          <a:xfrm>
            <a:off x="5651640" y="3141720"/>
            <a:ext cx="439560" cy="439560"/>
          </a:xfrm>
          <a:prstGeom prst="rect">
            <a:avLst/>
          </a:prstGeom>
          <a:ln w="0">
            <a:noFill/>
          </a:ln>
        </p:spPr>
      </p:pic>
      <p:pic>
        <p:nvPicPr>
          <p:cNvPr id="47" name="Object 21" descr=""/>
          <p:cNvPicPr/>
          <p:nvPr/>
        </p:nvPicPr>
        <p:blipFill>
          <a:blip r:embed="rId6"/>
          <a:stretch/>
        </p:blipFill>
        <p:spPr>
          <a:xfrm>
            <a:off x="5148360" y="321300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48" name="Object 22" descr=""/>
          <p:cNvPicPr/>
          <p:nvPr/>
        </p:nvPicPr>
        <p:blipFill>
          <a:blip r:embed="rId7"/>
          <a:stretch/>
        </p:blipFill>
        <p:spPr>
          <a:xfrm>
            <a:off x="4643280" y="3357720"/>
            <a:ext cx="225720" cy="225360"/>
          </a:xfrm>
          <a:prstGeom prst="rect">
            <a:avLst/>
          </a:prstGeom>
          <a:ln w="0">
            <a:noFill/>
          </a:ln>
        </p:spPr>
      </p:pic>
      <p:pic>
        <p:nvPicPr>
          <p:cNvPr id="49" name="Object 23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50" name="Object 24" descr=""/>
          <p:cNvPicPr/>
          <p:nvPr/>
        </p:nvPicPr>
        <p:blipFill>
          <a:blip r:embed="rId9"/>
          <a:stretch/>
        </p:blipFill>
        <p:spPr>
          <a:xfrm>
            <a:off x="3708360" y="357336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51" name="Object 25" descr=""/>
          <p:cNvPicPr/>
          <p:nvPr/>
        </p:nvPicPr>
        <p:blipFill>
          <a:blip r:embed="rId10"/>
          <a:stretch/>
        </p:blipFill>
        <p:spPr>
          <a:xfrm>
            <a:off x="3276720" y="3716280"/>
            <a:ext cx="225360" cy="2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 u="sng">
                <a:solidFill>
                  <a:srgbClr val="0000cc"/>
                </a:solidFill>
                <a:uFillTx/>
                <a:latin typeface="Century Schoolbook"/>
              </a:rPr>
              <a:t>Повна  назва  твору: </a:t>
            </a: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</a:rPr>
              <a:t>«Зачинається  книга, іменована  Декамерон, прозвана  Принц  Галеотто, у  якій  міститься  сто оповідок,  що  розказали  за десять  день  семеро  дам  і троє  кавалерів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2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113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Users\admin\Desktop\декамерон\68ba2090954c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Жахлива  не  стіль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мерть  від  чу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кільки 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що  робить  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перед   хвор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з  живими  люд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6" descr=""/>
          <p:cNvPicPr/>
          <p:nvPr/>
        </p:nvPicPr>
        <p:blipFill>
          <a:blip r:embed="rId2"/>
          <a:stretch/>
        </p:blipFill>
        <p:spPr>
          <a:xfrm>
            <a:off x="4572000" y="2076480"/>
            <a:ext cx="4567320" cy="4781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"/>
          <p:cNvPicPr/>
          <p:nvPr/>
        </p:nvPicPr>
        <p:blipFill>
          <a:blip r:embed="rId3"/>
          <a:srcRect l="0" t="0" r="0" b="64"/>
          <a:stretch/>
        </p:blipFill>
        <p:spPr>
          <a:xfrm>
            <a:off x="0" y="0"/>
            <a:ext cx="44276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Чума  у  твор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як  смертельно  небезпеч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для  людей  пошесть  є  алегоріє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имволом  гріховного  феод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успіль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rcRect l="0" t="0" r="30" b="0"/>
          <a:stretch/>
        </p:blipFill>
        <p:spPr>
          <a:xfrm>
            <a:off x="6516720" y="2525760"/>
            <a:ext cx="2627280" cy="436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0" y="2525760"/>
            <a:ext cx="3059280" cy="4332240"/>
          </a:xfrm>
          <a:prstGeom prst="rect">
            <a:avLst/>
          </a:prstGeom>
          <a:ln cap="sq" w="22320">
            <a:solidFill>
              <a:srgbClr val="0d0d0d"/>
            </a:solidFill>
            <a:miter/>
          </a:ln>
        </p:spPr>
      </p:pic>
      <p:sp>
        <p:nvSpPr>
          <p:cNvPr id="124" name="Прямоугольник 1"/>
          <p:cNvSpPr/>
          <p:nvPr/>
        </p:nvSpPr>
        <p:spPr>
          <a:xfrm>
            <a:off x="3059280" y="2921040"/>
            <a:ext cx="345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entury Schoolbook"/>
              </a:rPr>
              <a:t>якому       протиставлен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entury Schoolbook"/>
              </a:rPr>
              <a:t>нове   життя, повне оптимізму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entury Schoolbook"/>
              </a:rPr>
              <a:t>і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entury Schoolbook"/>
              </a:rPr>
              <a:t>віри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entury Schoolbook"/>
              </a:rPr>
              <a:t>в людину</a:t>
            </a: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12600" y="0"/>
            <a:ext cx="9144000" cy="287496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entury Schoolbook"/>
                <a:ea typeface="David"/>
              </a:rPr>
              <a:t>«Декамерон»</a:t>
            </a: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  <a:ea typeface="David"/>
              </a:rPr>
              <a:t>   </a:t>
            </a:r>
            <a:r>
              <a:rPr b="1" i="1" lang="ru-RU" sz="3600" spc="-1" strike="noStrike">
                <a:solidFill>
                  <a:srgbClr val="ffffff"/>
                </a:solidFill>
                <a:latin typeface="Century Schoolbook"/>
              </a:rPr>
              <a:t>в  перекладі 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entury Schoolbook"/>
              </a:rPr>
              <a:t>              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Century Schoolbook"/>
              </a:rPr>
              <a:t>«десятиденник»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entury Schoolbook"/>
              </a:rPr>
              <a:t>              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Century Schoolbook"/>
              </a:rPr>
              <a:t>тобто    «збі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entury Schoolbook"/>
              </a:rPr>
              <a:t>      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Century Schoolbook"/>
              </a:rPr>
              <a:t>новел з  обрамлення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C:\Users\admin\Desktop\декамерон\13204155283227976754.jpeg"/>
          <p:cNvPicPr/>
          <p:nvPr/>
        </p:nvPicPr>
        <p:blipFill>
          <a:blip r:embed="rId2"/>
          <a:stretch/>
        </p:blipFill>
        <p:spPr>
          <a:xfrm>
            <a:off x="0" y="2852640"/>
            <a:ext cx="3094200" cy="4005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8" name="Picture 5" descr="C:\Users\admin\Desktop\декамерон\1320415536680887068.jpeg"/>
          <p:cNvPicPr/>
          <p:nvPr/>
        </p:nvPicPr>
        <p:blipFill>
          <a:blip r:embed="rId3"/>
          <a:srcRect l="0" t="0" r="-22" b="0"/>
          <a:stretch/>
        </p:blipFill>
        <p:spPr>
          <a:xfrm>
            <a:off x="6002280" y="2874960"/>
            <a:ext cx="3132360" cy="4005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9" name="Picture 6" descr="C:\Users\admin\Desktop\декамерон\1320415542270391925.jpeg"/>
          <p:cNvPicPr/>
          <p:nvPr/>
        </p:nvPicPr>
        <p:blipFill>
          <a:blip r:embed="rId4"/>
          <a:srcRect l="0" t="0" r="35" b="0"/>
          <a:stretch/>
        </p:blipFill>
        <p:spPr>
          <a:xfrm>
            <a:off x="3084480" y="2874960"/>
            <a:ext cx="2917800" cy="4005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0" name="Picture 8" descr="C:\Users\admin\Desktop\декамерон\day3.jpg"/>
          <p:cNvPicPr/>
          <p:nvPr/>
        </p:nvPicPr>
        <p:blipFill>
          <a:blip r:embed="rId5"/>
          <a:srcRect l="0" t="0" r="-50" b="128"/>
          <a:stretch/>
        </p:blipFill>
        <p:spPr>
          <a:xfrm>
            <a:off x="0" y="765000"/>
            <a:ext cx="33670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entury Schoolbook"/>
              </a:rPr>
              <a:t>Джерелом  сюжету  д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entury Schoolbook"/>
              </a:rPr>
              <a:t>Боккаччо  бул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1. Середньовічні  переказ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2. Куртуазні  повіст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3. Античні   леген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4. Міські  фабль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5. Сучасні  письменникові анекдоти.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6. Реальні  випадки  з 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C:\Users\admin\Desktop\декамерон\6a00e008c6725888340133f6188d22970b-500wi.jpg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943280" y="0"/>
            <a:ext cx="720072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Система  новел  у  «Декамероні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Блок-схема: альтернативный процесс 1"/>
          <p:cNvSpPr/>
          <p:nvPr/>
        </p:nvSpPr>
        <p:spPr>
          <a:xfrm>
            <a:off x="324000" y="1341360"/>
            <a:ext cx="3240000" cy="1943280"/>
          </a:xfrm>
          <a:prstGeom prst="flowChartAlternateProcess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entury Schoolbook"/>
              </a:rPr>
              <a:t>сатиричні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Блок-схема: альтернативный процесс 4"/>
          <p:cNvSpPr/>
          <p:nvPr/>
        </p:nvSpPr>
        <p:spPr>
          <a:xfrm>
            <a:off x="2951280" y="2852640"/>
            <a:ext cx="3384360" cy="19447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entury Schoolbook"/>
              </a:rPr>
              <a:t>авантюрні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Блок-схема: альтернативный процесс 3"/>
          <p:cNvSpPr/>
          <p:nvPr/>
        </p:nvSpPr>
        <p:spPr>
          <a:xfrm>
            <a:off x="5508720" y="4452840"/>
            <a:ext cx="3240000" cy="194472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entury Schoolbook"/>
              </a:rPr>
              <a:t>кінцеві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9" name="Picture 5" descr="C:\Users\admin\Desktop\декамерон\i.jpeg"/>
          <p:cNvPicPr/>
          <p:nvPr/>
        </p:nvPicPr>
        <p:blipFill>
          <a:blip r:embed="rId2"/>
          <a:stretch/>
        </p:blipFill>
        <p:spPr>
          <a:xfrm>
            <a:off x="6335640" y="1441440"/>
            <a:ext cx="2808360" cy="1843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:\Users\admin\Desktop\декамерон\j5e8lj.jpg"/>
          <p:cNvPicPr/>
          <p:nvPr/>
        </p:nvPicPr>
        <p:blipFill>
          <a:blip r:embed="rId3"/>
          <a:stretch/>
        </p:blipFill>
        <p:spPr>
          <a:xfrm>
            <a:off x="0" y="4452840"/>
            <a:ext cx="29512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145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748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Розповіді  « про що кому заманеться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про тих, які дотепною відповіддю давали відсіч глузливому слову або бистроумністю і винахідливістю своєю од себе шкоду, небезпеку чи кривду одвертали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« ми маємо можливість побачити милосердя Господнє, милосердя Того, хто дивиться не на наші помилки, а на чистоту нашої віри…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"/>
          <p:cNvSpPr/>
          <p:nvPr/>
        </p:nvSpPr>
        <p:spPr>
          <a:xfrm>
            <a:off x="0" y="0"/>
            <a:ext cx="9137520" cy="119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Основні   теми   історій,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що   розповідались   у   творі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820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« довіряй, але перевіряй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не впадай у відчай , навіть, коли доля невблаганно готує випробування, завше сподіватися на краще…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«Ніяких станових забобонів, треба оцінювати якості характеру людини, забувши про те, якого вона походження…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про тих, які вчинили щось доблесне або благородне чи то в любовних, чи в інших яких справах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Головна  дум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збірки «Декамерон» Дж. Боккачч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Двойная волна 1"/>
          <p:cNvSpPr/>
          <p:nvPr/>
        </p:nvSpPr>
        <p:spPr>
          <a:xfrm>
            <a:off x="2201760" y="3868560"/>
            <a:ext cx="6942240" cy="2160720"/>
          </a:xfrm>
          <a:custGeom>
            <a:avLst/>
            <a:gdLst>
              <a:gd name="textAreaLeft" fmla="*/ 0 w 6942240"/>
              <a:gd name="textAreaRight" fmla="*/ 6942600 w 6942240"/>
              <a:gd name="textAreaTop" fmla="*/ 270000 h 2160720"/>
              <a:gd name="textAreaBottom" fmla="*/ 1890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життя – найважливіша цінність, яку  треба  цінувати понад  ус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Двойная волна 2"/>
          <p:cNvSpPr/>
          <p:nvPr/>
        </p:nvSpPr>
        <p:spPr>
          <a:xfrm>
            <a:off x="2201760" y="1596960"/>
            <a:ext cx="6942240" cy="2119320"/>
          </a:xfrm>
          <a:custGeom>
            <a:avLst/>
            <a:gdLst>
              <a:gd name="textAreaLeft" fmla="*/ 80280 w 6942240"/>
              <a:gd name="textAreaRight" fmla="*/ 7022880 w 6942240"/>
              <a:gd name="textAreaTop" fmla="*/ 264960 h 2119320"/>
              <a:gd name="textAreaBottom" fmla="*/ 1854720 h 2119320"/>
            </a:gdLst>
            <a:ahLst/>
            <a:rect l="textAreaLeft" t="textAreaTop" r="textAreaRight" b="textAreaBottom"/>
            <a:pathLst>
              <a:path w="21600" h="21600">
                <a:moveTo>
                  <a:pt x="250" y="1350"/>
                </a:moveTo>
                <a:cubicBezTo>
                  <a:pt x="3725" y="-3433"/>
                  <a:pt x="7450" y="6133"/>
                  <a:pt x="10925" y="1350"/>
                </a:cubicBezTo>
                <a:cubicBezTo>
                  <a:pt x="14400" y="-3433"/>
                  <a:pt x="18125" y="6133"/>
                  <a:pt x="21600" y="1350"/>
                </a:cubicBezTo>
                <a:lnTo>
                  <a:pt x="21350" y="20250"/>
                </a:lnTo>
                <a:cubicBezTo>
                  <a:pt x="17875" y="25033"/>
                  <a:pt x="14150" y="15467"/>
                  <a:pt x="10675" y="20250"/>
                </a:cubicBezTo>
                <a:cubicBezTo>
                  <a:pt x="7200" y="25033"/>
                  <a:pt x="3475" y="15467"/>
                  <a:pt x="0" y="2025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entury Schoolbook"/>
              </a:rPr>
              <a:t>усі люди рівні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entury Schoolbook"/>
              </a:rPr>
              <a:t>за своєю природою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2" name="Picture 12" descr="C:\Users\admin\Desktop\декамерон\dd5e92e2c8563443big.jpg"/>
          <p:cNvPicPr/>
          <p:nvPr/>
        </p:nvPicPr>
        <p:blipFill>
          <a:blip r:embed="rId6"/>
          <a:stretch/>
        </p:blipFill>
        <p:spPr>
          <a:xfrm>
            <a:off x="0" y="2674800"/>
            <a:ext cx="22017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5280" y="115920"/>
            <a:ext cx="7200720" cy="1009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Джованні</a:t>
            </a: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Бокачч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35280" y="2133360"/>
            <a:ext cx="7200720" cy="3600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Century Schoolbook"/>
              </a:rPr>
              <a:t>«</a:t>
            </a:r>
            <a:r>
              <a:rPr b="1" lang="ru-RU" sz="4800" spc="-1" strike="noStrike">
                <a:solidFill>
                  <a:srgbClr val="0000cc"/>
                </a:solidFill>
                <a:latin typeface="Century Schoolbook"/>
              </a:rPr>
              <a:t>Декамерон</a:t>
            </a:r>
            <a:r>
              <a:rPr b="0" lang="ru-RU" sz="4800" spc="-1" strike="noStrike">
                <a:solidFill>
                  <a:srgbClr val="0000cc"/>
                </a:solidFill>
                <a:latin typeface="Century Schoolbook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 Schoolbook"/>
              </a:rPr>
              <a:t>Композиція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 Schoolbook"/>
              </a:rPr>
              <a:t>і 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Century Schoolbook"/>
              </a:rPr>
              <a:t>тематичне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Century Schoolbook"/>
              </a:rPr>
              <a:t>багатство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Century Schoolbook"/>
              </a:rPr>
              <a:t>збір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ject 6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56" name="Object 8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7" name="Object 9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58" name="Object 10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65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6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167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Users\admin\Desktop\декамерон\21031186_The_Enchanted_Garden_of_Messer_Ansaldo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3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174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4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79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0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181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C:\Users\admin\Desktop\декамерон\18_1_franz_xaver_winterhalter_1805-1873__decameron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Object 5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85" name="Object 8" descr=""/>
          <p:cNvPicPr/>
          <p:nvPr/>
        </p:nvPicPr>
        <p:blipFill>
          <a:blip r:embed="rId2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pic>
        <p:nvPicPr>
          <p:cNvPr id="186" name="Object 7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187" name="Object 6" descr=""/>
          <p:cNvPicPr/>
          <p:nvPr/>
        </p:nvPicPr>
        <p:blipFill>
          <a:blip r:embed="rId4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16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3170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«Декамерон»  перекладений ледь не  всіма  мовами  світу (класичний  український переклад  Миколи  Лукаша), 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з  нього  черпали  багато письменників,  й  чи  не найбільше  Шекспір. 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У   французькій  літературі традиції  Боккаччо   розвинула Маргарита   Наваррська, створивши — «Гептамерон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76000" y="-34920"/>
            <a:ext cx="76438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«Декамерон» - це  безсмертна   пам’ятка епохи   Відродження.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Яка  принесла  Боккаччо 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світову   славу 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і   закріпила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 в  століттях 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його   ім'я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C:\Users\admin\Desktop\декамерон\attach.jpeg"/>
          <p:cNvPicPr/>
          <p:nvPr/>
        </p:nvPicPr>
        <p:blipFill>
          <a:blip r:embed="rId2"/>
          <a:srcRect l="0" t="0" r="0" b="-30"/>
          <a:stretch/>
        </p:blipFill>
        <p:spPr>
          <a:xfrm>
            <a:off x="-25560" y="3429000"/>
            <a:ext cx="3005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95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6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C:\Users\admin\Desktop\декамерон\0_8226d_c9e59a41_XL.jpe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202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3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204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3124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63149400">
              <a:spcBef>
                <a:spcPts val="799"/>
              </a:spcBef>
              <a:buClr>
                <a:srgbClr val="0000cc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У  якій  країні  жив  і  творив  Боккачч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63149400" algn="ctr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  Фран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63149400" algn="ctr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  Іспан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63149400" algn="ctr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  Італії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2. Хто був сучасником  і  другом  Боккачч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63149400" algn="ctr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етра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63149400" algn="ctr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Шекспі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63149400" algn="ctr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ервант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Лента лицом вниз 1"/>
          <p:cNvSpPr/>
          <p:nvPr/>
        </p:nvSpPr>
        <p:spPr>
          <a:xfrm>
            <a:off x="179280" y="0"/>
            <a:ext cx="8713800" cy="1197000"/>
          </a:xfrm>
          <a:custGeom>
            <a:avLst/>
            <a:gdLst>
              <a:gd name="textAreaLeft" fmla="*/ 2178360 w 8713800"/>
              <a:gd name="textAreaRight" fmla="*/ 6535440 w 8713800"/>
              <a:gd name="textAreaTop" fmla="*/ 199440 h 1197000"/>
              <a:gd name="textAreaBottom" fmla="*/ 119700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Тестові   завданн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0" lang="uk-UA" sz="32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uk-UA" sz="3000" spc="-1" strike="noStrike">
                <a:solidFill>
                  <a:srgbClr val="0000cc"/>
                </a:solidFill>
                <a:latin typeface="Arial"/>
              </a:rPr>
              <a:t>Як  Боккаччо  визначив  мету  збір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000" spc="-1" strike="noStrike">
                <a:solidFill>
                  <a:srgbClr val="0000cc"/>
                </a:solidFill>
                <a:latin typeface="Arial"/>
              </a:rPr>
              <a:t>                                                     </a:t>
            </a:r>
            <a:r>
              <a:rPr b="1" lang="uk-UA" sz="3000" spc="-1" strike="noStrike">
                <a:solidFill>
                  <a:srgbClr val="0000cc"/>
                </a:solidFill>
                <a:latin typeface="Arial"/>
              </a:rPr>
              <a:t>«Декамерон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Розважа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Затаврувати людські вад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Дати порад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000" spc="-1" strike="noStrike">
                <a:solidFill>
                  <a:srgbClr val="0000cc"/>
                </a:solidFill>
                <a:latin typeface="Arial"/>
              </a:rPr>
              <a:t>4. Чим характерна побудова «Декамерона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Поєднання невеликих по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Поєднання нов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Прозовий твір із поетичними вставк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C:\Users\admin\Desktop\декамерон\product_detailed_image_153345_46367.jpg"/>
          <p:cNvPicPr/>
          <p:nvPr/>
        </p:nvPicPr>
        <p:blipFill>
          <a:blip r:embed="rId2"/>
          <a:stretch/>
        </p:blipFill>
        <p:spPr>
          <a:xfrm>
            <a:off x="5867280" y="1773360"/>
            <a:ext cx="3276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5. Хто оповідач у «Декамероні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в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ерсоніфікований опові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ілька оповідач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6. Яким є жанр окремих оповідей у твор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пові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анц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ов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C:\Users\admin\Desktop\декамерон\product_detailed_image_153345_46369.jpg"/>
          <p:cNvPicPr/>
          <p:nvPr/>
        </p:nvPicPr>
        <p:blipFill>
          <a:blip r:embed="rId2"/>
          <a:stretch/>
        </p:blipFill>
        <p:spPr>
          <a:xfrm>
            <a:off x="5003640" y="3795840"/>
            <a:ext cx="360072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7. Яка  подія спричинила появу розпові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що  ввійшли  в  збірку  «Декамерон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Епідемія чу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онкурс оповідач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дорож у диліжан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8. Як  Церква  ставилась до  «Декамерон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хв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айду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 осу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C:\Users\admin\Desktop\декамерон\product_detailed_image_153345_46370.jpg"/>
          <p:cNvPicPr/>
          <p:nvPr/>
        </p:nvPicPr>
        <p:blipFill>
          <a:blip r:embed="rId2"/>
          <a:stretch/>
        </p:blipFill>
        <p:spPr>
          <a:xfrm>
            <a:off x="5656320" y="4757760"/>
            <a:ext cx="34750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115920"/>
            <a:ext cx="7056360" cy="100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Century Schoolbook"/>
              </a:rPr>
              <a:t>М е т 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62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3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64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16360" y="1267920"/>
            <a:ext cx="62402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79720" indent="85030200">
              <a:spcBef>
                <a:spcPts val="64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Arial"/>
              </a:rPr>
              <a:t>Допомогти  учням  зорієнтуватися  у безмежному  морі  художньої  літерату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9720" indent="85030200">
              <a:spcBef>
                <a:spcPts val="6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Зрозуміти  зміст  самостійно  прочитаного  твор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9720" indent="85030200">
              <a:spcBef>
                <a:spcPts val="64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Arial"/>
              </a:rPr>
              <a:t>Розширити  коло  читацьких  зацікавлень  учн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9720" indent="85030200">
              <a:spcBef>
                <a:spcPts val="6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Розвивати  навички  роботи  з книгою,  аналізу  твору, висловлення  оціночних  суджен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9720" indent="85030200">
              <a:spcBef>
                <a:spcPts val="64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Arial"/>
              </a:rPr>
              <a:t>Виховувати  любов  до  книги, читацьку  культу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"/>
          <p:cNvPicPr/>
          <p:nvPr/>
        </p:nvPicPr>
        <p:blipFill>
          <a:blip r:embed="rId6"/>
          <a:stretch/>
        </p:blipFill>
        <p:spPr>
          <a:xfrm>
            <a:off x="-6480" y="2133720"/>
            <a:ext cx="2922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-19440" y="1196640"/>
            <a:ext cx="7255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7200" spc="-1" strike="noStrike">
                <a:solidFill>
                  <a:srgbClr val="0000cc"/>
                </a:solidFill>
                <a:latin typeface="Arial"/>
              </a:rPr>
              <a:t>Д Я К У 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7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uk-UA" sz="7200" spc="-1" strike="noStrike">
                <a:solidFill>
                  <a:srgbClr val="0000cc"/>
                </a:solidFill>
                <a:latin typeface="Arial"/>
              </a:rPr>
              <a:t>З 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7200" spc="-1" strike="noStrike">
                <a:solidFill>
                  <a:srgbClr val="0000cc"/>
                </a:solidFill>
                <a:latin typeface="Arial"/>
              </a:rPr>
              <a:t>У В А Г 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Роботу підготув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Бабешко Катерина Володимирі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2013 р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C:\Users\admin\Desktop\raspisanie04062012.jpg"/>
          <p:cNvPicPr/>
          <p:nvPr/>
        </p:nvPicPr>
        <p:blipFill>
          <a:blip r:embed="rId2"/>
          <a:stretch/>
        </p:blipFill>
        <p:spPr>
          <a:xfrm>
            <a:off x="5950080" y="1057320"/>
            <a:ext cx="31939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492000" y="0"/>
            <a:ext cx="5651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Arial"/>
              </a:rPr>
              <a:t>Бабеш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Arial"/>
              </a:rPr>
              <a:t>Катерина  Володимирі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світ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вищ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НЗ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Полтавський     державний   педагогічний  університет  ім. В.Г.Корол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ісце робот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Чорноморсь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ВК «Школа-гімназія» №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сад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учитель української мови та літератури, світової літератури, художньої культури, педагог організа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-57240" y="1628640"/>
            <a:ext cx="3476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69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0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71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59200" y="0"/>
            <a:ext cx="52848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4000" spc="-1" strike="noStrike">
                <a:solidFill>
                  <a:srgbClr val="0000cc"/>
                </a:solidFill>
                <a:latin typeface="Arial"/>
              </a:rPr>
              <a:t>Тисячі  талантів лише  розповідають  про  те, </a:t>
            </a:r>
            <a:br>
              <a:rPr sz="4000"/>
            </a:br>
            <a:r>
              <a:rPr b="1" i="1" lang="uk-UA" sz="4000" spc="-1" strike="noStrike">
                <a:solidFill>
                  <a:srgbClr val="0000cc"/>
                </a:solidFill>
                <a:latin typeface="Arial"/>
              </a:rPr>
              <a:t>що має епоха, але тільки  геній </a:t>
            </a:r>
            <a:br>
              <a:rPr sz="4000"/>
            </a:br>
            <a:r>
              <a:rPr b="1" i="1" lang="uk-UA" sz="4000" spc="-1" strike="noStrike">
                <a:solidFill>
                  <a:srgbClr val="0000cc"/>
                </a:solidFill>
                <a:latin typeface="Arial"/>
              </a:rPr>
              <a:t>пророче  народжує </a:t>
            </a:r>
            <a:br>
              <a:rPr sz="4000"/>
            </a:br>
            <a:r>
              <a:rPr b="1" i="1" lang="uk-UA" sz="4000" spc="-1" strike="noStrike">
                <a:solidFill>
                  <a:srgbClr val="0000cc"/>
                </a:solidFill>
                <a:latin typeface="Arial"/>
              </a:rPr>
              <a:t>те,</a:t>
            </a:r>
            <a:br>
              <a:rPr sz="4000"/>
            </a:br>
            <a:r>
              <a:rPr b="1" i="1" lang="uk-UA" sz="4000" spc="-1" strike="noStrike">
                <a:solidFill>
                  <a:srgbClr val="0000cc"/>
                </a:solidFill>
                <a:latin typeface="Arial"/>
              </a:rPr>
              <a:t>чого  їй  бракує.</a:t>
            </a:r>
            <a:br>
              <a:rPr sz="4000"/>
            </a:br>
            <a:br>
              <a:rPr sz="4000"/>
            </a:br>
            <a:r>
              <a:rPr b="1" i="1" lang="uk-UA" sz="3600" spc="-1" strike="noStrike">
                <a:solidFill>
                  <a:srgbClr val="0000cc"/>
                </a:solidFill>
                <a:latin typeface="Arial"/>
              </a:rPr>
              <a:t>Е. Гейб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6"/>
          <a:stretch/>
        </p:blipFill>
        <p:spPr>
          <a:xfrm>
            <a:off x="1116000" y="2381400"/>
            <a:ext cx="2987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жованні  Боккаччо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</a:rPr>
              <a:t> (1313-137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77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8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79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C:\Users\admin\Desktop\декамерон\355px-boccaccio01.jpg"/>
          <p:cNvPicPr/>
          <p:nvPr/>
        </p:nvPicPr>
        <p:blipFill>
          <a:blip r:embed="rId6"/>
          <a:stretch/>
        </p:blipFill>
        <p:spPr>
          <a:xfrm>
            <a:off x="0" y="1197000"/>
            <a:ext cx="2916360" cy="56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1" name="Picture 15" descr="C:\Users\admin\Desktop\декамерон\bokacco_resize2.jpg"/>
          <p:cNvPicPr/>
          <p:nvPr/>
        </p:nvPicPr>
        <p:blipFill>
          <a:blip r:embed="rId7"/>
          <a:srcRect l="0" t="0" r="36" b="0"/>
          <a:stretch/>
        </p:blipFill>
        <p:spPr>
          <a:xfrm>
            <a:off x="6300720" y="1197000"/>
            <a:ext cx="2843280" cy="56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Picture 16" descr="C:\Users\admin\Desktop\декамерон\iвс.jpeg"/>
          <p:cNvPicPr/>
          <p:nvPr/>
        </p:nvPicPr>
        <p:blipFill>
          <a:blip r:embed="rId8"/>
          <a:stretch/>
        </p:blipFill>
        <p:spPr>
          <a:xfrm>
            <a:off x="2916360" y="1413000"/>
            <a:ext cx="3384360" cy="300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Picture 17" descr="C:\Users\admin\Desktop\декамерон\iю.jpeg"/>
          <p:cNvPicPr/>
          <p:nvPr/>
        </p:nvPicPr>
        <p:blipFill>
          <a:blip r:embed="rId9"/>
          <a:stretch/>
        </p:blipFill>
        <p:spPr>
          <a:xfrm>
            <a:off x="2916360" y="4059360"/>
            <a:ext cx="3384360" cy="279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6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380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Джованні  Боккаччо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  </a:t>
            </a:r>
            <a:br>
              <a:rPr sz="48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87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8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89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90" name="Двойная волна 1"/>
          <p:cNvSpPr/>
          <p:nvPr/>
        </p:nvSpPr>
        <p:spPr>
          <a:xfrm>
            <a:off x="2050920" y="1925640"/>
            <a:ext cx="4249800" cy="1511280"/>
          </a:xfrm>
          <a:custGeom>
            <a:avLst/>
            <a:gdLst>
              <a:gd name="textAreaLeft" fmla="*/ 0 w 4249800"/>
              <a:gd name="textAreaRight" fmla="*/ 4250160 w 4249800"/>
              <a:gd name="textAreaTop" fmla="*/ 188640 h 1511280"/>
              <a:gd name="textAreaBottom" fmla="*/ 1322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Визнаний учений-гуманіс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Блок-схема: перфолента 2"/>
          <p:cNvSpPr/>
          <p:nvPr/>
        </p:nvSpPr>
        <p:spPr>
          <a:xfrm>
            <a:off x="4859280" y="3424320"/>
            <a:ext cx="4033800" cy="180504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Відомий письменник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Блок-схема: перфолента 7"/>
          <p:cNvSpPr/>
          <p:nvPr/>
        </p:nvSpPr>
        <p:spPr>
          <a:xfrm>
            <a:off x="326880" y="4149720"/>
            <a:ext cx="4248360" cy="1655640"/>
          </a:xfrm>
          <a:prstGeom prst="flowChartPunchedTape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Авторитетний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юрист-канонік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Головний твір Боккаччо -</a:t>
            </a:r>
            <a:r>
              <a:rPr b="0" lang="ru-RU" sz="44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«Декамерон»</a:t>
            </a: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, задуманий  в 1348 і створений  в 1351-1353 роках</a:t>
            </a:r>
            <a:r>
              <a:rPr b="0" lang="ru-RU" sz="4400" spc="-1" strike="noStrike">
                <a:solidFill>
                  <a:srgbClr val="0000cc"/>
                </a:solidFill>
                <a:latin typeface="Century Schoolbook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96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7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98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C:\Users\admin\Desktop\декамерон\427776_101226191950.jpg"/>
          <p:cNvPicPr/>
          <p:nvPr/>
        </p:nvPicPr>
        <p:blipFill>
          <a:blip r:embed="rId6"/>
          <a:stretch/>
        </p:blipFill>
        <p:spPr>
          <a:xfrm>
            <a:off x="1476360" y="1946160"/>
            <a:ext cx="287964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80000" y="0"/>
            <a:ext cx="536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Цей  твір  підводить підсумок  цілої  епохи, завершує  собою величезний  період середньовічної культури  і  відкриває літературу  Нового часу. Боккаччо  став основоположником жанру  новели  і жанру  психологічного роману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C:\Users\admin\Desktop\декамерон\decamerone.jpg"/>
          <p:cNvPicPr/>
          <p:nvPr/>
        </p:nvPicPr>
        <p:blipFill>
          <a:blip r:embed="rId2"/>
          <a:stretch/>
        </p:blipFill>
        <p:spPr>
          <a:xfrm>
            <a:off x="826920" y="1773360"/>
            <a:ext cx="27432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vi-VN" sz="3200" spc="-1" strike="noStrike">
                <a:solidFill>
                  <a:srgbClr val="0000cc"/>
                </a:solidFill>
                <a:latin typeface="Century Schoolbook"/>
              </a:rPr>
              <a:t>Нове́ла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– це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невеликий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3200"/>
            </a:b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за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 обсягом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прозовий 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3200"/>
            </a:b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епічний 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твір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про 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незвичайну</a:t>
            </a:r>
            <a:br>
              <a:rPr sz="3200"/>
            </a:b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життєву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подію 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з 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3200"/>
            </a:b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несподіваним 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фіналом, 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сконденсованою 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та</a:t>
            </a:r>
            <a:br>
              <a:rPr sz="3200"/>
            </a:b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яскраво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вимальованою 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дією.</a:t>
            </a: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                     </a:t>
            </a: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Психологічний   роман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 – 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                      різновид  роману,  в  якому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                      автор  ставить  за  мету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                      зображення  і  дослідження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                      «внутрішнього  світу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                      людини»  і  «найтонших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                      порухів  її  душі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C:\Users\admin\Desktop\декамерон\633004.jpg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C:\Users\admin\Desktop\декамерон\ViewImage.jpeg"/>
          <p:cNvPicPr/>
          <p:nvPr/>
        </p:nvPicPr>
        <p:blipFill>
          <a:blip r:embed="rId3"/>
          <a:stretch/>
        </p:blipFill>
        <p:spPr>
          <a:xfrm>
            <a:off x="0" y="3429000"/>
            <a:ext cx="2484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38:56Z</dcterms:created>
  <dc:creator>Юлия</dc:creator>
  <dc:description/>
  <dc:language>en-US</dc:language>
  <cp:lastModifiedBy>проке</cp:lastModifiedBy>
  <dcterms:modified xsi:type="dcterms:W3CDTF">2013-11-15T03:24:13Z</dcterms:modified>
  <cp:revision>10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29000000000001024140</vt:lpwstr>
  </property>
</Properties>
</file>