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417-DB9C-404B-91A7-9935B069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459-11B0-4485-AF9D-01CB89A7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6D1-9DBC-48EA-9655-BC04798F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A1B-3942-4A99-84D5-450B9AA3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119-C359-4513-8D30-07882E1E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508-1529-43C1-9570-40B6CAB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5CF-9284-430F-BDD6-488BB935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EBD-72A8-4E9C-92E2-16F2E28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5DE-70F1-47B0-AF42-B049F50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369-691A-49F0-B32A-C4888C9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D0C-C97A-47E1-A24C-E029C16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D1A-B227-4ACF-9BD7-2C4F70C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1110-DA03-46B7-B4F5-AD41964A1EA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283160617_73.jpg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fun048.jpg"/>
          <p:cNvPicPr/>
          <p:nvPr/>
        </p:nvPicPr>
        <p:blipFill>
          <a:blip r:embed="rId1"/>
          <a:stretch/>
        </p:blipFill>
        <p:spPr>
          <a:xfrm>
            <a:off x="365040" y="549360"/>
            <a:ext cx="8518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Деньг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03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zhadina.jpg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48.jpg"/>
          <p:cNvPicPr/>
          <p:nvPr/>
        </p:nvPicPr>
        <p:blipFill>
          <a:blip r:embed="rId1"/>
          <a:stretch/>
        </p:blipFill>
        <p:spPr>
          <a:xfrm>
            <a:off x="414360" y="500040"/>
            <a:ext cx="8315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екреты-прода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47.jpg"/>
          <p:cNvPicPr/>
          <p:nvPr/>
        </p:nvPicPr>
        <p:blipFill>
          <a:blip r:embed="rId1"/>
          <a:stretch/>
        </p:blipFill>
        <p:spPr>
          <a:xfrm>
            <a:off x="324000" y="1116000"/>
            <a:ext cx="8496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46.jpg"/>
          <p:cNvPicPr/>
          <p:nvPr/>
        </p:nvPicPr>
        <p:blipFill>
          <a:blip r:embed="rId1"/>
          <a:stretch/>
        </p:blipFill>
        <p:spPr>
          <a:xfrm>
            <a:off x="250920" y="168120"/>
            <a:ext cx="87138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50.jpg"/>
          <p:cNvPicPr/>
          <p:nvPr/>
        </p:nvPicPr>
        <p:blipFill>
          <a:blip r:embed="rId1"/>
          <a:stretch/>
        </p:blipFill>
        <p:spPr>
          <a:xfrm>
            <a:off x="250920" y="996840"/>
            <a:ext cx="87138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ТЕМА УРОКУ</a:t>
            </a:r>
            <a:br>
              <a:rPr sz="40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“ВІЧНИЙ” ОБРАЗ 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“ФІЛОСОФА  Й СКНАРИ” У ПОВІСТІ  БАЛЬЗАКА  “ГОБСЕК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images.jpg"/>
          <p:cNvPicPr/>
          <p:nvPr/>
        </p:nvPicPr>
        <p:blipFill>
          <a:blip r:embed="rId1"/>
          <a:stretch/>
        </p:blipFill>
        <p:spPr>
          <a:xfrm>
            <a:off x="1042920" y="2924280"/>
            <a:ext cx="7129440" cy="36669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76320">
            <a:solidFill>
              <a:srgbClr val="98480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Золото – найгірша із отрут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для людської душі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В. Шекспір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Під купою грошей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може бути похоронена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людська душ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Н. Готор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8:49:59Z</dcterms:created>
  <dc:creator>Ирина</dc:creator>
  <dc:description/>
  <dc:language>en-US</dc:language>
  <cp:lastModifiedBy>Ирина</cp:lastModifiedBy>
  <dcterms:modified xsi:type="dcterms:W3CDTF">2012-12-10T19:26:58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a000000000001024140</vt:lpwstr>
  </property>
</Properties>
</file>