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6EC-480A-4621-9709-6B14266C7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8AAF-BBCF-4F24-9F9F-7E813F2A7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055-BEEA-4E41-A73E-A1CEEEA5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434-9BAE-4FAF-BD65-311135BC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8F13-2B37-4AA7-8D4D-6FB431F6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9139-DF10-4747-85AD-5262FDA6B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2CBD9-F268-4AA2-BBCB-B732298B7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6077-5358-4DEA-8F58-4CB927DAB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9970-B765-426C-B727-318E7232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79B6-B32E-4FFD-A276-7AA85565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32F7-1848-4D51-92E9-14C102A7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787F-1B4E-43D0-829E-34373232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C892-8158-4363-901C-70F333380443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3" descr="1283160617_73.jpg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fun048.jpg"/>
          <p:cNvPicPr/>
          <p:nvPr/>
        </p:nvPicPr>
        <p:blipFill>
          <a:blip r:embed="rId1"/>
          <a:stretch/>
        </p:blipFill>
        <p:spPr>
          <a:xfrm>
            <a:off x="365040" y="549360"/>
            <a:ext cx="851868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Деньги.wmv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503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1" descr="zhadina.jpg"/>
          <p:cNvPicPr/>
          <p:nvPr/>
        </p:nvPicPr>
        <p:blipFill>
          <a:blip r:embed="rId1"/>
          <a:stretch/>
        </p:blipFill>
        <p:spPr>
          <a:xfrm>
            <a:off x="611280" y="189000"/>
            <a:ext cx="79930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Рисунок 1" descr="48.jpg"/>
          <p:cNvPicPr/>
          <p:nvPr/>
        </p:nvPicPr>
        <p:blipFill>
          <a:blip r:embed="rId1"/>
          <a:stretch/>
        </p:blipFill>
        <p:spPr>
          <a:xfrm>
            <a:off x="414360" y="500040"/>
            <a:ext cx="83152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секреты-прода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Рисунок 1" descr="47.jpg"/>
          <p:cNvPicPr/>
          <p:nvPr/>
        </p:nvPicPr>
        <p:blipFill>
          <a:blip r:embed="rId1"/>
          <a:stretch/>
        </p:blipFill>
        <p:spPr>
          <a:xfrm>
            <a:off x="324000" y="1116000"/>
            <a:ext cx="8496000" cy="46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46.jpg"/>
          <p:cNvPicPr/>
          <p:nvPr/>
        </p:nvPicPr>
        <p:blipFill>
          <a:blip r:embed="rId1"/>
          <a:stretch/>
        </p:blipFill>
        <p:spPr>
          <a:xfrm>
            <a:off x="250920" y="168120"/>
            <a:ext cx="8713800" cy="652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Рисунок 1" descr="50.jpg"/>
          <p:cNvPicPr/>
          <p:nvPr/>
        </p:nvPicPr>
        <p:blipFill>
          <a:blip r:embed="rId1"/>
          <a:stretch/>
        </p:blipFill>
        <p:spPr>
          <a:xfrm>
            <a:off x="250920" y="996840"/>
            <a:ext cx="87138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5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 Black"/>
              </a:rPr>
              <a:t>ТЕМА УРОКУ</a:t>
            </a:r>
            <a:br>
              <a:rPr sz="4000"/>
            </a:b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“ВІЧНИЙ” ОБРАЗ </a:t>
            </a:r>
            <a:br>
              <a:rPr sz="3600"/>
            </a:br>
            <a:r>
              <a:rPr b="0" lang="uk-UA" sz="3600" spc="-1" strike="noStrike">
                <a:solidFill>
                  <a:srgbClr val="e46c0a"/>
                </a:solidFill>
                <a:latin typeface="Arial Black"/>
              </a:rPr>
              <a:t>“ФІЛОСОФА  Й СКНАРИ” У ПОВІСТІ  БАЛЬЗАКА  “ГОБСЕК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Содержимое 3" descr="images.jpg"/>
          <p:cNvPicPr/>
          <p:nvPr/>
        </p:nvPicPr>
        <p:blipFill>
          <a:blip r:embed="rId1"/>
          <a:stretch/>
        </p:blipFill>
        <p:spPr>
          <a:xfrm>
            <a:off x="1042920" y="2924280"/>
            <a:ext cx="7129440" cy="3666960"/>
          </a:xfrm>
          <a:prstGeom prst="rect">
            <a:avLst/>
          </a:prstGeom>
          <a:ln w="57240">
            <a:solidFill>
              <a:srgbClr val="e46c0a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00"/>
          </a:solidFill>
          <a:ln w="76320">
            <a:solidFill>
              <a:srgbClr val="984807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</a:t>
            </a: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Золото – найгірша із отрут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для людської душі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В. Шекспір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Під купою грошей 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може бути похоронена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людська душа.</a:t>
            </a:r>
            <a:br>
              <a:rPr sz="2800"/>
            </a:br>
            <a:r>
              <a:rPr b="0" lang="uk-UA" sz="2800" spc="-1" strike="noStrike">
                <a:solidFill>
                  <a:srgbClr val="000000"/>
                </a:solidFill>
                <a:latin typeface="Arial Black"/>
              </a:rPr>
              <a:t>                                                   Н. Готор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8:49:59Z</dcterms:created>
  <dc:creator>Ирина</dc:creator>
  <dc:description/>
  <dc:language>en-US</dc:language>
  <cp:lastModifiedBy>Ирина</cp:lastModifiedBy>
  <dcterms:modified xsi:type="dcterms:W3CDTF">2012-12-10T19:26:58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a60a000000000001024140</vt:lpwstr>
  </property>
</Properties>
</file>