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55F-DAAB-4760-BA09-897BB07E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A0C-77C8-44A9-949E-0450C0D5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8FA6-7597-42C1-B9D7-46FF3401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C8E-4E80-4A74-BEAB-014C0655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27F-B68C-4813-BAD7-1AFFD23C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1E4-5CC0-4EAE-B0CD-A2A3CF59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31C-84BF-42A6-B4C8-0764E565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7FF-F140-4723-9971-DC00705F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F9D-BB30-42DE-9ABD-9F89088A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18D-D77E-4F82-805A-CF1589B8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129-B8B9-45A0-9C75-5BAFEDA9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DF9-7F3B-4252-A960-5FC0C1CF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E7EF-C5B8-4BF1-9470-351378863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2971800" y="847800"/>
            <a:ext cx="1143000" cy="104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"/>
          <p:cNvPicPr/>
          <p:nvPr/>
        </p:nvPicPr>
        <p:blipFill>
          <a:blip r:embed="rId4"/>
          <a:stretch/>
        </p:blipFill>
        <p:spPr>
          <a:xfrm>
            <a:off x="1197000" y="4941720"/>
            <a:ext cx="114300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>
            <a:lum contrast="56000"/>
          </a:blip>
          <a:stretch/>
        </p:blipFill>
        <p:spPr>
          <a:xfrm>
            <a:off x="160200" y="1063800"/>
            <a:ext cx="1608120" cy="2171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6"/>
          <a:stretch/>
        </p:blipFill>
        <p:spPr>
          <a:xfrm>
            <a:off x="1943280" y="2860560"/>
            <a:ext cx="1143000" cy="10479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2"/>
          <p:cNvSpPr/>
          <p:nvPr/>
        </p:nvSpPr>
        <p:spPr>
          <a:xfrm>
            <a:off x="2543040" y="4667400"/>
            <a:ext cx="5257800" cy="1942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овж речення. Робота в зоши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бінзон Крузо – герой романів _________________</a:t>
            </a: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кий належить до жанру_____________________ про Робінзона Крузо, моряка з ________, який провів __________ на безлюдному острові після аварії корабля _____________. Можливо, роман написаний під впливом реальної історії, яка сталася з _______________ </a:t>
            </a:r>
            <a:r>
              <a:rPr b="1" i="1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  по 1  б за кожну вірну відповідь (Всього 6 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4237200" y="593640"/>
            <a:ext cx="5257800" cy="1486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лідницька робота.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бота з текс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читайте фрагмент тексту на звороті кар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знайдіть помилки і виправте їх просто у тексті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формулюйте одним реченням психологічний  стан уро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изначте, за допомогою яких художніх засобів у тексті розкрито душевний стан головного героя Д.Деф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+ 4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5"/>
          <p:cNvSpPr/>
          <p:nvPr/>
        </p:nvSpPr>
        <p:spPr>
          <a:xfrm rot="899400">
            <a:off x="-105840" y="3344400"/>
            <a:ext cx="1680840" cy="782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даткові ба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3306600" y="2641680"/>
            <a:ext cx="5257800" cy="1485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а ро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явіть, що ви –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’ятниця.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и знайшли щоденник Робінзона Крузо. Напишіть від імені героя один запис - роздум (до 5 речень) на тему: «Що важливіше: цивілізація чи дикунство?». Використовуйте лексику, яку вживав П’ятниця.                                                                                            + 2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32400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45720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0" y="2286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4"/>
          <p:cNvSpPr/>
          <p:nvPr/>
        </p:nvSpPr>
        <p:spPr>
          <a:xfrm>
            <a:off x="108000" y="404640"/>
            <a:ext cx="8891640" cy="77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istral"/>
                <a:ea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Mistral"/>
                <a:ea typeface="Calibri"/>
              </a:rPr>
              <a:t>Думаю, немає таких слів, якими можна було змалювати радісні почуття людини, що, так би мовити, піднялася з домовини. Я почав бігати і стрибати, я вимахував руками, я навіть співав і танцював. Вся моя істота, якщо можна так сказати, була охоплена думками про моє врятуван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istral"/>
                <a:ea typeface="Calibri"/>
              </a:rPr>
              <a:t>ЩОДЕН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Mistral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Mistr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76360" y="3911760"/>
          <a:ext cx="6912000" cy="4206600"/>
        </p:xfrm>
        <a:graphic>
          <a:graphicData uri="http://schemas.openxmlformats.org/drawingml/2006/table">
            <a:tbl>
              <a:tblPr/>
              <a:tblGrid>
                <a:gridCol w="3095640"/>
                <a:gridCol w="647640"/>
                <a:gridCol w="3168720"/>
              </a:tblGrid>
              <a:tr h="46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ДОБ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Але я не помер з голоду і не загинув  на цьому остров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ПОГАНЕ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Я відрізаний від людства,знаходжуся на острові, внаслідок     корабельної аварі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4"/>
          <p:cNvSpPr/>
          <p:nvPr/>
        </p:nvSpPr>
        <p:spPr>
          <a:xfrm>
            <a:off x="0" y="428760"/>
            <a:ext cx="8893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istr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642960" y="-6516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Mistral"/>
                <a:ea typeface="Calibri"/>
              </a:rPr>
              <a:t>Поради юним мандрівника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2920" y="2214720"/>
          <a:ext cx="9001080" cy="777240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81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Не треба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Читай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…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Будь обережний з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Не забувай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.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Сподівайся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Люб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Спостерігай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Не втрачай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Пам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ятай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Прагн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  <a:ea typeface="Calibri"/>
                        </a:rPr>
                        <a:t>Працюй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Будь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Почувайся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Роб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Намагайся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.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Старайся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Mistral"/>
                        </a:rPr>
                        <a:t>Будь сміливим пр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Box 7"/>
          <p:cNvSpPr/>
          <p:nvPr/>
        </p:nvSpPr>
        <p:spPr>
          <a:xfrm>
            <a:off x="214200" y="857160"/>
            <a:ext cx="89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Mistral"/>
              </a:rPr>
              <a:t>Любий друже, провівши багато часу на безлюдному острові, я вирішив залишити поради, які, сподіваюсь, допоможуть тобі не тільки в ситуації, в якій опинився я, а й у реальному житт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Владислав\Desktop\treehouses-nussraum-dusseldorf.jpg"/>
          <p:cNvPicPr/>
          <p:nvPr/>
        </p:nvPicPr>
        <p:blipFill>
          <a:blip r:embed="rId2"/>
          <a:stretch/>
        </p:blipFill>
        <p:spPr>
          <a:xfrm>
            <a:off x="426960" y="237960"/>
            <a:ext cx="6168960" cy="418788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3" descr=""/>
          <p:cNvPicPr/>
          <p:nvPr/>
        </p:nvPicPr>
        <p:blipFill>
          <a:blip r:embed="rId3"/>
          <a:stretch/>
        </p:blipFill>
        <p:spPr>
          <a:xfrm>
            <a:off x="1401840" y="5151600"/>
            <a:ext cx="78390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3" descr=""/>
          <p:cNvPicPr/>
          <p:nvPr/>
        </p:nvPicPr>
        <p:blipFill>
          <a:blip r:embed="rId2"/>
          <a:stretch/>
        </p:blipFill>
        <p:spPr>
          <a:xfrm>
            <a:off x="384120" y="5364000"/>
            <a:ext cx="8856720" cy="1305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Владислав\Desktop\g20.png"/>
          <p:cNvPicPr/>
          <p:nvPr/>
        </p:nvPicPr>
        <p:blipFill>
          <a:blip r:embed="rId3"/>
          <a:stretch/>
        </p:blipFill>
        <p:spPr>
          <a:xfrm>
            <a:off x="468360" y="0"/>
            <a:ext cx="45594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Box 3" descr=""/>
          <p:cNvPicPr/>
          <p:nvPr/>
        </p:nvPicPr>
        <p:blipFill>
          <a:blip r:embed="rId2"/>
          <a:stretch/>
        </p:blipFill>
        <p:spPr>
          <a:xfrm>
            <a:off x="-128520" y="5364000"/>
            <a:ext cx="946764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Владислав\Desktop\71939485_cruso301.jpg"/>
          <p:cNvPicPr/>
          <p:nvPr/>
        </p:nvPicPr>
        <p:blipFill>
          <a:blip r:embed="rId3"/>
          <a:stretch/>
        </p:blipFill>
        <p:spPr>
          <a:xfrm>
            <a:off x="853920" y="165240"/>
            <a:ext cx="37609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Box 3" descr=""/>
          <p:cNvPicPr/>
          <p:nvPr/>
        </p:nvPicPr>
        <p:blipFill>
          <a:blip r:embed="rId2"/>
          <a:stretch/>
        </p:blipFill>
        <p:spPr>
          <a:xfrm>
            <a:off x="1170000" y="5364000"/>
            <a:ext cx="8163000" cy="130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Владислав\Desktop\1272127228_7rlqbvien1hgacy.jpeg"/>
          <p:cNvPicPr/>
          <p:nvPr/>
        </p:nvPicPr>
        <p:blipFill>
          <a:blip r:embed="rId3"/>
          <a:stretch/>
        </p:blipFill>
        <p:spPr>
          <a:xfrm>
            <a:off x="1000080" y="811080"/>
            <a:ext cx="491976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Box 3" descr=""/>
          <p:cNvPicPr/>
          <p:nvPr/>
        </p:nvPicPr>
        <p:blipFill>
          <a:blip r:embed="rId2"/>
          <a:stretch/>
        </p:blipFill>
        <p:spPr>
          <a:xfrm>
            <a:off x="1457280" y="5364000"/>
            <a:ext cx="7547040" cy="130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Владислав\Desktop\i_018.png"/>
          <p:cNvPicPr/>
          <p:nvPr/>
        </p:nvPicPr>
        <p:blipFill>
          <a:blip r:embed="rId3"/>
          <a:stretch/>
        </p:blipFill>
        <p:spPr>
          <a:xfrm>
            <a:off x="468360" y="836640"/>
            <a:ext cx="577692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3" descr=""/>
          <p:cNvPicPr/>
          <p:nvPr/>
        </p:nvPicPr>
        <p:blipFill>
          <a:blip r:embed="rId2"/>
          <a:stretch/>
        </p:blipFill>
        <p:spPr>
          <a:xfrm>
            <a:off x="1457280" y="5364000"/>
            <a:ext cx="7626240" cy="130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Владислав\Desktop\i_004.png"/>
          <p:cNvPicPr/>
          <p:nvPr/>
        </p:nvPicPr>
        <p:blipFill>
          <a:blip r:embed="rId3"/>
          <a:stretch/>
        </p:blipFill>
        <p:spPr>
          <a:xfrm>
            <a:off x="900000" y="0"/>
            <a:ext cx="74772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extBox 3" descr=""/>
          <p:cNvPicPr/>
          <p:nvPr/>
        </p:nvPicPr>
        <p:blipFill>
          <a:blip r:embed="rId2"/>
          <a:stretch/>
        </p:blipFill>
        <p:spPr>
          <a:xfrm>
            <a:off x="1457280" y="5364000"/>
            <a:ext cx="7515360" cy="130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Владислав\Desktop\s320x240.jpg"/>
          <p:cNvPicPr/>
          <p:nvPr/>
        </p:nvPicPr>
        <p:blipFill>
          <a:blip r:embed="rId3"/>
          <a:stretch/>
        </p:blipFill>
        <p:spPr>
          <a:xfrm>
            <a:off x="353880" y="957240"/>
            <a:ext cx="504684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хема 1" descr=""/>
          <p:cNvPicPr/>
          <p:nvPr/>
        </p:nvPicPr>
        <p:blipFill>
          <a:blip r:embed="rId2"/>
          <a:stretch/>
        </p:blipFill>
        <p:spPr>
          <a:xfrm>
            <a:off x="390600" y="396720"/>
            <a:ext cx="8217000" cy="62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6:03:52Z</dcterms:created>
  <dc:creator>Владислав</dc:creator>
  <dc:description/>
  <dc:language>en-US</dc:language>
  <cp:lastModifiedBy>Admin</cp:lastModifiedBy>
  <dcterms:modified xsi:type="dcterms:W3CDTF">2013-02-06T07:42:38Z</dcterms:modified>
  <cp:revision>1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2a000000000001024140</vt:lpwstr>
  </property>
</Properties>
</file>