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F59-7AEB-40B9-BEB6-D3CF9EA3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49F-9C0E-448A-9BB9-DA9DA9A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F41-F544-4710-8977-6B5B3641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56E-25AA-426D-BF26-CA559AEB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166-DD85-4EE7-93F4-D90503B2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D36-6CE6-4F87-A987-06B5AB8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B8D-9882-4A80-BA84-1A99AE4E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D73-79AC-4D5E-9A6E-55BFF53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5EB-FB4A-4F9D-8AF1-731DE007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938-6838-4652-9DDF-53D12B1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AD6-7614-4CD6-9482-C45270F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12A-6401-4871-95A4-DDC29A76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10C-A2E3-49AE-801E-BA59F64A8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2971800" y="84780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4"/>
          <a:stretch/>
        </p:blipFill>
        <p:spPr>
          <a:xfrm>
            <a:off x="1197000" y="494172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>
            <a:lum contrast="56000"/>
          </a:blip>
          <a:stretch/>
        </p:blipFill>
        <p:spPr>
          <a:xfrm>
            <a:off x="160200" y="1063800"/>
            <a:ext cx="160812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6"/>
          <a:stretch/>
        </p:blipFill>
        <p:spPr>
          <a:xfrm>
            <a:off x="1943280" y="286056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2543040" y="4667400"/>
            <a:ext cx="5257800" cy="1942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вж речення. Робота в зоши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інзон Крузо – герой романів _________________</a:t>
            </a: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кий належить до жанру_____________________ про Робінзона Крузо, моряка з ________, який провів __________ на безлюдному острові після аварії корабля _____________. Можливо, роман написаний під впливом реальної історії, яка сталася з _______________ </a:t>
            </a: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по 1  б за кожну вірну відповідь (Всього 6 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237200" y="593640"/>
            <a:ext cx="5257800" cy="1486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лідницька робота.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а з текс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фрагмент тексту на звороті кар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знайдіть помилки і виправте їх просто у тексті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формулюйте одним реченням психологічний  стан уро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изначте, за допомогою яких художніх засобів у тексті розкрито душевний стан головного героя Д.Деф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+ 4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5"/>
          <p:cNvSpPr/>
          <p:nvPr/>
        </p:nvSpPr>
        <p:spPr>
          <a:xfrm rot="899400">
            <a:off x="-105840" y="3344400"/>
            <a:ext cx="1680840" cy="78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даткові ба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306600" y="2641680"/>
            <a:ext cx="5257800" cy="1485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а ро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явіть, що ви –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’ятниця.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 знайшли щоденник Робінзона Крузо. Напишіть від імені героя один запис - роздум (до 5 речень) на тему: «Що важливіше: цивілізація чи дикунство?». Використовуйте лексику, яку вживав П’ятниця.                                                                                            + 2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2400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720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108000" y="404640"/>
            <a:ext cx="889164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istral"/>
                <a:ea typeface="Calibri"/>
              </a:rPr>
              <a:t>Думаю, немає таких слів, якими можна було змалювати радісні почуття людини, що, так би мовити, піднялася з домовини. Я почав бігати і стрибати, я вимахував руками, я навіть співав і танцював. Вся моя істота, якщо можна так сказати, була охоплена думками про моє вряту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ЩОДЕН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Mistral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3911760"/>
          <a:ext cx="6912000" cy="4206600"/>
        </p:xfrm>
        <a:graphic>
          <a:graphicData uri="http://schemas.openxmlformats.org/drawingml/2006/table">
            <a:tbl>
              <a:tblPr/>
              <a:tblGrid>
                <a:gridCol w="3095640"/>
                <a:gridCol w="647640"/>
                <a:gridCol w="3168720"/>
              </a:tblGrid>
              <a:tr h="46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Але я не помер з голоду і не загинув  на цьому остров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ОГА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Я відрізаний від людства,знаходжуся на острові, внаслідок     корабельної авар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0" y="428760"/>
            <a:ext cx="889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642960" y="-6516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istral"/>
                <a:ea typeface="Calibri"/>
              </a:rPr>
              <a:t>Поради юним мандрівник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2920" y="2214720"/>
          <a:ext cx="9001080" cy="777240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81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Не треба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Чит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 обережний з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е забув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.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подів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Люб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постеріг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е втрач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Пам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ят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рагн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рацю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Почув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Роб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амаг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.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тар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 сміливим п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7"/>
          <p:cNvSpPr/>
          <p:nvPr/>
        </p:nvSpPr>
        <p:spPr>
          <a:xfrm>
            <a:off x="214200" y="85716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Mistral"/>
              </a:rPr>
              <a:t>Любий друже, провівши багато часу на безлюдному острові, я вирішив залишити поради, які, сподіваюсь, допоможуть тобі не тільки в ситуації, в якій опинився я, а й у реальному жит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ладислав\Desktop\treehouses-nussraum-dusseldorf.jpg"/>
          <p:cNvPicPr/>
          <p:nvPr/>
        </p:nvPicPr>
        <p:blipFill>
          <a:blip r:embed="rId2"/>
          <a:stretch/>
        </p:blipFill>
        <p:spPr>
          <a:xfrm>
            <a:off x="426960" y="237960"/>
            <a:ext cx="6168960" cy="4187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" descr=""/>
          <p:cNvPicPr/>
          <p:nvPr/>
        </p:nvPicPr>
        <p:blipFill>
          <a:blip r:embed="rId3"/>
          <a:stretch/>
        </p:blipFill>
        <p:spPr>
          <a:xfrm>
            <a:off x="1401840" y="5151600"/>
            <a:ext cx="78390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384120" y="5364000"/>
            <a:ext cx="8856720" cy="130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Владислав\Desktop\g20.png"/>
          <p:cNvPicPr/>
          <p:nvPr/>
        </p:nvPicPr>
        <p:blipFill>
          <a:blip r:embed="rId3"/>
          <a:stretch/>
        </p:blipFill>
        <p:spPr>
          <a:xfrm>
            <a:off x="468360" y="0"/>
            <a:ext cx="4559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3" descr=""/>
          <p:cNvPicPr/>
          <p:nvPr/>
        </p:nvPicPr>
        <p:blipFill>
          <a:blip r:embed="rId2"/>
          <a:stretch/>
        </p:blipFill>
        <p:spPr>
          <a:xfrm>
            <a:off x="-128520" y="5364000"/>
            <a:ext cx="946764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Владислав\Desktop\71939485_cruso301.jpg"/>
          <p:cNvPicPr/>
          <p:nvPr/>
        </p:nvPicPr>
        <p:blipFill>
          <a:blip r:embed="rId3"/>
          <a:stretch/>
        </p:blipFill>
        <p:spPr>
          <a:xfrm>
            <a:off x="853920" y="165240"/>
            <a:ext cx="37609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1170000" y="5364000"/>
            <a:ext cx="8163000" cy="130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Владислав\Desktop\1272127228_7rlqbvien1hgacy.jpeg"/>
          <p:cNvPicPr/>
          <p:nvPr/>
        </p:nvPicPr>
        <p:blipFill>
          <a:blip r:embed="rId3"/>
          <a:stretch/>
        </p:blipFill>
        <p:spPr>
          <a:xfrm>
            <a:off x="1000080" y="811080"/>
            <a:ext cx="49197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54704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Владислав\Desktop\i_018.png"/>
          <p:cNvPicPr/>
          <p:nvPr/>
        </p:nvPicPr>
        <p:blipFill>
          <a:blip r:embed="rId3"/>
          <a:stretch/>
        </p:blipFill>
        <p:spPr>
          <a:xfrm>
            <a:off x="468360" y="836640"/>
            <a:ext cx="5776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626240" cy="130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Владислав\Desktop\i_004.png"/>
          <p:cNvPicPr/>
          <p:nvPr/>
        </p:nvPicPr>
        <p:blipFill>
          <a:blip r:embed="rId3"/>
          <a:stretch/>
        </p:blipFill>
        <p:spPr>
          <a:xfrm>
            <a:off x="900000" y="0"/>
            <a:ext cx="7477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51536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Владислав\Desktop\s320x240.jpg"/>
          <p:cNvPicPr/>
          <p:nvPr/>
        </p:nvPicPr>
        <p:blipFill>
          <a:blip r:embed="rId3"/>
          <a:stretch/>
        </p:blipFill>
        <p:spPr>
          <a:xfrm>
            <a:off x="353880" y="957240"/>
            <a:ext cx="50468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хема 1" descr=""/>
          <p:cNvPicPr/>
          <p:nvPr/>
        </p:nvPicPr>
        <p:blipFill>
          <a:blip r:embed="rId2"/>
          <a:stretch/>
        </p:blipFill>
        <p:spPr>
          <a:xfrm>
            <a:off x="390600" y="396720"/>
            <a:ext cx="82170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6:03:52Z</dcterms:created>
  <dc:creator>Владислав</dc:creator>
  <dc:description/>
  <dc:language>en-US</dc:language>
  <cp:lastModifiedBy>Admin</cp:lastModifiedBy>
  <dcterms:modified xsi:type="dcterms:W3CDTF">2013-02-06T07:42:38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2a000000000001024140</vt:lpwstr>
  </property>
</Properties>
</file>