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4.jpeg" ContentType="image/jpeg"/>
  <Override PartName="/ppt/media/image19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5.png" ContentType="image/png"/>
  <Override PartName="/ppt/media/image28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1BA1-CF7B-4B6D-889E-BC309203C9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7F25-BE6A-4FB8-8D27-5C0D2FAF27D8}" type="slidenum">
              <a:rPr b="0" lang="ru-RU" sz="12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DD00-B386-4A86-8FC0-3465E8F38513}" type="slidenum">
              <a:rPr b="0" lang="ru-RU" sz="12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354-1117-425D-BFC5-E4DC1513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0E87-4EDF-4EA2-9008-5F11FFEA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92F3C-5813-49B2-ADE7-762D71AC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5C7B9-0756-4E47-9A7A-5D2AF9E9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8ABEC-3FC9-48BE-A0A7-0EE1EA8B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8BF6D-8FE8-4203-B6BB-5AF679DF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67D59-C0A3-4E2D-9108-618AA4BA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56159-E79B-4BB9-A77D-85CBB7C79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BAFAC-B298-47FD-8DDA-8C87FEAF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1CA72-5467-49AE-A3A1-8F54D894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EEA00-5FB5-4B55-85EC-38A368FA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3AAC8-2E01-422B-8ECE-24A563B3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7A39-2866-425A-8B4A-16FF4358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F92DD-D816-47E4-89F5-8481B611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759F0-E4D4-4B24-8581-A3F617D0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CBEA6-8549-4B03-84E1-714B9228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178B5-48F3-4C58-8226-6C680EAA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D6403-E26D-4A09-9ECB-72600C1A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00441-DC20-4A72-BC46-5D1A7922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A637B-836F-4D75-90CB-2E744295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76072-9B2F-41C7-8F43-85AFA52D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52C83-8D5B-4249-8AB7-0F24F1BA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A7FD3-9B90-45A9-8E5D-F913DD7A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91B-CF8A-45E8-8DCD-5EF42056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2E770-05B9-4A3F-8D0D-969307AD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67017-987F-4921-B0BC-049054F2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3F05D-B28C-4E04-A794-D5DC2986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5E89DA-DCB6-4928-904D-B028E3DE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508BE-97EF-488D-B2BD-9DE19003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4F4BE-64EF-4E1B-A71D-9BD64657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F3ED4-D4E8-4F9A-A420-A612CFEE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04B37-C772-47A8-8A3A-7B882C37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CCA08-394E-4A16-966D-7A983412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57146-1143-41FE-AD87-710C353D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5BFC-8276-4037-9AC5-EEA4427E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4EC3E-C768-4D6B-B4A1-0F55A049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C48B7-99E4-4DE4-BA27-640EAC11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635C7-4565-48AB-8642-C05757B9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88C85A-C05A-4548-8348-F64ECBDA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E1C303-0A52-493F-B08E-B921B476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25F52B-AD44-472E-985F-E5346EE8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7CC290-94FC-431B-8334-916EE2CF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33BAC9-F804-49D9-A6FA-9A771199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956475-B0D5-4543-83FD-E162855C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BC9B71-DAF8-46D0-B2F4-131048CC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F88C-4454-4D90-A3B5-00F9C77D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043B30-1D57-471B-914D-0B1ECDC7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DD2C6E-27D9-414B-B2B9-FB622899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0FDF26-C4BF-4861-A1BF-2CB0D7D6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7452B6-B23D-457E-B71B-17625F5C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FC5DAB-8B0B-410C-8982-D9D5796D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DD3531-0321-45DF-B969-4F25BD1A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71BE1B-3F7B-4B6B-9654-6DD6A30C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B0799D-9080-4AB0-9592-86C82C63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20076D-CDE0-45D2-9DFD-AD825121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D3324C-5339-48AA-83E5-83C2655E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96A1-F09B-457D-90BA-2DCB86A1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556437-209B-4532-A8A0-04015A5C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5DBF00-2FCC-45F7-9603-A1349C6D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F13298-FE13-4DAB-842B-982324BF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E3DD78-E141-4C84-B567-AE31FD5B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D813F4-A499-4879-BA85-4841E08E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68E749-8A0B-4FC9-A74E-B0E29C7A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77324F-DA77-4FC3-882A-E94B046D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177A5-12F2-435F-A648-24CA02E28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2F8F6-DCA6-4F34-A12B-2BB36DB7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F37FE-2AE8-457A-82E8-35FFBD21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BF6B-EF4A-42BE-BA4A-F3CF471A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9BD6E-CA81-4CCB-9D92-7456790C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9B83B-10AB-4C6D-BD9C-ACEEC76C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A7690-DB4D-45C0-813F-159EBCEB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989683-2D00-4633-B258-35575C74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FD8D2-C012-4812-9C31-A7048A44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61542-13AD-4AF2-8812-EDE4EC69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9CFB1-0CFE-449F-85F8-DEB2B527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D5E98-B54A-4CC7-AB4B-1C8579A2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0F518-CF36-4117-B20E-1AF8BC1A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549BE-F82C-44AE-9155-E131E525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6194-7212-49FF-837A-B26E83AD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9B683-0A3C-49F8-BF60-587C4E81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67389-55DA-461C-9FC1-35CE64CC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11CD1-1FB7-4322-9D1F-8EF6B979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42DED-2EB3-48DA-90C8-DEF885A4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765D08-4CC7-43E9-97A4-FB564089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06511-A709-4FA3-8352-E82B768F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F8C5F-DB11-48DE-A748-C92008D7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6FC0A3-FF6D-41AD-9B46-5C3A83CC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2300D-AA0A-4380-B096-51C7701C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4F47F-E75F-4657-B839-38881872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82D5-CF0F-4501-9A41-6240DAF2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1A9D4F-EF32-49B4-A1B5-60D40C2E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17640C-47C9-4869-8203-B8662FE6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7316A9-9959-44DF-85D1-07F9AA45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082ADD-2906-4B5A-9801-E3BB2CB7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A31ED4-73BD-48C2-9916-1251BA94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50B40-061E-4691-8BC8-D94536B9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0EF606-B6D2-46D9-B71A-1D664B92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8AA930-A739-419E-BC06-9E97BD6D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295BB-79D3-4914-AC87-3A157A9D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BB505F-1839-4276-83E1-BBA7D1CF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2C4B-9CC3-4CFA-8B85-54DB4518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20AAC-CDBD-4D80-B98A-CF631AB4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9F035F-A650-4393-BC32-070F9656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8A0936-C71D-4B7E-91F0-F59EFD2A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5867C9-EF00-4BAB-9EEF-81893A6A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DA4305-F4A6-4DDF-8722-77A0789B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22847A-BCD7-4C21-8C1C-3928A062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E93C31-4BF6-4167-8119-3B32FF6B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6423B8-D440-4C6A-A4EE-430316D1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C4AB30-ED51-49FB-A429-922C6BB8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5B4011-F219-432B-BB03-EA88BCD2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FCB-7BD9-4698-99EE-A661D9DB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4293-9FB8-48F3-B970-12B31817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39348B-F44F-4C8D-BA2D-0A198C28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469866-D1F4-40B6-B489-7266AB17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5E623A-1E23-4D33-A89E-74D8EBA3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6017A0-5815-49A3-9AEA-B4ED7BCF5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65935D-D3B0-4892-BAC3-655DC12F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2AAFCC-A5C9-4F03-A7FE-D42D6EAA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28AD31-2C57-4352-8B99-2A31B74B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E9D477-00AF-4E25-A966-80B17B44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33C170-4D76-414D-80FB-88BDB0D2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3F49D5-30CB-4B5E-9BA6-CFE4DE3D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428E-9842-4D86-B253-298DDD80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C1DDA-A6D7-45E9-91D6-7399968D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77DBC2-105F-4E18-A123-719EA47C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BB092-DA60-49B4-9905-31D2204E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06D152-D482-4069-BA26-799DC957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4BFACB-5810-4DE9-8C83-1A7415AE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6B8C1C-3CA6-4B32-9FF6-A29EA462E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B6CD26-C408-413D-80FE-21EE5259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A0A499-F257-4293-9A1A-9D322933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302423-193E-4497-8FF1-922AE2BD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5E2CBE-1E6F-4823-8D53-1C069177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B423-11E5-4C99-85C1-08F1644F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ABBB6F-A447-43F9-912C-B82EBDC5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8D6A25-7856-4700-8E43-0C2E8561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C474BB-370C-4817-B983-0C6CBE64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242699-2E1C-4A40-B9F8-62B1C79D5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C9EED2-23D3-4BFF-9114-117AF97E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510656-59FE-49FC-9582-BB8BA29D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31D792-3EDB-4657-9732-DC1408BB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515E0F-29EA-48EE-9BB0-7EDC78C5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A6DEC7-8FA0-48E7-9A6A-D4EEAD42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EE761B-A608-40DB-A947-1E7DA15D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F5AE-04EC-42D2-9FDC-09526ABC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85713C-52C2-4CE9-8A0C-C21FA47E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E602CC-8D47-4641-8E14-A8B0509C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B1D516-1B98-4FA4-A9E6-6CD68368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FFC0A7-F0FB-4DB1-95F8-99406141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F58787-B99B-4063-8A05-12E06055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56BCAE-BDD8-409D-B1AA-97B2C411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F65BCB-119E-4558-9016-1B0FCF95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4806C9-6C18-4197-88CC-E3E647C8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225AF0-EB50-4A77-8B0A-00325AC4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C262EC-3F4C-4E6C-BB9D-5F2B7559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12E6-B5E0-4BC2-BE39-A07EFB08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D6AD1A-68A4-429A-B7E1-70867B1C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F899EA-1B33-4652-B532-EACE2C0E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AFDA8F-C499-4E61-B754-2D7DA725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1DFB15-313E-455D-A52C-D7D5C58D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F087BE-D954-4099-9C28-816C5F87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4C7A15-B8C6-4F4E-B332-73303A4F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737876-AE70-48F7-9D6B-3C5DC89F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A5673C-9556-455A-823B-1C38E65D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B15A7B-60F8-41BB-80F4-3FE01450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B69AA9-C828-4A64-8209-4E4C8B43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801C0-2C95-46EC-BDAE-9D526F55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B51E8C-1599-4D6A-9BBF-C5CCD502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13741C-580A-4DAF-8AC2-9CEB4740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65509F-7FC2-41E2-A3B6-E14D5C20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B7B7FB-24DC-4EBA-8790-00DE8402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7873CC-922B-4ADE-AE35-F9B7A57A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0DE5E1-86DD-4E0F-93E4-4C180815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4BAA8C-A259-4030-A6DA-0A9023F7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9352AD-64FA-4F3F-B32C-5A559FC0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B629AB-50FC-44BC-B38B-A0BBB773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809260-7B77-4258-B2EA-E8A4C477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26A89-FCB0-440B-8D5D-C8B42FD4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C0AD03-D2AC-4CFB-8209-8AA9FDE8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D4292A-366A-457A-9D90-DF7C7720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78158A-0D99-449E-BB92-FFEF40B7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C6A9D2-6177-4476-B574-AE8C37EE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672FB5-6632-4464-87EB-B07F2DFE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CC413-D832-4335-A691-95E02321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D0B3C-BBEB-4510-9062-D973784F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1F492-89E0-4D07-B664-A0F50AA2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15F-76D7-446F-99FA-E04F2263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D197F-77F1-4EFD-AFB4-246BA4B1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4797C-FAF6-45FD-A550-5447F809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9E68C-B735-4E3A-8CE8-80EF585E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06F57-17F6-459A-B2CC-C8D56CD5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568DA-E130-443F-A89F-9D4D63DB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A7979-D21D-4067-87B4-FFB7F56B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0D535-0D3C-4FBA-8DBD-0CBEBA8C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F23CD-AF67-4822-B57D-37C7C091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67F97-A883-484F-9B60-1509492F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B58B4-73C3-48D7-9BE4-666A0BF7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4B55-8FC0-4ECC-B47A-71EAA656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16F25-B05F-460E-B15E-CAC184E8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FD4DC-6DDB-4BB4-97F8-4F892F07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50820-6037-4E60-97C6-F72DC151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FD19A-07AD-44E4-BC89-6A2C24EC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4D77D-D1C7-4477-B85D-AC1C6C4D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B6E86-CA2C-42E4-8C09-BEA7A232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93B58-52E8-4AB0-9D3E-7779220A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1DC8F-C725-4129-B829-05E70396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995E1-119D-4F53-BFF7-AA67FEED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942D19-1992-4684-8ABC-743A2C8E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6C7-075B-4C67-909C-9C755149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779E2F-89AE-4E85-8D7D-0994FD1B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D6800-6484-416E-A68A-F4D133AB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757204-C598-405C-978C-D384421E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5B2AF-20CA-4F6E-AF51-7587A67E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5FF27-6F91-479E-BA10-42165281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86744B-26E9-4538-9F31-BA3FE765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C9945C-A0F0-4D9D-9399-3F153586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D53310-EA4E-4B7F-B08A-5E8185C8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2F9597-362C-4662-941F-8F9622B7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CEDEAA-9E3B-42F4-B590-4A205051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F59A-8ED2-43F1-AF20-86BBF8D5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0DF35C-A4B4-4AA5-A0E4-7FFFA7D8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5A73-0AB2-48E6-A75F-DA65B123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1E99-9310-409C-8AD2-F7655DAF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A3FCA-05B0-404F-8A5E-3A678CDD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0D971-23B2-4993-A3F2-AA2D589F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395F9-4941-44C3-9048-B5069BE7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13E65-3265-41FB-AD4C-2CA499CE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FD193-8D84-4D3A-9057-9EF3F482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A51-D63A-4CA4-B02A-618A2C73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5FECF-B263-44F8-873E-A840992E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2FC95-3FFB-4872-82D6-6041D968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73B3C-C7BD-4545-8D44-FBB1060D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A684E-43F2-4058-AE56-80153AEA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54F3A-02C4-42B5-B568-52AB4BB6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7AF1E-1235-45B2-9B34-A1B65542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191CE-E595-41EA-81BC-5A4A6932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9F9B9-70BC-48EF-A94C-667A6F5B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6B129-3A2F-46E9-B599-70E226DB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16DB0-2C1E-45A8-A059-AB499C22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81.xml"/><Relationship Id="rId10" Type="http://schemas.openxmlformats.org/officeDocument/2006/relationships/slideLayout" Target="../slideLayouts/slideLayout182.xml"/><Relationship Id="rId11" Type="http://schemas.openxmlformats.org/officeDocument/2006/relationships/slideLayout" Target="../slideLayouts/slideLayout183.xml"/><Relationship Id="rId12" Type="http://schemas.openxmlformats.org/officeDocument/2006/relationships/slideLayout" Target="../slideLayouts/slideLayout184.xml"/><Relationship Id="rId13" Type="http://schemas.openxmlformats.org/officeDocument/2006/relationships/slideLayout" Target="../slideLayouts/slideLayout185.xml"/><Relationship Id="rId14" Type="http://schemas.openxmlformats.org/officeDocument/2006/relationships/slideLayout" Target="../slideLayouts/slideLayout186.xml"/><Relationship Id="rId15" Type="http://schemas.openxmlformats.org/officeDocument/2006/relationships/slideLayout" Target="../slideLayouts/slideLayout187.xml"/><Relationship Id="rId16" Type="http://schemas.openxmlformats.org/officeDocument/2006/relationships/slideLayout" Target="../slideLayouts/slideLayout188.xml"/><Relationship Id="rId17" Type="http://schemas.openxmlformats.org/officeDocument/2006/relationships/slideLayout" Target="../slideLayouts/slideLayout189.xml"/><Relationship Id="rId18" Type="http://schemas.openxmlformats.org/officeDocument/2006/relationships/slideLayout" Target="../slideLayouts/slideLayout190.xml"/><Relationship Id="rId19" Type="http://schemas.openxmlformats.org/officeDocument/2006/relationships/slideLayout" Target="../slideLayouts/slideLayout191.xml"/><Relationship Id="rId20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41.xml"/><Relationship Id="rId10" Type="http://schemas.openxmlformats.org/officeDocument/2006/relationships/slideLayout" Target="../slideLayouts/slideLayout242.xml"/><Relationship Id="rId11" Type="http://schemas.openxmlformats.org/officeDocument/2006/relationships/slideLayout" Target="../slideLayouts/slideLayout243.xml"/><Relationship Id="rId12" Type="http://schemas.openxmlformats.org/officeDocument/2006/relationships/slideLayout" Target="../slideLayouts/slideLayout244.xml"/><Relationship Id="rId13" Type="http://schemas.openxmlformats.org/officeDocument/2006/relationships/slideLayout" Target="../slideLayouts/slideLayout245.xml"/><Relationship Id="rId14" Type="http://schemas.openxmlformats.org/officeDocument/2006/relationships/slideLayout" Target="../slideLayouts/slideLayout246.xml"/><Relationship Id="rId15" Type="http://schemas.openxmlformats.org/officeDocument/2006/relationships/slideLayout" Target="../slideLayouts/slideLayout247.xml"/><Relationship Id="rId16" Type="http://schemas.openxmlformats.org/officeDocument/2006/relationships/slideLayout" Target="../slideLayouts/slideLayout248.xml"/><Relationship Id="rId17" Type="http://schemas.openxmlformats.org/officeDocument/2006/relationships/slideLayout" Target="../slideLayouts/slideLayout249.xml"/><Relationship Id="rId18" Type="http://schemas.openxmlformats.org/officeDocument/2006/relationships/slideLayout" Target="../slideLayouts/slideLayout250.xml"/><Relationship Id="rId19" Type="http://schemas.openxmlformats.org/officeDocument/2006/relationships/slideLayout" Target="../slideLayouts/slideLayout251.xml"/><Relationship Id="rId20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600" y="6559200"/>
            <a:ext cx="2438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2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5560" y="6557760"/>
            <a:ext cx="46483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72360" y="6559200"/>
            <a:ext cx="914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32F0-DDA9-4380-880F-36F43B717B1A}" type="slidenum">
              <a:rPr b="0" lang="ru-RU" sz="12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16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418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19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42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422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23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425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426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428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429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431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432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33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4895-F5C3-4E92-9DF1-42F6C41F4463}" type="slidenum"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477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479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480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482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483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84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2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2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9ED4-43B6-4E92-B2D0-6FD09FC3FE97}" type="slidenum"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53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3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53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53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3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537" name="Rectangle 5"/>
          <p:cNvSpPr/>
          <p:nvPr/>
        </p:nvSpPr>
        <p:spPr>
          <a:xfrm>
            <a:off x="176040" y="187200"/>
            <a:ext cx="8763120" cy="62136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499000" sp="201000"/>
            </a:custDash>
            <a:miter/>
          </a:ln>
          <a:effectLst>
            <a:outerShdw dist="12600" dir="5400000" blurRad="0" rotWithShape="0">
              <a:srgbClr val="ffffff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sldNum" idx="2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7D09-90F2-4D63-B682-BB1BDA8F4545}" type="slidenum"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80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582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83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585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586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87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3055-B5B1-4614-B78E-2F7647694452}" type="slidenum"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3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31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633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34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636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637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38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7D25-9A68-41CB-B09D-0DE273B05009}" type="slidenum"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68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68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68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68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68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8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3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3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3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E9BC-167E-4243-A2BC-15CEDB77519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73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73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73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73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73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74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74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74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74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74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74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74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75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4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4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4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44DC-FBE6-4FA9-BAA7-7BE0739E738C}" type="slidenum"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9"/>
    <p:sldLayoutId id="2147483845" r:id="rId10"/>
    <p:sldLayoutId id="2147483846" r:id="rId11"/>
    <p:sldLayoutId id="2147483847" r:id="rId12"/>
    <p:sldLayoutId id="2147483848" r:id="rId13"/>
    <p:sldLayoutId id="2147483849" r:id="rId14"/>
    <p:sldLayoutId id="2147483850" r:id="rId15"/>
    <p:sldLayoutId id="2147483851" r:id="rId16"/>
    <p:sldLayoutId id="2147483852" r:id="rId17"/>
    <p:sldLayoutId id="2147483853" r:id="rId18"/>
    <p:sldLayoutId id="2147483854" r:id="rId19"/>
    <p:sldLayoutId id="2147483855" r:id="rId20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79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79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79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79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80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0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4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4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4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C0CB-B229-4A05-99BA-8970705E45F5}" type="slidenum"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84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84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84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85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85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5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dt" idx="4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ftr" idx="4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 type="sldNum" idx="4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B4A7-9C69-4E74-83D3-EB4AEF974CE7}" type="slidenum">
              <a:rPr b="1" lang="uk-UA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896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898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899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901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902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903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4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5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5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1687-6D0E-4434-A274-BE6B1D2DB85F}" type="slidenum"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4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4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4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4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12DD-B299-4F99-A7CC-9E18A2116677}" type="slidenum"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947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949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950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952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953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954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5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5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5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2181-FE9F-4B05-B2E8-E68830A9303E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998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9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1000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01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2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1003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100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05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1007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008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1010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011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1013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1014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15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55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56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57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0460-E027-473C-8C51-781B944FDBD8}" type="slidenum"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9"/>
    <p:sldLayoutId id="2147483910" r:id="rId10"/>
    <p:sldLayoutId id="2147483911" r:id="rId11"/>
    <p:sldLayoutId id="2147483912" r:id="rId12"/>
    <p:sldLayoutId id="2147483913" r:id="rId13"/>
    <p:sldLayoutId id="2147483914" r:id="rId14"/>
    <p:sldLayoutId id="2147483915" r:id="rId15"/>
    <p:sldLayoutId id="2147483916" r:id="rId16"/>
    <p:sldLayoutId id="2147483917" r:id="rId17"/>
    <p:sldLayoutId id="2147483918" r:id="rId18"/>
    <p:sldLayoutId id="2147483919" r:id="rId19"/>
    <p:sldLayoutId id="2147483920" r:id="rId20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05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1061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062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1064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1065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66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dt" idx="58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 type="ftr" idx="59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 type="sldNum" idx="60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7438-67DA-42D3-9610-0AEED3D6366B}" type="slidenum"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9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9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9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9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9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0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0EB1-3CAC-4A0C-A3A7-A0631FF7F632}" type="slidenum"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4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14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4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14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FC6A-1D32-4A8D-A5FE-D62E9053354C}" type="slidenum"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53960" y="5181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76040" y="187200"/>
            <a:ext cx="8763120" cy="6213600"/>
          </a:xfrm>
          <a:prstGeom prst="rect">
            <a:avLst/>
          </a:prstGeom>
          <a:noFill/>
          <a:ln cap="rnd" w="9360">
            <a:solidFill>
              <a:srgbClr val="6c6c6c"/>
            </a:solidFill>
            <a:custDash>
              <a:ds d="499000" sp="201000"/>
            </a:custDash>
            <a:miter/>
          </a:ln>
          <a:effectLst>
            <a:outerShdw dist="1260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66600" y="6559200"/>
            <a:ext cx="2438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2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4"/>
          </p:nvPr>
        </p:nvSpPr>
        <p:spPr>
          <a:xfrm>
            <a:off x="8172360" y="6559200"/>
            <a:ext cx="914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2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72EE-D29B-424F-820E-47103E8F3A2F}" type="slidenum">
              <a:rPr b="0" lang="ru-RU" sz="1200" spc="-1" strike="noStrike">
                <a:solidFill>
                  <a:srgbClr val="d4d2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5"/>
          </p:nvPr>
        </p:nvSpPr>
        <p:spPr>
          <a:xfrm>
            <a:off x="2995560" y="6557760"/>
            <a:ext cx="46483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31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31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31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31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32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32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212745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A266-6CD5-4A81-BACB-0D62F49BB956}" type="slidenum">
              <a:rPr b="1" lang="ru-RU" sz="1200" spc="-1" strike="noStrike">
                <a:solidFill>
                  <a:srgbClr val="212745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365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368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37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grpSp>
        <p:nvGrpSpPr>
          <p:cNvPr id="371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372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Schoolbook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7F1C-FDFE-4E58-B7B4-EA96A5D7CF35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2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Title 6" descr=""/>
          <p:cNvPicPr/>
          <p:nvPr/>
        </p:nvPicPr>
        <p:blipFill>
          <a:blip r:embed="rId2"/>
          <a:stretch/>
        </p:blipFill>
        <p:spPr>
          <a:xfrm>
            <a:off x="353880" y="298440"/>
            <a:ext cx="8309160" cy="2225520"/>
          </a:xfrm>
          <a:prstGeom prst="rect">
            <a:avLst/>
          </a:prstGeom>
          <a:ln w="0">
            <a:noFill/>
          </a:ln>
        </p:spPr>
      </p:pic>
      <p:sp>
        <p:nvSpPr>
          <p:cNvPr id="1117" name="PlaceHolder 1"/>
          <p:cNvSpPr>
            <a:spLocks noGrp="1"/>
          </p:cNvSpPr>
          <p:nvPr>
            <p:ph/>
          </p:nvPr>
        </p:nvSpPr>
        <p:spPr>
          <a:xfrm>
            <a:off x="0" y="2071800"/>
            <a:ext cx="4968720" cy="4176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0000"/>
                </a:solidFill>
                <a:latin typeface="Calibri"/>
              </a:rPr>
              <a:t>«Хто керує минулим, той, керує майбутнім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0000"/>
                </a:solidFill>
                <a:latin typeface="Calibri"/>
              </a:rPr>
              <a:t>Хто керує сьогоденням, керує минулим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rebuchet MS"/>
              </a:rPr>
              <a:t>Джордж Орвелл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2060"/>
                </a:solidFill>
                <a:latin typeface="Calibri"/>
              </a:rPr>
              <a:t>Божевілля виняток серед людей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2060"/>
                </a:solidFill>
                <a:latin typeface="Calibri"/>
              </a:rPr>
              <a:t>натомість для груп, партій, народів та часів – це правило</a:t>
            </a:r>
            <a:r>
              <a:rPr b="0" lang="uk-UA" sz="2400" spc="-1" strike="noStrike">
                <a:solidFill>
                  <a:srgbClr val="00206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2060"/>
                </a:solidFill>
                <a:latin typeface="Trebuchet MS"/>
              </a:rPr>
              <a:t>Ф.Ніцш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118" name="Рисунок 2" descr="Джордж Оруелл"/>
          <p:cNvPicPr/>
          <p:nvPr/>
        </p:nvPicPr>
        <p:blipFill>
          <a:blip r:embed="rId3"/>
          <a:stretch/>
        </p:blipFill>
        <p:spPr>
          <a:xfrm>
            <a:off x="5214960" y="2000160"/>
            <a:ext cx="3357720" cy="43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0" y="566064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212745"/>
                </a:solidFill>
                <a:latin typeface="Trebuchet MS"/>
              </a:rPr>
              <a:t>Не можна людину насильно заганяти в «щасливе майбутнє».</a:t>
            </a:r>
            <a:r>
              <a:rPr b="1" lang="en-US" sz="24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lang="uk-UA" sz="2400" spc="-1" strike="noStrike">
                <a:solidFill>
                  <a:srgbClr val="212745"/>
                </a:solidFill>
                <a:latin typeface="Trebuchet MS"/>
              </a:rPr>
              <a:t>Тільки </a:t>
            </a:r>
            <a:r>
              <a:rPr b="1" lang="en-US" sz="24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lang="uk-UA" sz="2400" spc="-1" strike="noStrike">
                <a:solidFill>
                  <a:srgbClr val="212745"/>
                </a:solidFill>
                <a:latin typeface="Trebuchet MS"/>
              </a:rPr>
              <a:t>в духовній свободі </a:t>
            </a:r>
            <a:r>
              <a:rPr b="1" lang="ru-RU" sz="2400" spc="-1" strike="noStrike">
                <a:solidFill>
                  <a:srgbClr val="212745"/>
                </a:solidFill>
                <a:latin typeface="Trebuchet MS"/>
              </a:rPr>
              <a:t> - </a:t>
            </a:r>
            <a:r>
              <a:rPr b="1" lang="uk-UA" sz="2400" spc="-1" strike="noStrike">
                <a:solidFill>
                  <a:srgbClr val="212745"/>
                </a:solidFill>
                <a:latin typeface="Trebuchet MS"/>
              </a:rPr>
              <a:t>єдиний</a:t>
            </a:r>
            <a:r>
              <a:rPr b="1" lang="en-US" sz="24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lang="uk-UA" sz="2400" spc="-1" strike="noStrike">
                <a:solidFill>
                  <a:srgbClr val="212745"/>
                </a:solidFill>
                <a:latin typeface="Trebuchet MS"/>
              </a:rPr>
              <a:t> порятунок від</a:t>
            </a:r>
            <a:r>
              <a:rPr b="1" lang="en-US" sz="24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lang="uk-UA" sz="2400" spc="-1" strike="noStrike">
                <a:solidFill>
                  <a:srgbClr val="212745"/>
                </a:solidFill>
                <a:latin typeface="Trebuchet MS"/>
              </a:rPr>
              <a:t> перемоги тоталітаризм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150" name="Picture 7" descr="Interaura._Chuvstvo_vnutrenney_svobody.jpg"/>
          <p:cNvPicPr/>
          <p:nvPr/>
        </p:nvPicPr>
        <p:blipFill>
          <a:blip r:embed="rId2"/>
          <a:stretch/>
        </p:blipFill>
        <p:spPr>
          <a:xfrm>
            <a:off x="0" y="549360"/>
            <a:ext cx="6508800" cy="496728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8" descr="ANd9GcTR4IuDrEWp7n7t1iWqwqd4g08Mp09xMvGzuCQC0p_7-g_8wMH3mw"/>
          <p:cNvPicPr/>
          <p:nvPr/>
        </p:nvPicPr>
        <p:blipFill>
          <a:blip r:embed="rId3"/>
          <a:stretch/>
        </p:blipFill>
        <p:spPr>
          <a:xfrm>
            <a:off x="5796000" y="981000"/>
            <a:ext cx="334800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55b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Рисунок 5" descr="N6733_1.jpg"/>
          <p:cNvPicPr/>
          <p:nvPr/>
        </p:nvPicPr>
        <p:blipFill>
          <a:blip r:embed="rId1"/>
          <a:stretch/>
        </p:blipFill>
        <p:spPr>
          <a:xfrm>
            <a:off x="6991200" y="1066680"/>
            <a:ext cx="2159280" cy="2706840"/>
          </a:xfrm>
          <a:prstGeom prst="rect">
            <a:avLst/>
          </a:prstGeom>
          <a:ln w="0">
            <a:noFill/>
          </a:ln>
        </p:spPr>
      </p:pic>
      <p:pic>
        <p:nvPicPr>
          <p:cNvPr id="1153" name="Рисунок 6" descr="url.jpeg"/>
          <p:cNvPicPr/>
          <p:nvPr/>
        </p:nvPicPr>
        <p:blipFill>
          <a:blip r:embed="rId2"/>
          <a:stretch/>
        </p:blipFill>
        <p:spPr>
          <a:xfrm>
            <a:off x="920880" y="3852720"/>
            <a:ext cx="3157560" cy="3206880"/>
          </a:xfrm>
          <a:prstGeom prst="rect">
            <a:avLst/>
          </a:prstGeom>
          <a:ln w="0">
            <a:noFill/>
          </a:ln>
        </p:spPr>
      </p:pic>
      <p:pic>
        <p:nvPicPr>
          <p:cNvPr id="1154" name="Рисунок 7" descr="рррurl.jpeg"/>
          <p:cNvPicPr/>
          <p:nvPr/>
        </p:nvPicPr>
        <p:blipFill>
          <a:blip r:embed="rId3"/>
          <a:stretch/>
        </p:blipFill>
        <p:spPr>
          <a:xfrm>
            <a:off x="-6480" y="706320"/>
            <a:ext cx="2657520" cy="3060720"/>
          </a:xfrm>
          <a:prstGeom prst="rect">
            <a:avLst/>
          </a:prstGeom>
          <a:ln w="0">
            <a:noFill/>
          </a:ln>
        </p:spPr>
      </p:pic>
      <p:sp>
        <p:nvSpPr>
          <p:cNvPr id="1155" name="Прямоугольник 8"/>
          <p:cNvSpPr/>
          <p:nvPr/>
        </p:nvSpPr>
        <p:spPr>
          <a:xfrm>
            <a:off x="2928960" y="285840"/>
            <a:ext cx="52862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d0d0d"/>
                </a:solidFill>
                <a:latin typeface="Arial"/>
                <a:ea typeface="Arial"/>
              </a:rPr>
              <a:t>"Тверезість розуму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d0d0d"/>
                </a:solidFill>
                <a:latin typeface="Arial"/>
                <a:ea typeface="Arial"/>
              </a:rPr>
              <a:t>і сила духу – 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d0d0d"/>
                </a:solidFill>
                <a:latin typeface="Arial"/>
                <a:ea typeface="Arial"/>
              </a:rPr>
              <a:t>ось панацея 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d0d0d"/>
                </a:solidFill>
                <a:latin typeface="Arial"/>
                <a:ea typeface="Arial"/>
              </a:rPr>
              <a:t>від небезпечних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d0d0d"/>
                </a:solidFill>
                <a:latin typeface="Arial"/>
                <a:ea typeface="Arial"/>
              </a:rPr>
              <a:t>бажань"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d0d0d"/>
                </a:solidFill>
                <a:latin typeface="Arial"/>
                <a:ea typeface="Arial"/>
              </a:rPr>
              <a:t>Г.Г.Маркес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d0d0d"/>
                </a:solidFill>
                <a:latin typeface="Arial"/>
                <a:ea typeface="Arial"/>
              </a:rPr>
              <a:t>“</a:t>
            </a:r>
            <a:r>
              <a:rPr b="0" i="1" lang="uk-UA" sz="3600" spc="-1" strike="noStrike">
                <a:solidFill>
                  <a:srgbClr val="0d0d0d"/>
                </a:solidFill>
                <a:latin typeface="Arial"/>
                <a:ea typeface="Arial"/>
              </a:rPr>
              <a:t>Осінь патріарха"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Скругленный прямоугольник 4"/>
          <p:cNvSpPr/>
          <p:nvPr/>
        </p:nvSpPr>
        <p:spPr>
          <a:xfrm>
            <a:off x="3000240" y="2214720"/>
            <a:ext cx="2857680" cy="2143080"/>
          </a:xfrm>
          <a:prstGeom prst="roundRect">
            <a:avLst>
              <a:gd name="adj" fmla="val 16667"/>
            </a:avLst>
          </a:prstGeom>
          <a:solidFill>
            <a:srgbClr val="23735d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Політична казка </a:t>
            </a:r>
            <a:r>
              <a:rPr b="0" lang="uk-UA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– прозовий твір про вигадані події та  осіб, які намагаються досягти певної мети різними способами. 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0" name="Скругленный прямоугольник 5"/>
          <p:cNvSpPr/>
          <p:nvPr/>
        </p:nvSpPr>
        <p:spPr>
          <a:xfrm>
            <a:off x="5715000" y="4357800"/>
            <a:ext cx="3143160" cy="2143080"/>
          </a:xfrm>
          <a:prstGeom prst="roundRect">
            <a:avLst>
              <a:gd name="adj" fmla="val 16667"/>
            </a:avLst>
          </a:prstGeom>
          <a:solidFill>
            <a:srgbClr val="23735d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Алегорія</a:t>
            </a:r>
            <a:r>
              <a:rPr b="0" lang="uk-UA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– іносказання; троп, у якому абстрактне поняття яскраво передається за допомогою конкретного художнього образу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1" name="Скругленный прямоугольник 6"/>
          <p:cNvSpPr/>
          <p:nvPr/>
        </p:nvSpPr>
        <p:spPr>
          <a:xfrm>
            <a:off x="5929200" y="142920"/>
            <a:ext cx="2928960" cy="2143080"/>
          </a:xfrm>
          <a:prstGeom prst="roundRect">
            <a:avLst>
              <a:gd name="adj" fmla="val 16667"/>
            </a:avLst>
          </a:prstGeom>
          <a:solidFill>
            <a:srgbClr val="23735d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Метаморфоза</a:t>
            </a:r>
            <a:r>
              <a:rPr b="0" lang="uk-UA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– перетворення, перевтілення.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2" name="Скругленный прямоугольник 7"/>
          <p:cNvSpPr/>
          <p:nvPr/>
        </p:nvSpPr>
        <p:spPr>
          <a:xfrm>
            <a:off x="214200" y="4500720"/>
            <a:ext cx="3000600" cy="2143080"/>
          </a:xfrm>
          <a:prstGeom prst="roundRect">
            <a:avLst>
              <a:gd name="adj" fmla="val 16667"/>
            </a:avLst>
          </a:prstGeom>
          <a:solidFill>
            <a:srgbClr val="23735d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Карикатура</a:t>
            </a:r>
            <a:r>
              <a:rPr b="0" lang="uk-UA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– невдале наслідування, смішне, спотворене зображення когось, чого-небудь.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3" name="Скругленный прямоугольник 8"/>
          <p:cNvSpPr/>
          <p:nvPr/>
        </p:nvSpPr>
        <p:spPr>
          <a:xfrm>
            <a:off x="214200" y="142920"/>
            <a:ext cx="3000600" cy="2143080"/>
          </a:xfrm>
          <a:prstGeom prst="roundRect">
            <a:avLst>
              <a:gd name="adj" fmla="val 16667"/>
            </a:avLst>
          </a:prstGeom>
          <a:solidFill>
            <a:srgbClr val="23735d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Calibri"/>
              </a:rPr>
              <a:t>Байка</a:t>
            </a:r>
            <a:r>
              <a:rPr b="0" lang="uk-UA" sz="2000" spc="-1" strike="noStrike">
                <a:solidFill>
                  <a:srgbClr val="ffffff"/>
                </a:solidFill>
                <a:latin typeface="Calibri"/>
              </a:rPr>
              <a:t> – невеликий віршований або прозовий твір повчального алегоричного змісту.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Rectangle 4" descr=""/>
          <p:cNvPicPr/>
          <p:nvPr/>
        </p:nvPicPr>
        <p:blipFill>
          <a:blip r:embed="rId2"/>
          <a:stretch/>
        </p:blipFill>
        <p:spPr>
          <a:xfrm>
            <a:off x="450720" y="146160"/>
            <a:ext cx="8242560" cy="153036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9" descr="skotniy_dvor"/>
          <p:cNvPicPr/>
          <p:nvPr/>
        </p:nvPicPr>
        <p:blipFill>
          <a:blip r:embed="rId3"/>
          <a:stretch/>
        </p:blipFill>
        <p:spPr>
          <a:xfrm>
            <a:off x="785880" y="1428840"/>
            <a:ext cx="3143160" cy="4459320"/>
          </a:xfrm>
          <a:prstGeom prst="rect">
            <a:avLst/>
          </a:prstGeom>
          <a:ln w="0">
            <a:noFill/>
          </a:ln>
        </p:spPr>
      </p:pic>
      <p:sp>
        <p:nvSpPr>
          <p:cNvPr id="1126" name="PlaceHolder 1"/>
          <p:cNvSpPr>
            <a:spLocks noGrp="1"/>
          </p:cNvSpPr>
          <p:nvPr>
            <p:ph/>
          </p:nvPr>
        </p:nvSpPr>
        <p:spPr>
          <a:xfrm>
            <a:off x="4143240" y="1356840"/>
            <a:ext cx="45007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568d11"/>
                </a:solidFill>
                <a:latin typeface="Calibri"/>
              </a:rPr>
              <a:t>Колгосп тварин </a:t>
            </a:r>
            <a:r>
              <a:rPr b="0" lang="uk-UA" sz="2400" spc="-1" strike="noStrike">
                <a:solidFill>
                  <a:srgbClr val="568d11"/>
                </a:solidFill>
                <a:latin typeface="Calibri"/>
              </a:rPr>
              <a:t>(англ. Animal Farm), також «Звіроферма», «Свинячий колгосп», «Ферма тварин», ферма «Рай для тварин» або «Свійський хутір» — роман-антиутопія Джорджа Орвелла, написаний у 1943—1944 роках, вперше виданий 17 серпня 1945 рок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Заголовок 1" descr=""/>
          <p:cNvPicPr/>
          <p:nvPr/>
        </p:nvPicPr>
        <p:blipFill>
          <a:blip r:embed="rId2"/>
          <a:stretch/>
        </p:blipFill>
        <p:spPr>
          <a:xfrm>
            <a:off x="1395360" y="201600"/>
            <a:ext cx="6529320" cy="1530360"/>
          </a:xfrm>
          <a:prstGeom prst="rect">
            <a:avLst/>
          </a:prstGeom>
          <a:ln w="0">
            <a:noFill/>
          </a:ln>
        </p:spPr>
      </p:pic>
      <p:sp>
        <p:nvSpPr>
          <p:cNvPr id="1128" name=""/>
          <p:cNvSpPr txBox="1"/>
          <p:nvPr/>
        </p:nvSpPr>
        <p:spPr>
          <a:xfrm>
            <a:off x="428400" y="1142640"/>
            <a:ext cx="83581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1480" indent="-457200">
              <a:lnSpc>
                <a:spcPct val="13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31489f"/>
                </a:solidFill>
                <a:latin typeface="Trebuchet MS"/>
              </a:rPr>
              <a:t>Усе, що ходить на двох ногах – ворог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01480" indent="-457200">
              <a:lnSpc>
                <a:spcPct val="13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31489f"/>
                </a:solidFill>
                <a:latin typeface="Trebuchet MS"/>
              </a:rPr>
              <a:t>Усе, що ходить на чотирьох ногах, або крилате – друг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01480" indent="-457200">
              <a:lnSpc>
                <a:spcPct val="13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31489f"/>
                </a:solidFill>
                <a:latin typeface="Trebuchet MS"/>
              </a:rPr>
              <a:t>Хай жодна тварина не носить одежі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01480" indent="-457200">
              <a:lnSpc>
                <a:spcPct val="13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31489f"/>
                </a:solidFill>
                <a:latin typeface="Trebuchet MS"/>
              </a:rPr>
              <a:t>Хай жодна тварина не спить у ліжку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01480" indent="-457200">
              <a:lnSpc>
                <a:spcPct val="13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31489f"/>
                </a:solidFill>
                <a:latin typeface="Trebuchet MS"/>
              </a:rPr>
              <a:t>Хай жодна тварина не п'є алкоголю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01480" indent="-457200">
              <a:lnSpc>
                <a:spcPct val="13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31489f"/>
                </a:solidFill>
                <a:latin typeface="Trebuchet MS"/>
              </a:rPr>
              <a:t>Хай жодна тварина не вбиває іншої тварини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01480" indent="-457200">
              <a:lnSpc>
                <a:spcPct val="13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31489f"/>
                </a:solidFill>
                <a:latin typeface="Trebuchet MS"/>
              </a:rPr>
              <a:t>Усі тварини рівні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01480" indent="-45720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01480" indent="-45720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501480" indent="-45720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501480" indent="-457200">
              <a:lnSpc>
                <a:spcPct val="8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TextBox 5"/>
          <p:cNvSpPr/>
          <p:nvPr/>
        </p:nvSpPr>
        <p:spPr>
          <a:xfrm>
            <a:off x="214200" y="214200"/>
            <a:ext cx="8358480" cy="59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rebuchet MS"/>
              </a:rPr>
              <a:t>ТВАРИННІ  КОМІТЕТИ: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d85c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d85c00"/>
                </a:solidFill>
                <a:latin typeface="Trebuchet MS"/>
              </a:rPr>
              <a:t>Для курок:комітет з виробництва яєць;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uk-UA" sz="3600" spc="-1" strike="noStrike">
                <a:solidFill>
                  <a:srgbClr val="c00000"/>
                </a:solidFill>
                <a:latin typeface="Trebuchet MS"/>
              </a:rPr>
              <a:t>для корів: Ліга Чистого Хвоста;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uk-UA" sz="3600" spc="-1" strike="noStrike">
                <a:solidFill>
                  <a:srgbClr val="31489f"/>
                </a:solidFill>
                <a:latin typeface="Trebuchet MS"/>
              </a:rPr>
              <a:t>Комітет перевиховання диких товаришів;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34ac8b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4ac8b"/>
                </a:solidFill>
                <a:latin typeface="Trebuchet MS"/>
              </a:rPr>
              <a:t>Для овець: Рух Білішої Вовни</a:t>
            </a:r>
            <a:r>
              <a:rPr b="0" lang="uk-UA" sz="3600" spc="-1" strike="noStrike">
                <a:solidFill>
                  <a:srgbClr val="ffffff"/>
                </a:solidFill>
                <a:latin typeface="Trebuchet MS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cc00cc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00cc"/>
                </a:solidFill>
                <a:latin typeface="Trebuchet MS"/>
              </a:rPr>
              <a:t>Курси з ліквідації неписемності …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rebuchet MS"/>
              </a:rPr>
              <a:t>Усі проекти закінчились неуспіхом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285840" y="6000840"/>
            <a:ext cx="842472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212745"/>
                </a:solidFill>
                <a:latin typeface="Trebuchet MS"/>
              </a:rPr>
              <a:t>Прототипи  героїв  твору  “Звіроферма”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131" name="Picture 6" descr="Lenin"/>
          <p:cNvPicPr/>
          <p:nvPr/>
        </p:nvPicPr>
        <p:blipFill>
          <a:blip r:embed="rId2"/>
          <a:stretch/>
        </p:blipFill>
        <p:spPr>
          <a:xfrm>
            <a:off x="0" y="0"/>
            <a:ext cx="2843280" cy="220500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7" descr="24b3dbe3ccdbc1254f56f9801a5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2766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8" descr="07"/>
          <p:cNvPicPr/>
          <p:nvPr/>
        </p:nvPicPr>
        <p:blipFill>
          <a:blip r:embed="rId4"/>
          <a:stretch/>
        </p:blipFill>
        <p:spPr>
          <a:xfrm>
            <a:off x="0" y="2276640"/>
            <a:ext cx="2916360" cy="33843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9" descr="&amp;Tcy;&amp;rcy;&amp;ocy;&amp;tscy;&amp;softcy;&amp;kcy;&amp;icy;&amp;jcy; &amp;Lcy;&amp;iecy;&amp;vcy; (1879 - 1940)"/>
          <p:cNvPicPr/>
          <p:nvPr/>
        </p:nvPicPr>
        <p:blipFill>
          <a:blip r:embed="rId5"/>
          <a:stretch/>
        </p:blipFill>
        <p:spPr>
          <a:xfrm>
            <a:off x="6227640" y="2857680"/>
            <a:ext cx="2916360" cy="338436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0" descr="ANd9GcQbRglwKpf45_0U9lSz7s3lMG1RA31xNY1tN2Inqg8UvJbmI0Lirg"/>
          <p:cNvPicPr/>
          <p:nvPr/>
        </p:nvPicPr>
        <p:blipFill>
          <a:blip r:embed="rId6"/>
          <a:stretch/>
        </p:blipFill>
        <p:spPr>
          <a:xfrm>
            <a:off x="2771640" y="1413000"/>
            <a:ext cx="3564000" cy="2950920"/>
          </a:xfrm>
          <a:prstGeom prst="rect">
            <a:avLst/>
          </a:prstGeom>
          <a:ln w="0">
            <a:noFill/>
          </a:ln>
        </p:spPr>
      </p:pic>
      <p:sp>
        <p:nvSpPr>
          <p:cNvPr id="1136" name="Rectangle 11"/>
          <p:cNvSpPr/>
          <p:nvPr/>
        </p:nvSpPr>
        <p:spPr>
          <a:xfrm>
            <a:off x="2857680" y="999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Ленін (Майор)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7" name="Rectangle 12"/>
          <p:cNvSpPr/>
          <p:nvPr/>
        </p:nvSpPr>
        <p:spPr>
          <a:xfrm>
            <a:off x="6429240" y="2285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Микола ІІ ( Джонс)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8" name="Rectangle 13"/>
          <p:cNvSpPr/>
          <p:nvPr/>
        </p:nvSpPr>
        <p:spPr>
          <a:xfrm>
            <a:off x="0" y="5644440"/>
            <a:ext cx="33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Сталін      ( Наполеон)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9" name="Rectangle 14"/>
          <p:cNvSpPr/>
          <p:nvPr/>
        </p:nvSpPr>
        <p:spPr>
          <a:xfrm>
            <a:off x="6429240" y="62859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Троцький ( Сніжок)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40" name="Rectangle 15"/>
          <p:cNvSpPr/>
          <p:nvPr/>
        </p:nvSpPr>
        <p:spPr>
          <a:xfrm>
            <a:off x="3929040" y="3883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СРСР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1" name="Рисунок 3" descr="правила.jpg"/>
          <p:cNvPicPr/>
          <p:nvPr/>
        </p:nvPicPr>
        <p:blipFill>
          <a:blip r:embed="rId2"/>
          <a:stretch/>
        </p:blipFill>
        <p:spPr>
          <a:xfrm>
            <a:off x="285840" y="285840"/>
            <a:ext cx="8665920" cy="5500440"/>
          </a:xfrm>
          <a:prstGeom prst="rect">
            <a:avLst/>
          </a:prstGeom>
          <a:ln w="0">
            <a:noFill/>
          </a:ln>
        </p:spPr>
      </p:pic>
      <p:sp>
        <p:nvSpPr>
          <p:cNvPr id="1142" name="TextBox 2"/>
          <p:cNvSpPr/>
          <p:nvPr/>
        </p:nvSpPr>
        <p:spPr>
          <a:xfrm>
            <a:off x="703080" y="6000840"/>
            <a:ext cx="85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a3c5c"/>
                </a:solidFill>
                <a:latin typeface="Trebuchet MS"/>
              </a:rPr>
              <a:t>“…</a:t>
            </a:r>
            <a:r>
              <a:rPr b="1" i="1" lang="uk-UA" sz="2400" spc="-1" strike="noStrike">
                <a:solidFill>
                  <a:srgbClr val="fa3c5c"/>
                </a:solidFill>
                <a:latin typeface="Trebuchet MS"/>
              </a:rPr>
              <a:t>ВСІ ТВАРИНИ РІВНІ, АЛЕ  ДЕЯКІ РІВНІШІ ЗА ІНШИХ…”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ubTitle"/>
          </p:nvPr>
        </p:nvSpPr>
        <p:spPr>
          <a:xfrm>
            <a:off x="250560" y="5229000"/>
            <a:ext cx="8893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1" lang="uk-UA" sz="2400" spc="-1" strike="noStrike">
                <a:solidFill>
                  <a:srgbClr val="212745"/>
                </a:solidFill>
                <a:latin typeface="Trebuchet MS"/>
              </a:rPr>
              <a:t>Тварини не  бачать  різниці  між свинями  та  людьми.  І  це  є  прикладом  того, як, поваливши одного лідера, слідом  за ним може  прийти  точно  такий  сами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14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86064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8" descr="0002cdkx"/>
          <p:cNvPicPr/>
          <p:nvPr/>
        </p:nvPicPr>
        <p:blipFill>
          <a:blip r:embed="rId3"/>
          <a:stretch/>
        </p:blipFill>
        <p:spPr>
          <a:xfrm>
            <a:off x="4356000" y="1844640"/>
            <a:ext cx="4788000" cy="3240000"/>
          </a:xfrm>
          <a:prstGeom prst="rect">
            <a:avLst/>
          </a:prstGeom>
          <a:ln w="0">
            <a:noFill/>
          </a:ln>
        </p:spPr>
      </p:pic>
      <p:sp>
        <p:nvSpPr>
          <p:cNvPr id="1146" name="Rectangle 9"/>
          <p:cNvSpPr/>
          <p:nvPr/>
        </p:nvSpPr>
        <p:spPr>
          <a:xfrm>
            <a:off x="4500720" y="217440"/>
            <a:ext cx="46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rebuchet MS"/>
              </a:rPr>
              <a:t>“…</a:t>
            </a:r>
            <a:r>
              <a:rPr b="1" lang="uk-UA" sz="1800" spc="-1" strike="noStrike">
                <a:solidFill>
                  <a:srgbClr val="ffffff"/>
                </a:solidFill>
                <a:latin typeface="Trebuchet MS"/>
              </a:rPr>
              <a:t>Вони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uk-UA" sz="1800" spc="-1" strike="noStrike">
                <a:solidFill>
                  <a:srgbClr val="ffffff"/>
                </a:solidFill>
                <a:latin typeface="Trebuchet MS"/>
              </a:rPr>
              <a:t>переводили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Trebuchet MS"/>
              </a:rPr>
              <a:t>очі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Trebuchet MS"/>
              </a:rPr>
              <a:t> з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Trebuchet MS"/>
              </a:rPr>
              <a:t>свині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Trebuchet MS"/>
              </a:rPr>
              <a:t>на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Trebuchet MS"/>
              </a:rPr>
              <a:t> людину, з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Trebuchet MS"/>
              </a:rPr>
              <a:t>людини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uk-UA" sz="1800" spc="-1" strike="noStrike">
                <a:solidFill>
                  <a:srgbClr val="ffffff"/>
                </a:solidFill>
                <a:latin typeface="Trebuchet MS"/>
              </a:rPr>
              <a:t>на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Trebuchet MS"/>
              </a:rPr>
              <a:t>свиню…, але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Trebuchet MS"/>
              </a:rPr>
              <a:t> вгадати, хто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uk-UA" sz="1800" spc="-1" strike="noStrike">
                <a:solidFill>
                  <a:srgbClr val="ffffff"/>
                </a:solidFill>
                <a:latin typeface="Trebuchet MS"/>
              </a:rPr>
              <a:t>з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Trebuchet MS"/>
              </a:rPr>
              <a:t>них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uk-UA" sz="1800" spc="-1" strike="noStrike">
                <a:solidFill>
                  <a:srgbClr val="ffffff"/>
                </a:solidFill>
                <a:latin typeface="Trebuchet MS"/>
              </a:rPr>
              <a:t>хто, було </a:t>
            </a: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Trebuchet MS"/>
              </a:rPr>
              <a:t>неможливо…”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  ( епілог)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755280" y="1197000"/>
            <a:ext cx="7777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70c0"/>
                </a:solidFill>
                <a:latin typeface="Trebuchet MS"/>
              </a:rPr>
              <a:t>Сон старої свині Майор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f7f7f"/>
                </a:solidFill>
                <a:latin typeface="Trebuchet MS"/>
              </a:rPr>
              <a:t>Вигнання  містера Джонса з ферми «Садиба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d85c00"/>
                </a:solidFill>
                <a:latin typeface="Trebuchet MS"/>
              </a:rPr>
              <a:t>Проголошення семи заповідей тварин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5968b0"/>
                </a:solidFill>
                <a:latin typeface="Trebuchet MS"/>
              </a:rPr>
              <a:t>Створення колгоспу тварин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c00000"/>
                </a:solidFill>
                <a:latin typeface="Trebuchet MS"/>
              </a:rPr>
              <a:t>60-годинний робочий тиждень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568d11"/>
                </a:solidFill>
                <a:latin typeface="Trebuchet MS"/>
              </a:rPr>
              <a:t>Битва при корівнику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d0d0d"/>
                </a:solidFill>
                <a:latin typeface="Trebuchet MS"/>
              </a:rPr>
              <a:t>Конфлікт між Сніжком і Наполеоном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5968b0"/>
                </a:solidFill>
                <a:latin typeface="Trebuchet MS"/>
              </a:rPr>
              <a:t>Захоплення влади Наполеоном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821a08"/>
                </a:solidFill>
                <a:latin typeface="Trebuchet MS"/>
              </a:rPr>
              <a:t>Підміна заповідей та зміна Гімну тварин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030a0"/>
                </a:solidFill>
                <a:latin typeface="Trebuchet MS"/>
              </a:rPr>
              <a:t>Тоталітарний режим свине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f14124"/>
                </a:solidFill>
                <a:latin typeface="Trebuchet MS"/>
              </a:rPr>
              <a:t>«Всі тварини рівні, але деякі рівніші за  інших»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7f7f7f"/>
                </a:solidFill>
                <a:latin typeface="Trebuchet MS"/>
              </a:rPr>
              <a:t>Тварини бояться людей і свиней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1148" name="Заголовок 2" descr=""/>
          <p:cNvPicPr/>
          <p:nvPr/>
        </p:nvPicPr>
        <p:blipFill>
          <a:blip r:embed="rId2"/>
          <a:stretch/>
        </p:blipFill>
        <p:spPr>
          <a:xfrm>
            <a:off x="749160" y="219240"/>
            <a:ext cx="7931160" cy="134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08:05:16Z</dcterms:created>
  <dc:creator/>
  <dc:description/>
  <dc:language>en-US</dc:language>
  <cp:lastModifiedBy/>
  <dcterms:modified xsi:type="dcterms:W3CDTF">2013-02-02T12:12:06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26000000000001024140</vt:lpwstr>
  </property>
</Properties>
</file>