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4EB6-C04A-431A-9C27-7CD0C26152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7E5A-F97B-4F84-A22E-B7BA1DF8EC5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9B6-13CD-4C13-91F9-71ECFB29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4A4E-8D9D-4632-A66E-D0799E18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03B-9099-475C-A62A-8A443AF5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6C6-38EB-43D6-8FE0-B985D230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E5615-B349-4112-A147-CB8191E1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1B7DB-5202-4FA0-921F-B4015DC7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4A18A-518F-436E-AE75-F190476E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17A93-78D9-457D-BECD-6A55BFD1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6CC22-018B-4545-ACBA-DB901D46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1CFFD-0B9C-4CA2-BCA3-E19A6A77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F5026-8B7F-4132-BCEC-C01F0693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54C-D06E-40AB-A4FC-1B46A485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0B18A-7D7D-45F7-B479-110C0475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219BF-9212-42CF-BDF6-E6DF987B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7F7AC-16F7-4A8A-AEF7-47098B29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6ED88-3486-47DE-9FC5-7901A5C5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C8D1A-86DF-4F3E-BDB7-8DEFEA00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D6F50-AAF2-4CC7-A530-CA757792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84F25-6731-4BEC-9FFC-10CDC8BC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1AC9C-F2B6-4F12-971E-6F0DA64A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6DCCB-976D-47A5-9E36-6DF7EBD2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B2D00-F453-4DC4-B76E-8B961E54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625C-0051-456F-8B36-A500C7A9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B433-C5F9-4581-AB91-6FF859E6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B7ABD-5F20-4902-ABB6-ECE777A8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99E73-F58A-4968-A085-CE09C085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62CFA-0588-4F59-9678-20FF8044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2FDDA-2040-4E39-8478-20D97287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E67D6-C590-4A78-8546-4CE95F65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CD530-7A03-4489-B674-C1AEE173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BA9AD8-1DC8-4DEE-913D-871135B6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677C6D-C0EC-4806-B2E5-60E5D457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6B56DC-66E8-498C-98D2-D81C9103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419-8900-4663-AB7F-BF6C35EE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A5B3F6-2D01-4279-84D3-BB3279C6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55458F-A561-483F-9BA7-E1485AC8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BA28A3-3F34-48F9-976C-EB54F25F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8C01BD-EE63-464F-ADF5-88ABE40A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19DD7C-17E4-49C0-80C5-934C2481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3B34BD-90AE-4F3B-91BE-35E65F3E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FDD767-60BE-4171-AC89-7B3158F8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295EAE-BF76-4891-A99F-03FDBAC1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E4B6F9-5819-4659-9FFD-767E2ACE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D0546-BD9E-4B36-831A-2E2876C2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3A7-2A9F-46B1-B027-D8638783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643B0-3ABC-4BC4-A5E4-DE538AE3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CE12B-F42A-42BD-ACC9-920FA63B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3DD49-F355-485C-984A-F1CA6272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32F7EE-5CC7-4504-A121-DFA3AA29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0B9DB3-1D7F-44E4-9ADA-B2D0653F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799346-32E2-4499-AD12-DE8C9A3F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04AC32-F56E-421B-B0D6-F9D704F3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65B148-9CBE-43BA-B031-B96C954C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2D3FB-30AB-44D9-90E5-01C9E092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A3D20-5193-43B2-A67A-2143109F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A6E-4C8F-4482-B3A7-A2A13114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6ADFE2-E26B-4281-9474-63F28D2A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1E8E6-6484-41ED-92F1-C8DCECE8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89835F-6864-40E3-BC7A-8C4462A2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2A7C74-071A-4E56-8E36-E6A99B52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77C403-0356-4202-8248-B82D8879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A7715D-1578-4F22-9957-B3DE817C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3E482A-C327-4D71-B707-FBDFEF17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A772E7-1CE7-4AA4-BFF5-46DB63F6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4BDAFF-1762-4B00-9675-9ECABF16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5216C-B4DF-4B7C-8130-9FB74042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8EF6-2F6B-408C-B379-CC3DB0C4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D2CA45-CEE3-4748-98A0-6069B25C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373BF8-AA6D-4498-9004-E38D6EA2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F8C990-E9ED-4F38-9D0D-7757D97C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C270-848B-4E69-A247-49DF2D00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680E-6236-4808-88C7-C7FC4462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D285-A70A-4109-AFDE-AD903C4132F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BB5E-FED1-4FBD-9634-DE8EAD5972B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E37A-E1A6-4AA2-9B8F-316B8932E54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3645-F1B8-477B-8B3B-AC4B03629EA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630C-5A72-4B8D-9507-64062E21C30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9AE9-3A13-48A7-BCFF-06708CA2630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-285840" y="-2365200"/>
            <a:ext cx="9715680" cy="92232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714240" y="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Constantia"/>
              </a:rPr>
              <a:t>Тема. Зоряна мандрівка Маленького принца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Прямоугольник 8"/>
          <p:cNvSpPr/>
          <p:nvPr/>
        </p:nvSpPr>
        <p:spPr>
          <a:xfrm>
            <a:off x="642960" y="1857240"/>
            <a:ext cx="7929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Мета:</a:t>
            </a: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завершити роботу над вивченням казки – притчі  А. де Сент-Екзюпері  «Маленький принц», виявити в  тексті систему  життєвих цінностей;                                      розвивати логічне мислення , зв’язне мовлення;                                                                      виховувати благородство, доброту, вміння дружит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642924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3"/>
          <p:cNvSpPr/>
          <p:nvPr/>
        </p:nvSpPr>
        <p:spPr>
          <a:xfrm>
            <a:off x="4929120" y="357120"/>
            <a:ext cx="3786120" cy="10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. Чим зайнята ця людина?                                                               </a:t>
            </a:r>
            <a:br>
              <a:rPr sz="4000"/>
            </a:b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. Чому Маленький принц покинув планету ділка?                                                                                                                                        3. Яку рису характеру уособлює ділок?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7"/>
          <p:cNvSpPr/>
          <p:nvPr/>
        </p:nvSpPr>
        <p:spPr>
          <a:xfrm>
            <a:off x="4786200" y="1285920"/>
            <a:ext cx="3929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Calibri"/>
              </a:rPr>
              <a:t>1.   Скласти сенкан на тему  «Ліхтарник»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Calibri"/>
              </a:rPr>
              <a:t>2. Чому Маленький принц залишає планету ліхтарника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59292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TextBox 8"/>
          <p:cNvSpPr/>
          <p:nvPr/>
        </p:nvSpPr>
        <p:spPr>
          <a:xfrm>
            <a:off x="3000240" y="642960"/>
            <a:ext cx="5857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.  Що розповів географ хлопчикові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.  Чому Маленький принц був розчарований після розмови з географом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.  З якими словами хлопчик залишав кожну планету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http://www.kovrigka.ru/images/stories/z2.jpg"/>
          <p:cNvPicPr/>
          <p:nvPr/>
        </p:nvPicPr>
        <p:blipFill>
          <a:blip r:embed="rId3"/>
          <a:stretch/>
        </p:blipFill>
        <p:spPr>
          <a:xfrm>
            <a:off x="0" y="0"/>
            <a:ext cx="6765840" cy="66438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5143680" y="164304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1928880" y="357120"/>
            <a:ext cx="6715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Що відчув Маленький принц, коли побачив перед собою 5 тис. троянд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Чи зразу зрозумів хлопчик слова Лиса,  «що означає приручити»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Чому Маленький принц залишив Землю, адже він тут знайшов друзів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Створіть  асоціативний  кущ  до слова  “дружба”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-285840" y="-2365200"/>
            <a:ext cx="9715680" cy="922320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2"/>
          <p:cNvSpPr/>
          <p:nvPr/>
        </p:nvSpPr>
        <p:spPr>
          <a:xfrm>
            <a:off x="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1285920" y="214200"/>
            <a:ext cx="642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красні миті мого дитинства…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8" name="Picture 3" descr="C:\Documents and Settings\Admin\Мои документы\Мои рисунки\big_fotometki_image_f14d90ff[1].jpg"/>
          <p:cNvPicPr/>
          <p:nvPr/>
        </p:nvPicPr>
        <p:blipFill>
          <a:blip r:embed="rId3"/>
          <a:stretch/>
        </p:blipFill>
        <p:spPr>
          <a:xfrm rot="437400">
            <a:off x="-243000" y="1682640"/>
            <a:ext cx="3000600" cy="2000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C:\Documents and Settings\Admin\Мои документы\Мои рисунки\00322945[2].jpg"/>
          <p:cNvPicPr/>
          <p:nvPr/>
        </p:nvPicPr>
        <p:blipFill>
          <a:blip r:embed="rId4"/>
          <a:stretch/>
        </p:blipFill>
        <p:spPr>
          <a:xfrm>
            <a:off x="0" y="3857760"/>
            <a:ext cx="3214800" cy="2571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C:\Documents and Settings\Admin\Мои документы\Мои рисунки\6ec0efcc2d8198fa8d1252911402.22[2].jpg"/>
          <p:cNvPicPr/>
          <p:nvPr/>
        </p:nvPicPr>
        <p:blipFill>
          <a:blip r:embed="rId5"/>
          <a:stretch/>
        </p:blipFill>
        <p:spPr>
          <a:xfrm rot="346800">
            <a:off x="5049360" y="2193480"/>
            <a:ext cx="3967200" cy="2724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C:\Documents and Settings\Admin\Мои документы\Мои рисунки\4335115_3e47f92[1].jpg"/>
          <p:cNvPicPr/>
          <p:nvPr/>
        </p:nvPicPr>
        <p:blipFill>
          <a:blip r:embed="rId6"/>
          <a:stretch/>
        </p:blipFill>
        <p:spPr>
          <a:xfrm rot="324600">
            <a:off x="3499920" y="4071960"/>
            <a:ext cx="3333960" cy="2500200"/>
          </a:xfrm>
          <a:prstGeom prst="rect">
            <a:avLst/>
          </a:prstGeom>
          <a:ln w="0">
            <a:noFill/>
          </a:ln>
        </p:spPr>
      </p:pic>
      <p:pic>
        <p:nvPicPr>
          <p:cNvPr id="322" name="9834-Pesni-o-detstve-A-Pugacheva-Kuda-uhodit-detstvo(muzofon.com).mp3" descr=""/>
          <p:cNvPicPr/>
          <p:nvPr/>
        </p:nvPicPr>
        <p:blipFill>
          <a:blip r:embed="rId7"/>
          <a:stretch/>
        </p:blipFill>
        <p:spPr>
          <a:xfrm>
            <a:off x="7429680" y="2142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ttp://obovceminiochem.files.wordpress.com/2012/02/76065561_31153555_1_a_dlya_dneva_mal_prin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285840" y="285840"/>
            <a:ext cx="635796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Маленький принц» - тебе всі знають,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Ти – помислів добрих суцвіття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І справедливо тебе вважаю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нигою тисячоліття!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Я стою о вечірній порі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І вдивляюся в зоряне небо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Де літав колись Екзюпері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І з польотів вертався на землю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i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i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. Надворн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-285840" y="-2365200"/>
            <a:ext cx="9715680" cy="9223200"/>
          </a:xfrm>
          <a:prstGeom prst="rect">
            <a:avLst/>
          </a:prstGeom>
          <a:ln w="0">
            <a:noFill/>
          </a:ln>
        </p:spPr>
      </p:pic>
      <p:sp>
        <p:nvSpPr>
          <p:cNvPr id="326" name="TextBox 2"/>
          <p:cNvSpPr/>
          <p:nvPr/>
        </p:nvSpPr>
        <p:spPr>
          <a:xfrm>
            <a:off x="357120" y="785880"/>
            <a:ext cx="7000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Constantia"/>
              </a:rPr>
              <a:t>Домашнє завдання:  (виконати одне із  завдань) написати листа Маленькому принцові, намалювати ілюстрації до улюблених епізодів, скласти кросворд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-285840" y="-2365200"/>
            <a:ext cx="9715680" cy="922320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6"/>
          <p:cNvSpPr/>
          <p:nvPr/>
        </p:nvSpPr>
        <p:spPr>
          <a:xfrm>
            <a:off x="2428920" y="307188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onstanti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4" name="Picture 2" descr="http://malenkiyprinc.narod.ru/images/start.jpg"/>
          <p:cNvPicPr/>
          <p:nvPr/>
        </p:nvPicPr>
        <p:blipFill>
          <a:blip r:embed="rId3"/>
          <a:stretch/>
        </p:blipFill>
        <p:spPr>
          <a:xfrm rot="791400">
            <a:off x="191880" y="426384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8"/>
          <p:cNvSpPr/>
          <p:nvPr/>
        </p:nvSpPr>
        <p:spPr>
          <a:xfrm>
            <a:off x="428760" y="0"/>
            <a:ext cx="778644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Constantia"/>
              </a:rPr>
              <a:t> “</a:t>
            </a:r>
            <a:r>
              <a:rPr b="1" lang="uk-UA" sz="5400" spc="-1" strike="noStrike">
                <a:solidFill>
                  <a:srgbClr val="ffffff"/>
                </a:solidFill>
                <a:latin typeface="Constantia"/>
              </a:rPr>
              <a:t>Дешифрувальник”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000"/>
                </a:solidFill>
                <a:latin typeface="Constantia"/>
              </a:rPr>
              <a:t>Розшифрувати вислів, закресливши кожну 3 – ю букву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Прямоугольник 9"/>
          <p:cNvSpPr/>
          <p:nvPr/>
        </p:nvSpPr>
        <p:spPr>
          <a:xfrm>
            <a:off x="2071800" y="2500200"/>
            <a:ext cx="6858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Н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іо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, не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б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  ма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ж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рн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ю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о я 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х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жи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х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в,  – я 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д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бо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к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ро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н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вс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ц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я, ш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м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ук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ш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ав 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а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ід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і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еа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р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лу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00"/>
                </a:solidFill>
                <a:latin typeface="Constantia"/>
              </a:rPr>
              <a:t>М. Ворони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-285840" y="-2365200"/>
            <a:ext cx="9715680" cy="9223200"/>
          </a:xfrm>
          <a:prstGeom prst="rect">
            <a:avLst/>
          </a:prstGeom>
          <a:ln w="0">
            <a:noFill/>
          </a:ln>
        </p:spPr>
      </p:pic>
      <p:sp>
        <p:nvSpPr>
          <p:cNvPr id="268" name="TextBox 3"/>
          <p:cNvSpPr/>
          <p:nvPr/>
        </p:nvSpPr>
        <p:spPr>
          <a:xfrm>
            <a:off x="571680" y="0"/>
            <a:ext cx="85723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Constantia"/>
              </a:rPr>
              <a:t>Запишіть планети у правильній послідовності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00"/>
                </a:solidFill>
                <a:latin typeface="Constantia"/>
              </a:rPr>
              <a:t>Земля, планета географа,  планета короля, планета п</a:t>
            </a:r>
            <a:r>
              <a:rPr b="0" i="1" lang="pl-PL" sz="3600" spc="-1" strike="noStrike">
                <a:solidFill>
                  <a:srgbClr val="ffff00"/>
                </a:solidFill>
                <a:latin typeface="Constantia"/>
              </a:rPr>
              <a:t>’</a:t>
            </a:r>
            <a:r>
              <a:rPr b="0" i="1" lang="uk-UA" sz="3600" spc="-1" strike="noStrike">
                <a:solidFill>
                  <a:srgbClr val="ffff00"/>
                </a:solidFill>
                <a:latin typeface="Constantia"/>
              </a:rPr>
              <a:t>яниці, планета честолюбця, планета ділка, планета ліхтарник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Picture 3" descr="картинка"/>
          <p:cNvPicPr/>
          <p:nvPr/>
        </p:nvPicPr>
        <p:blipFill>
          <a:blip r:embed="rId3"/>
          <a:stretch/>
        </p:blipFill>
        <p:spPr>
          <a:xfrm>
            <a:off x="1628640" y="5102280"/>
            <a:ext cx="1616040" cy="1628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картинка"/>
          <p:cNvPicPr/>
          <p:nvPr/>
        </p:nvPicPr>
        <p:blipFill>
          <a:blip r:embed="rId4"/>
          <a:stretch/>
        </p:blipFill>
        <p:spPr>
          <a:xfrm rot="1022400">
            <a:off x="6784560" y="4974840"/>
            <a:ext cx="1590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-214200" y="-2365200"/>
            <a:ext cx="9715320" cy="9223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http://recenzii.org/uploads/posts/2010-06/1277311252_52164280_10768820_prince1.jpg"/>
          <p:cNvPicPr/>
          <p:nvPr/>
        </p:nvPicPr>
        <p:blipFill>
          <a:blip r:embed="rId3"/>
          <a:stretch/>
        </p:blipFill>
        <p:spPr>
          <a:xfrm>
            <a:off x="0" y="2214720"/>
            <a:ext cx="1579680" cy="1665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картинка"/>
          <p:cNvPicPr/>
          <p:nvPr/>
        </p:nvPicPr>
        <p:blipFill>
          <a:blip r:embed="rId4"/>
          <a:stretch/>
        </p:blipFill>
        <p:spPr>
          <a:xfrm>
            <a:off x="1928880" y="571680"/>
            <a:ext cx="1150920" cy="1153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картинка"/>
          <p:cNvPicPr/>
          <p:nvPr/>
        </p:nvPicPr>
        <p:blipFill>
          <a:blip r:embed="rId5"/>
          <a:stretch/>
        </p:blipFill>
        <p:spPr>
          <a:xfrm>
            <a:off x="4000680" y="214200"/>
            <a:ext cx="1150920" cy="1785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картинка"/>
          <p:cNvPicPr/>
          <p:nvPr/>
        </p:nvPicPr>
        <p:blipFill>
          <a:blip r:embed="rId6"/>
          <a:stretch/>
        </p:blipFill>
        <p:spPr>
          <a:xfrm>
            <a:off x="6072120" y="64296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картинка"/>
          <p:cNvPicPr/>
          <p:nvPr/>
        </p:nvPicPr>
        <p:blipFill>
          <a:blip r:embed="rId7"/>
          <a:stretch/>
        </p:blipFill>
        <p:spPr>
          <a:xfrm>
            <a:off x="7358040" y="2428920"/>
            <a:ext cx="1469880" cy="1262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картинка"/>
          <p:cNvPicPr/>
          <p:nvPr/>
        </p:nvPicPr>
        <p:blipFill>
          <a:blip r:embed="rId8"/>
          <a:stretch/>
        </p:blipFill>
        <p:spPr>
          <a:xfrm>
            <a:off x="6500880" y="4214880"/>
            <a:ext cx="1039680" cy="1271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картинка"/>
          <p:cNvPicPr/>
          <p:nvPr/>
        </p:nvPicPr>
        <p:blipFill>
          <a:blip r:embed="rId9"/>
          <a:stretch/>
        </p:blipFill>
        <p:spPr>
          <a:xfrm>
            <a:off x="3857760" y="5072040"/>
            <a:ext cx="1500120" cy="1200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C:\Documents and Settings\Admin\Мои документы\Мои рисунки\Мамине\Безимени-1.jpg"/>
          <p:cNvPicPr/>
          <p:nvPr/>
        </p:nvPicPr>
        <p:blipFill>
          <a:blip r:embed="rId10"/>
          <a:stretch/>
        </p:blipFill>
        <p:spPr>
          <a:xfrm>
            <a:off x="1571760" y="4214880"/>
            <a:ext cx="1357200" cy="1404720"/>
          </a:xfrm>
          <a:prstGeom prst="rect">
            <a:avLst/>
          </a:prstGeom>
          <a:ln w="0">
            <a:noFill/>
          </a:ln>
        </p:spPr>
      </p:pic>
      <p:sp>
        <p:nvSpPr>
          <p:cNvPr id="280" name="Стрелка вправо 11"/>
          <p:cNvSpPr/>
          <p:nvPr/>
        </p:nvSpPr>
        <p:spPr>
          <a:xfrm rot="19905600">
            <a:off x="1000080" y="1571760"/>
            <a:ext cx="71460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Стрелка вправо 13"/>
          <p:cNvSpPr/>
          <p:nvPr/>
        </p:nvSpPr>
        <p:spPr>
          <a:xfrm rot="21190200">
            <a:off x="3228840" y="684360"/>
            <a:ext cx="71460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Стрелка вправо 14"/>
          <p:cNvSpPr/>
          <p:nvPr/>
        </p:nvSpPr>
        <p:spPr>
          <a:xfrm rot="929400">
            <a:off x="5240160" y="804600"/>
            <a:ext cx="71460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Стрелка вправо 15"/>
          <p:cNvSpPr/>
          <p:nvPr/>
        </p:nvSpPr>
        <p:spPr>
          <a:xfrm rot="2100000">
            <a:off x="7454520" y="151920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Стрелка вправо 16"/>
          <p:cNvSpPr/>
          <p:nvPr/>
        </p:nvSpPr>
        <p:spPr>
          <a:xfrm rot="7998000">
            <a:off x="7849800" y="414288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Стрелка вправо 17"/>
          <p:cNvSpPr/>
          <p:nvPr/>
        </p:nvSpPr>
        <p:spPr>
          <a:xfrm rot="9721800">
            <a:off x="5635440" y="535788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Стрелка вправо 19"/>
          <p:cNvSpPr/>
          <p:nvPr/>
        </p:nvSpPr>
        <p:spPr>
          <a:xfrm rot="12052200">
            <a:off x="3026520" y="5603400"/>
            <a:ext cx="71460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Стрелка вправо 20"/>
          <p:cNvSpPr/>
          <p:nvPr/>
        </p:nvSpPr>
        <p:spPr>
          <a:xfrm rot="13770600">
            <a:off x="669600" y="433188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-571680" y="0"/>
            <a:ext cx="971568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"/>
          <p:cNvSpPr/>
          <p:nvPr/>
        </p:nvSpPr>
        <p:spPr>
          <a:xfrm>
            <a:off x="0" y="26280"/>
            <a:ext cx="914400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Літературна віктори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1. Цю людину називають графом, пілотом, письменником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  <a:ea typeface="Calibri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2. У якій країні народився А. де Сент-Екзюпері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3. Ким він мріяв стати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4. Які твори письменника ви знаєте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 Кому присвятив  А. де Сент - Екзюпері свою казку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аленький принц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»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6. Який висновок щодо світу дорослих і світу дітей робить автор у присвяті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7. Визначте жанр твору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аленький принц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»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8. Що таке казка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9. Що таке притча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10. Із скількох частин складається казка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аленький принц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»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11. Як називалася планета Маленького принца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12. Що намалював льотчик в дитинстві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13. Чому він більше нічого не малював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14. Хто зустрівся хлопчикові в пустелі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15. Що Маленький принц  попросив льотчика намалювати йому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16. Чому хлопчикові найбільше сподобався останній малюнок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i-main-pic" descr="&amp;Kcy;&amp;acy;&amp;rcy;&amp;tcy;&amp;icy;&amp;ncy;&amp;kcy;&amp;acy; 2 &amp;icy;&amp;zcy; 26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TextBox 4"/>
          <p:cNvSpPr/>
          <p:nvPr/>
        </p:nvSpPr>
        <p:spPr>
          <a:xfrm>
            <a:off x="214200" y="2143080"/>
            <a:ext cx="671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. Як називалась планета Маленького принца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. За якими правилами жив хлопчик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. Чому він вирущив у мандрівку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-571680" y="-2071800"/>
            <a:ext cx="9715680" cy="922356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6" descr=""/>
          <p:cNvPicPr/>
          <p:nvPr/>
        </p:nvPicPr>
        <p:blipFill>
          <a:blip r:embed="rId3"/>
          <a:stretch/>
        </p:blipFill>
        <p:spPr>
          <a:xfrm>
            <a:off x="-291960" y="-291960"/>
            <a:ext cx="6321240" cy="827244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7"/>
          <p:cNvSpPr/>
          <p:nvPr/>
        </p:nvSpPr>
        <p:spPr>
          <a:xfrm>
            <a:off x="4357800" y="2357280"/>
            <a:ext cx="457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uk-UA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озкажіть про зустріч короля і хлопчика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uk-UA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Яку рису  уособлює король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"/>
          <p:cNvSpPr/>
          <p:nvPr/>
        </p:nvSpPr>
        <p:spPr>
          <a:xfrm>
            <a:off x="4214880" y="1571760"/>
            <a:ext cx="4929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.  Як зустрів честолюбець хлопчика ?                    2. Чому він хотів його залишити на своїй планеті?                                                                                       3.  Яка головна риса цього героя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63360" y="-136440"/>
            <a:ext cx="9080640" cy="699444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2" descr=""/>
          <p:cNvPicPr/>
          <p:nvPr/>
        </p:nvPicPr>
        <p:blipFill>
          <a:blip r:embed="rId3"/>
          <a:stretch/>
        </p:blipFill>
        <p:spPr>
          <a:xfrm>
            <a:off x="214200" y="0"/>
            <a:ext cx="4857840" cy="5857920"/>
          </a:xfrm>
          <a:prstGeom prst="rect">
            <a:avLst/>
          </a:prstGeom>
          <a:ln w="0">
            <a:noFill/>
          </a:ln>
        </p:spPr>
      </p:pic>
      <p:pic>
        <p:nvPicPr>
          <p:cNvPr id="300" name="Таблица 10" descr=""/>
          <p:cNvPicPr/>
          <p:nvPr/>
        </p:nvPicPr>
        <p:blipFill>
          <a:blip r:embed="rId4"/>
          <a:stretch/>
        </p:blipFill>
        <p:spPr>
          <a:xfrm>
            <a:off x="353880" y="4425840"/>
            <a:ext cx="4694400" cy="23400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1"/>
          <p:cNvSpPr/>
          <p:nvPr/>
        </p:nvSpPr>
        <p:spPr>
          <a:xfrm>
            <a:off x="4714920" y="500040"/>
            <a:ext cx="442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им за професією був А. де Сент-Екзюпері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Що загрожувало планеті Маленького принца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ослина, про яку піклувався Маленький принц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осподар третьої планет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оловна риса характеру пия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09:12:36Z</dcterms:created>
  <dc:creator>Admin</dc:creator>
  <dc:description/>
  <dc:language>en-US</dc:language>
  <cp:lastModifiedBy>Admin</cp:lastModifiedBy>
  <dcterms:modified xsi:type="dcterms:W3CDTF">2012-12-28T06:56:44Z</dcterms:modified>
  <cp:revision>4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3e000000000001024140</vt:lpwstr>
  </property>
</Properties>
</file>