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48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9A83-F632-49AF-94D5-473D8D363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2466-2285-4841-9F22-929F91C3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C167-456D-41FE-8A73-867BA3D94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B86F-69CA-461B-BA9F-6C02C3633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7A38D-C400-4256-ADF9-FE218614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38179-DFBE-449B-BD15-04A8383DB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B94C9-CF9B-4E32-A307-B800A83E9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D4BEA-81FA-42A2-9944-EDB226912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F3E84-98F5-4D6A-A87B-761A5144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55752-C8C2-4E1D-B52C-CCC145220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719A-6DC7-4486-B939-E27FBCAF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5261-C40E-4588-8A89-607EA186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0EF8-BE51-4CA6-8782-249FB4C4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4AC6-CB5B-4B5F-9763-8FCAC79FB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8B0B-D124-41C3-91DE-DF2CF24AA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0F2E7-D0F8-4BDB-87B3-C4D0B7F12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01FE-66E2-40FC-A0AB-D76DA229B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180E2-B477-442F-8E8D-8616E50C1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FDAB9-20F5-4379-917D-30114F56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55CDF-B378-4F9B-ABF4-B8B9B4093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D56A3-E990-4609-8982-E9DD6E15B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DE51A-1D39-49FA-912D-254A588A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D86D-D5A6-4AE3-8329-420762157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EEB3B-F6A2-4F5B-90C0-1E41C787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A165E-8885-4D40-B555-BA10F05B7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AC175-C6CA-4024-8298-8484FB55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790B2-E26F-4E12-81FD-D3A8C383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452F2-26F9-4F1C-90E9-36364EA0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42FC3-526F-4BAB-A6DB-C6455E7C6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EDA12-078E-4851-B259-84CACE4BF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1355-532C-4343-AE95-F7F57FD6E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6185B-1BFA-4985-9283-AD7767B7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90D8-DE0E-404F-BC95-22A226A1F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6D5B-00BD-4ECF-ADDD-5F1DB2116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9E306-2297-47F4-A054-95DE608DF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F7F-7E98-4E90-8BEB-CF8554FE7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C5D5-4559-4766-823C-957DE13B5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42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5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B945F-C6FE-43D9-9E51-1609DD45FBA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9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9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10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dt" idx="7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A302-F8EE-4E0C-98CD-0F106B6B958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petrovka.ua/thumbs/73010----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artsch.spb.edu.ru/PhotoMyIsland/Photo%20max/15-17/fair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4716360" y="260280"/>
            <a:ext cx="4176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В Езопа вчіться, добрі люд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Для того байка коле під ребр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Щоб виправлять людські заблу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І похвалять красу й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Фе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Картинка 4 из 1272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260280"/>
            <a:ext cx="2214720" cy="302436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443640" y="3789360"/>
            <a:ext cx="2030400" cy="292428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pic>
        <p:nvPicPr>
          <p:cNvPr id="153" name="" descr=""/>
          <p:cNvPicPr/>
          <p:nvPr/>
        </p:nvPicPr>
        <p:blipFill>
          <a:blip r:embed="rId4"/>
          <a:srcRect l="0" t="0" r="121" b="53"/>
          <a:stretch/>
        </p:blipFill>
        <p:spPr>
          <a:xfrm>
            <a:off x="3276720" y="2655720"/>
            <a:ext cx="2230200" cy="3195720"/>
          </a:xfrm>
          <a:prstGeom prst="rect">
            <a:avLst/>
          </a:prstGeom>
          <a:ln w="28440">
            <a:solidFill>
              <a:srgbClr val="66ccff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2019240" y="134136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Book Antiqua"/>
              </a:rPr>
              <a:t>Вічна мудрість бай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40000" y="189000"/>
            <a:ext cx="4305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Baskerville Old Face"/>
              </a:rPr>
              <a:t>Друге груд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ff"/>
                </a:solidFill>
                <a:latin typeface="Baskerville Old Face"/>
              </a:rPr>
              <a:t>Класна робо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26920" y="5013360"/>
            <a:ext cx="777744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Baskerville Old Face"/>
              </a:rPr>
              <a:t>Проблемне питання: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азікають, що байка вік свій одробила,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 час її списать в архів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3331 E">
                                      <p:cBhvr>
                                        <p:cTn id="32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50920" y="115920"/>
            <a:ext cx="2347920" cy="31734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059280" y="2492280"/>
            <a:ext cx="2560320" cy="28130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6678720" y="3068640"/>
            <a:ext cx="2271600" cy="34495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7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4000"/>
                            </p:stCondLst>
                            <p:childTnLst>
                              <p:par>
                                <p:cTn id="23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703520" y="333360"/>
            <a:ext cx="2600280" cy="3382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643280" y="333360"/>
            <a:ext cx="2202120" cy="3456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6566040" y="3187800"/>
            <a:ext cx="2235240" cy="34542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395280" y="3213000"/>
            <a:ext cx="2130480" cy="3408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rcRect l="0" t="0" r="0" b="-11"/>
          <a:stretch/>
        </p:blipFill>
        <p:spPr>
          <a:xfrm>
            <a:off x="4060800" y="260280"/>
            <a:ext cx="4869000" cy="62658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47840" y="455760"/>
            <a:ext cx="2327040" cy="3311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1" dur="2000" fill="hold"/>
                                        <p:tgtEl>
                                          <p:spTgt spid="198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5cbf"/>
            </a:gs>
            <a:gs pos="5000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76320" y="487440"/>
            <a:ext cx="8888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ffff"/>
                </a:solidFill>
                <a:latin typeface="Book Antiqua"/>
              </a:rPr>
              <a:t>БАЙКА = (РОЗПОВІДЬ + МОРАЛЬ) х АЛЕГОРІЯ х САТИР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700360" y="1773360"/>
            <a:ext cx="4176720" cy="3527280"/>
            <a:chOff x="2700360" y="1773360"/>
            <a:chExt cx="4176720" cy="3527280"/>
          </a:xfrm>
        </p:grpSpPr>
        <p:sp>
          <p:nvSpPr>
            <p:cNvPr id="201" name=""/>
            <p:cNvSpPr/>
            <p:nvPr/>
          </p:nvSpPr>
          <p:spPr>
            <a:xfrm>
              <a:off x="2700360" y="1773360"/>
              <a:ext cx="4176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800" spc="-1" strike="noStrike">
                  <a:solidFill>
                    <a:srgbClr val="660066"/>
                  </a:solidFill>
                  <a:latin typeface="Comic Sans MS"/>
                </a:rPr>
                <a:t>Основні ознаки байки: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059280" y="2852640"/>
              <a:ext cx="2520720" cy="2448000"/>
            </a:xfrm>
            <a:prstGeom prst="sun">
              <a:avLst>
                <a:gd name="adj" fmla="val 250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ff"/>
                  </a:solidFill>
                  <a:latin typeface="Baskerville Old Face"/>
                </a:rPr>
                <a:t>БАЙ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954000" y="2357280"/>
            <a:ext cx="6945480" cy="3356640"/>
            <a:chOff x="954000" y="2357280"/>
            <a:chExt cx="6945480" cy="3356640"/>
          </a:xfrm>
        </p:grpSpPr>
        <p:sp>
          <p:nvSpPr>
            <p:cNvPr id="204" name=""/>
            <p:cNvSpPr/>
            <p:nvPr/>
          </p:nvSpPr>
          <p:spPr>
            <a:xfrm>
              <a:off x="3479760" y="235728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лаконіз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379600" y="5315040"/>
              <a:ext cx="410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000" spc="-1" strike="noStrike">
                  <a:solidFill>
                    <a:srgbClr val="0000ff"/>
                  </a:solidFill>
                  <a:latin typeface="Georgia"/>
                </a:rPr>
                <a:t>переважно віршована мов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057320" y="3795840"/>
              <a:ext cx="20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умовні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566720" y="4707000"/>
              <a:ext cx="180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ідейні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235480" y="2922480"/>
              <a:ext cx="26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пізнавальні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37280" y="4695840"/>
              <a:ext cx="21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алегориз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589720" y="3814920"/>
              <a:ext cx="180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простот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954000" y="2889360"/>
              <a:ext cx="247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2400" spc="-1" strike="noStrike">
                  <a:solidFill>
                    <a:srgbClr val="0000ff"/>
                  </a:solidFill>
                  <a:latin typeface="Georgia"/>
                </a:rPr>
                <a:t>повчальні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600360" cy="23576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213" name="" descr=""/>
          <p:cNvPicPr/>
          <p:nvPr/>
        </p:nvPicPr>
        <p:blipFill>
          <a:blip r:embed="rId2"/>
          <a:stretch/>
        </p:blipFill>
        <p:spPr>
          <a:xfrm>
            <a:off x="3492360" y="2490840"/>
            <a:ext cx="5351760" cy="4137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981160" y="1047600"/>
            <a:ext cx="3181680" cy="476280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179280" y="115920"/>
            <a:ext cx="2082960" cy="30258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2089080" cy="29462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4"/>
          <a:stretch/>
        </p:blipFill>
        <p:spPr>
          <a:xfrm>
            <a:off x="6899400" y="189000"/>
            <a:ext cx="2058840" cy="29527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6877080" y="2781360"/>
            <a:ext cx="136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Mistral"/>
              </a:rPr>
              <a:t>Є. Гребінка</a:t>
            </a:r>
            <a:r>
              <a:rPr b="1" lang="uk-UA" sz="1600" spc="-1" strike="noStrike">
                <a:solidFill>
                  <a:srgbClr val="000000"/>
                </a:solidFill>
                <a:latin typeface="Mistr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5"/>
          <a:stretch/>
        </p:blipFill>
        <p:spPr>
          <a:xfrm>
            <a:off x="6892920" y="3517920"/>
            <a:ext cx="2068560" cy="287172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6888240" y="6100920"/>
            <a:ext cx="185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Mistral"/>
              </a:rPr>
              <a:t>П. Гулак-Артемовськ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7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0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3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6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603ab"/>
            </a:gs>
            <a:gs pos="100000">
              <a:srgbClr val="a60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1692360" y="189000"/>
            <a:ext cx="6192720" cy="6192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222" name=""/>
          <p:cNvSpPr/>
          <p:nvPr/>
        </p:nvSpPr>
        <p:spPr>
          <a:xfrm>
            <a:off x="3995640" y="5589720"/>
            <a:ext cx="158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Times New Roman"/>
              </a:rPr>
              <a:t>Езо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rot="16200000">
            <a:off x="3422880" y="42174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Бабрі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8708000">
            <a:off x="1736280" y="381636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Да Вінч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rot="16200000">
            <a:off x="4357800" y="421740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Фед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rot="19734600">
            <a:off x="5796000" y="357300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Лафонте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9734600">
            <a:off x="5580360" y="2565000"/>
            <a:ext cx="227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Красицьк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rot="19224600">
            <a:off x="1619280" y="263664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Кри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9734600">
            <a:off x="5435640" y="213336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Глі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rot="19734600">
            <a:off x="1692360" y="162828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Глазо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9734600">
            <a:off x="4140360" y="549000"/>
            <a:ext cx="212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Годованец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19734600">
            <a:off x="5148360" y="1196640"/>
            <a:ext cx="194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Times New Roman"/>
              </a:rPr>
              <a:t>Михал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050920" y="333360"/>
            <a:ext cx="684216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Сократ і Бабрій, Федр і Лафонтен, Сковорода і Крилов – всім вистачило тем: Всім шлях премудрий розкривався,              Хто до Езопа добувався,                                      Хто позичав сюжетів та ідей,                      Щоб байкою збагачувать людей.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	</a:t>
            </a:r>
            <a:r>
              <a:rPr b="1" i="1" lang="uk-UA" sz="2400" spc="-1" strike="noStrike">
                <a:solidFill>
                  <a:srgbClr val="ffff00"/>
                </a:solidFill>
                <a:latin typeface="Book Antiqua"/>
              </a:rPr>
              <a:t>М. Годованец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5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6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50000">
              <a:srgbClr val="660033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66680" y="-1800"/>
            <a:ext cx="8977320" cy="38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00ffff"/>
                </a:solidFill>
                <a:uFillTx/>
                <a:latin typeface="Bookman Old Style"/>
              </a:rPr>
              <a:t>Лисиця та гле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ffff"/>
                </a:solidFill>
                <a:latin typeface="Bookman Old Style"/>
              </a:rPr>
              <a:t>Вийшла баба в поле та й сховала в кущах глечик із молоком. Продерлася до глечика лисиця, всунула в нього голову, вихлебтала молоко. Час уже йти додому, але трапилась біда – голову з глечика не може витягти. Бігає лисиця, головою метеляє, а тоді й промов-ляє лагідно до глечика: “Ну пожартував, то й досить. Відпусти мене, глеченятко! Погрався – та й годі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ffff"/>
                </a:solidFill>
                <a:latin typeface="Bookman Old Style"/>
              </a:rPr>
              <a:t>Одначе не відпускає голову лисиці глечик, хоч що роби. І тоді вона розсердилася: “Стривай же ти, проклятий! Не відпустиш добром, то я тебе втоплю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ffff"/>
                </a:solidFill>
                <a:latin typeface="Bookman Old Style"/>
              </a:rPr>
              <a:t>Побігла лисиця до річки та й давай глечика топити. Глечик уто-нути утонув, та й лисицю за собою потягну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-30240" y="4135320"/>
            <a:ext cx="9144000" cy="25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00"/>
                </a:solidFill>
                <a:uFillTx/>
                <a:latin typeface="Bookman Old Style"/>
              </a:rPr>
              <a:t>Селянин та його си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Bookman Old Style"/>
              </a:rPr>
              <a:t>У передсмертний час покликав селянин своїх синів і, бажаючи заохотити їх до землеробства, каже: «Діти мої, я помираю. Обшукай-те наш виноградник, у ньому ви знайдете схованим те, що я мав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Bookman Old Style"/>
              </a:rPr>
              <a:t>«Мабуть, там зарито скарб», – подумали сини й після смерті бать-ка перерили геть увесь виноградник. Скарб вони, щоправда, не зна-йшли, проте гарно скопаний ґрунт дав рясний урожай виноград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Bookman Old Style"/>
              </a:rPr>
              <a:t>Справжній скарб для людей – уміння трудити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0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8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2000"/>
                            </p:stCondLst>
                            <p:childTnLst>
                              <p:par>
                                <p:cTn id="389" nodeType="afterEffect" fill="hold" presetClass="entr" presetID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5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4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95280" y="470160"/>
            <a:ext cx="853272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Здається, байка просто бреш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А справді – мудру правду че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Леонід Гліб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Для того байка коле під ребр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Щоб виправлять людські забл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І похвалять красу й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    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Фе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Геть байку роздягли, клятущі, дог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Тоді побачили, що Правда то бу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    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Ігнацій Красиць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І скільки не беруть живлючої водиці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Не висиха Езопова криниц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                         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	</a:t>
            </a:r>
            <a:r>
              <a:rPr b="1" lang="uk-UA" sz="2400" spc="-1" strike="noStrike">
                <a:solidFill>
                  <a:srgbClr val="ffffff"/>
                </a:solidFill>
                <a:latin typeface="Georgia"/>
              </a:rPr>
              <a:t>Микита Годованец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4392360" cy="3294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8" name="" descr="Картинка 19 из 32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3392640"/>
            <a:ext cx="4357800" cy="32702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900000" y="4149720"/>
            <a:ext cx="2952720" cy="19684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0" name="" descr=""/>
          <p:cNvPicPr/>
          <p:nvPr/>
        </p:nvPicPr>
        <p:blipFill>
          <a:blip r:embed="rId5"/>
          <a:srcRect l="0" t="0" r="0" b="-118"/>
          <a:stretch/>
        </p:blipFill>
        <p:spPr>
          <a:xfrm>
            <a:off x="5864400" y="376200"/>
            <a:ext cx="2050920" cy="259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716360" y="260280"/>
            <a:ext cx="41767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В Езопа вчіться, добрі люди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Для того байка коле під ребр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Щоб виправлять людські заблуд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І похвалять красу й добр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Monotype Corsiva"/>
              </a:rPr>
              <a:t>Фед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979640" y="692280"/>
            <a:ext cx="583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Book Antiqua"/>
              </a:rPr>
              <a:t>Вічна мудрість бай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26920" y="5013360"/>
            <a:ext cx="777744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ffff"/>
                </a:solidFill>
                <a:latin typeface="Baskerville Old Face"/>
              </a:rPr>
              <a:t>Проблемне питання: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Базікають, що байка вік свій одробила,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uk-UA" sz="2000" spc="-1" strike="noStrike">
                <a:solidFill>
                  <a:srgbClr val="ffffff"/>
                </a:solidFill>
                <a:latin typeface="Arial"/>
              </a:rPr>
              <a:t>І час її списать в архів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path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 0.3331 E">
                                      <p:cBhvr>
                                        <p:cTn id="414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3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4211640" y="836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ffff"/>
                </a:solidFill>
                <a:latin typeface="Georgia"/>
              </a:rPr>
              <a:t>Домашнє завдан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116000" y="2924280"/>
            <a:ext cx="7561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Підготувати виразне читання напам'ять улюбленої бай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ff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Скласти кросворд на тему “Байка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ffff"/>
                </a:solidFill>
                <a:latin typeface="Comic Sans MS"/>
              </a:rPr>
              <a:t>3. *Скласти власну байку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000"/>
                            </p:stCondLst>
                            <p:childTnLst>
                              <p:par>
                                <p:cTn id="436" nodeType="afterEffect" fill="hold" presetClass="entr" presetID="14" presetSubtype="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438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4000"/>
                            </p:stCondLst>
                            <p:childTnLst>
                              <p:par>
                                <p:cTn id="440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1" dur="50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42" dur="50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-1,-1)"/>
                                      </p:to>
                                    </p:set>
                                    <p:set>
                                      <p:cBhvr>
                                        <p:cTn id="443" dur="500" autoRev="1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1905120" cy="2428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236000" y="2133720"/>
            <a:ext cx="1709640" cy="2827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79280" y="3284640"/>
            <a:ext cx="2203560" cy="3024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4" name="" descr=""/>
          <p:cNvPicPr/>
          <p:nvPr/>
        </p:nvPicPr>
        <p:blipFill>
          <a:blip r:embed="rId4">
            <a:lum bright="-6000"/>
          </a:blip>
          <a:srcRect l="0" t="0" r="0" b="26"/>
          <a:stretch/>
        </p:blipFill>
        <p:spPr>
          <a:xfrm>
            <a:off x="2876400" y="404640"/>
            <a:ext cx="4000680" cy="5996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012000" y="620640"/>
            <a:ext cx="2820960" cy="56167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2101680" cy="3024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7" name="" descr=""/>
          <p:cNvPicPr/>
          <p:nvPr/>
        </p:nvPicPr>
        <p:blipFill>
          <a:blip r:embed="rId3"/>
          <a:srcRect l="0" t="0" r="32" b="-75"/>
          <a:stretch/>
        </p:blipFill>
        <p:spPr>
          <a:xfrm>
            <a:off x="385920" y="3494160"/>
            <a:ext cx="2117520" cy="31701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059280" y="1557360"/>
            <a:ext cx="2620800" cy="4032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8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741840" y="173160"/>
            <a:ext cx="1746000" cy="34560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2017440" cy="2737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6905520" y="3776760"/>
            <a:ext cx="1986120" cy="2886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6848640" y="260280"/>
            <a:ext cx="2014200" cy="2881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3" name="" descr=""/>
          <p:cNvPicPr/>
          <p:nvPr/>
        </p:nvPicPr>
        <p:blipFill>
          <a:blip r:embed="rId5"/>
          <a:stretch/>
        </p:blipFill>
        <p:spPr>
          <a:xfrm>
            <a:off x="250920" y="3510000"/>
            <a:ext cx="2071440" cy="3166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3627360" y="3716280"/>
            <a:ext cx="1968480" cy="29592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6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421000" y="157320"/>
            <a:ext cx="4392720" cy="27144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179280" y="162000"/>
            <a:ext cx="2127240" cy="277344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5076720" y="3908520"/>
            <a:ext cx="3888000" cy="2816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78" name="" descr=""/>
          <p:cNvPicPr/>
          <p:nvPr/>
        </p:nvPicPr>
        <p:blipFill>
          <a:blip r:embed="rId4"/>
          <a:srcRect l="0" t="0" r="0" b="12"/>
          <a:stretch/>
        </p:blipFill>
        <p:spPr>
          <a:xfrm>
            <a:off x="6962760" y="136440"/>
            <a:ext cx="1995480" cy="28339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79" name=""/>
          <p:cNvSpPr/>
          <p:nvPr/>
        </p:nvSpPr>
        <p:spPr>
          <a:xfrm>
            <a:off x="168120" y="3080880"/>
            <a:ext cx="8805960" cy="35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omic Sans MS"/>
              </a:rPr>
              <a:t>Высказывания, цитаты и афоризмы Федр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Тот, кто оказывает услугу негодяю, совершает двойную ошибку: во-первых, помогает тому, кто помощи не заслуживает, а во-вторых,                                                                       подвергает опасности себя самог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Друзей немало; дружба только редкост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Имя «друг» звучит повседневно, но дружеская                                                                         верность редк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Льстясь на чужое, своего лишаешь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На примерах учимс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Осторожным полезны ошибки других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·  Ум выше храбрости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000"/>
                            </p:stCondLst>
                            <p:childTnLst>
                              <p:par>
                                <p:cTn id="14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0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909880" cy="3745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sp>
        <p:nvSpPr>
          <p:cNvPr id="181" name=""/>
          <p:cNvSpPr/>
          <p:nvPr/>
        </p:nvSpPr>
        <p:spPr>
          <a:xfrm>
            <a:off x="146160" y="3854160"/>
            <a:ext cx="3689280" cy="29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N I P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es szczekał na złodzieja, całą noc się trudzi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ili go nazajutrz, że pana obudzi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ał smaczne drugiej nocy, złodzieja nie czeka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n dom skradł; psa obili za to, że nie szczeka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8040" y="391680"/>
            <a:ext cx="4824360" cy="291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POTOK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RZEK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Potok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wierzch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k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lec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ą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c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h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asem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Ś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mi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i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ę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z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zeki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pokojni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yn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ę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tymczasem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Ni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t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w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gd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ś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niegi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topni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ż z owego potoka strumyk tylko mał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 gorsza, ten, co zaczął z hałasem i krzykiem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padł w rzekę i na koniec przestał być strumykie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356000" y="4112280"/>
            <a:ext cx="4599000" cy="22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2280" bIns="38160" anchor="ctr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OWIK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SZCZYGIE</a:t>
            </a:r>
            <a:r>
              <a:rPr b="1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zek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zczygi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owik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kt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ry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cich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iedzi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"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zkod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, ż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kr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ó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tko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ś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piewasz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".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owik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odpowiedzia</a:t>
            </a:r>
            <a:r>
              <a:rPr b="0" lang="uk-UA" sz="1600" spc="-1" strike="noStrike">
                <a:solidFill>
                  <a:srgbClr val="ffffff"/>
                </a:solidFill>
                <a:latin typeface="Arial"/>
              </a:rPr>
              <a:t>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"Co mi dała natura, wypełniam to wierni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epiej krótko, a dobrze, niż długo, a miernie"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50800" y="146160"/>
            <a:ext cx="4564080" cy="34192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5335560" y="1020600"/>
            <a:ext cx="3598920" cy="504036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468360" y="3716280"/>
            <a:ext cx="2309760" cy="29736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3203640" y="3716280"/>
            <a:ext cx="1977840" cy="296712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5000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79280" y="3500280"/>
            <a:ext cx="3240360" cy="320040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4637160" y="189000"/>
            <a:ext cx="4321080" cy="5761080"/>
          </a:xfrm>
          <a:prstGeom prst="rect">
            <a:avLst/>
          </a:prstGeom>
          <a:ln w="2844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0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2:52:33Z</dcterms:created>
  <dc:creator>Admin</dc:creator>
  <dc:description/>
  <dc:language>en-US</dc:language>
  <cp:lastModifiedBy>Admin</cp:lastModifiedBy>
  <dcterms:modified xsi:type="dcterms:W3CDTF">2009-11-30T13:28:28Z</dcterms:modified>
  <cp:revision>3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613000000000001024140</vt:lpwstr>
  </property>
</Properties>
</file>