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1EB-AB56-4D5E-8EA1-2B3C669A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D1E-4195-476F-9265-F6ED5BEA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EE4-5C29-4E41-B81B-EA59BBA0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266-A7E9-4DC7-9A47-FA6A3BFF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E05-1B09-41CB-87FC-41CEB197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CC1-2352-42F9-9703-3EB1C54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53C9-92D9-4FE1-AE83-56DE0C0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7326-7AF4-494B-835B-1508EDB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57A-5967-4C8B-AB1C-1A1E6BB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1B56-6F1A-4544-B812-C16E0DF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218F-B3B6-42E8-A5F8-BEFCDAA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180-6AEC-4B1F-8836-60C4C178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163-10CF-4BDC-8922-6AF169A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7FA4-B888-4DFE-A6BA-BA2C527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5A3F-11D5-4E0A-8B3D-817C001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5EF-93DB-4877-A59A-6882997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E96-67FE-4197-BC77-0BBAB81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D711-BF78-4DDC-B3DC-B30F8F7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74D9-ADA7-4FDE-8697-2C7330A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852D-7AB5-47C9-BD1F-8F98DE2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716F-EF92-4C40-9A82-366A125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2321-6096-4BC4-8EF0-F5BC2315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160-69CB-4D3C-87BA-8B6CF466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EB1B-7574-49F1-902E-09CFFAE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EC21-29C1-45B7-B97E-14FCA06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D780-E6DD-4D4B-9A06-F6EAB54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2E4AC-E684-46C9-B751-C153963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C192-0971-4A2B-876B-47F3F66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D8F3-3D77-47C5-B9E1-AF35207A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00B5-E567-4D88-80F1-007FCAC9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14A-627E-4A35-B11E-32715996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31E-7E0E-4567-89D1-CB04D6B9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3BD-0FBF-40AD-BDEB-78C9E44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D8B-1E55-4BA4-9E86-3CD580B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AE5-0B50-4F31-85A9-94C3D0D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644-654C-45B0-B03F-ABA3AC3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E72-F765-4F16-AE13-27B1C5DD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BBB-8E36-4F30-8DBB-2156AB311E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6DB4-0848-4813-8502-73BCB3DE64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trovka.ua/thumbs/73010----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rtsch.spb.edu.ru/PhotoMyIsland/Photo%20max/15-17/fair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4 из 12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2214720" cy="3024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30400" cy="2924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21" b="53"/>
          <a:stretch/>
        </p:blipFill>
        <p:spPr>
          <a:xfrm>
            <a:off x="3276720" y="2655720"/>
            <a:ext cx="2230200" cy="31957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1924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89000"/>
            <a:ext cx="430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Друге гру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Клас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47920" cy="317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560320" cy="2813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78720" y="3068640"/>
            <a:ext cx="2271600" cy="3449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333360"/>
            <a:ext cx="2600280" cy="338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20212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66040" y="3187800"/>
            <a:ext cx="2235240" cy="3454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130480" cy="340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4060800" y="260280"/>
            <a:ext cx="4869000" cy="6265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7840" y="455760"/>
            <a:ext cx="232704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487440"/>
            <a:ext cx="88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ffff"/>
                </a:solidFill>
                <a:latin typeface="Book Antiqua"/>
              </a:rPr>
              <a:t>БАЙКА = (РОЗПОВІДЬ + МОРАЛЬ) х АЛЕГОРІЯ х САТ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00360" y="1773360"/>
            <a:ext cx="4176720" cy="3527280"/>
            <a:chOff x="2700360" y="1773360"/>
            <a:chExt cx="4176720" cy="3527280"/>
          </a:xfrm>
        </p:grpSpPr>
        <p:sp>
          <p:nvSpPr>
            <p:cNvPr id="201" name=""/>
            <p:cNvSpPr/>
            <p:nvPr/>
          </p:nvSpPr>
          <p:spPr>
            <a:xfrm>
              <a:off x="2700360" y="177336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66"/>
                  </a:solidFill>
                  <a:latin typeface="Comic Sans MS"/>
                </a:rPr>
                <a:t>Основні ознаки байки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2852640"/>
              <a:ext cx="2520720" cy="24480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Baskerville Old Face"/>
                </a:rPr>
                <a:t>БАЙ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54000" y="2357280"/>
            <a:ext cx="6945480" cy="3356640"/>
            <a:chOff x="954000" y="2357280"/>
            <a:chExt cx="6945480" cy="3356640"/>
          </a:xfrm>
        </p:grpSpPr>
        <p:sp>
          <p:nvSpPr>
            <p:cNvPr id="204" name=""/>
            <p:cNvSpPr/>
            <p:nvPr/>
          </p:nvSpPr>
          <p:spPr>
            <a:xfrm>
              <a:off x="3479760" y="2357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лаконі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9600" y="53150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Georgia"/>
                </a:rPr>
                <a:t>переважно віршована м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57320" y="379584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умов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4707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ідей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5480" y="29224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ізнав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7280" y="4695840"/>
              <a:ext cx="21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алегор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9720" y="3814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4000" y="2889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овч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35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360" y="2490840"/>
            <a:ext cx="5351760" cy="413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1160" y="104760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082960" cy="302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089080" cy="2946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99400" y="189000"/>
            <a:ext cx="2058840" cy="295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7080" y="27813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Mistral"/>
              </a:rPr>
              <a:t>Є. Гребінка</a:t>
            </a: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92920" y="3517920"/>
            <a:ext cx="2068560" cy="28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88240" y="610092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П. Гулак-Артемо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92360" y="189000"/>
            <a:ext cx="6192720" cy="61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95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з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42288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аб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708000">
            <a:off x="17362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а Він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780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Ф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734600">
            <a:off x="5796000" y="3573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фо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734600">
            <a:off x="5580360" y="2565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асиц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224600">
            <a:off x="1619280" y="263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734600">
            <a:off x="5435640" y="213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і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734600">
            <a:off x="1692360" y="162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аз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734600">
            <a:off x="4140360" y="549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одованец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734600">
            <a:off x="5148360" y="119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333360"/>
            <a:ext cx="68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Сократ і Бабрій, Федр і Лафонтен, Сковорода і Крилов – всім вистачило тем: Всім шлях премудрий розкривався,              Хто до Езопа добувався,                                      Хто позичав сюжетів та ідей,                      Щоб байкою збагачувать людей.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М.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66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6680" y="-1800"/>
            <a:ext cx="89773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ffff"/>
                </a:solidFill>
                <a:uFillTx/>
                <a:latin typeface="Bookman Old Style"/>
              </a:rPr>
              <a:t>Лисиця та гл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Вийшла баба в поле та й сховала в кущах глечик із молоком. Продерлася до глечика лисиця, всунула в нього голову, вихлебтала молоко. Час уже йти додому, але трапилась біда – голову з глечика не може витягти. Бігає лисиця, головою метеляє, а тоді й промов-ляє лагідно до глечика: “Ну пожартував, то й досить. Відпусти мене, глеченятко! Погрався – та й годі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Одначе не відпускає голову лисиці глечик, хоч що роби. І тоді вона розсердилася: “Стривай же ти, проклятий! Не відпустиш добром, то я тебе втоплю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Побігла лисиця до річки та й давай глечика топити. Глечик уто-нути утонув, та й лисицю за собою потягну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0240" y="413532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Селянин та його 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У передсмертний час покликав селянин своїх синів і, бажаючи заохотити їх до землеробства, каже: «Діти мої, я помираю. Обшукай-те наш виноградник, у ньому ви знайдете схованим те, що я ма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«Мабуть, там зарито скарб», – подумали сини й після смерті бать-ка перерили геть увесь виноградник. Скарб вони, щоправда, не зна-йшли, проте гарно скопаний ґрунт дав рясний урожай вин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Справжній скарб для людей – уміння трудит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5280" y="470160"/>
            <a:ext cx="85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Здається, байка просто бре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А справді – мудру правду ч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Леонід Глі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Щоб виправлять людські забл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Геть байку роздягли, клятущі, до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оді побачили, що Правда то 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гнацій Краси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скільки не беруть живлючої води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Не висиха Езопова крини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икита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329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Картинка 19 из 32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392640"/>
            <a:ext cx="4357800" cy="327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2952720" cy="196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0" b="-118"/>
          <a:stretch/>
        </p:blipFill>
        <p:spPr>
          <a:xfrm>
            <a:off x="5864400" y="376200"/>
            <a:ext cx="20509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4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11640" y="83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Georgia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92428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Підготувати виразне читання напам'ять улюбленої б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Скласти кросворд на тему “Байк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3. *Скласти власну бай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2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242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709640" cy="282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2203560" cy="302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>
            <a:lum bright="-6000"/>
          </a:blip>
          <a:srcRect l="0" t="0" r="0" b="26"/>
          <a:stretch/>
        </p:blipFill>
        <p:spPr>
          <a:xfrm>
            <a:off x="2876400" y="404640"/>
            <a:ext cx="4000680" cy="5996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820960" cy="561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0168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32" b="-75"/>
          <a:stretch/>
        </p:blipFill>
        <p:spPr>
          <a:xfrm>
            <a:off x="385920" y="3494160"/>
            <a:ext cx="2117520" cy="317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620800" cy="403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1840" y="173160"/>
            <a:ext cx="174600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273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05520" y="3776760"/>
            <a:ext cx="198612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8640" y="260280"/>
            <a:ext cx="2014200" cy="288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0920" y="3510000"/>
            <a:ext cx="2071440" cy="316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27360" y="3716280"/>
            <a:ext cx="1968480" cy="295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1000" y="157320"/>
            <a:ext cx="4392720" cy="271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62000"/>
            <a:ext cx="2127240" cy="277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76720" y="3908520"/>
            <a:ext cx="3888000" cy="281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rcRect l="0" t="0" r="0" b="12"/>
          <a:stretch/>
        </p:blipFill>
        <p:spPr>
          <a:xfrm>
            <a:off x="6962760" y="136440"/>
            <a:ext cx="1995480" cy="2833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68120" y="3080880"/>
            <a:ext cx="880596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сказывания, цитаты и афоризмы Федр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Тот, кто оказывает услугу негодяю, совершает двойную ошибку: во-первых, помогает тому, кто помощи не заслуживает, а во-вторых,                                                                       подвергает опасности себя са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Друзей немало; дружба только редкост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Имя «друг» звучит повседневно, но дружеская                                                                         верность ре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Льстясь на чужое, своего лишаеш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На примерах учи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Осторожным полезны ошибки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Ум выше храбр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09880" cy="374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46160" y="3854160"/>
            <a:ext cx="368928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 I 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s szczekał na złodzieja, całą noc się trudzi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ili go nazajutrz, że pana obudzi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ł smaczne drugiej nocy, złodzieja nie czeka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 dom skradł; psa obili za to, że nie szczeka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8040" y="391680"/>
            <a:ext cx="4824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RZ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ierz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lec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m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okoj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ymcz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d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g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opn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ż z owego potoka strumyk tylko ma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 gorsza, ten, co zaczął z hałasem i krzyki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padł w rzekę i na koniec przestał być strumyk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112280"/>
            <a:ext cx="45990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t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i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kod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r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k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iewas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dpow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Co mi dała natura, wypełniam to wier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iej krótko, a dobrze, niż długo, a mierni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0800" y="146160"/>
            <a:ext cx="4564080" cy="34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560" y="1020600"/>
            <a:ext cx="3598920" cy="50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309760" cy="297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1977840" cy="296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240360" cy="3200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37160" y="189000"/>
            <a:ext cx="4321080" cy="576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52:33Z</dcterms:created>
  <dc:creator>Admin</dc:creator>
  <dc:description/>
  <dc:language>en-US</dc:language>
  <cp:lastModifiedBy>Admin</cp:lastModifiedBy>
  <dcterms:modified xsi:type="dcterms:W3CDTF">2009-11-30T13:28:2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3000000000001024140</vt:lpwstr>
  </property>
</Properties>
</file>