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7DA5-7E0C-406C-B3B0-C1213696D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CD96-D2D9-44F1-A434-9BC35FB4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E207-3C7D-4880-A86D-1FD76EC6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DA8C-A4C8-4015-9DCB-6780108C9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1AF6-0440-405C-BECB-C9E7FD229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66F4-26A9-47CB-BB1E-A858E2F5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830A-9CE0-4CDF-A804-79B52790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B151-404B-4F56-ADC4-98349A93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5713-251D-4712-B868-976A96C4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E5F7-D2C6-4C0F-AA8B-7CFD9ED5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4DE1-813E-473F-A2FA-D4554196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E41F-7099-4A9A-A1A4-B8CC31B6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04A5-AD77-4A90-8155-48DB4F9F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53FA-7B60-4EBD-93E9-B7D64A8D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DCC3-8D1C-4198-979C-B007CC1E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85E1-2F45-45A6-AA65-FE8D2F7DB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B3E2-42D4-4FF3-BD62-8F032E094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67940-965B-440C-A5A6-5BC1FBBA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46D9D-0B6A-4ECB-985A-4AB92E54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99D82-75CF-49B8-975E-03119CEE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86382-97F3-4EC7-89D1-B97A446C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52C0E-4D65-4768-8559-48660FF7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312F-D0C6-40B7-B3D8-EB45B142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97782-8C95-4C8C-AED5-AC63D1E7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677A9-366C-4C6B-839E-6F26BCD5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BC4E1-ED6B-4F55-9FF7-80D9DF75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581D6-908D-4D97-BF06-221348BF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B85BA-8A20-47ED-ACD8-15C13FE9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78B1B-026E-4373-9432-24520AF9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C8F69-61BB-48B1-88BA-07F1D63A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5366-7A3D-4673-AD64-7170DE6D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6C3B-48E8-4ECB-AC5B-35C6EF8B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F04D-9535-4BE6-A9E6-27CE5BCB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1DEE-8233-4E7A-9265-361A9C1D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DA06-ADEC-4FA1-9A9E-88E5F9ED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E5EB-544A-4A6F-851E-23FC0205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638A-2500-46DE-9C2D-9A19DB094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2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5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637C-E930-40E9-905F-E23616B4011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9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9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0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AF04-DD13-43E4-B0AA-0598866DF10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etrovka.ua/thumbs/73010----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artsch.spb.edu.ru/PhotoMyIsland/Photo%20max/15-17/fair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716360" y="260280"/>
            <a:ext cx="41767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В Езопа вчіться, добрі люд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Для того байка коле під ребр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Щоб виправлять людські заблуд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І похвалять красу й доб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Фе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Картинка 4 из 127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60280"/>
            <a:ext cx="2214720" cy="3024360"/>
          </a:xfrm>
          <a:prstGeom prst="rect">
            <a:avLst/>
          </a:prstGeom>
          <a:ln w="28440">
            <a:solidFill>
              <a:srgbClr val="66ccff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443640" y="3789360"/>
            <a:ext cx="2030400" cy="2924280"/>
          </a:xfrm>
          <a:prstGeom prst="rect">
            <a:avLst/>
          </a:prstGeom>
          <a:ln w="28440">
            <a:solidFill>
              <a:srgbClr val="66ccff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4"/>
          <a:srcRect l="0" t="0" r="121" b="53"/>
          <a:stretch/>
        </p:blipFill>
        <p:spPr>
          <a:xfrm>
            <a:off x="3276720" y="2655720"/>
            <a:ext cx="2230200" cy="3195720"/>
          </a:xfrm>
          <a:prstGeom prst="rect">
            <a:avLst/>
          </a:prstGeom>
          <a:ln w="28440">
            <a:solidFill>
              <a:srgbClr val="66ccff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2019240" y="1341360"/>
            <a:ext cx="58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Book Antiqua"/>
              </a:rPr>
              <a:t>Вічна мудрість бай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40000" y="189000"/>
            <a:ext cx="4305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Baskerville Old Face"/>
              </a:rPr>
              <a:t>Друге гру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Baskerville Old Face"/>
              </a:rPr>
              <a:t>Класна ро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6920" y="5013360"/>
            <a:ext cx="777744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Baskerville Old Face"/>
              </a:rPr>
              <a:t>Проблемне питання: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Базікають, що байка вік свій одробила,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 час її списать в архів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0.3331 E">
                                      <p:cBhvr>
                                        <p:cTn id="32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2347920" cy="31734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059280" y="2492280"/>
            <a:ext cx="2560320" cy="28130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678720" y="3068640"/>
            <a:ext cx="2271600" cy="34495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333360"/>
            <a:ext cx="2600280" cy="33829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2202120" cy="3456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566040" y="3187800"/>
            <a:ext cx="2235240" cy="34542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395280" y="3213000"/>
            <a:ext cx="2130480" cy="34084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rcRect l="0" t="0" r="0" b="-11"/>
          <a:stretch/>
        </p:blipFill>
        <p:spPr>
          <a:xfrm>
            <a:off x="4060800" y="260280"/>
            <a:ext cx="4869000" cy="62658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47840" y="455760"/>
            <a:ext cx="2327040" cy="33112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1" dur="2000" fill="hold"/>
                                        <p:tgtEl>
                                          <p:spTgt spid="198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76320" y="487440"/>
            <a:ext cx="888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ffff"/>
                </a:solidFill>
                <a:latin typeface="Book Antiqua"/>
              </a:rPr>
              <a:t>БАЙКА = (РОЗПОВІДЬ + МОРАЛЬ) х АЛЕГОРІЯ х САТИ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700360" y="1773360"/>
            <a:ext cx="4176720" cy="3527280"/>
            <a:chOff x="2700360" y="1773360"/>
            <a:chExt cx="4176720" cy="3527280"/>
          </a:xfrm>
        </p:grpSpPr>
        <p:sp>
          <p:nvSpPr>
            <p:cNvPr id="201" name=""/>
            <p:cNvSpPr/>
            <p:nvPr/>
          </p:nvSpPr>
          <p:spPr>
            <a:xfrm>
              <a:off x="2700360" y="1773360"/>
              <a:ext cx="4176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660066"/>
                  </a:solidFill>
                  <a:latin typeface="Comic Sans MS"/>
                </a:rPr>
                <a:t>Основні ознаки байки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59280" y="2852640"/>
              <a:ext cx="2520720" cy="244800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ff"/>
                  </a:solidFill>
                  <a:latin typeface="Baskerville Old Face"/>
                </a:rPr>
                <a:t>БАЙ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954000" y="2357280"/>
            <a:ext cx="6945480" cy="3356640"/>
            <a:chOff x="954000" y="2357280"/>
            <a:chExt cx="6945480" cy="3356640"/>
          </a:xfrm>
        </p:grpSpPr>
        <p:sp>
          <p:nvSpPr>
            <p:cNvPr id="204" name=""/>
            <p:cNvSpPr/>
            <p:nvPr/>
          </p:nvSpPr>
          <p:spPr>
            <a:xfrm>
              <a:off x="3479760" y="235728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ff"/>
                  </a:solidFill>
                  <a:latin typeface="Georgia"/>
                </a:rPr>
                <a:t>лаконіз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79600" y="5315040"/>
              <a:ext cx="410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ff"/>
                  </a:solidFill>
                  <a:latin typeface="Georgia"/>
                </a:rPr>
                <a:t>переважно віршована мо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57320" y="3795840"/>
              <a:ext cx="20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ff"/>
                  </a:solidFill>
                  <a:latin typeface="Georgia"/>
                </a:rPr>
                <a:t>умовні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66720" y="470700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ff"/>
                  </a:solidFill>
                  <a:latin typeface="Georgia"/>
                </a:rPr>
                <a:t>ідейні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35480" y="2922480"/>
              <a:ext cx="26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ff"/>
                  </a:solidFill>
                  <a:latin typeface="Georgia"/>
                </a:rPr>
                <a:t>пізнавальні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37280" y="4695840"/>
              <a:ext cx="21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ff"/>
                  </a:solidFill>
                  <a:latin typeface="Georgia"/>
                </a:rPr>
                <a:t>алегориз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89720" y="3814920"/>
              <a:ext cx="18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ff"/>
                  </a:solidFill>
                  <a:latin typeface="Georgia"/>
                </a:rPr>
                <a:t>просто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54000" y="288936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ff"/>
                  </a:solidFill>
                  <a:latin typeface="Georgia"/>
                </a:rPr>
                <a:t>повчальні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600360" cy="23576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492360" y="2490840"/>
            <a:ext cx="5351760" cy="41371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981160" y="1047600"/>
            <a:ext cx="3181680" cy="47628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2082960" cy="30258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79280" y="3429000"/>
            <a:ext cx="2089080" cy="29462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6899400" y="189000"/>
            <a:ext cx="2058840" cy="29527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877080" y="278136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Mistral"/>
              </a:rPr>
              <a:t>Є. Гребінка</a:t>
            </a:r>
            <a:r>
              <a:rPr b="1" lang="uk-UA" sz="1600" spc="-1" strike="noStrike">
                <a:solidFill>
                  <a:srgbClr val="000000"/>
                </a:solidFill>
                <a:latin typeface="Mistr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6892920" y="3517920"/>
            <a:ext cx="2068560" cy="28717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888240" y="6100920"/>
            <a:ext cx="185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Mistral"/>
              </a:rPr>
              <a:t>П. Гулак-Артемовсь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692360" y="189000"/>
            <a:ext cx="6192720" cy="6192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222" name=""/>
          <p:cNvSpPr/>
          <p:nvPr/>
        </p:nvSpPr>
        <p:spPr>
          <a:xfrm>
            <a:off x="3995640" y="55897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Езо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422880" y="42174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Бабр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8708000">
            <a:off x="1736280" y="3816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Да Вінч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4357800" y="42174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Фед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9734600">
            <a:off x="5796000" y="35730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Лафонт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9734600">
            <a:off x="5580360" y="256500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Красиць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9224600">
            <a:off x="1619280" y="263664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Кри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9734600">
            <a:off x="5435640" y="213336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Гліб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9734600">
            <a:off x="1692360" y="162828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Глазо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9734600">
            <a:off x="4140360" y="549000"/>
            <a:ext cx="212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Годованец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9734600">
            <a:off x="5148360" y="119664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Михал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050920" y="333360"/>
            <a:ext cx="684216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Сократ і Бабрій, Федр і Лафонтен, Сковорода і Крилов – всім вистачило тем: Всім шлях премудрий розкривався,              Хто до Езопа добувався,                                      Хто позичав сюжетів та ідей,                      Щоб байкою збагачувать людей.</a:t>
            </a: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М. Годованец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660033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66680" y="-1800"/>
            <a:ext cx="897732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ffff"/>
                </a:solidFill>
                <a:uFillTx/>
                <a:latin typeface="Bookman Old Style"/>
              </a:rPr>
              <a:t>Лисиця та гле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ffff"/>
                </a:solidFill>
                <a:latin typeface="Bookman Old Style"/>
              </a:rPr>
              <a:t>Вийшла баба в поле та й сховала в кущах глечик із молоком. Продерлася до глечика лисиця, всунула в нього голову, вихлебтала молоко. Час уже йти додому, але трапилась біда – голову з глечика не може витягти. Бігає лисиця, головою метеляє, а тоді й промов-ляє лагідно до глечика: “Ну пожартував, то й досить. Відпусти мене, глеченятко! Погрався – та й годі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ffff"/>
                </a:solidFill>
                <a:latin typeface="Bookman Old Style"/>
              </a:rPr>
              <a:t>Одначе не відпускає голову лисиці глечик, хоч що роби. І тоді вона розсердилася: “Стривай же ти, проклятий! Не відпустиш добром, то я тебе втоплю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ffff"/>
                </a:solidFill>
                <a:latin typeface="Bookman Old Style"/>
              </a:rPr>
              <a:t>Побігла лисиця до річки та й давай глечика топити. Глечик уто-нути утонув, та й лисицю за собою потягну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30240" y="4135320"/>
            <a:ext cx="91440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ff00"/>
                </a:solidFill>
                <a:uFillTx/>
                <a:latin typeface="Bookman Old Style"/>
              </a:rPr>
              <a:t>Селянин та його с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Bookman Old Style"/>
              </a:rPr>
              <a:t>У передсмертний час покликав селянин своїх синів і, бажаючи заохотити їх до землеробства, каже: «Діти мої, я помираю. Обшукай-те наш виноградник, у ньому ви знайдете схованим те, що я мав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Bookman Old Style"/>
              </a:rPr>
              <a:t>«Мабуть, там зарито скарб», – подумали сини й після смерті бать-ка перерили геть увесь виноградник. Скарб вони, щоправда, не зна-йшли, проте гарно скопаний ґрунт дав рясний урожай виногра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Bookman Old Style"/>
              </a:rPr>
              <a:t>Справжній скарб для людей – уміння трудити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4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95280" y="470160"/>
            <a:ext cx="8532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Здається, байка просто бреш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А справді – мудру правду че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                         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Леонід Глі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Для того байка коле під ребр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Щоб виправлять людські заблу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І похвалять красу й доб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                              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Фе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Геть байку роздягли, клятущі, дог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Тоді побачили, що Правда то бу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                              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Ігнацій Красиць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І скільки не беруть живлючої водиці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Не висиха Езопова криниц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                         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Микита Годованец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392360" cy="3294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58" name="" descr="Картинка 19 из 32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3392640"/>
            <a:ext cx="4357800" cy="32702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900000" y="4149720"/>
            <a:ext cx="2952720" cy="19684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5"/>
          <a:srcRect l="0" t="0" r="0" b="-118"/>
          <a:stretch/>
        </p:blipFill>
        <p:spPr>
          <a:xfrm>
            <a:off x="5864400" y="376200"/>
            <a:ext cx="2050920" cy="2592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716360" y="260280"/>
            <a:ext cx="41767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В Езопа вчіться, добрі люд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Для того байка коле під ребр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Щоб виправлять людські заблуд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І похвалять красу й доб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Фе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79640" y="692280"/>
            <a:ext cx="58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Book Antiqua"/>
              </a:rPr>
              <a:t>Вічна мудрість бай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26920" y="5013360"/>
            <a:ext cx="777744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Baskerville Old Face"/>
              </a:rPr>
              <a:t>Проблемне питання: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Базікають, що байка вік свій одробила,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 час її списать в архів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0.3331 E">
                                      <p:cBhvr>
                                        <p:cTn id="414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211640" y="836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ffff"/>
                </a:solidFill>
                <a:latin typeface="Georgia"/>
              </a:rPr>
              <a:t>Домашнє завд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16000" y="2924280"/>
            <a:ext cx="7561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uk-UA" sz="2800" spc="-1" strike="noStrike">
                <a:solidFill>
                  <a:srgbClr val="00ffff"/>
                </a:solidFill>
                <a:latin typeface="Comic Sans MS"/>
              </a:rPr>
              <a:t>Підготувати виразне читання напам'ять улюбленої бай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uk-UA" sz="2800" spc="-1" strike="noStrike">
                <a:solidFill>
                  <a:srgbClr val="00ffff"/>
                </a:solidFill>
                <a:latin typeface="Comic Sans MS"/>
              </a:rPr>
              <a:t>Скласти кросворд на тему “Байка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ffff"/>
                </a:solidFill>
                <a:latin typeface="Comic Sans MS"/>
              </a:rPr>
              <a:t>3. *Скласти власну байку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8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40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500" autoRev="1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42" dur="500" autoRev="1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43" dur="500" autoRev="1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905120" cy="24289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236000" y="2133720"/>
            <a:ext cx="1709640" cy="2827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79280" y="3284640"/>
            <a:ext cx="2203560" cy="3024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4" name="" descr=""/>
          <p:cNvPicPr/>
          <p:nvPr/>
        </p:nvPicPr>
        <p:blipFill>
          <a:blip r:embed="rId4">
            <a:lum bright="-6000"/>
          </a:blip>
          <a:srcRect l="0" t="0" r="0" b="26"/>
          <a:stretch/>
        </p:blipFill>
        <p:spPr>
          <a:xfrm>
            <a:off x="2876400" y="404640"/>
            <a:ext cx="4000680" cy="59961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12000" y="620640"/>
            <a:ext cx="2820960" cy="5616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2101680" cy="3024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3"/>
          <a:srcRect l="0" t="0" r="32" b="-75"/>
          <a:stretch/>
        </p:blipFill>
        <p:spPr>
          <a:xfrm>
            <a:off x="385920" y="3494160"/>
            <a:ext cx="2117520" cy="31701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3059280" y="1557360"/>
            <a:ext cx="2620800" cy="4032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741840" y="173160"/>
            <a:ext cx="1746000" cy="3456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017440" cy="2737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905520" y="3776760"/>
            <a:ext cx="1986120" cy="28861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848640" y="260280"/>
            <a:ext cx="2014200" cy="28814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250920" y="3510000"/>
            <a:ext cx="2071440" cy="31669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3627360" y="3716280"/>
            <a:ext cx="1968480" cy="29592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421000" y="157320"/>
            <a:ext cx="4392720" cy="27144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79280" y="162000"/>
            <a:ext cx="2127240" cy="27734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076720" y="3908520"/>
            <a:ext cx="3888000" cy="28162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4"/>
          <a:srcRect l="0" t="0" r="0" b="12"/>
          <a:stretch/>
        </p:blipFill>
        <p:spPr>
          <a:xfrm>
            <a:off x="6962760" y="136440"/>
            <a:ext cx="1995480" cy="28339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79" name=""/>
          <p:cNvSpPr/>
          <p:nvPr/>
        </p:nvSpPr>
        <p:spPr>
          <a:xfrm>
            <a:off x="168120" y="3080880"/>
            <a:ext cx="880596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Высказывания, цитаты и афоризмы Федр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·  Тот, кто оказывает услугу негодяю, совершает двойную ошибку: во-первых, помогает тому, кто помощи не заслуживает, а во-вторых,                                                                       подвергает опасности себя сам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·  Друзей немало; дружба только редкост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·  Имя «друг» звучит повседневно, но дружеская                                                                         верность ред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·  Льстясь на чужое, своего лишаешь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·  На примерах учим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·  Осторожным полезны ошибки друг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·  Ум выше храброст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909880" cy="3745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146160" y="3854160"/>
            <a:ext cx="3689280" cy="29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N I P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es szczekał na złodzieja, całą noc się trudzi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ili go nazajutrz, że pana obudzi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ał smaczne drugiej nocy, złodzieja nie czeka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n dom skradł; psa obili za to, że nie szczeka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8040" y="391680"/>
            <a:ext cx="4824360" cy="29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POTOK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RZE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Potok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wierzcho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k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ry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lec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ą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cy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h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asem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Ś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mi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i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ę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rzeki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pokojnie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yn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ę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tymczasem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Nie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t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ry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gdy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ś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niegi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topni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ż z owego potoka strumyk tylko mał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 gorsza, ten, co zaczął z hałasem i krzykie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padł w rzekę i na koniec przestał być strumyki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56000" y="4112280"/>
            <a:ext cx="459900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OWIK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SZCZYGIE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Rzek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zczygie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o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owik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kt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ry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cicho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iedzi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zkod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, ż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kr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tko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ś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piewasz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"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owik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odpowiedzi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"Co mi dała natura, wypełniam to wiern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piej krótko, a dobrze, niż długo, a miernie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50800" y="146160"/>
            <a:ext cx="4564080" cy="34192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335560" y="1020600"/>
            <a:ext cx="3598920" cy="5040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68360" y="3716280"/>
            <a:ext cx="2309760" cy="29736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3203640" y="3716280"/>
            <a:ext cx="1977840" cy="29671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9280" y="3500280"/>
            <a:ext cx="3240360" cy="32004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637160" y="189000"/>
            <a:ext cx="4321080" cy="5761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2:52:33Z</dcterms:created>
  <dc:creator>Admin</dc:creator>
  <dc:description/>
  <dc:language>en-US</dc:language>
  <cp:lastModifiedBy>Admin</cp:lastModifiedBy>
  <dcterms:modified xsi:type="dcterms:W3CDTF">2009-11-30T13:28:28Z</dcterms:modified>
  <cp:revision>3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13000000000001024140</vt:lpwstr>
  </property>
</Properties>
</file>