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71CB-E901-4072-A8B3-77A034B3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4606-72F0-4346-B182-F4D65249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3EB4-3F29-4A3D-B078-FAE75026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88C0-F84B-4E26-BF36-18AD204F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5941-3056-493B-9426-F6706FF2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9E08-9F3B-4758-8FDD-B249D322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9C08-3BAB-49EC-B9F1-8C9930E1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DCED-BCD9-4D0F-9F89-152AAC0C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5D20-B3DF-40E1-B73A-B1B514E2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12D0-2EAC-418A-A261-ECEE275D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CCF0-DB46-4EAA-A18A-DC2B34AD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C06A-E2B0-4DB7-ADC5-FB00DCDD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F96D-FC7F-443A-BAF9-2B10221A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B896-DA30-4359-826F-1626EF02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24E0-80AF-4CF7-9B78-3317A080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D9A3-A7A8-40D3-A0F8-0533D562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A079-D2B3-46DB-93AC-20D8BAF2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017DC-6957-498B-AAF5-B1BFDE6A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FCCB7-BC56-45B4-8286-667694E3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4EEB2-CCA1-4BE2-9F79-EBE169C4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DC0D6-3732-4902-AC01-29344BBB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EE66F-DB81-4BF6-A002-5304854C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5687-640C-4FD6-A492-332A2B02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DBB4B-EB0D-4F7F-8D10-4A7D584C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42EE5-53F8-48D4-AD69-94A5868C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74D71-9143-45F2-82D1-74CA6A39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88D79-AE76-4DB0-876E-55909968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C05A0-29BE-4750-9299-2E571BA8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20BA3-2EA3-4DB7-B29E-24A1E572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C495E-7DC2-4C53-A42B-CF44AC8F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BD4D-BB54-4346-BBA6-6B69DCD4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D6C-E2C2-46D8-9793-3D4D8AB5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3F6-ACF6-43F1-9FFB-CE635BAF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AC17-965D-461D-9F7E-CD77EA1A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EF5C-2007-49C7-8096-D0373CB5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E341-C0B2-4EBC-834E-A9C82ACC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9104-4641-4398-A4D7-3329C1D95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5F52-0299-4E78-9B31-C6941EFB2A5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AEA2-2937-411D-96BF-2B1261EBEAE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etrovka.ua/thumbs/73010----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artsch.spb.edu.ru/PhotoMyIsland/Photo%20max/15-17/fair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716360" y="260280"/>
            <a:ext cx="4176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В Езопа вчіться, добрі люд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Для того байка коле під ребр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Щоб виправлять людські заблу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І похвалять красу й доб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Фе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Картинка 4 из 127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2214720" cy="302436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443640" y="3789360"/>
            <a:ext cx="2030400" cy="292428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4"/>
          <a:srcRect l="0" t="0" r="121" b="53"/>
          <a:stretch/>
        </p:blipFill>
        <p:spPr>
          <a:xfrm>
            <a:off x="3276720" y="2655720"/>
            <a:ext cx="2230200" cy="319572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2019240" y="134136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Book Antiqua"/>
              </a:rPr>
              <a:t>Вічна мудрість бай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00" y="189000"/>
            <a:ext cx="4305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Baskerville Old Face"/>
              </a:rPr>
              <a:t>Друге гру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Baskerville Old Face"/>
              </a:rPr>
              <a:t>Класна ро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5013360"/>
            <a:ext cx="777744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Baskerville Old Face"/>
              </a:rPr>
              <a:t>Проблемне питання: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азікають, що байка вік свій одробила,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 час її списать в архів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0.3331 E">
                                      <p:cBhvr>
                                        <p:cTn id="32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347920" cy="31734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059280" y="2492280"/>
            <a:ext cx="2560320" cy="28130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678720" y="3068640"/>
            <a:ext cx="2271600" cy="34495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333360"/>
            <a:ext cx="2600280" cy="3382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2202120" cy="3456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566040" y="3187800"/>
            <a:ext cx="2235240" cy="34542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395280" y="3213000"/>
            <a:ext cx="2130480" cy="3408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0" t="0" r="0" b="-11"/>
          <a:stretch/>
        </p:blipFill>
        <p:spPr>
          <a:xfrm>
            <a:off x="4060800" y="260280"/>
            <a:ext cx="4869000" cy="62658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47840" y="455760"/>
            <a:ext cx="2327040" cy="3311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6320" y="487440"/>
            <a:ext cx="888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ffff"/>
                </a:solidFill>
                <a:latin typeface="Book Antiqua"/>
              </a:rPr>
              <a:t>БАЙКА = (РОЗПОВІДЬ + МОРАЛЬ) х АЛЕГОРІЯ х САТИ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700360" y="1773360"/>
            <a:ext cx="4176720" cy="3527280"/>
            <a:chOff x="2700360" y="1773360"/>
            <a:chExt cx="4176720" cy="3527280"/>
          </a:xfrm>
        </p:grpSpPr>
        <p:sp>
          <p:nvSpPr>
            <p:cNvPr id="201" name=""/>
            <p:cNvSpPr/>
            <p:nvPr/>
          </p:nvSpPr>
          <p:spPr>
            <a:xfrm>
              <a:off x="2700360" y="1773360"/>
              <a:ext cx="4176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660066"/>
                  </a:solidFill>
                  <a:latin typeface="Comic Sans MS"/>
                </a:rPr>
                <a:t>Основні ознаки байки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59280" y="2852640"/>
              <a:ext cx="2520720" cy="244800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ff"/>
                  </a:solidFill>
                  <a:latin typeface="Baskerville Old Face"/>
                </a:rPr>
                <a:t>БАЙ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954000" y="2357280"/>
            <a:ext cx="6945480" cy="3356640"/>
            <a:chOff x="954000" y="2357280"/>
            <a:chExt cx="6945480" cy="3356640"/>
          </a:xfrm>
        </p:grpSpPr>
        <p:sp>
          <p:nvSpPr>
            <p:cNvPr id="204" name=""/>
            <p:cNvSpPr/>
            <p:nvPr/>
          </p:nvSpPr>
          <p:spPr>
            <a:xfrm>
              <a:off x="3479760" y="235728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лаконіз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79600" y="5315040"/>
              <a:ext cx="410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ff"/>
                  </a:solidFill>
                  <a:latin typeface="Georgia"/>
                </a:rPr>
                <a:t>переважно віршована мо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57320" y="3795840"/>
              <a:ext cx="20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умовні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66720" y="470700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ідейні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35480" y="292248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пізнавальні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7280" y="4695840"/>
              <a:ext cx="21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алегориз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89720" y="381492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прост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54000" y="288936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повчальні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600360" cy="23576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492360" y="2490840"/>
            <a:ext cx="5351760" cy="4137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981160" y="1047600"/>
            <a:ext cx="3181680" cy="47628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2082960" cy="30258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2089080" cy="2946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899400" y="189000"/>
            <a:ext cx="2058840" cy="2952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877080" y="278136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Mistral"/>
              </a:rPr>
              <a:t>Є. Гребінка</a:t>
            </a:r>
            <a:r>
              <a:rPr b="1" lang="uk-UA" sz="1600" spc="-1" strike="noStrike">
                <a:solidFill>
                  <a:srgbClr val="000000"/>
                </a:solidFill>
                <a:latin typeface="Mistr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6892920" y="3517920"/>
            <a:ext cx="2068560" cy="2871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88240" y="6100920"/>
            <a:ext cx="185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Mistral"/>
              </a:rPr>
              <a:t>П. Гулак-Артемовсь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692360" y="189000"/>
            <a:ext cx="6192720" cy="6192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3995640" y="55897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Езо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422880" y="42174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абр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8708000">
            <a:off x="1736280" y="3816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Да Вінч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4357800" y="42174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Фе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9734600">
            <a:off x="5796000" y="35730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Лафон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9734600">
            <a:off x="5580360" y="25650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Красиць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9224600">
            <a:off x="1619280" y="263664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Кри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9734600">
            <a:off x="5435640" y="2133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Гліб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9734600">
            <a:off x="1692360" y="162828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Глазо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9734600">
            <a:off x="4140360" y="549000"/>
            <a:ext cx="21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Годованец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9734600">
            <a:off x="5148360" y="119664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Михал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050920" y="333360"/>
            <a:ext cx="68421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Сократ і Бабрій, Федр і Лафонтен, Сковорода і Крилов – всім вистачило тем: Всім шлях премудрий розкривався,              Хто до Езопа добувався,                                      Хто позичав сюжетів та ідей,                      Щоб байкою збагачувать людей.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М. Годованец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660033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6680" y="-1800"/>
            <a:ext cx="897732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ffff"/>
                </a:solidFill>
                <a:uFillTx/>
                <a:latin typeface="Bookman Old Style"/>
              </a:rPr>
              <a:t>Лисиця та гле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ffff"/>
                </a:solidFill>
                <a:latin typeface="Bookman Old Style"/>
              </a:rPr>
              <a:t>Вийшла баба в поле та й сховала в кущах глечик із молоком. Продерлася до глечика лисиця, всунула в нього голову, вихлебтала молоко. Час уже йти додому, але трапилась біда – голову з глечика не може витягти. Бігає лисиця, головою метеляє, а тоді й промов-ляє лагідно до глечика: “Ну пожартував, то й досить. Відпусти мене, глеченятко! Погрався – та й годі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ffff"/>
                </a:solidFill>
                <a:latin typeface="Bookman Old Style"/>
              </a:rPr>
              <a:t>Одначе не відпускає голову лисиці глечик, хоч що роби. І тоді вона розсердилася: “Стривай же ти, проклятий! Не відпустиш добром, то я тебе втоплю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ffff"/>
                </a:solidFill>
                <a:latin typeface="Bookman Old Style"/>
              </a:rPr>
              <a:t>Побігла лисиця до річки та й давай глечика топити. Глечик уто-нути утонув, та й лисицю за собою потягну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30240" y="4135320"/>
            <a:ext cx="91440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00"/>
                </a:solidFill>
                <a:uFillTx/>
                <a:latin typeface="Bookman Old Style"/>
              </a:rPr>
              <a:t>Селянин та його с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Bookman Old Style"/>
              </a:rPr>
              <a:t>У передсмертний час покликав селянин своїх синів і, бажаючи заохотити їх до землеробства, каже: «Діти мої, я помираю. Обшукай-те наш виноградник, у ньому ви знайдете схованим те, що я ма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Bookman Old Style"/>
              </a:rPr>
              <a:t>«Мабуть, там зарито скарб», – подумали сини й після смерті бать-ка перерили геть увесь виноградник. Скарб вони, щоправда, не зна-йшли, проте гарно скопаний ґрунт дав рясний урожай виногра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Bookman Old Style"/>
              </a:rPr>
              <a:t>Справжній скарб для людей – уміння трудити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95280" y="470160"/>
            <a:ext cx="853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Здається, байка просто бреш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А справді – мудру правду че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Леонід Глі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Для того байка коле під ребр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Щоб виправлять людські заблу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І похвалять красу й доб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     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Фе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Геть байку роздягли, клятущі, дог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Тоді побачили, що Правда то бу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     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Ігнацій Красиц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І скільки не беруть живлючої водиці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Не висиха Езопова криниц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Микита Годованец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392360" cy="3294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58" name="" descr="Картинка 19 из 32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3392640"/>
            <a:ext cx="4357800" cy="32702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900000" y="4149720"/>
            <a:ext cx="2952720" cy="1968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5"/>
          <a:srcRect l="0" t="0" r="0" b="-118"/>
          <a:stretch/>
        </p:blipFill>
        <p:spPr>
          <a:xfrm>
            <a:off x="5864400" y="376200"/>
            <a:ext cx="2050920" cy="2592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716360" y="260280"/>
            <a:ext cx="4176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В Езопа вчіться, добрі люд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Для того байка коле під ребр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Щоб виправлять людські заблу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І похвалять красу й доб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Фе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79640" y="69228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Book Antiqua"/>
              </a:rPr>
              <a:t>Вічна мудрість бай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6920" y="5013360"/>
            <a:ext cx="777744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Baskerville Old Face"/>
              </a:rPr>
              <a:t>Проблемне питання: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азікають, що байка вік свій одробила,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 час її списать в архів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0.3331 E">
                                      <p:cBhvr>
                                        <p:cTn id="414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211640" y="836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ffff"/>
                </a:solidFill>
                <a:latin typeface="Georgia"/>
              </a:rPr>
              <a:t>Домашнє завд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16000" y="2924280"/>
            <a:ext cx="7561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Підготувати виразне читання напам'ять улюбленої ба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Скласти кросворд на тему “Байк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3. *Скласти власну байк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4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50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42" dur="50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43" dur="50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905120" cy="2428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236000" y="2133720"/>
            <a:ext cx="1709640" cy="2827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79280" y="3284640"/>
            <a:ext cx="2203560" cy="3024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4">
            <a:lum bright="-6000"/>
          </a:blip>
          <a:srcRect l="0" t="0" r="0" b="26"/>
          <a:stretch/>
        </p:blipFill>
        <p:spPr>
          <a:xfrm>
            <a:off x="2876400" y="404640"/>
            <a:ext cx="4000680" cy="5996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12000" y="620640"/>
            <a:ext cx="2820960" cy="5616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2101680" cy="3024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3"/>
          <a:srcRect l="0" t="0" r="32" b="-75"/>
          <a:stretch/>
        </p:blipFill>
        <p:spPr>
          <a:xfrm>
            <a:off x="385920" y="3494160"/>
            <a:ext cx="2117520" cy="3170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059280" y="1557360"/>
            <a:ext cx="2620800" cy="4032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741840" y="173160"/>
            <a:ext cx="1746000" cy="3456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017440" cy="2737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905520" y="3776760"/>
            <a:ext cx="1986120" cy="2886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848640" y="260280"/>
            <a:ext cx="2014200" cy="2881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250920" y="3510000"/>
            <a:ext cx="2071440" cy="3166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3627360" y="3716280"/>
            <a:ext cx="1968480" cy="29592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421000" y="157320"/>
            <a:ext cx="4392720" cy="27144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79280" y="162000"/>
            <a:ext cx="2127240" cy="2773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076720" y="3908520"/>
            <a:ext cx="3888000" cy="2816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4"/>
          <a:srcRect l="0" t="0" r="0" b="12"/>
          <a:stretch/>
        </p:blipFill>
        <p:spPr>
          <a:xfrm>
            <a:off x="6962760" y="136440"/>
            <a:ext cx="1995480" cy="2833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168120" y="3080880"/>
            <a:ext cx="880596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Высказывания, цитаты и афоризмы Федр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Тот, кто оказывает услугу негодяю, совершает двойную ошибку: во-первых, помогает тому, кто помощи не заслуживает, а во-вторых,                                                                       подвергает опасности себя сам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Друзей немало; дружба только редкост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Имя «друг» звучит повседневно, но дружеская                                                                         верность ред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Льстясь на чужое, своего лишаеш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На примерах учим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Осторожным полезны ошибки друг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Ум выше храброст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909880" cy="3745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146160" y="3854160"/>
            <a:ext cx="3689280" cy="29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N I P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es szczekał na złodzieja, całą noc się trudzi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ili go nazajutrz, że pana obudzi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ał smaczne drugiej nocy, złodzieja nie czeka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n dom skradł; psa obili za to, że nie szczeka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8040" y="391680"/>
            <a:ext cx="4824360" cy="29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POTOK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RZE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Potok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wierzcho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k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r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lec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ą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c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asem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Ś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mi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ę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rzeki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pokojnie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yn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ę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tymczasem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Nie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t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r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gd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ś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niegi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topni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ż z owego potoka strumyk tylko mał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 gorsza, ten, co zaczął z hałasem i krzykie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padł w rzekę i na koniec przestał być strumyk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56000" y="4112280"/>
            <a:ext cx="459900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OWIK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SZCZYGIE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Rzek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zczygie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owik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kt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r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cicho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iedzi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zkod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 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kr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tko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ś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piewasz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"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owik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odpowiedzi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"Co mi dała natura, wypełniam to wiern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piej krótko, a dobrze, niż długo, a miernie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50800" y="146160"/>
            <a:ext cx="4564080" cy="3419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35560" y="1020600"/>
            <a:ext cx="3598920" cy="5040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68360" y="3716280"/>
            <a:ext cx="2309760" cy="29736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3203640" y="3716280"/>
            <a:ext cx="1977840" cy="2967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3240360" cy="32004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37160" y="189000"/>
            <a:ext cx="4321080" cy="5761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2:52:33Z</dcterms:created>
  <dc:creator>Admin</dc:creator>
  <dc:description/>
  <dc:language>en-US</dc:language>
  <cp:lastModifiedBy>Admin</cp:lastModifiedBy>
  <dcterms:modified xsi:type="dcterms:W3CDTF">2009-11-30T13:28:28Z</dcterms:modified>
  <cp:revision>3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13000000000001024140</vt:lpwstr>
  </property>
</Properties>
</file>