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647-9C4D-4FEB-BBD7-4BB02CF1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6B4-61C1-487A-A027-E0E94F8F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E6F-799B-4ABC-A675-E672F548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6F2-D86E-4152-BAB1-1B6ECF34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D01B-F4EE-491F-8A81-6715B142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2639-B808-4128-BF68-B1040CEF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FAA7-7F9A-458B-A73A-CD627576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D8B0-32EF-4796-BD41-312A72A9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2C89-1E5D-42A4-94D3-C8F88879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71A7-29DE-439F-A208-F98F60DD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8E4A-4AE3-41E7-BAB3-DD0D509F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A0B-86D4-4242-B431-CA427E30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139B-1632-4008-ADD2-5A38E473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B991-745C-4D5D-82EB-2FFBD6E1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BC9C-63A9-42B3-8F7F-210F60CC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9CEB-3E40-4E30-B606-1160D323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68C6-567A-4724-96D7-E4809527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E787C-801D-4C6F-84C3-991F1A9F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F970-BA0A-4FE6-8C73-C98C4ACE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A527-32F6-42B4-B238-5564799B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975A7-F03A-4863-A060-49498BCD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7A69C-1B02-4478-9845-CCA2916D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CDA-EA64-499D-BCA9-080AB0C8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A6357-0A86-4A86-9235-254770D1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D1C79-B915-4CF9-8D2A-4F76E72F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4538-49BA-40FA-BD4E-D01B4E55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A2087-99D8-42A2-8821-38E7CB28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2550D-3FE6-4B7E-A053-52EC5F7B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E52D9-9A60-487E-9D85-B77D8192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CF2DD-3EB8-4D7D-A3AE-61154552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27D-5842-4D38-A508-1A083E12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D55-0FBD-4B08-ABEF-0259D93E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88A-15D9-49DF-9774-ADBCC332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50B-86B8-4E30-9C73-06AA6D58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40A-A707-41FC-AF83-A7CEDCE4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BC8-9140-4C81-8A34-E0DA296F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D6D2-35AB-428D-89EB-8AB057510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C3AD-08CC-41F4-A395-525E0D8D3B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5DBA-709F-490B-932D-26B6BD41C7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etrovka.ua/thumbs/73010----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artsch.spb.edu.ru/PhotoMyIsland/Photo%20max/15-17/fair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716360" y="260280"/>
            <a:ext cx="4176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В Езопа вчіться, добрі лю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Для того байка коле під реб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Щоб виправлять людські заблу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І похвалять красу й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Ф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Картинка 4 из 127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2214720" cy="302436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3640" y="3789360"/>
            <a:ext cx="2030400" cy="292428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21" b="53"/>
          <a:stretch/>
        </p:blipFill>
        <p:spPr>
          <a:xfrm>
            <a:off x="3276720" y="2655720"/>
            <a:ext cx="2230200" cy="319572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2019240" y="134136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Book Antiqua"/>
              </a:rPr>
              <a:t>Вічна мудрість бай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189000"/>
            <a:ext cx="4305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Baskerville Old Face"/>
              </a:rPr>
              <a:t>Друге гру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Baskerville Old Face"/>
              </a:rPr>
              <a:t>Класна ро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5013360"/>
            <a:ext cx="777744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Baskerville Old Face"/>
              </a:rPr>
              <a:t>Проблемне питання: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азікають, що байка вік свій одробила,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 час її списать в архі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1 E">
                                      <p:cBhvr>
                                        <p:cTn id="3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347920" cy="3173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2560320" cy="28130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678720" y="3068640"/>
            <a:ext cx="2271600" cy="34495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333360"/>
            <a:ext cx="2600280" cy="3382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2202120" cy="3456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566040" y="3187800"/>
            <a:ext cx="2235240" cy="3454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2130480" cy="3408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0" r="0" b="-11"/>
          <a:stretch/>
        </p:blipFill>
        <p:spPr>
          <a:xfrm>
            <a:off x="4060800" y="260280"/>
            <a:ext cx="4869000" cy="62658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7840" y="455760"/>
            <a:ext cx="2327040" cy="3311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320" y="487440"/>
            <a:ext cx="888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ffff"/>
                </a:solidFill>
                <a:latin typeface="Book Antiqua"/>
              </a:rPr>
              <a:t>БАЙКА = (РОЗПОВІДЬ + МОРАЛЬ) х АЛЕГОРІЯ х САТИ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00360" y="1773360"/>
            <a:ext cx="4176720" cy="3527280"/>
            <a:chOff x="2700360" y="1773360"/>
            <a:chExt cx="4176720" cy="3527280"/>
          </a:xfrm>
        </p:grpSpPr>
        <p:sp>
          <p:nvSpPr>
            <p:cNvPr id="201" name=""/>
            <p:cNvSpPr/>
            <p:nvPr/>
          </p:nvSpPr>
          <p:spPr>
            <a:xfrm>
              <a:off x="2700360" y="1773360"/>
              <a:ext cx="417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660066"/>
                  </a:solidFill>
                  <a:latin typeface="Comic Sans MS"/>
                </a:rPr>
                <a:t>Основні ознаки байки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59280" y="2852640"/>
              <a:ext cx="2520720" cy="244800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ff"/>
                  </a:solidFill>
                  <a:latin typeface="Baskerville Old Face"/>
                </a:rPr>
                <a:t>БАЙ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954000" y="2357280"/>
            <a:ext cx="6945480" cy="3356640"/>
            <a:chOff x="954000" y="2357280"/>
            <a:chExt cx="6945480" cy="3356640"/>
          </a:xfrm>
        </p:grpSpPr>
        <p:sp>
          <p:nvSpPr>
            <p:cNvPr id="204" name=""/>
            <p:cNvSpPr/>
            <p:nvPr/>
          </p:nvSpPr>
          <p:spPr>
            <a:xfrm>
              <a:off x="3479760" y="235728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лаконі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79600" y="5315040"/>
              <a:ext cx="410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ff"/>
                  </a:solidFill>
                  <a:latin typeface="Georgia"/>
                </a:rPr>
                <a:t>переважно віршована мо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57320" y="3795840"/>
              <a:ext cx="20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умов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66720" y="470700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ідей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35480" y="29224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пізнаваль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7280" y="4695840"/>
              <a:ext cx="21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алегори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89720" y="381492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про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54000" y="288936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повчаль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600360" cy="2357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92360" y="2490840"/>
            <a:ext cx="5351760" cy="4137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981160" y="1047600"/>
            <a:ext cx="3181680" cy="4762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2082960" cy="3025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2089080" cy="2946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899400" y="189000"/>
            <a:ext cx="2058840" cy="2952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877080" y="278136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Mistral"/>
              </a:rPr>
              <a:t>Є. Гребінка</a:t>
            </a:r>
            <a:r>
              <a:rPr b="1" lang="uk-UA" sz="1600" spc="-1" strike="noStrike">
                <a:solidFill>
                  <a:srgbClr val="000000"/>
                </a:solidFill>
                <a:latin typeface="Mistr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892920" y="3517920"/>
            <a:ext cx="2068560" cy="2871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88240" y="6100920"/>
            <a:ext cx="185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Mistral"/>
              </a:rPr>
              <a:t>П. Гулак-Артемовсь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692360" y="189000"/>
            <a:ext cx="6192720" cy="6192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3995640" y="5589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Ез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422880" y="42174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абр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8708000">
            <a:off x="1736280" y="3816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Да Вінч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4357800" y="42174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Фе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9734600">
            <a:off x="5796000" y="3573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Лафон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9734600">
            <a:off x="5580360" y="25650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Красиц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9224600">
            <a:off x="1619280" y="2636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Кри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9734600">
            <a:off x="5435640" y="2133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Глі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9734600">
            <a:off x="1692360" y="16282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Глазо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9734600">
            <a:off x="4140360" y="549000"/>
            <a:ext cx="21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Годованец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9734600">
            <a:off x="5148360" y="1196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Михал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050920" y="333360"/>
            <a:ext cx="68421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Сократ і Бабрій, Федр і Лафонтен, Сковорода і Крилов – всім вистачило тем: Всім шлях премудрий розкривався,              Хто до Езопа добувався,                                      Хто позичав сюжетів та ідей,                      Щоб байкою збагачувать людей.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М. Годоване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660033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6680" y="-1800"/>
            <a:ext cx="89773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ffff"/>
                </a:solidFill>
                <a:uFillTx/>
                <a:latin typeface="Bookman Old Style"/>
              </a:rPr>
              <a:t>Лисиця та гле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fff"/>
                </a:solidFill>
                <a:latin typeface="Bookman Old Style"/>
              </a:rPr>
              <a:t>Вийшла баба в поле та й сховала в кущах глечик із молоком. Продерлася до глечика лисиця, всунула в нього голову, вихлебтала молоко. Час уже йти додому, але трапилась біда – голову з глечика не може витягти. Бігає лисиця, головою метеляє, а тоді й промов-ляє лагідно до глечика: “Ну пожартував, то й досить. Відпусти мене, глеченятко! Погрався – та й годі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fff"/>
                </a:solidFill>
                <a:latin typeface="Bookman Old Style"/>
              </a:rPr>
              <a:t>Одначе не відпускає голову лисиці глечик, хоч що роби. І тоді вона розсердилася: “Стривай же ти, проклятий! Не відпустиш добром, то я тебе втоплю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fff"/>
                </a:solidFill>
                <a:latin typeface="Bookman Old Style"/>
              </a:rPr>
              <a:t>Побігла лисиця до річки та й давай глечика топити. Глечик уто-нути утонув, та й лисицю за собою потягну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0240" y="4135320"/>
            <a:ext cx="9144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00"/>
                </a:solidFill>
                <a:uFillTx/>
                <a:latin typeface="Bookman Old Style"/>
              </a:rPr>
              <a:t>Селянин та його 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Bookman Old Style"/>
              </a:rPr>
              <a:t>У передсмертний час покликав селянин своїх синів і, бажаючи заохотити їх до землеробства, каже: «Діти мої, я помираю. Обшукай-те наш виноградник, у ньому ви знайдете схованим те, що я ма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Bookman Old Style"/>
              </a:rPr>
              <a:t>«Мабуть, там зарито скарб», – подумали сини й після смерті бать-ка перерили геть увесь виноградник. Скарб вони, щоправда, не зна-йшли, проте гарно скопаний ґрунт дав рясний урожай виногр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Bookman Old Style"/>
              </a:rPr>
              <a:t>Справжній скарб для людей – уміння трудит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5280" y="470160"/>
            <a:ext cx="853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Здається, байка просто бре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А справді – мудру правду че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Леонід Глі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Для того байка коле під реб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Щоб виправлять людські забл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І похвалять красу й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Ф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Геть байку роздягли, клятущі, дог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Тоді побачили, що Правда то б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Ігнацій Красиц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І скільки не беруть живлючої водиці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Не висиха Езопова криниц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Микита Годоване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392360" cy="3294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8" name="" descr="Картинка 19 из 32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3392640"/>
            <a:ext cx="4357800" cy="32702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2952720" cy="1968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0" t="0" r="0" b="-118"/>
          <a:stretch/>
        </p:blipFill>
        <p:spPr>
          <a:xfrm>
            <a:off x="5864400" y="376200"/>
            <a:ext cx="2050920" cy="259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716360" y="260280"/>
            <a:ext cx="4176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В Езопа вчіться, добрі лю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Для того байка коле під реб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Щоб виправлять людські заблу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І похвалять красу й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Ф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69228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Book Antiqua"/>
              </a:rPr>
              <a:t>Вічна мудрість бай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5013360"/>
            <a:ext cx="777744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Baskerville Old Face"/>
              </a:rPr>
              <a:t>Проблемне питання: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азікають, що байка вік свій одробила,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 час її списать в архі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1 E">
                                      <p:cBhvr>
                                        <p:cTn id="41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211640" y="836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ffff"/>
                </a:solidFill>
                <a:latin typeface="Georgia"/>
              </a:rPr>
              <a:t>Домашнє зав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2924280"/>
            <a:ext cx="756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Підготувати виразне читання напам'ять улюбленої ба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Скласти кросворд на тему “Байк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3. *Скласти власну байк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50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42" dur="50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43" dur="50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905120" cy="2428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236000" y="2133720"/>
            <a:ext cx="1709640" cy="2827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79280" y="3284640"/>
            <a:ext cx="2203560" cy="3024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4">
            <a:lum bright="-6000"/>
          </a:blip>
          <a:srcRect l="0" t="0" r="0" b="26"/>
          <a:stretch/>
        </p:blipFill>
        <p:spPr>
          <a:xfrm>
            <a:off x="2876400" y="404640"/>
            <a:ext cx="4000680" cy="5996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620640"/>
            <a:ext cx="2820960" cy="5616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101680" cy="3024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3"/>
          <a:srcRect l="0" t="0" r="32" b="-75"/>
          <a:stretch/>
        </p:blipFill>
        <p:spPr>
          <a:xfrm>
            <a:off x="385920" y="3494160"/>
            <a:ext cx="2117520" cy="3170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059280" y="1557360"/>
            <a:ext cx="2620800" cy="403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41840" y="173160"/>
            <a:ext cx="1746000" cy="3456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017440" cy="2737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905520" y="3776760"/>
            <a:ext cx="1986120" cy="2886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848640" y="260280"/>
            <a:ext cx="2014200" cy="2881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250920" y="3510000"/>
            <a:ext cx="2071440" cy="3166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627360" y="3716280"/>
            <a:ext cx="1968480" cy="2959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21000" y="157320"/>
            <a:ext cx="4392720" cy="2714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9280" y="162000"/>
            <a:ext cx="2127240" cy="2773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76720" y="3908520"/>
            <a:ext cx="3888000" cy="2816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4"/>
          <a:srcRect l="0" t="0" r="0" b="12"/>
          <a:stretch/>
        </p:blipFill>
        <p:spPr>
          <a:xfrm>
            <a:off x="6962760" y="136440"/>
            <a:ext cx="1995480" cy="2833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168120" y="3080880"/>
            <a:ext cx="880596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Высказывания, цитаты и афоризмы Федр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Тот, кто оказывает услугу негодяю, совершает двойную ошибку: во-первых, помогает тому, кто помощи не заслуживает, а во-вторых,                                                                       подвергает опасности себя сам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Друзей немало; дружба только редкост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Имя «друг» звучит повседневно, но дружеская                                                                         верность ре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Льстясь на чужое, своего лишаеш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На примерах учим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Осторожным полезны ошибки друг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Ум выше храброст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909880" cy="3745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46160" y="3854160"/>
            <a:ext cx="3689280" cy="29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N I P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es szczekał na złodzieja, całą noc się trudzi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ili go nazajutrz, że pana obudzi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ał smaczne drugiej nocy, złodzieja nie czeka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n dom skradł; psa obili za to, że nie szczeka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8040" y="391680"/>
            <a:ext cx="4824360" cy="29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POTOK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RZE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Potok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wierzch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k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lec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c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asem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m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ę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zeki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pokojni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yn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ę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tymczasem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Ni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t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gd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niegi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topn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ż z owego potoka strumyk tylko mał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 gorsza, ten, co zaczął z hałasem i krzykie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padł w rzekę i na koniec przestał być strumyk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4112280"/>
            <a:ext cx="45990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OWIK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SZCZYGIE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zek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zczygi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wik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kt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cich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iedz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zkod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kr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tk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piewas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"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wik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dpowiedz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"Co mi dała natura, wypełniam to wiern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piej krótko, a dobrze, niż długo, a miernie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50800" y="146160"/>
            <a:ext cx="4564080" cy="3419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35560" y="1020600"/>
            <a:ext cx="3598920" cy="5040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2309760" cy="29736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3203640" y="3716280"/>
            <a:ext cx="1977840" cy="2967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3240360" cy="3200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37160" y="189000"/>
            <a:ext cx="4321080" cy="5761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2:52:33Z</dcterms:created>
  <dc:creator>Admin</dc:creator>
  <dc:description/>
  <dc:language>en-US</dc:language>
  <cp:lastModifiedBy>Admin</cp:lastModifiedBy>
  <dcterms:modified xsi:type="dcterms:W3CDTF">2009-11-30T13:28:28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13000000000001024140</vt:lpwstr>
  </property>
</Properties>
</file>